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04F0C2-4281-4411-8F26-82D74F26F29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BB32-7F47-428B-AFFA-BD45A57289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A53B-C7CB-421E-8607-0E228CF0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A7E4-FAA5-4F38-8439-5A81499F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1176-034B-476B-BDA0-EC5C758381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708F-70CA-4319-9763-0032641B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32E0-0645-4B35-9EA4-981772DF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1604-E4A0-4B55-A261-20BFEEF1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9E50-02AB-46AC-9C5E-BD166D30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019B-D738-45EC-8DA2-68BB5950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C3AD-8BF2-497A-A98D-5D5BC261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A680-9B9E-4E1C-B751-251878A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23F8-C601-40DD-BAD2-5C68A080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B9FF5D-679A-4A59-8F09-BBDEC040746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000080" y="1484280"/>
            <a:ext cx="75106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DejaVu Sans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рт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лог здоровья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911240" y="3789360"/>
            <a:ext cx="6400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6 «Б» класса Токарев Олег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931120" y="537372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Беляева Ирина Ивановна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/воспитатель 6 «Б» класс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042080" y="64008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2016г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1357200" y="359640"/>
            <a:ext cx="671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ая школа-интернат №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го общего образования г. Томска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071720" y="21528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заинтересованности детей спорто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928800" y="571680"/>
          <a:ext cx="4714920" cy="357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571680"/>
                    <a:ext cx="4714920" cy="35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5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8" name="Object 6"/>
          <p:cNvGraphicFramePr/>
          <p:nvPr/>
        </p:nvGraphicFramePr>
        <p:xfrm>
          <a:off x="4214880" y="3357720"/>
          <a:ext cx="4643280" cy="32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4880" y="3357720"/>
                    <a:ext cx="464328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8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2"/>
          <p:cNvSpPr/>
          <p:nvPr/>
        </p:nvSpPr>
        <p:spPr>
          <a:xfrm>
            <a:off x="1116000" y="18900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428840" y="881640"/>
            <a:ext cx="678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30 человек только 14 ребят систематически занимаются в спортивных секциях, и 1 человек ходит в спортивный зал (50%). Причем 5 человек из них занимаются в нескольких секциях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пла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10 человек, бок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1 человек, спортивные танц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1 человек, лыж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2 человека, дзюд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2 человека, гимнасти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1 человек, рукопашный бо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3 человека, спортивный за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1 человек. Наибольшей популярностью пользуется плавани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1116000" y="18900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7" name="Диаграмма 30"/>
          <p:cNvGraphicFramePr/>
          <p:nvPr/>
        </p:nvGraphicFramePr>
        <p:xfrm>
          <a:off x="1071720" y="1571760"/>
          <a:ext cx="7429320" cy="40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Диаграмма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571760"/>
                    <a:ext cx="742932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18352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43000" y="1428840"/>
            <a:ext cx="721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 учёбе не помеха. Наоборот, чем больше 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емся, занимаемся активным спортом, т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ее мы растём и тем лучше развива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й мозг, поэтому спорт положительно влия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ваем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ирует человека в учеб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 играет важную роль не только для физического развития школьника, но и для формирования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131840" y="333360"/>
            <a:ext cx="72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"/>
          <p:cNvSpPr txBox="1"/>
          <p:nvPr/>
        </p:nvSpPr>
        <p:spPr>
          <a:xfrm>
            <a:off x="1143000" y="1571760"/>
            <a:ext cx="714384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64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64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64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 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64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чему мы выбрали эту тем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00080" y="1357200"/>
            <a:ext cx="74296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оей работе мы хотим доказ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анятия спортом помогают на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учи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жи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ять кругозо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 распределять своё врем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214280" y="785880"/>
            <a:ext cx="721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 нашего исследова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внимание моих друзей, одноклассников, знакомых ребят к необходимости регулярного посещения секц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1071720" y="2161080"/>
            <a:ext cx="7286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ношение детей к спорту и регулярному посещению секц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ить теоретическую часть данного вопрос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сти анкетирование учащихся по данному вопросу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следовать отношение детей к спорту среди учащихся школы-интерната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анализировать отношение детей к спорту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улировать рекомендации и вывод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Гипотеза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Мы предполагаем, что спорт играет важную роль не только для физического развития ребенка, но и для формирования психических и нравственных качеств ребенка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 процессе работы нами использованы следующие метод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00080" y="1643040"/>
            <a:ext cx="74296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1357200" y="1722240"/>
            <a:ext cx="70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оретические (изучение литературы, информация в Интернет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пирические (беседа, анкетировани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ы статистической обработки результат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971640" y="720720"/>
            <a:ext cx="779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1285920" y="43092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же такое спорт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14280" y="1731240"/>
            <a:ext cx="7143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 «спорт» родилось давно во Франции. И произносилось оно не так как теперь, а «депорт», что значит «развлечение», «забота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Англии это слово стали произносить по – своему: «диспорт», а потом отбросили первые две буквы. Получилось «спорт». Более 100 лет назад слово «спорт» попало в Россию. Сначала в России спортом называли коллекционирование марок, игру в домино, разведение домашних животных и рукоделие. Позднее -  только такие физические упражнения, которые помогают укреплять здоровье, делают человека сильным, смелым, ловким и выносливы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900000" y="285840"/>
            <a:ext cx="751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рт в жизни школьн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488960" y="558972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 активные дети лучше успевают в школе, чем те, кто мало двигаетс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Рисунок 5" descr="F:\моя\Фото право\Новая папка (4)\IMG_0664.JPG"/>
          <p:cNvPicPr/>
          <p:nvPr/>
        </p:nvPicPr>
        <p:blipFill>
          <a:blip r:embed="rId1"/>
          <a:stretch/>
        </p:blipFill>
        <p:spPr>
          <a:xfrm>
            <a:off x="1143000" y="1000080"/>
            <a:ext cx="5143680" cy="3786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929040" y="2714760"/>
            <a:ext cx="44989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916640" y="260280"/>
            <a:ext cx="58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кс – моя школа жизн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кс – моя школа жиз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5715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просы анке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71720" y="1142640"/>
            <a:ext cx="7286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нашем исследовании приняли участие 30 человек учащие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ассов (3 класса – 6 «А», 6 «Б»,и 6 «В») школы-интерната №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тям предлагалось заполнить анкеты, отметив свои ответы на вопросы на специально приготовленном блан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нимаетесь ли вы спортом: Да – 23 человека (77%); Нет – 7 человек (23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равится заниматься спортом: Да – 25 человек (83%); Нет – 5 человек (17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результате проведенного нами анкетирования выявлено, что 77% занимаются спортом и 83% им нравится спор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ли даже такие ребята, которые не занимаются спортом (23%), и он им даже не нравится (17%).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7:47:41Z</dcterms:created>
  <dc:creator>user</dc:creator>
  <dc:description/>
  <dc:language>en-US</dc:language>
  <cp:lastModifiedBy>Пользователь Windows</cp:lastModifiedBy>
  <dcterms:modified xsi:type="dcterms:W3CDTF">2016-04-24T08:24:59Z</dcterms:modified>
  <cp:revision>8</cp:revision>
  <dc:subject/>
  <dc:title>Слайд 1</dc:title>
</cp:coreProperties>
</file>