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444-0840-4C61-8B58-0746644D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D88-F262-4B94-8770-D5C5DAC7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9FA-B29D-423B-A417-F536D9C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B20-2F66-436E-8E17-408E27E6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20C-0FD7-48BE-AE6D-55F1FFAB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D1D-4249-4DDE-9F42-135CEFA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B8D-F929-4E3C-8030-63CF92C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2F3-9D82-483F-8DAA-24242CE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10C-2497-4C69-9236-66FB71C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017-D0D4-4CD5-87BA-9B37A52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B93-8649-4D34-82F5-B276B4B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5CB-2638-452F-9041-8F53E46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FB7-744D-4DF5-A7D0-B28F3F12C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 и организация управления качеством профессиональной подготов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ронкова Вера Анатольевна, методис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ГБ ПОУ М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Яхромский коллед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я работы с недавно зачисленными в штат преподава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атегории таких преподават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ые выпускники педагогических вузов и педагогических факультетов профильных институ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одаватели, пришедшие из других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одаватели, пришедшие с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я работы с недавно зачисленными в штат преподавателями. Содержание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меропри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работы школы молодого преподавателя: положение, программы обучения, журналы проведённых занятий, отчё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авничество: приказ(распоряжение) о закреплении наставников, отчёты наставников, Положение о наставничестве (памятка для наставника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я работы с недавно зачисленными в штат преподавателями. Содержание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меропри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бразование: личные планы «молодых» преподавателей, независимый отчёт о результативности выполнения плана (в структуре доклада, протоко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и методическая помощь в проведении занятий «молодыми» преподава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рганизация работы с недавно зачисленными в штат преподавателями. Содержание рабо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е правильное - дифференцированный подход в работе по перечисленным категориям «молодых» преподава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казатели работ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ышение эффективности работы «молодых» преподава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ость (отражение) с другими направлениями работы ОУ по повышению качества подготовки обучаемых к профессиональной деятель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ие и функционирование системы мотивации педагогов и 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плате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ы в положениях о проводимых мероприятиях (конкурсы, смотры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ка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око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рейтинговой системы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ие и функционирование системы мотивации педагогов и 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ребования к документаци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дельно для сотрудников ОУ и обучаемы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ражать направления работ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 для педагог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учно-исследовательская, опытническая раб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бедители и призёры различного уровня мероприят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их материа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р. при необходим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ие и функционирование системы мотивации педагогов и 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ципы мотивации обучаемых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еда!(это задача социальной защиты 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ли отдельная программа О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фференцированное поощрение всех финалис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собствовать насыщению портфолио обучаемого (особо, если это одна из форм экзамена квалификационного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ирокая глас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мер поощрения должен соответствовать уровню достижен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дельная система льгот при рейтинговой системы оценивания результатов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ие и функционирование системы мотивации педагогов и 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дко встречающиеся виды мотивации педагог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нной подарок (от кого-то, кому-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радной документ в рам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льго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ная или частично оплачиваема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т на выполнение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верены, что у Вас найдутся свои 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содержания обуч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рмативная документация. Соста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деральная н.д. (ФГОС, Закон об образовании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ая н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ованная собственная н.д. на основе примерной н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достающая собственная н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содержания обучения Используемая нормативная документация. Треб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ротиворечить действующей н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ивать регламенты по планированию, организации и реализации учебно-воспитательного процесса в О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сается всех аспектов работы ОУ по реализации подготовки по конкретному ФГО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противоречить друг другу (для разрабатываемы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овать единую, принятую в ОУ терминолог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агаемые качества профессиональной подготов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обучаем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обучающ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содержания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обеспечения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чество содержания обучения Используемая нормативная документация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иб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примерные ДИ в качестве основ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дорабатываются с учётом планируемых процессов по реализации ОПО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лизованные для новых структурных подразде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анируем введение и модернизацию процессов по реализации ОПОП, а затем подстраиваем структуру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содержания обучения. Используемая нормативная документация. Разработка и утверждени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ать действующие регламенты на разработку: сроки, согласование, утверж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влекать к разработке новой документации компетентных  специалистов и заинтересованных лиц (положение о рейтинговой накопительной системе оценивания результатов обучения – студенты , ЗУР, зав. отделениями, ПЦ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суждать значимые н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содержания обучения. Качество учебного пл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ение требований ФГ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гичность чередования изучаемых дисциплин и МД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снованность с позиций работодателя, родителей(студентов) и местных органов управления распределения вариативно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омпактность» освоения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чество содержания обучения. Качество программ дисциплин и П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ение требований ФГО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содержа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огичность чередования изучаемых тем и видов практических рабо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та и достаточность показателей, форм и методов оценки результатов освоения ПК и ОК в пятом разделе программы П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снованность содержания раздела программы ПМ с позиций формируемых ПК, практическая направленность названия разд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содержания обучения. Качество учебно-методическ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нота и достаточность учебно-методического обеспечения изучаемых тем (формируемых ПК и 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разнообразных заданий для отслеживания процесса формирования ПК и 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Э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озные задания, проектная деятельность по курсу (особо актуальн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содержания обучения. Качество учебно-методическ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дистанционного (самостоятельного) обучения (через Интернет – основная технолог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КОС по ПМ для экзамена квалификацио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для аттестации по МД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наполнению партфолио и его оценке при необходимост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а контроля за деятельностью преподавателей и мастеров производственного обучения по направлениям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кументац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фики дежурств, посещения занятий, подготовки и проведения открытых мероприятий преподавател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чёты или др. документы, подтверждающие проверку заполнения журналов учебных занятий, сдачи программ и КТП, итоговых отчётов по курируемой группе, преподаваемой дисциплине (МДК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ругое, исходя из специфики О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а контроля за деятельностью преподавателей и мастеров производственного обучения по направлениям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документ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ются наличие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держания контроля, адресатов контроля, ответственных за контроль, периодичностью (сроками) , требований к итоговой информации по контро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а контроля за деятельностью преподавателей и мастеров производственного обучения по направлениям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ель функцианирования определяется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м разностороннего содержания контроля, соответствующего направлениям работы заявленных категорий работников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м итоговых документов по контро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я  работы по продвижению программы на рынке образовательных у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 наличие такой цели у руководства высшего зв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ние методов и средств про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поощрений и помощи инициаторам про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ение в структуре ОУ подразделения по продвижению представляемых образовательных у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обучаемых. Работа с абитуриен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 потенциальных абитуриентов о направлениях и специальностях обучения в ОУ и правилах приё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блюдение правил приёма и нормативов на бюджетное обу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групп на платное обу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ятельность структурных подразделений ОУ в привлечении абитуриентов к поступле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рганизация  работы по продвижению программы на рынке образовательных у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личие органов управления ОУ с включением представителей общественности и работодател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крытость и доступность информации о деятельности О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ие в массовых мероприятиях, проводимых школами и работода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ие в массовых мероприятиях, проводимых региональными органами управ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образие схем упра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словлена количеством обучаемых и количеством открытых специальностей(професс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щимися финансовыми ресурс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м должностных обяза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щимися инфраструктурой и филиалами (отделени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нообразие схем управления: уров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ырёхуровневая схема управления: директор – заместитель по учебной работе - заведующие отделениями – преподав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иуровневая схема управления: Ген.директор – директора филиалов - заместители по учебной работе - заведующие отделениями – преподав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вни управления: инструментарий и системы ана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ждый смежный уровень управления имеет свой инструментарий по сбору информации, её обработки и анализ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иректор – заместител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нструментарий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татистическая отчётность, результаты экзаменов, доклады низовых подразделений и д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группировка информации (таблицы и графики), математическая об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нализ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равнительный (с предыдущим периодом, с нормативами), ССВО –анализ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O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 коллектива ОУ по инструментарию и системе анали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ь наличие и использование инструментария по сбору, обработке и анализу информации, влияющей на качество образования по имеющимся уровням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инг как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окупность (комплекс) элементов, вступающих во взаимодействие (Л. Берталанф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окупность элементов, между которыми имеются отношения объектов и их свойств (А. Холл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инг как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елью мониторинга является получение разносторонней объективной информации о процессе подготовки будущих выпускников к осуществлению профессиональной деятельности, позволяющей не только адекватно осуществить его анализ и оценку, но и принять соответствующие управленческие решения, наметить конкретные мероприятия по коррекции образовательного процес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инг как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ъекты – абитуриенты, студенты, их родители, преподавательский состав, руководство ОУ, работодатели (руководители предприятий и учреждений, для которых осуществляется подготовка будущих выпускник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инг как проц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определенные этапы, последовательно сменяющие друг дру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ормативный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ся цель, задачи и объекты мониторинга, осуществляется выбор критериев и методов мониторинга, периодичность сбора информации, интерпретации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налитико-диагностический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ся сбор информации, рассмотрение его отдельных сторон, свойств, составных частей, затем количественная и качественная обработка полученных результатов, систематизация полученных данных,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тоговый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ся представление результатов, которые включают оценку качества подготовки выпускников, выводы и предложения по совершенствованию образовательного процесса и принятию соответствующих управленчески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й качества результа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чебные достижения студенто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казатели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зультаты обучения в период промежуточной аттестации, сессий, остаточных знаний студентов, государственных экзаменов, а также победы в конкурсах, олимпиа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обучаемых. Работа с абитуриен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фориентационная  работа ОУ в школах регио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ОУ конкурсов, олимпиад для выявления и привлечения на обучение наиболее подготовленных абитуриен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личие в ОУ системы непрерывного образования «Школа – Колледж - Вуз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и наличие профильной подготовки (профильные классы)в школах региона по направлениям подготовки О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й качества результа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ичностное развитие студ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казател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ическое развитие (уровень интеллекта, умственная работоспособность, особенности культуры мышления, познавательных процессов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ое развитие (готовность к восприятию учебного материала, решению различного рода задач,  социальная адаптированность, ценностно-смысловые ориентации, воспитанность, культура общения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психологическое развитие (умение и желание постоянно самосовершенствоваться, готовность к продолжению образования, способность к сотрудничеству, критике и самокритике, владение культурой мышления, способность демонстрировать высокую мотивацию к работе, уровень самосознания, самоопределения, самореализации, самоутверждения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терий качества функционирования образовательного процесс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левое обеспечение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соответствие целей подготовки выпускников государственной образовательной политике; определение политики, целей и задач ОУ, фиксация принципиальных отличий целей процесса подготовки студентов 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держательное обеспечение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ого и дополнительного образования (соблюдение требований государственных образовательных стандартов, а также качество рабочих учебных планов, образовательных программ 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терий качества функционирования образовательного процесса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хнологическое обеспеч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спользование в процессе обучения современных технологий при проведении аудиторных и внеаудиторных занятий, в том числе компьютерных, технологий контроля процесса обучения, проектирования развития вуза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терий качества функционирования образовательного процесс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сурсное обесп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адров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укомплектованность штатами, квалифицированность кадров, качество преподавания, заинтересованность преподавателей в глубоких знаниях студентов и др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информацион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использование компьютеров в учебном процессе, доступ в сеть Интернет и др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оснащенность учебно-методическими материалами: учебными пособиями, программами и др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организационное обеспечени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оптимальность расписания учебных занятий, эффективность работы кабинетов, библиотеки; регулярность проведения консультаций, индивидуальных занятий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обучаемых. Работа с обучаемыми: мотивация к обуч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нообразие и насыщенность мероприятий, позволяющая обучаемому проявить лидерские кач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ды и формы морального и материального стимулиро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личие и использование передовых технологий обучения, особо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–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технологий и технологий основанных на взаимодействии педагог - обучаем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йтинговая система оценки учебных достиж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о обучаемых. Работа с обучаемыми: мотивация к обуче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поддержка обучаемых, особо социально не защищённы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ие видов и форм досуговых мероприятий, особо при наличии у ОУ общежит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можность оценки своего профессионального формирования: модульная технология обучения, присвоение квалификаций по результатам освоения профессионального модуля, реальные проекты и д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оуправление, делегирование полномочий ОУ обучаемы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обучаемых. Работа с обучаемыми: развитие качеств и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ое образование в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вые программы воспитательной и социа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еленность всего коллектива ОУ на формирование общих компетен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йтинговая система оценки учебных дости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ение возможности трудоустро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чество обучающих. Требования к педагогическим кадра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профильного высшего образования для преподавателей профессионального ци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хождение стажировки один раз в три года для преподавателей, ведущих подготовку по МД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квалификации, звания и учёные степ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ое 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чество обучающих. Требования к педагогическим кадра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дение современными копетентностно –деятельностными технологиями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электронных образовательных ресурсов и их приме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продуманной системы контроля нацеленной на конечный результат, зафиксированный в компетенц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дение реальной социально-экономической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1-24T16:02:12Z</dcterms:modified>
  <cp:revision>265</cp:revision>
  <dc:subject/>
  <dc:title>Система и организация управления качеством профессиональной подготовки</dc:title>
</cp:coreProperties>
</file>