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3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0.gif" ContentType="image/gif"/>
  <Override PartName="/ppt/media/image30.jpeg" ContentType="image/jpeg"/>
  <Override PartName="/ppt/media/image12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gif" ContentType="image/gif"/>
  <Override PartName="/ppt/media/image29.jpeg" ContentType="image/jpeg"/>
  <Override PartName="/ppt/media/image11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E52-7A2D-4021-95CC-7B30FE2D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D72-D222-408A-8BC3-FB2D4C7B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C46-176E-403A-A6D7-18D49A9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FF5-9A37-458E-9F5A-F85D2F32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89CD-B41F-4282-8823-B80AE143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6318-6A03-40C0-8551-7D88E2C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DEB-F790-4B1D-B9A8-2143E39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9A6-60F9-417D-A155-B942455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730-D3E9-4598-924A-4185A93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A14-ABAD-4E1B-A2BE-19363C6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E10-F2B2-437A-AE19-890C683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783-2466-40A8-8F08-3CD6497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021D-47C2-487D-941A-AA9BCC8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F743-824E-49C4-B29C-D72B263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0EF8-3532-486C-B54C-C81F079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65A-3EC2-4799-A0B3-3BB32D8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7BEA-B6B4-4D1F-85DE-ED5E60C5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78DC-E785-46F5-928C-B5CBAE5D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9749-90DF-4127-AD93-2F70D159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D97A-4B5E-48A9-B78C-5B66414B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7D3F-997F-40A9-8F39-F4E32D1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064F-235B-4E0D-B031-81E3DF6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9D2-02F3-4B38-AD0B-9A77188D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2B4C-5DA8-4666-B48C-366AB14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5612-8B85-4165-BA5A-80376AA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6A1B-4428-440D-AC93-6B679C7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93E8-EC78-4F3D-B8DE-962A9C7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53AC-637A-4A65-92A1-268E8533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E481-8D3F-468B-8F2B-8AEB34C8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A2B7-1EED-4BE4-83AE-829039A4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1EC-CB1E-49EA-964A-F6B506A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66B-0CE2-439F-B557-80F36D07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104-FF8C-43AC-9047-D0F0AC2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46C-7FEB-4687-9484-B06AB5B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430-94E8-4AF1-BEFD-D8FF051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44B-F022-48AA-A9B5-469074A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EB1A-A131-4CE2-816B-CF6267F92CF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C18-A156-49D1-9FBD-2BE82B45EC7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BEA4-74A2-401D-B231-61B00965FD7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yfhology.info/myth-animals/fish.html" TargetMode="External"/><Relationship Id="rId2" Type="http://schemas.openxmlformats.org/officeDocument/2006/relationships/hyperlink" Target="http://myfhology.info/monsters/rusalks.html" TargetMode="External"/><Relationship Id="rId3" Type="http://schemas.openxmlformats.org/officeDocument/2006/relationships/hyperlink" Target="http://myfhology.info/gods/slavyans/perun.html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hyperlink" Target="http://smiles.33b.ru/smile.108413.html" TargetMode="External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3"/>
          <p:cNvPicPr/>
          <p:nvPr/>
        </p:nvPicPr>
        <p:blipFill>
          <a:blip r:embed="rId1"/>
          <a:stretch/>
        </p:blipFill>
        <p:spPr>
          <a:xfrm rot="21396000">
            <a:off x="286920" y="293400"/>
            <a:ext cx="2286000" cy="203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6"/>
          <p:cNvPicPr/>
          <p:nvPr/>
        </p:nvPicPr>
        <p:blipFill>
          <a:blip r:embed="rId2"/>
          <a:stretch/>
        </p:blipFill>
        <p:spPr>
          <a:xfrm rot="1403400">
            <a:off x="6460920" y="48888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7"/>
          <p:cNvSpPr txBox="1"/>
          <p:nvPr/>
        </p:nvSpPr>
        <p:spPr>
          <a:xfrm>
            <a:off x="2438280" y="990720"/>
            <a:ext cx="41911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ов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54" name="WordArt 8" descr="Белый мрамор"/>
          <p:cNvPicPr/>
          <p:nvPr/>
        </p:nvPicPr>
        <p:blipFill>
          <a:blip r:embed="rId3"/>
          <a:stretch/>
        </p:blipFill>
        <p:spPr>
          <a:xfrm>
            <a:off x="-378000" y="2408400"/>
            <a:ext cx="9429840" cy="326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Станция «Теремок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0" name="Picture 7" descr="0MQQTCA5SWILZCARU7JR0CALX9LY5CAMJ3MD0CA7EFFHECALKYMI5CA3YMIZBCACCI5TCCAZ6BCD6CAOLCMO1CAIIECBICAI506Y4CAKVZXYCCAC5PFAJCA5ZWZYTCA6JNQEVCAVYCRQ6CAXYS28PCA04JUYV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52480" y="1447920"/>
            <a:ext cx="5562720" cy="520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гадайте название сказк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99840" y="609480"/>
            <a:ext cx="6553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1.«А журавль клюёт себе да клюёт, пока все ни съел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2.«Тук, тук! Кто в тереме живёт? Я – мышка – норушка, я лягушка – квакушка. А ты кто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3.Сидит в корзине девоч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У мишки за спин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Он сам того не вед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Несет её домо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4.В сказке небо сине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В сказке птицы страшны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Реченька, спаси мен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Яблонька, спаси мен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5.Ах ты, Петя – простот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Сплоховал немножк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Не послушался кот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Выглянул в окошко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6. Вымолвил словечко – покатилась печ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Прямо из деревни к царю да царевн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И за что, не знаю, повезло лентяю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7.   Нет ни речки, ни пру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Где воды напить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Очень вкусная во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В ямке от копытца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3" name="Picture 11" descr="images[2]"/>
          <p:cNvPicPr/>
          <p:nvPr/>
        </p:nvPicPr>
        <p:blipFill>
          <a:blip r:embed="rId1"/>
          <a:stretch/>
        </p:blipFill>
        <p:spPr>
          <a:xfrm>
            <a:off x="0" y="3808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3"/>
          <p:cNvPicPr/>
          <p:nvPr/>
        </p:nvPicPr>
        <p:blipFill>
          <a:blip r:embed="rId2"/>
          <a:stretch/>
        </p:blipFill>
        <p:spPr>
          <a:xfrm>
            <a:off x="6400800" y="22860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2376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Домово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6" name="Picture 10" descr="Леший. Домовой. Баба-Яга. Кикимора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3166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Леший. Домовой. Баба-Яга. Кикимора."/>
          <p:cNvPicPr/>
          <p:nvPr/>
        </p:nvPicPr>
        <p:blipFill>
          <a:blip r:embed="rId2"/>
          <a:stretch/>
        </p:blipFill>
        <p:spPr>
          <a:xfrm>
            <a:off x="6353280" y="3303720"/>
            <a:ext cx="2790720" cy="355428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228600" y="762120"/>
            <a:ext cx="59436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Verdana"/>
              </a:rPr>
              <a:t>Домовой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- дух бескрылый, бестелесный и безрогий, который живёт в каждом доме в каждом семействе. Он не делает зла, а только шутит иногда, даже оказывает услуги. Перед смертью кого-нибудь из семейства воет, иногда даже показывается кому-нибудь, стучит, хлопает дверями. По общему поверью, живёт он по зимам около печки или на печи, а если у хозяина есть лошади и конюшня, то помещается около лошадей. Если лошадь ему нравится, то домовой холит её, заплетает гриву и хвост, даёт ей корма, отчего лошадь добреет, когда ему животное не по нраву, то он его мучает и часто заколачивает до смерти Если домовой полюбил домашних, то он предупреждает о несчастье, караулит дом и двор; в противном же случае он бьёт и колотит посуду, кричит, топает и пр. Тому, кого любит, завивает волосы и бороды в косы, а кого не любит, того ночью щиплет до синяков. Говорят, что он не любит зеркал, также козлов, а равно тех, кто спит около порога или под порогом. Иногда слышат, как он, сидя на хозяйском месте, занимается хозяйской работой, между тем как ничего этого не видно. В простом народе к домовому питают уважение. В разговорах не называют его домовым, а «дедушкой, хозяином».При переезде из одного дома в другой непременною обязанностью считают в последнюю ночь, перед выходом из старого дома, с хлебом-солью просить домового на новое место.. Говорят, что домовой не любит ленивых. Некоторые утверждают, что домовой рождается стареньким дедушкой, а умирает младенцем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Игра «Помоги улететь бабочкам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0" name="Picture 5" descr="10241717253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68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На крылышках у бабочек записаны вопросы, ответим на вопросы, значит поможем бабочкам улететь.</a:t>
            </a:r>
            <a:br>
              <a:rPr sz="32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1. Как в сказках называют лису?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2. Кто и кого угощал горохом, пшеницей, орехами? 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3. Кто помог зайцу прогнать лису из избушки? 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4. В какой сказке есть такие слова: 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Тепло ли тебе, девица, тепло ли тебе , красная? 5. Кто напугал бабушку, внучку, курочку, мышку? 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6. Где находится Кощеева смерть?</a:t>
            </a: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2" name="Picture 5" descr="UK7ZTCATO7VJYCAMCZBCHCAJNVY8YCAA67S9HCAWKWQLUCAQ4C8HTCADP054MCAC63JVBCAPIK637CAF0Y4OPCAHXW98WCA41QP6ZCAP24DPHCAOX0WXECAT07N9JCA2ESHFBCACUG5L5CAIY2MWLCAF4REJ1"/>
          <p:cNvPicPr/>
          <p:nvPr/>
        </p:nvPicPr>
        <p:blipFill>
          <a:blip r:embed="rId1"/>
          <a:stretch/>
        </p:blipFill>
        <p:spPr>
          <a:xfrm>
            <a:off x="7620120" y="571500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UK7ZTCATO7VJYCAMCZBCHCAJNVY8YCAA67S9HCAWKWQLUCAQ4C8HTCADP054MCAC63JVBCAPIK637CAF0Y4OPCAHXW98WCA41QP6ZCAP24DPHCAOX0WXECAT07N9JCA2ESHFBCACUG5L5CAIY2MWLCAF4REJ1"/>
          <p:cNvPicPr/>
          <p:nvPr/>
        </p:nvPicPr>
        <p:blipFill>
          <a:blip r:embed="rId2"/>
          <a:stretch/>
        </p:blipFill>
        <p:spPr>
          <a:xfrm>
            <a:off x="228600" y="22860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frog21"/>
          <p:cNvPicPr/>
          <p:nvPr/>
        </p:nvPicPr>
        <p:blipFill>
          <a:blip r:embed="rId3"/>
          <a:stretch/>
        </p:blipFill>
        <p:spPr>
          <a:xfrm>
            <a:off x="0" y="4876920"/>
            <a:ext cx="135900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4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ики? Мора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(шиши́мора, сусе́дка, ма́ра) - персонаж восточнославянской мифологии, один из видов домового. Злой дух в облике карлика или маленькой женщины, голова у которого с напёрсток и тело тонкое, как соломинка. Кикимора живёт в доме за печкой и занимается прядением и тканьём, а также проказит по ночам с веретеном и прялкою хозяев дома (например, рвёт пряжу). Кикимора может вредить домашним животным, в частности курам, бросает и бьёт посуду, мешает спать, шумит по ночам. Избавиться от кикиморы чрезвычайно трудно. Оберегом от неё служил «куриный бог» — камень с естественным отверстием или горлышко разбитого кувшина с лоскутом кумача, которое вешали над насестом, чтобы кикимора не мучила кур, а также можжевельник, пояском из которого обвязывали солонки. Считалось, что кикиморами становятся младенцы, умершие некрещёнными. Также крестьяне верили, что кикимору могли «напустить» при строительстве дома плотники или печники, желающие по какой-либо причине навредить хозяевам. Для этого мастера делали из щепок и тряпок куклу (фигурку «кикиморы») и закладывали её под матицу (главную балку) или в переднем углу дома.</a:t>
            </a:r>
            <a:br>
              <a:rPr sz="1400"/>
            </a:b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6" name="Picture 9" descr="Леший. Домовой. Баба-Яга. Кикимора."/>
          <p:cNvPicPr/>
          <p:nvPr/>
        </p:nvPicPr>
        <p:blipFill>
          <a:blip r:embed="rId1"/>
          <a:stretch/>
        </p:blipFill>
        <p:spPr>
          <a:xfrm>
            <a:off x="838080" y="3429000"/>
            <a:ext cx="2718000" cy="342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Леший. Домовой. Баба-Яга. Кикимора."/>
          <p:cNvPicPr/>
          <p:nvPr/>
        </p:nvPicPr>
        <p:blipFill>
          <a:blip r:embed="rId2"/>
          <a:stretch/>
        </p:blipFill>
        <p:spPr>
          <a:xfrm>
            <a:off x="5334120" y="3352680"/>
            <a:ext cx="2514600" cy="353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. Как в сказках лиса обычно называла волка?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кум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2.  Второе название скатерти?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Самобранк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3. Кто из обитателей болот стал женой царевича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Лягушк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4. Что потеряла Золушка?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Хрустальную туфельку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5. Кого маленькая разбойница дала в помощь Герде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Олен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6. Что попало Каю в глаз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Осколок зеркал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7. Какие цветы собирала падчерица в сказке «Двенадцать месяцев»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Подснежники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8. Кукла из театра Карабаса Барабаса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Мальвин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9. Какой волшебный предмет был у Аладдина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Лампа с джином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0. Шарманщик, смастеривший Буратино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Папа Карло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1. Крыса старухи Шапокляк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Лариск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2. Великий и ужасный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Гудвин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3. Оружие железного дровосека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Топор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4. Самый умный коротышка Цветочного города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Знайк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5. Кто поймал необыкновенную щуку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Емел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6. Почтальон деревни Простоквашино?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7. Пантера, друг Маугли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Багир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8. Кто потерял хрустальную туфельку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9. Кем стал гадкий утенок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Лебедем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20. Кто попал в Зазеркалье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(Алиса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Остановка «Терем»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1" name="Picture 5" descr="F1IL8CA07HSNGCAM74WYMCACAOKH1CAMC75HZCANYVD1NCA9LMF9LCANYDYCFCALVQAVUCAR2KFCHCAMDSLNUCAFVC117CA1QWW2CCA8UKVFUCASTWMUXCAZ6RDUSCASDEJIYCACQ99YCCACY20V5CAXUNVF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762120" y="137160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44000" cy="591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Герои сказок оставили телеграммы и некоторые свои вещи. Давайте угадаем, кто прислал телеграммы.</a:t>
            </a:r>
            <a:br>
              <a:rPr sz="4000"/>
            </a:b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1. Я от дедушки ушел,</a:t>
            </a:r>
            <a:br>
              <a:rPr sz="3200"/>
            </a:b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Я от бабушки ушел </a:t>
            </a:r>
            <a:br>
              <a:rPr sz="3200"/>
            </a:b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Скоро буду у вас. </a:t>
            </a:r>
            <a:br>
              <a:rPr sz="3200"/>
            </a:b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2.  Золотое яйцо снесла,</a:t>
            </a:r>
            <a:br>
              <a:rPr sz="3200"/>
            </a:br>
            <a:r>
              <a:rPr b="0" lang="ru-RU" sz="3200" spc="-1" strike="noStrike">
                <a:solidFill>
                  <a:srgbClr val="6600ff"/>
                </a:solidFill>
                <a:latin typeface="Verdana"/>
              </a:rPr>
              <a:t>3.Спасите , нас съел серый волк!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609480" y="609480"/>
            <a:ext cx="8305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Verdana"/>
              </a:rPr>
              <a:t>Сказка родилась с человеком, и покуда жив человек, будет жива и сказ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6600ff"/>
                </a:solidFill>
                <a:latin typeface="Verdana"/>
              </a:rPr>
              <a:t>Она – светлячок перед сном в колыбели и для малого, кто слушает, и для старого, кто         сказыва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6" name="Picture 5" descr="IMJDSCARXRNSXCA0JBW86CA8K8OCXCA0OU2TJCAU6UTOOCAI8FATFCAHLENNGCAQA7V8PCAKBNCHICARPN0G4CAAZ3MIPCAEQZ7XNCA9Y570QCAB30CQ1CAXHP3DACARJTT9HCAIDNGSRCALSZBS1CAB4FBLV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29200" y="4419720"/>
            <a:ext cx="3200400" cy="219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OZNECCAG9WNO8CA5JKJJTCAKUV24WCACOV245CASZSFP8CA0337KJCAV2QHXMCAF1XGZRCAN9P66ICAE7F158CAVQIAVLCAL1OKA0CAO254KZCABRIICICACZRR5QCA6PHXMECADMJCX4CAXMGLSWCAE0JTVF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52280" y="0"/>
            <a:ext cx="1981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hel6"/>
          <p:cNvPicPr/>
          <p:nvPr/>
        </p:nvPicPr>
        <p:blipFill>
          <a:blip r:embed="rId3"/>
          <a:stretch/>
        </p:blipFill>
        <p:spPr>
          <a:xfrm rot="20211000">
            <a:off x="1196640" y="4755960"/>
            <a:ext cx="3224160" cy="170784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6"/>
          <p:cNvGrpSpPr/>
          <p:nvPr/>
        </p:nvGrpSpPr>
        <p:grpSpPr>
          <a:xfrm>
            <a:off x="7061040" y="304920"/>
            <a:ext cx="1763640" cy="2157120"/>
            <a:chOff x="7061040" y="304920"/>
            <a:chExt cx="1763640" cy="2157120"/>
          </a:xfrm>
        </p:grpSpPr>
        <p:grpSp>
          <p:nvGrpSpPr>
            <p:cNvPr id="260" name="Group 7"/>
            <p:cNvGrpSpPr/>
            <p:nvPr/>
          </p:nvGrpSpPr>
          <p:grpSpPr>
            <a:xfrm>
              <a:off x="7061040" y="304920"/>
              <a:ext cx="1763640" cy="2157120"/>
              <a:chOff x="7061040" y="304920"/>
              <a:chExt cx="1763640" cy="2157120"/>
            </a:xfrm>
          </p:grpSpPr>
          <p:pic>
            <p:nvPicPr>
              <p:cNvPr id="261" name="Picture 8" descr="izbushka"/>
              <p:cNvPicPr/>
              <p:nvPr/>
            </p:nvPicPr>
            <p:blipFill>
              <a:blip r:embed="rId4"/>
              <a:stretch/>
            </p:blipFill>
            <p:spPr>
              <a:xfrm>
                <a:off x="7266600" y="304920"/>
                <a:ext cx="1558080" cy="21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9"/>
              <p:cNvSpPr/>
              <p:nvPr/>
            </p:nvSpPr>
            <p:spPr>
              <a:xfrm rot="20091600">
                <a:off x="7162560" y="1197360"/>
                <a:ext cx="183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63" name="Text Box 10"/>
            <p:cNvSpPr/>
            <p:nvPr/>
          </p:nvSpPr>
          <p:spPr>
            <a:xfrm rot="1242600">
              <a:off x="7185960" y="18000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000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А теперь, по предметам угадайте, какие герои побывали в нашем тереме: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6" descr="65UHJCAZJ5OWBCA59KNKBCAXNJ06JCA1MIVOYCAF2KVX3CAW7KPXDCATJH4JZCAK3BRR0CA3CRC7CCAN4S5W5CAAZBI9BCACGTQ3FCAZZUQUICAI6KH0MCA9S0ZU8CA0Z6DCACABE21KGCAMBAMZ5CAJ379NA"/>
          <p:cNvPicPr/>
          <p:nvPr/>
        </p:nvPicPr>
        <p:blipFill>
          <a:blip r:embed="rId1"/>
          <a:stretch/>
        </p:blipFill>
        <p:spPr>
          <a:xfrm>
            <a:off x="457200" y="1143000"/>
            <a:ext cx="2811600" cy="1881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i"/>
          <p:cNvPicPr/>
          <p:nvPr/>
        </p:nvPicPr>
        <p:blipFill>
          <a:blip r:embed="rId2"/>
          <a:stretch/>
        </p:blipFill>
        <p:spPr>
          <a:xfrm>
            <a:off x="4114800" y="990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FKULQCA7AG813CAAO0JGPCA8N520FCAGKVYVICA9LMO67CAYZEWLNCAA4FHCCCA3ICWMYCAZFVS0XCA023OZDCA18E1IWCA2JGFH2CAAT3R9KCAPY8531CA1UGNUMCAHGL0C2CAP2GJM3CA1RTNX6CAGEFYKV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55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78P70CAQA0WI7CA41H2GMCAUYZ0JTCAEWI4FGCAA0E8WACATJ63DUCANF27V1CA7NCF8PCA883Y54CAO0EHTOCASP9G1QCAKMD6P9CA038G9GCAHGBV22CA6IZ2QICADYRN1GCA2NH2E3CA1LBKMOCAPULI05"/>
          <p:cNvPicPr/>
          <p:nvPr/>
        </p:nvPicPr>
        <p:blipFill>
          <a:blip r:embed="rId4"/>
          <a:stretch/>
        </p:blipFill>
        <p:spPr>
          <a:xfrm>
            <a:off x="228600" y="38098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2B465CAKU51TWCABE6TPZCAERFPLTCA5482WFCASEUPZUCA3LAHYWCAI78GOKCAEWCTRYCAFYLJIPCA96K9JACAYZOHH7CAFXVTE0CA53DGXSCA1RPHEBCAA1549UCAMGM3DVCA1HJNA0CA0F4N2WCADQN958"/>
          <p:cNvPicPr/>
          <p:nvPr/>
        </p:nvPicPr>
        <p:blipFill>
          <a:blip r:embed="rId5"/>
          <a:stretch/>
        </p:blipFill>
        <p:spPr>
          <a:xfrm>
            <a:off x="3276720" y="3733920"/>
            <a:ext cx="2552760" cy="2209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8H93FCAEECXZMCATIMCDYCA2HPRN6CAEYPPQICAK5K23SCARR9AT4CA8MUBF3CA77XK69CAMA1CMHCAD8GDEMCABQ7EEYCAE3ZYQDCAG0X17RCAZWZPQTCAFXK61BCA0AOW6XCAEI24EECAIYOEUFCA04C7LJ"/>
          <p:cNvPicPr/>
          <p:nvPr/>
        </p:nvPicPr>
        <p:blipFill>
          <a:blip r:embed="rId6"/>
          <a:stretch/>
        </p:blipFill>
        <p:spPr>
          <a:xfrm>
            <a:off x="6400800" y="3581280"/>
            <a:ext cx="220968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03320"/>
            <a:ext cx="5562720" cy="561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Водяной дедушка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, Водяник - хозяин вод в славянской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мифологии. Водяные  пасут на дне рек и озер стада своих коров - сомов, карпов, лещей и прочей </a:t>
            </a:r>
            <a:r>
              <a:rPr b="0" lang="ru-RU" sz="16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рыбы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. Командует </a:t>
            </a:r>
            <a:r>
              <a:rPr b="0" lang="ru-RU" sz="16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русалками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, ундинами и прочими водными жителями. Вообще он добрый, но иногда любит водяной побаловаться и затащить на дно какого-нибудь зазевавшегося человека, чтобы он его развлекал. Утопленники, кстати, тоже ходят в услужении у водяного.  Водяного представляли в виде голого старика, пучеглазого, с рыбьим хвостом. Он опутан тиной, имеет большую окладистую бороду,  зеленые усы. Мог обернуться крупной рыбой, ребенком или лошадью. Обитает чаще в омутах, любит селиться под водяной мельницей. Он способен разрушить запруды, потому его надо умилостивить, принося в жертву какое-нибудь животное.  Особой силой наделялись родниковые Водяные, ведь родники, по преданиям, возникли от удара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молнии </a:t>
            </a:r>
            <a:r>
              <a:rPr b="0" lang="ru-RU" sz="16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Перуна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 - самого сильного божества. Такие ключи  назывались "гремячими," и это сохранилось в названии многих источников.  </a:t>
            </a:r>
            <a:br>
              <a:rPr sz="1400"/>
            </a:b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1" name="Picture 6" descr="i?id=457897167-54-72&amp;n=17"/>
          <p:cNvPicPr/>
          <p:nvPr/>
        </p:nvPicPr>
        <p:blipFill>
          <a:blip r:embed="rId4"/>
          <a:stretch/>
        </p:blipFill>
        <p:spPr>
          <a:xfrm>
            <a:off x="5935680" y="0"/>
            <a:ext cx="3208320" cy="327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i?id=89879077-22-72&amp;n=17"/>
          <p:cNvPicPr/>
          <p:nvPr/>
        </p:nvPicPr>
        <p:blipFill>
          <a:blip r:embed="rId5"/>
          <a:stretch/>
        </p:blipFill>
        <p:spPr>
          <a:xfrm>
            <a:off x="5943600" y="3216240"/>
            <a:ext cx="3200400" cy="362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frog21"/>
          <p:cNvPicPr/>
          <p:nvPr/>
        </p:nvPicPr>
        <p:blipFill>
          <a:blip r:embed="rId6"/>
          <a:stretch/>
        </p:blipFill>
        <p:spPr>
          <a:xfrm>
            <a:off x="4724280" y="5153040"/>
            <a:ext cx="1359000" cy="17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6000"/>
            </a:b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«Соедини героев книг с их авторами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Picture 9" descr="Картинка 5 из 8"/>
          <p:cNvPicPr/>
          <p:nvPr/>
        </p:nvPicPr>
        <p:blipFill>
          <a:blip r:embed="rId1"/>
          <a:stretch/>
        </p:blipFill>
        <p:spPr>
          <a:xfrm>
            <a:off x="395280" y="155736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Картинка 1 из 5"/>
          <p:cNvPicPr/>
          <p:nvPr/>
        </p:nvPicPr>
        <p:blipFill>
          <a:blip r:embed="rId2"/>
          <a:stretch/>
        </p:blipFill>
        <p:spPr>
          <a:xfrm>
            <a:off x="5148360" y="4221000"/>
            <a:ext cx="1585800" cy="2187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Картинка 1 из 6"/>
          <p:cNvPicPr/>
          <p:nvPr/>
        </p:nvPicPr>
        <p:blipFill>
          <a:blip r:embed="rId3"/>
          <a:stretch/>
        </p:blipFill>
        <p:spPr>
          <a:xfrm>
            <a:off x="3708360" y="1628640"/>
            <a:ext cx="1496880" cy="2186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377"/>
          <p:cNvPicPr/>
          <p:nvPr/>
        </p:nvPicPr>
        <p:blipFill>
          <a:blip r:embed="rId4"/>
          <a:stretch/>
        </p:blipFill>
        <p:spPr>
          <a:xfrm>
            <a:off x="1908000" y="4149720"/>
            <a:ext cx="1549440" cy="2187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49318"/>
          <p:cNvPicPr/>
          <p:nvPr/>
        </p:nvPicPr>
        <p:blipFill>
          <a:blip r:embed="rId5"/>
          <a:stretch/>
        </p:blipFill>
        <p:spPr>
          <a:xfrm>
            <a:off x="7020000" y="1628640"/>
            <a:ext cx="175428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юймовочка                            Р. Киплин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чкин                                     П. Ерш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иполлино                              А. Пушки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уха-цокотуха                       А. Толсто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расная шапочка                   Н. Нос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знайка                                Ш. Перр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уратино                                 Д. Рода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Царь Салтан                           Э. Успен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нёк-Горбунок                    Г. Андерсе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угли                                   К. Чуков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рлсон                                  А. Линдгре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Line 5"/>
          <p:cNvSpPr/>
          <p:nvPr/>
        </p:nvSpPr>
        <p:spPr>
          <a:xfrm>
            <a:off x="2438280" y="685800"/>
            <a:ext cx="3057480" cy="35067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752480" y="1219320"/>
            <a:ext cx="3810240" cy="2590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2209680" y="1600200"/>
            <a:ext cx="3200400" cy="1676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2743200" y="1981080"/>
            <a:ext cx="2743200" cy="2590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3276720" y="2438280"/>
            <a:ext cx="220968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1981080" y="2514600"/>
            <a:ext cx="3429000" cy="34776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Line 12"/>
          <p:cNvSpPr/>
          <p:nvPr/>
        </p:nvSpPr>
        <p:spPr>
          <a:xfrm flipV="1">
            <a:off x="2057400" y="2057400"/>
            <a:ext cx="3505320" cy="1295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13"/>
          <p:cNvSpPr/>
          <p:nvPr/>
        </p:nvSpPr>
        <p:spPr>
          <a:xfrm flipV="1">
            <a:off x="1752480" y="1600200"/>
            <a:ext cx="4114800" cy="220968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14"/>
          <p:cNvSpPr/>
          <p:nvPr/>
        </p:nvSpPr>
        <p:spPr>
          <a:xfrm flipV="1">
            <a:off x="2590920" y="1143000"/>
            <a:ext cx="3200400" cy="3124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Line 16"/>
          <p:cNvSpPr/>
          <p:nvPr/>
        </p:nvSpPr>
        <p:spPr>
          <a:xfrm flipV="1">
            <a:off x="1523880" y="762120"/>
            <a:ext cx="4267440" cy="403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1752480" y="5105520"/>
            <a:ext cx="4114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2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6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5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Задания для каждого ученика от сказочных герое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" name="Picture 5" descr="EE7BQCA5JQ4UMCAU6XY0CCAGB6QGXCAD0YE0QCAK96QE7CAT7XWOUCAVFY7BNCA03AA7DCANWB6SCCACR1S14CA2V0P0DCA386PX2CAHW9C9MCAAUNLC9CAGVT0BECA66VW2FCAJ4KB0ACAFYN136CABDNRP2"/>
          <p:cNvPicPr/>
          <p:nvPr/>
        </p:nvPicPr>
        <p:blipFill>
          <a:blip r:embed="rId1"/>
          <a:stretch/>
        </p:blipFill>
        <p:spPr>
          <a:xfrm rot="20676000">
            <a:off x="628560" y="1436760"/>
            <a:ext cx="2136960" cy="3082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KKEVHCA6OEYTRCAIBINGJCAI2B26UCAZ9RZDLCA9N0H13CA2E5WJ1CAL42IT9CAL6DQK7CAOWWMW1CAXVQRXHCA3Y4L8GCA732UBNCAHXP2FSCA0GV732CAKSDN9SCANPFB1UCAWVCWH0CAV4SG9VCAJP48Q6"/>
          <p:cNvPicPr/>
          <p:nvPr/>
        </p:nvPicPr>
        <p:blipFill>
          <a:blip r:embed="rId2"/>
          <a:stretch/>
        </p:blipFill>
        <p:spPr>
          <a:xfrm rot="830400">
            <a:off x="5347800" y="1593360"/>
            <a:ext cx="3237120" cy="2422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Z83D3CA09H06WCAVU4KOPCA5QHRAACA55RX85CAUOH28ZCAG8DG7YCAGRX01JCA2ARH9XCATPLMJOCA5EAQIDCAN57XGSCA0CK4WXCA48NL8NCAKYZ3DPCA241QLUCAU7ZZ7RCA3FVTL7CAKPKQG0CAAZHHB2"/>
          <p:cNvPicPr/>
          <p:nvPr/>
        </p:nvPicPr>
        <p:blipFill>
          <a:blip r:embed="rId3"/>
          <a:stretch/>
        </p:blipFill>
        <p:spPr>
          <a:xfrm>
            <a:off x="4038480" y="4343400"/>
            <a:ext cx="3124440" cy="2338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frog21"/>
          <p:cNvPicPr/>
          <p:nvPr/>
        </p:nvPicPr>
        <p:blipFill>
          <a:blip r:embed="rId4"/>
          <a:stretch/>
        </p:blipFill>
        <p:spPr>
          <a:xfrm>
            <a:off x="3124080" y="2438280"/>
            <a:ext cx="135900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8" name="Picture 7" descr="чтение для девушек"/>
          <p:cNvPicPr/>
          <p:nvPr/>
        </p:nvPicPr>
        <p:blipFill>
          <a:blip r:embed="rId1"/>
          <a:stretch/>
        </p:blipFill>
        <p:spPr>
          <a:xfrm>
            <a:off x="0" y="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4495680" y="685800"/>
            <a:ext cx="426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аницы книг  сродни могучим крыльям -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Листай, лети хоть прямо на лун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Раскрыта книга - значит, мы открыли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        </a:t>
            </a:r>
            <a:r>
              <a:rPr b="1" i="1" lang="ru-RU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Опять открыли новую стран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0" name="Picture 5" descr="db301337e89631ead09588265d2b3190"/>
          <p:cNvPicPr/>
          <p:nvPr/>
        </p:nvPicPr>
        <p:blipFill>
          <a:blip r:embed="rId2"/>
          <a:stretch/>
        </p:blipFill>
        <p:spPr>
          <a:xfrm>
            <a:off x="838080" y="4648320"/>
            <a:ext cx="2233800" cy="189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609480" y="-39240"/>
            <a:ext cx="915516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1.Обведи номера народных сказок, в которых одним из персонажей является лис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Теремо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Колобо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Гуси – лебед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2.В каких народных сказках среди персонажей есть заяц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Гуси – лебед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Теремо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У страха глаза велик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Найди героя сказки «Теремок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Гуси – лебед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Петушок – золотой гребешо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Мышка – норуш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4.В каких народных сказках есть волк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Теремо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Каша из топор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У страха глаза велик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5.Найди героя сказки « Петушок и бобовое зернышко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Лис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Куроч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Вол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6.Найди героя сказки «У страха глаза велики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Солда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Медвед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Куроч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7. Кто помогал девочке в сказке «Гуси – лебеди»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а) Берез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б) Яблон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6600ff"/>
                </a:solidFill>
                <a:latin typeface="Verdana"/>
              </a:rPr>
              <a:t>в) Груш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1523880" y="398880"/>
            <a:ext cx="6172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4062"/>
                </a:solidFill>
                <a:latin typeface="Verdana"/>
              </a:rPr>
              <a:t>- Наше путешествие подошло к концу.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4062"/>
                </a:solidFill>
                <a:latin typeface="Verdana"/>
              </a:rPr>
              <a:t>- Ребята, какое у вас сейчас настроение? Почему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4062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4062"/>
                </a:solidFill>
                <a:latin typeface="Verdana"/>
              </a:rPr>
              <a:t>-Один мальчик сказал «Если бы я был сказкой, у меня бы хорошего конца не было , у меня бы вообще никакого конца и не было, я бы продолжался и продолжался». Но так не бывает, и поэтому давайте закончим нашу игру  словами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ff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ff"/>
                </a:solidFill>
                <a:latin typeface="Verdana"/>
              </a:rPr>
              <a:t>Пусть герои сказок дарят нам тепло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ff"/>
                </a:solidFill>
                <a:latin typeface="Verdana"/>
              </a:rPr>
              <a:t>Пусть добро навеки побеждает зло!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Verdana"/>
              </a:rPr>
              <a:t>И если мы с вами будем по доброму относиться друг к другу, помогать друг другу и любить друг друга, то все наши мечты превратятся в явь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53" name="Picture 6" descr="78P70CAQA0WI7CA41H2GMCAUYZ0JTCAEWI4FGCAA0E8WACATJ63DUCANF27V1CA7NCF8PCA883Y54CAO0EHTOCASP9G1QCAKMD6P9CA038G9GCAHGBV22CA6IZ2QICADYRN1GCA2NH2E3CA1LBKMOCAPULI05"/>
          <p:cNvPicPr/>
          <p:nvPr/>
        </p:nvPicPr>
        <p:blipFill>
          <a:blip r:embed="rId1"/>
          <a:stretch/>
        </p:blipFill>
        <p:spPr>
          <a:xfrm>
            <a:off x="-22320" y="380880"/>
            <a:ext cx="1795680" cy="1981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I9DKKCAUFH2FHCATHGVMNCA8WMJN5CAAI83YYCA1IIL30CA4GGUX5CA8I0NJUCA4UYQ0NCA401J3KCAL82N54CALKB0E7CAGCU8CWCA6JWSCTCA74YUXGCA94HU4RCALGH3X3CA4JOBIUCAQ6YG8ZCAS8VGA1"/>
          <p:cNvPicPr/>
          <p:nvPr/>
        </p:nvPicPr>
        <p:blipFill>
          <a:blip r:embed="rId2"/>
          <a:stretch/>
        </p:blipFill>
        <p:spPr>
          <a:xfrm>
            <a:off x="7543800" y="762120"/>
            <a:ext cx="1654200" cy="2286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JSSHJCAUERICXCAHWWOFDCAIKBDWGCAP9XJ7ECA4ICZ7YCAZTYL3SCAUPK9GTCA11B7ZNCAJK1NGLCAA2PH48CAAX4YYMCAIWKE46CASE8GDMCA1SAZHDCAM7E74MCA26ZQ1OCASEHQ0OCA8LY0WHCABFTFGU"/>
          <p:cNvPicPr/>
          <p:nvPr/>
        </p:nvPicPr>
        <p:blipFill>
          <a:blip r:embed="rId3"/>
          <a:stretch/>
        </p:blipFill>
        <p:spPr>
          <a:xfrm>
            <a:off x="-76320" y="4572000"/>
            <a:ext cx="1676520" cy="2316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4ee6ee6ef31805926fc420782f5fdd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44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-Кто живет в этой избушке?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- Правильно ли стоит избушка?</a:t>
            </a:r>
            <a:br>
              <a:rPr sz="2400"/>
            </a:b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Какие слова надо сказать, чтобы она повернулась?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5" name="Picture 5" descr="0VVRTCA29GBMWCA30CO9MCA1YP1C4CA7EVEQPCADD4IO1CA6FVA16CABECWMWCA10PA44CALGLCFXCA6AM2SDCAYTT5Y0CA0TX7VGCAYOB218CAQAG7Y3CAK0MRYJCAET81V2CAXMO8POCAH0J8STCAGPICBW"/>
          <p:cNvPicPr/>
          <p:nvPr/>
        </p:nvPicPr>
        <p:blipFill>
          <a:blip r:embed="rId1"/>
          <a:stretch/>
        </p:blipFill>
        <p:spPr>
          <a:xfrm>
            <a:off x="1447920" y="1752480"/>
            <a:ext cx="6337080" cy="495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3276720" y="228600"/>
            <a:ext cx="5867280" cy="61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ff"/>
                </a:solidFill>
                <a:latin typeface="Verdana"/>
              </a:rPr>
              <a:t>Баба-Яга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(Яга-Ягинишна, Ягибиха, Ягишна) –древнейший персонаж славянской мифологии. Раньше верили, что Баба-Яга может жить в любой деревне, маскируясь под обычную женщину: ухаживать за скотом, стряпать, воспитывать детей. Баба-Яга-существо более опасное, обладающее куда большей силою, чем какая-то-  ведьма. Чаще всего она обитает в дремучем лесу, который издавна вселял страх в людей, поскольку воспринимался как граница между миром мертвых и живых. Не зря же ее избушка обнесена частоколом из человеческих костей и черепов, и во многих сказках Баба-Яга питается человечиной, да и сама зовется  «костяная нога». Как и Кощей Бессмертный, она принадлежит сразу двум мирам: миру живых и миру мертвых. Эта старая колдунья не ходит пешком, а разъезжает по белу свету в железной ступе. А чтобы не видно было следов, заметаются они за нею особенными, к ступе приделанными метлою и помелом. Служат ей лягушки, черные коты, в их числе Кот Баюн, вороны и змеи: все существа, в которых уживается и угроза, и мудрость. Даже когда Баба-Яга предстает в самом неприглядном виде и отличается лютостью натуры, она ведает будущее, обладает несметны сокровищами, тайными знаниями. Почитание всех ее свойств отразилось не только в сказках, но и в загадках. В одной из них говорится так: «Баба-Яга, вилами нога, весь мир кормит, себя голодом морит». Речь идет о сохе-кормилице, самом важном в крестьянском обиходе орудии труда. Такую же огромную роль в жизни сказочного героя играет и загадочная, мудрая, страшная Баба-Яг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Picture 7" descr="Леший. Домовой. Баба-Яга. Кикимора."/>
          <p:cNvPicPr/>
          <p:nvPr/>
        </p:nvPicPr>
        <p:blipFill>
          <a:blip r:embed="rId1"/>
          <a:stretch/>
        </p:blipFill>
        <p:spPr>
          <a:xfrm>
            <a:off x="0" y="3276720"/>
            <a:ext cx="32767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7"/>
          <p:cNvGrpSpPr/>
          <p:nvPr/>
        </p:nvGrpSpPr>
        <p:grpSpPr>
          <a:xfrm>
            <a:off x="0" y="-590400"/>
            <a:ext cx="3273840" cy="4247640"/>
            <a:chOff x="0" y="-590400"/>
            <a:chExt cx="3273840" cy="4247640"/>
          </a:xfrm>
        </p:grpSpPr>
        <p:pic>
          <p:nvPicPr>
            <p:cNvPr id="269" name="Picture 8" descr="izbushka"/>
            <p:cNvPicPr/>
            <p:nvPr/>
          </p:nvPicPr>
          <p:blipFill>
            <a:blip r:embed="rId2"/>
            <a:stretch/>
          </p:blipFill>
          <p:spPr>
            <a:xfrm>
              <a:off x="0" y="-360"/>
              <a:ext cx="32738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9"/>
            <p:cNvSpPr/>
            <p:nvPr/>
          </p:nvSpPr>
          <p:spPr>
            <a:xfrm rot="20091600">
              <a:off x="519480" y="-457200"/>
              <a:ext cx="961560" cy="15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58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1. В каких сказках живет Баба – Яга? </a:t>
            </a:r>
            <a:br>
              <a:rPr sz="2800"/>
            </a:b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2. На чем передвигается Баба – Яга ? </a:t>
            </a:r>
            <a:br>
              <a:rPr sz="2800"/>
            </a:b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3.С кем дружит и кто помогает Бабе - Яге? </a:t>
            </a:r>
            <a:br>
              <a:rPr sz="2800"/>
            </a:b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4.Кто обращался за помощью к Бабе- Яге?     </a:t>
            </a:r>
            <a:br>
              <a:rPr sz="2800"/>
            </a:b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5. Кто помог сестре спасти братца в сказке «Гуси – лебеди»? </a:t>
            </a:r>
            <a:br>
              <a:rPr sz="2800"/>
            </a:br>
            <a:r>
              <a:rPr b="0" lang="ru-RU" sz="2800" spc="-1" strike="noStrike">
                <a:solidFill>
                  <a:srgbClr val="004d73"/>
                </a:solidFill>
                <a:latin typeface="Verdana"/>
              </a:rPr>
              <a:t>6. На чем передвигаются герои сказок? </a:t>
            </a:r>
            <a:r>
              <a:rPr b="0" lang="ru-RU" sz="4000" spc="-1" strike="noStrike">
                <a:solidFill>
                  <a:srgbClr val="004d7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2" name="Picture 9" descr="Леший. Домовой. Баба-Яга. Кикимора."/>
          <p:cNvPicPr/>
          <p:nvPr/>
        </p:nvPicPr>
        <p:blipFill>
          <a:blip r:embed="rId1"/>
          <a:stretch/>
        </p:blipFill>
        <p:spPr>
          <a:xfrm>
            <a:off x="5486400" y="152280"/>
            <a:ext cx="2589120" cy="2971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AN150"/>
          <p:cNvPicPr/>
          <p:nvPr/>
        </p:nvPicPr>
        <p:blipFill>
          <a:blip r:embed="rId2"/>
          <a:stretch/>
        </p:blipFill>
        <p:spPr>
          <a:xfrm>
            <a:off x="533520" y="380880"/>
            <a:ext cx="326052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5" name="Picture 4" descr="страни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465800" cy="6120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4"/>
          <p:cNvSpPr/>
          <p:nvPr/>
        </p:nvSpPr>
        <p:spPr>
          <a:xfrm>
            <a:off x="990720" y="1143000"/>
            <a:ext cx="350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Я был в избушк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на курьих нож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Там все как  прежде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идит Яг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Пищали мыш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и рылись в крош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таруха зл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была строга.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Игра  «Волшебная Ромашк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0" name="Picture 4" descr="TJY1GCA1R5J4WCAMRH2L2CA8WZWZCCAC7Y218CAXQLRRECA1SCOG8CAD2IQLCCAB3CRJICAA2ZN86CAL0MYH0CAYWOXT6CAIY9OG2CA7ZCPO4CAV3VYJACAK4O4EMCACAFOCSCAH2S2ICCAEFWYVJCAX2D9GZ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62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1996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1.«Не пей, братец, козленочком станешь»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2. «Как выскочу, как выпрыгну, пойдут клочки по закоулочкам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3. «Несет меня лиса, за темные леса, за быстрые реки, за высокие горы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4. «Козлятушки, ребятушки, отворитеся, отопритеся, ваша мать пришла, молока принесла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5. «Вижу – вижу! Не садись на пенек. Не ешь пирожок. Неси бабушке, неси дедушке!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6. «По щучьему веленью, по моему хотенью, ступайте ведра сами домой!»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7. «Дай рыбки! Не дам! Пойди сам налови!»</a:t>
            </a: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1219320" y="349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Угадай, чьи это сло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3" name="Picture 7" descr="M7VT7CA62YRE3CALOO0DICAFQX20LCAM1K7QSCAI2WQKACA0XWO5MCA6PTYSWCAOQM7Q1CAWSK0S7CAC37K9QCAD3NCDECAW0O1DVCAMO7IRJCAXYTE1PCAIOZC5HCAA03UN7CACMCZKWCAVX6NVMCAYLZ3K1"/>
          <p:cNvPicPr/>
          <p:nvPr/>
        </p:nvPicPr>
        <p:blipFill>
          <a:blip r:embed="rId1">
            <a:lum bright="-12000"/>
          </a:blip>
          <a:stretch/>
        </p:blipFill>
        <p:spPr>
          <a:xfrm rot="20505600">
            <a:off x="0" y="0"/>
            <a:ext cx="1238400" cy="1752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YKFAMCARY7O7KCA1KP3SXCAXZGQ4MCABKBINWCA1IMJ32CA1GUTVZCA77K5OECA1WVFDSCABEX4ZXCA5ZE1L6CALHRXFRCA389Y5FCA741ACQCAQ2B82MCA1GC83RCANGYNWMCAFJISI3CANHKCN9CALBX218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7251840" y="5638680"/>
            <a:ext cx="157608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228600"/>
            <a:ext cx="3595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Леш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6" name="Picture 9" descr="Леший. Домовой. Баба-Яга. Кикимора"/>
          <p:cNvPicPr/>
          <p:nvPr/>
        </p:nvPicPr>
        <p:blipFill>
          <a:blip r:embed="rId1"/>
          <a:stretch/>
        </p:blipFill>
        <p:spPr>
          <a:xfrm>
            <a:off x="6019920" y="685800"/>
            <a:ext cx="266364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Леший. Домовой. Баба-Яга. Кикимора"/>
          <p:cNvPicPr/>
          <p:nvPr/>
        </p:nvPicPr>
        <p:blipFill>
          <a:blip r:embed="rId2"/>
          <a:stretch/>
        </p:blipFill>
        <p:spPr>
          <a:xfrm>
            <a:off x="5888160" y="3962520"/>
            <a:ext cx="310356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609480" y="990720"/>
            <a:ext cx="5105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Лесовик-леший - дух и хранитель леса в славянской мифологии,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который живет в лесной чащобе. Он умеет оборачиваться, является в виде дряхлого старика, либо дерева, медведя. Иногда он кричит в лесу и пугает людей. Леший -волчий и медвежий пастух, ему подчиняются все звери в лесу. Он охраняет лес и лесных зверей, потому его опасаются лесорубы и охотники. Прознав, что в какой-то чаще живет леший, люди обходят ее стороной. Она считается заповедной, священной рощей, посвященной Святибору. Леший начальник над всеми деревьями и зверями, без его разрешенья в лес заходить не стоит. Леший то ростом с траву , то высотой с сосну, а обычно – простой мужичок, только кафтан у него запахнут на правую сторону и обутка надета наоборот; глаза горят зеленым огнем, волосы у Лешего длинные серо-зеленые, на лице нет ни ресниц, ни бровей. Обличьем с человеком схож, да только весь с головы до пят шерстью оброс. Встречному старается прикинуться человеком, но легко его разоблачить, когда глянешь через правое ухо коня. Леший любит морочить голову путникам и сбивает их с тропинки, путая тропы и начиная водить кругами. Леший может обойти вокруг неосторожного человека, и тот долго будет метаться внутри волшебного круга, не в силах переступить замкнутую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черту. Но Леший, как и вся живая, природа умеет воздавать добром за добро. А нужно ему только одно: чтобы человек, входя в лес, уважал лесные законы, не причинял лесу вреда. И очень обрадуется Леший, если оставить ему где-нибудь на пеньке лакомства, какие в лесу не растут, пирожок, пряник, и сказать вслух спасибо за грибы и ягод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55Z</dcterms:created>
  <dc:creator>Admin</dc:creator>
  <dc:description/>
  <dc:language>en-US</dc:language>
  <cp:lastModifiedBy>user</cp:lastModifiedBy>
  <dcterms:modified xsi:type="dcterms:W3CDTF">2017-10-15T10:32:45Z</dcterms:modified>
  <cp:revision>104</cp:revision>
  <dc:subject/>
  <dc:title>Конспект открытого урока по литературному чтению 2 класс </dc:title>
</cp:coreProperties>
</file>