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EDDF-C026-4948-A9E3-AAD9C08289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C43-2917-47B3-BC84-7FF32C63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76F-E2DF-41F6-B4F5-5A3BF755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2AE-CCEA-4871-A485-39C5647D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FC3-5837-4F44-94B3-592EB4EB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490-F735-454E-8941-4D0128F0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703-9CCE-42A7-B4EC-ED628BA9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BA78-33CC-4612-A636-FCE5FF2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6DCF-93BA-4ED6-B25F-3197141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7489-66BC-4CD3-A687-6FEEBC7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904-F578-4BD6-8E85-69150860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F08A-DA74-443E-9380-8963978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764-3DB2-4ECC-A3FC-B1702C0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283-CCE6-45B7-90DA-C5BB8C5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1FD-ED48-44FF-A9A5-1441A1D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D54-0A42-466D-9DA0-6BCA1CA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78D-832B-41EC-9FE4-F445582B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770-70E1-4B66-B2E4-F473128D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6503-25FB-4C2A-9A3B-30743165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6FBB-FDB7-4C9E-8346-BF02E7DE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8801-F406-47E3-AFC6-3B9908E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AE48-3EC4-4333-BCBA-9532FC5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1007-DE92-4BFD-9B3A-5E247A0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D6AA-4A1A-4302-AFF6-1182BCB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CFC-E1FC-4FFD-BCFE-BB02BE4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12AB-85E5-4A41-913B-B11A723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CC87-DFED-4A8E-8AA1-72E7633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9728-B150-4F6D-9404-B6A9352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424F-EC0F-4405-8F15-674DADE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4512-44B1-420D-B4A3-57499A8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DD42-82B6-44C5-B4AA-EEB5558B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0BC2-278C-447C-B334-CEF84C64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DCDF-DD36-47F4-9AF9-74A95FF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4988-D274-4785-A106-CE5D3DE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99D8-60E0-4FCC-844A-E6C6186B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5F4-590B-429E-BF03-146C21C0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9AD8-519C-4A4B-B011-0F16430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1579-2F52-4EF3-BD6A-62806CF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CD8A-9D1E-4F1A-A0C8-DE77AB94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E8FF-8A85-4F58-BFCD-5F2E3FC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0FF4-CE34-4EC6-885E-E22E3D72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BD4B-E3E2-4BD9-BC7F-49230722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0709-2368-4A8A-96A6-9C19B85B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C8E2-2164-498F-B68D-BE49CF2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0EC3-CEC5-4E9A-B906-9C45888A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2922-863C-42B6-8F7A-501D8172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B24-4083-43F7-8C64-AF04FD3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62A0-834B-4EE4-9B69-A93CD9A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010B-ED13-439D-A366-CFED6771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870F-D4A0-4C9C-8C1A-D1B13CF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5B62-F812-42FA-855D-0FDAF356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BED8-AB53-4198-A3B5-A68C7B1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5C0E-A6EF-4E79-AE7A-6408333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77C2-62D2-49F7-84D1-45BC3F67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E20C-B447-489F-B341-9E0C952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C520-8193-42A8-8209-EEA9FA9E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61026-9CD2-4808-9AE1-F7B50E5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6C8-B81E-421A-8052-E8E3EFD8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808A-B637-4775-8591-87CA8128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0ED1-81B7-4462-B461-6E4BBADB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46F4-29DC-410E-9A61-99CA8E4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ACE3-1309-4305-9821-40B93B5E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B2D6-FE3E-4C41-A8E7-D5427621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CF59-C15F-4A78-BA64-D8F63855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659D-5C8F-4152-B3C0-A518AC5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88C1-467F-4D36-8383-A910143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CBB1-824E-4F07-9253-50189F8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9132-2476-4C5C-9680-2556B61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15F-E2B4-4863-9C43-F8AEF82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72A1-10DB-4892-BA71-2794200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C7423-3D12-4414-89E9-B2DF38FC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BB48-C7DD-444F-8834-3F456BA8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D78B-2039-4F13-9E37-EF5FA951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D913-EA6A-4110-A8BF-D03FFB7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9174-1FEA-423B-9DF2-DAF519DB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23CB-45F8-4082-B882-5B7DAB9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F035-72B6-40CE-9E9B-1D42F97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22BC-7041-417E-81B7-FBCECE86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E8C22-A2D3-44DD-8DA4-83C168D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158-031A-4645-9F11-0648C54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EBD5-9BE2-4315-BD6A-A232B37D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41FA-6B1A-47F1-A77B-A24862C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E45E-24E8-4B82-9491-D548843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A4FF-071C-4703-B921-98725958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C4ED9-44A6-4C0D-8449-629ADCEC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AF2B-DB6D-4A78-AAB6-2304D00E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FFB02-5F75-41BE-A327-378B34D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AD6A-CB9B-4BCF-9708-C4A5284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F924-16AA-4BDF-8CA4-F994A55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C279B-5AD1-4C95-824D-02B8719D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D9C-E59F-424F-9BE2-B5421DC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88C6-4856-40BA-A157-4DA787D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D48CB-0270-4843-9BE7-E249A0E8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E2C51-3752-4EE2-AA41-AF9FCB1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BE1B-1CCA-48B0-AD8E-5689C1D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2AFD-E5D6-43B7-99D6-9582FC82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D228-2A18-4CA1-8503-841F2DAE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3860-016D-444D-B59C-480FA614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A38-B551-44D3-936C-923C9E52F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B68-3966-4E6F-86CE-375515F5AF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1DF9-EEAA-460C-823D-C576BB5A82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538A-9B6F-42F8-93BA-C88D185C94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376-D9B1-44CF-AFDD-739F233F32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32C6-2E66-4783-B2FD-C5A41DBEE2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20C0-CBBE-4B9D-9410-EE6ECE0671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FED-8271-486E-9840-293D34F36D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28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в образовательной деятельности ЭОР как средства повышения качества образования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763280" y="4581360"/>
            <a:ext cx="554508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спецдисциплин Куулар Д.К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928800" y="35712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 РТ  Тувинский политехнический технику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1042920" y="184464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ьютер совмещает в себе одновременно возможности разнообразных средств наглядности, тренажерных устройств, технических средств контроля и оценки результато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Picture 2" descr="C:\Users\KuularHome\Desktop\папап\image-0-02-05-b0c4bacbb41bcba5015f2e73d22801f5037ff0e1d48622eaa01e3f82b4ca5152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"/>
          <p:cNvSpPr/>
          <p:nvPr/>
        </p:nvSpPr>
        <p:spPr>
          <a:xfrm>
            <a:off x="1258920" y="5199120"/>
            <a:ext cx="74898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контрол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усвоения содержания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3068280"/>
            <a:ext cx="7408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абинет ПДД имеет современное оснащение, компьютерный класс.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1979640" y="4762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71640" y="846000"/>
            <a:ext cx="711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ё это в учебном процессе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илить образовательные эфф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овысить качество усво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существить дифференцированный подход к учащимся с разным уровнем готовности к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рганизовать одновременно студентов, обладающих различными способностями и возмож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ть ЭОР можно для всех типов уроков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изучения нового материала и формирования новых ум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ктического применения знаний, ум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бщения и систематизации изученного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нтроля и коррекции знаний, умен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Picture 2" descr="C:\Users\KuularHome\Desktop\папап\image-0-02-05-b31450fae48648cee40b0cf6607e7ab3d1d8c23361479f121724c23b7e6e8639-V.jpg"/>
          <p:cNvPicPr/>
          <p:nvPr/>
        </p:nvPicPr>
        <p:blipFill>
          <a:blip r:embed="rId2"/>
          <a:stretch/>
        </p:blipFill>
        <p:spPr>
          <a:xfrm>
            <a:off x="-18252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 flipH="1" flipV="1" rot="10800000">
            <a:off x="1370520" y="4498920"/>
            <a:ext cx="694548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ъяснении нового материа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и, информационные ресурсы на CD-дисках и DVD-дисках используют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сопровождение объяснени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Picture 4" descr="C:\Users\KuularHome\Desktop\папап\image-0-02-05-6a2f959683412b1d445f0d17231923b4a37bd7de2dc0d8e1ce937bd64b31347b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"/>
          <p:cNvSpPr/>
          <p:nvPr/>
        </p:nvSpPr>
        <p:spPr>
          <a:xfrm>
            <a:off x="611280" y="6021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фикационный экзамен по теории ПД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9" name="Picture 2" descr="C:\Users\KuularHome\Desktop\папап\image-0-02-05-5db1d08f2f44a6aeba796477b169e7b1cc44ec25d596c3758db8e2e56b3b6295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"/>
          <p:cNvSpPr/>
          <p:nvPr/>
        </p:nvSpPr>
        <p:spPr>
          <a:xfrm>
            <a:off x="1079640" y="5191200"/>
            <a:ext cx="698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"/>
          <p:cNvSpPr/>
          <p:nvPr/>
        </p:nvSpPr>
        <p:spPr>
          <a:xfrm>
            <a:off x="1619280" y="537372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аботка и закрепление навы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ные обучающие программы, компьютерные тренаж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своей работе на занятиях я использую CD-диски и DVD-диски «Подготовка к теоретическому экзамену», «Устройство, ТО и ремонт  автотранспорта», «Первоначальные навыки вождения»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нные образовательные ресурсы, используемые в обучении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95280" y="4581000"/>
            <a:ext cx="798192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лектронные диски разработаны в соответствии с Государственными стандартами образования РФ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6" name="Рисунок 22" descr="Описание: http://shop.maash.su/images/thumbnails/150/150/detailed/2/021001.png"/>
          <p:cNvPicPr/>
          <p:nvPr/>
        </p:nvPicPr>
        <p:blipFill>
          <a:blip r:embed="rId1"/>
          <a:stretch/>
        </p:blipFill>
        <p:spPr>
          <a:xfrm>
            <a:off x="636480" y="457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1" descr="Описание: http://shop.maash.su/images/thumbnails/150/150/detailed/2/021002.png"/>
          <p:cNvPicPr/>
          <p:nvPr/>
        </p:nvPicPr>
        <p:blipFill>
          <a:blip r:embed="rId2"/>
          <a:stretch/>
        </p:blipFill>
        <p:spPr>
          <a:xfrm>
            <a:off x="2268360" y="5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17" descr="Описание: http://shop.maash.su/images/thumbnails/150/150/detailed/1/021034.png"/>
          <p:cNvPicPr/>
          <p:nvPr/>
        </p:nvPicPr>
        <p:blipFill>
          <a:blip r:embed="rId3"/>
          <a:stretch/>
        </p:blipFill>
        <p:spPr>
          <a:xfrm>
            <a:off x="4284720" y="457200"/>
            <a:ext cx="1428840" cy="1521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3" descr="Описание: http://shop.maash.su/images/thumbnails/150/150/detailed/1/021040.png"/>
          <p:cNvPicPr/>
          <p:nvPr/>
        </p:nvPicPr>
        <p:blipFill>
          <a:blip r:embed="rId4"/>
          <a:stretch/>
        </p:blipFill>
        <p:spPr>
          <a:xfrm>
            <a:off x="6156360" y="5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0" descr="Описание: http://shop.maash.su/images/thumbnails/150/150/detailed/1/021003.png"/>
          <p:cNvPicPr/>
          <p:nvPr/>
        </p:nvPicPr>
        <p:blipFill>
          <a:blip r:embed="rId5"/>
          <a:stretch/>
        </p:blipFill>
        <p:spPr>
          <a:xfrm>
            <a:off x="84456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9" descr="Описание: http://shop.maash.su/images/thumbnails/150/150/detailed/2/021022.png"/>
          <p:cNvPicPr/>
          <p:nvPr/>
        </p:nvPicPr>
        <p:blipFill>
          <a:blip r:embed="rId6"/>
          <a:stretch/>
        </p:blipFill>
        <p:spPr>
          <a:xfrm>
            <a:off x="230652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6" descr="Описание: http://shop.maash.su/images/thumbnails/150/150/detailed/1/021036.png"/>
          <p:cNvPicPr/>
          <p:nvPr/>
        </p:nvPicPr>
        <p:blipFill>
          <a:blip r:embed="rId7"/>
          <a:stretch/>
        </p:blipFill>
        <p:spPr>
          <a:xfrm>
            <a:off x="3995640" y="270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5" descr="Описание: http://shop.maash.su/images/thumbnails/150/150/detailed/1/021037.png"/>
          <p:cNvPicPr/>
          <p:nvPr/>
        </p:nvPicPr>
        <p:blipFill>
          <a:blip r:embed="rId8"/>
          <a:stretch/>
        </p:blipFill>
        <p:spPr>
          <a:xfrm>
            <a:off x="6134040" y="270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0" y="6172200"/>
            <a:ext cx="9144000" cy="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0" y="760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0" y="902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0" y="1045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0" y="11887200"/>
            <a:ext cx="9144000" cy="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755640" y="1628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)Программное обеспечение, CD-дис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)Мультимедийное учебно-методическое пособие, CD-диск+ DVD-дис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) Программа-тренажер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анные пособия дают возможность преподавателю не только красочно подать материал, но и с помощью моделирования различных дорожных ситуаций вовлечь ученика в процесс обсуждения, делая урок интерактивным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900000" y="76500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целью модернизации всей системы образования в последние десятилетия является – </a:t>
            </a:r>
            <a:r>
              <a:rPr b="0" lang="ru-RU" sz="3200" spc="-1" strike="noStrike">
                <a:solidFill>
                  <a:srgbClr val="2d83f4"/>
                </a:solidFill>
                <a:latin typeface="Times New Roman"/>
                <a:ea typeface="Times New Roman"/>
              </a:rPr>
              <a:t>повышение качества образовани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400" y="2356920"/>
            <a:ext cx="80578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я информация в программе представлена в виде видеофрагментов иллюстрированного текста и речи. Применение мультимедийных технологий обеспечивает лучшее восприятие учебного материал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57160" y="21427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используются для иллюстрации рассказа преподавателя и позволяют в динамике воспроизвести различные ситуации, недоступные непосредственному наблюдению. Видеофрагменты дают возможность одновременно увидеть то, что в действительности происходит в разное время и в различных дорожных ситуаци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95280" indent="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539640" y="1341000"/>
            <a:ext cx="81043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зентации — наиболее распространенный вид представления демонстрационных материалов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зентации активно используются и для представления студенческих проекто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зентации учащихс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7" name="Picture 4" descr="C:\Users\KuularHome\Desktop\папап\image-0-02-05-fca22076ed3f9fbe8d39e0d5e31106bf309cccd9ff09772f5fa51c8961688a29-V.jpg"/>
          <p:cNvPicPr/>
          <p:nvPr/>
        </p:nvPicPr>
        <p:blipFill>
          <a:blip r:embed="rId1"/>
          <a:stretch/>
        </p:blipFill>
        <p:spPr>
          <a:xfrm>
            <a:off x="971640" y="1628640"/>
            <a:ext cx="590544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871560" y="765000"/>
            <a:ext cx="7408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изучении нового материала использую презентации, которые содержат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зложение основного теоретического материала;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демонстрацию деталей автомобилей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сложные примеры ремонта, сбора и разбора узлов и деталей автомобилей, с использованием компьютерной графики и анимаци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928800" y="1356840"/>
            <a:ext cx="7408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ономит время на занятие, так как сокращаются его затраты на работу рук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Формирует правильное представление студентов о поэтапной работы с узлами и агрегатами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Сборка и разборка, готовый агрегат, анимация развивают образное мышл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Работая с подсказками, слушая преподавателя, студент может не просто выучить расположение того или иного узла или агрегата, а правильно может расположить его в устройстве авто, это важно для дальнейшего изучения профессии «Автомеханик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юсы  использования ЭОР на занятиях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C:\Users\KuularHome\Desktop\папап\image-0-02-05-7b9ea449b457029c67cdbd1ee80122be2c2f2c3068c455ec00d21d4c7954095e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900000" y="486900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результатов выполнения индивидуальных и групповых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7" name="Picture 2" descr="C:\Users\KuularHome\Desktop\папап\image-0-02-05-3afabeaeca680a16bac336d565f982e5917abe92c1f1ad398668b801bc823b59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"/>
          <p:cNvSpPr/>
          <p:nvPr/>
        </p:nvSpPr>
        <p:spPr>
          <a:xfrm>
            <a:off x="900000" y="5300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1258920" y="501336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ение и систематизация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4" descr="C:\Users\KuularHome\Desktop\папап\image-0-02-05-e32ff77dd8ae4a5a36a299bd441e8ec071b76e81945f9790f6065b213f0fb108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1116000" y="5516640"/>
            <a:ext cx="748836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я самостоятельной работы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6" name="Picture 2" descr="C:\Users\KuularHome\Desktop\папап\image-0-02-05-b93824003e5811b4fca821c0c462e5613d4851f36d05459036500d16b2c85cc2-V.jpg"/>
          <p:cNvPicPr/>
          <p:nvPr/>
        </p:nvPicPr>
        <p:blipFill>
          <a:blip r:embed="rId2"/>
          <a:stretch/>
        </p:blipFill>
        <p:spPr>
          <a:xfrm>
            <a:off x="-10800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2"/>
          <p:cNvSpPr/>
          <p:nvPr/>
        </p:nvSpPr>
        <p:spPr>
          <a:xfrm flipH="1">
            <a:off x="611280" y="5680080"/>
            <a:ext cx="5719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ядная демонстрация проце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785880" y="1356840"/>
            <a:ext cx="7408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тобы добиться первостепенной задачи качественного усвоения знаний, необходимо сделать учебный процесс максимально эффективным. Современные информационные технологии открывают студентам доступ к нетрадиционным источникам информации, позволяют реализовать принципиально новые формы и методы обучен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имущества использования электронных образовательных ресурсов</a:t>
            </a: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Прямоугольник 1"/>
          <p:cNvSpPr/>
          <p:nvPr/>
        </p:nvSpPr>
        <p:spPr>
          <a:xfrm>
            <a:off x="539640" y="127800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разнообразить учебный процесс, сделать занятие более интересным и нагляд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зволяет смоделировать всевозможные ситуации на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едставление информации с помощью различных мультимедий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Упрощение объяснения схем, графиков и наглядности, которая способствует комплексному восприятию и лучшему запоминанию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Наглядное иллюстрирование при объяснении   дорож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Высокая плотность, динамичность и мобильность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овышение мотивации учащихся к обу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перативный контроль ЗУН и наличие обрат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дает использование электронных образовательных ресурсов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фикация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03d62"/>
              </a:gs>
              <a:gs pos="50000">
                <a:srgbClr val="4584d3"/>
              </a:gs>
              <a:gs pos="100000">
                <a:srgbClr val="203d62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3b76"/>
              </a:gs>
              <a:gs pos="50000">
                <a:srgbClr val="0080ff"/>
              </a:gs>
              <a:gs pos="100000">
                <a:srgbClr val="003b7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овышение качества ЗУН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2"/>
          <p:cNvSpPr/>
          <p:nvPr/>
        </p:nvSpPr>
        <p:spPr>
          <a:xfrm>
            <a:off x="1639800" y="1989000"/>
            <a:ext cx="610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ьная организация уроков с использованием   ЭОР способствует максимальной интенсификации процесса обучения, так как за ту же единицу времени учащиеся успевают выполнить большее количество разнообразных упражнений, что в конечном итоге обеспечивает качественную отработку знаний, умений и навыков; иными словами – качество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Диаграмма 3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C:\Users\KuularHome\Desktop\папап\image-0-02-05-d46cb30911ac04ff672581137a9679b447bdd9bb67e410be4a453569ad820b79-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57160" y="1214280"/>
            <a:ext cx="77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повышения эффективности образовательного процесса, при подготовке и проведении занятий теоретического обучения  использую информационные технологии, внедряя электронные образовательные ресурсы на занятиях теоретического обучения и междисциплинарных курсов по профессии «Автомеханик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14200" y="1356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2204640"/>
            <a:ext cx="8183520" cy="38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br>
              <a:rPr sz="2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пробация форм и методов применения новых информационно-коммуникационных технологий в учебном процессе, показать  возможности использования электронно-образовательных ресурсов на занятиях по «Теоретической подготовке водителей категории «В, С» для  повышения качества знаний учащихс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971640" y="234900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создания мотивации учебной деятельности, повышающей качество обучения и образования, соответствующего требованиям современного обще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предоставление широкого поля для активной самостоятельной деятельности обучающих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Актуальность использования электронно-образовательных ресурсов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28800" y="19285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повышения ЗУН учащихся провожу занятия по ПДД с компьютерным сопровожд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2" descr="C:\Users\KuularHome\Desktop\папап\image-0-02-05-e4ceb435713c5908282183c726f1044b02962ed65220e665e4fee42a13fb0c33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928800" y="92844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 помощью компьютера можно смоделировать сложные проблемные ситуации, создаваемые на основе как реально возникающих ситуаций на дороге, так и теоретически возможных вариантов развития событий, выявлять их причины и закономер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то, в свою очередь, позволяет повысить эффективность учебного процесса, и наконец, сделать его более наглядным, интересным и доступным, дает возможность повысить качество обучения предмету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3:48:23Z</dcterms:created>
  <dc:creator>Матковская</dc:creator>
  <dc:description/>
  <dc:language>en-US</dc:language>
  <cp:lastModifiedBy>KuularHome</cp:lastModifiedBy>
  <cp:lastPrinted>2017-02-14T08:42:04Z</cp:lastPrinted>
  <dcterms:modified xsi:type="dcterms:W3CDTF">2018-01-27T13:17:35Z</dcterms:modified>
  <cp:revision>255</cp:revision>
  <dc:subject/>
  <dc:title>Слайд 1</dc:title>
</cp:coreProperties>
</file>