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218C-16B8-4432-A8D2-7F059C49C2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EE29-FDC6-4C61-AB55-E1A0D4F0A4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383-726A-4158-895C-F429D4D3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9B5-30F2-4AD0-9694-8DC752B0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58B-A463-45AF-8087-327C89E9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7DC-AD6A-4F64-9CB0-B9C38EAC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445-A199-4E59-85DA-85041981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225-CE10-4B10-9635-8F7AF61D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E49-9C59-4D8C-8D71-EC528E48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8DF-5D2E-4AC8-9E3A-5C088787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A31-C51E-4596-879B-279F81C3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AAD-16B6-4FB2-84F9-A7194F0D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BB7-8DE7-4DF9-9261-C7165B3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D48-3FCA-4BDF-A4FF-6B2297B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B7B0-D1E1-467F-9824-0B2C87926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Как воспитать здорового ребенка?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Анализ анкет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1.Сформулируйте хотя бы одно правило для родителей из серии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«Как воспитать здорового ребенка?»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амому вести ЗО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Здоровое и правильное  пит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облюдение режима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Ежедневные занятия спор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Закал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2.Что в Вашем представлении, есть здоровый образ жизн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Занятие спор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тказ от вредных привыч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емейный отд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3.В чем просчеты школы в решении задачи сохранения и укрепления здоровья наших дете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Мало спортивных секций, круж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лохо развит мед.каби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ет сан узла в помещении, буф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 зимнее время дети долго стоят на улице(2сме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4.Дайте советы работникам школы, которые, на Ваш взгляд, помогут преодолеть эти просче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0040" y="273168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рганизовать больше спортивных секций, круж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Чаще проводить совместные с родителями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Благоустроить школу (сан узел, буфет, построить отдельный спортивный зал,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5. Что бы Вы делали по другому,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оводись Вам начать воспитание своего ребенка зано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че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елил бы больше вним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 бы менее стр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ил бы режим дн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нтересно заметить, чаще всего ответа на этот вопрос не было…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умайтесь, что Вы бы сделали для школы, своего ребенка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 всегда рады Вашему активному участию, готовы рассмотреть Ваши предложения и  принять любую помощ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0:01:04Z</dcterms:created>
  <dc:creator>Вардеван</dc:creator>
  <dc:description/>
  <dc:language>en-US</dc:language>
  <cp:lastModifiedBy>Администрация</cp:lastModifiedBy>
  <dcterms:modified xsi:type="dcterms:W3CDTF">2011-12-16T08:06:35Z</dcterms:modified>
  <cp:revision>21</cp:revision>
  <dc:subject/>
  <dc:title>«Как воспитать здорового ребенка?»</dc:title>
</cp:coreProperties>
</file>