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DF8C70-CB41-413F-8C1C-58578FC508A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(портфолио). Официальный классный журнал, конечно, не отменяется, но итоговая оценка за начальную школу (решения о переводе на следующую степень образования) теперь будет приниматься не на основе годовых предметных отиеток в журнале, а на основе всех результатов (предметных, метапредметных, личностных; учебных и внеучебных) накопленных в портфеле достижений ученика за четыре года обучения в начальной шко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F7418-5119-46C8-8354-70E4E627F37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«Рабочие материал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предмет имеется свой «файл»,  в него вкладываются диагностические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EA13-C014-4452-96E8-08D0C049D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3A81-1DBC-4B5D-9738-29412F6B45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E73C-31B9-47E7-9596-11881EC3C3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5C4E-0988-4A1E-BA3B-760C8483FC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B402-23F7-451C-B6AE-2E8DAC9B2FC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0E07-0B0D-4092-922E-83E14FB3808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D50B-E35B-408B-ACD1-2FDBF9C33E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EB9D-FD5D-415C-BE0C-AFD554133E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BA7F-0182-42AE-9BDB-3A93C7863B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6D74-E472-458F-AE92-CA92EF45C0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E197-5C98-42E9-A555-4A8477AA91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B7D90-8232-4178-8810-5DF7BB36E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CA3A-4CC8-4546-8341-F02D904DB1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9266D-2DE4-4106-B622-10CA119CE64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7DCEA-C1F1-4138-A609-E380F21982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1B2A5-272A-4A45-B270-C085F1F649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4C7AED-1005-4CA0-AA4A-B78D17250EF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A7490-125C-4019-807F-2275D53E8B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11668-44C2-4EE3-9663-4804953AC7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B5AAD-14AC-478E-9DD5-0833C9F263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E0717-D729-4B2D-B0BC-F8D52D7E0B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BDB76-4AFC-461F-9035-0E2085755E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15D1D-503A-49A7-B5D6-DC2F492D7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C02B-3FB9-4B42-B450-4129771D15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80FF3-4806-4F8D-8E37-D75BF43684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6B251-8122-43E0-B34A-EBA501BEAB8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F3AF9-0CA5-4374-98D9-AEA59B22B1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D5108-35AF-419F-A877-BDAEBB823DE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74EE7-BCB1-43AE-BB44-32DBFAD048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0DDD0-9317-493F-92CC-C5639B14676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3537F-6EC6-4291-8745-0104F594607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D68E6-D9E3-434E-AC1F-FD5A0CBAFB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F16CE-AA81-4411-970E-EF74E6FD8F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A201D-888C-4EFE-B367-C63933EA5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A0EB-AFFB-413B-936B-1491A4E8319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F762F-C215-4C90-98A9-855CD5B27B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01EEA-279F-474F-B92D-F31C4FEB9A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0310A-0838-4310-B75D-814551931D7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74EA-0C79-431B-A5A6-514627588C6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22F1-20E5-4AEF-96E2-DA2F8D178F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CD2F-66B2-4F37-A7F4-B25B18B612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0DC4-517C-497D-8E61-70C8DBD5A9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5D91-6B25-457A-9C75-7C4BEAEC07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10C04-4A92-4C5F-8757-7EB3613E2C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C0A6-96BB-41D1-AAC7-762E85A029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C6BB-90A8-4AE4-9A85-5FC104E61E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6528-C0D8-4A6A-B452-1D3AA96514D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1E43-1FEE-4C44-805C-7058842EC0C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ED37-92D1-4357-872F-0A9B2FE73B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03CCB-688F-4B0A-A293-71EFAA7BBA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4DF1-6C35-404A-AFAC-7802941058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C40B1-71CC-4949-9BA2-07F572368C9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993DB-1066-4734-8C63-21BDF8EF7F7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39407-F570-4308-BCCD-BE8F8871C3C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4AC99-2401-4709-9B94-92B762BF025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AAE30E-9D12-4DA1-ADCC-414925CC17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1B68-2408-4D65-9C37-8379BE446A8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50824-FD58-4476-B649-043B9CB1BFB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5DBD1-A5CD-4DF6-8252-0F5EDA0411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9FF7F9-3A27-4EC2-82DE-65CCA82FCDC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73645-4630-4926-9007-BB06D8B6E2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08309-E034-455C-9E43-4424E2FA86D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E1389-E0C1-4D32-8E71-5EF15CA17C3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C3422-D12D-46A8-A176-2BFD3990BFD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2AD34-9CE1-4E5C-8BED-F743C690265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A8111-F298-4A78-9FB2-BE302CC391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BC1EF-915C-4449-9490-AC826B9B7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8656-9568-4AD8-8376-35F819A495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68513-851A-49F5-8CEF-9A6A9BC231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5BA4D-2AEE-44CB-9FC9-24DD17116E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63271-0448-4A04-8EAE-AA60E396897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D2E22-98C1-43CF-93D6-85DAECBFE92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41083-0A0F-4CF2-92DE-C5FECFF5BD6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0D6C6-1EC5-449E-B0DD-94CBB3A13E3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01374-B4C1-4509-B44D-564FB0B09D1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11E8B-F82E-42AE-BF99-C5AF9E84C5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70378-78FC-4523-AE11-F2EED16AE7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E468-F9CF-4FC5-BC42-2F0187380C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0709-EA48-4713-A738-D3A66C3E375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BFAD-1A7A-43C1-84FF-B86139E95FB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61964-6852-4ACB-A050-65B5FCACDB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DF76-6A83-4C8B-8AA8-228FB702BA5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45B9-7E47-4375-ABC6-8805576DA0C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81DF-29AE-41FE-85FE-8FA22F2DE67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123E-C3E6-42E4-BA3E-4E288F60C40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AFDD-C255-41BC-B18E-3B778DBF86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2E36C-4450-4D89-B088-B6854BC943F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9915-57F4-433E-8559-D3981D50FC3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226E-11AA-48E6-9611-183A1E488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0033-7B62-4BA3-9583-376D12E8BA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7934-2951-4DAF-B1E3-C7EBDFE8A37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8C404-C0D6-4261-B4D1-482740A0880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B190F7-6868-4974-8B1A-9985DBBC9EA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913B0-B96E-4A31-8573-E434A10F087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A9D1B-2465-4FB7-9AB5-825EEBB462D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5A100-7558-4423-9953-EBFA915D21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CFA37-7371-4EAA-A87C-437811D1FA9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6ED182-9CBD-4691-B625-305ED5C9C24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65DED-B1AE-4225-8C3C-FABEBCE42AA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73B5F-DCB8-46B7-A067-22D0678979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76A1-58D7-42B0-84CE-FCDED438BF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600A1-8635-4518-BA60-EF6D1B19BAF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BA8C26-60C4-4236-9E4B-08B15B78239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2ACE56-D157-43C9-BACC-BDB1284770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ABC22-9C35-4AE6-8BFE-D4923327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3EA3B-D84D-419F-AD9C-E2F3AD4C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18D50B-3148-48FE-B4B8-E920FAFC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4FE3D5-C155-4831-956F-726D7F4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C22A80-05B5-4B86-9FD4-7995D68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A31A16-AF3E-453B-B65D-ABA3D29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D5230B-F719-42BE-9703-C8FB7A2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72A8-51F8-4ED5-869E-AE5E8E257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3909-ABBD-49AC-821A-29F3D515031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D39F2-CCBA-4476-BF51-FF1562B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6FA229-CC5A-46DA-B51D-CA523AB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717E2C-5811-4889-86EA-54DFFAF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9A1D8A-B9BE-4E59-B8BE-C8786E6B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A1A35-8AA5-4E5D-A02D-A1CC81FA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E997-D607-490F-8DCC-23210745A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852B-98D7-4C3D-B422-233E1891D6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C517-DF96-4FF6-A419-699B2B036E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CCBA-BA9C-4A5C-8645-427136CCC9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90B-E3AF-4E66-AD59-B649037B24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EA5-9AFB-47A8-88EE-EB4E2BDD26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7F5-ED63-4EBB-8DAB-D4B942F111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3CD-35CA-4FCE-A3F3-E75395FA43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03C-B75F-4254-8CC0-D927326C2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E2CE-68DC-4B92-82CB-9FAE914261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F7B-B08B-45E1-959D-BCC24C4D47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7F1-E83D-4EBE-A5FC-C01247974B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547-AFCC-4BF1-8F49-4D3E83063B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EEF-38C2-47DB-89C5-881F6B623D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D8F-1368-43D3-96BB-819033C31E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D8F-7E29-4B9E-8EA3-335D75F3F3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938-1346-4537-A59F-1565D6AA92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15BB0-80D5-43CC-9C01-7154FF08DD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F121B-65A6-47FE-8918-6FEA333661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DCF29-6AFA-4837-8DAD-20295F2C1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88B1-D80F-4645-A09F-859481C732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B7EB5-29A3-4764-989D-1F91BC308D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91843-D774-4AE1-9FAA-280205E395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5F5AF-994B-4B89-AF63-C72F8F9BAD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E4ABC-FD51-4FC3-B790-EDDD7D8A1C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29ACD-95D8-47F3-8C33-4484996C36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087B5-6B62-45C9-AD7D-C0BF0AF92E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92E90-7135-4D7E-93D5-88FB7B0764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2493F-6B94-44B5-B3F6-1140EC5125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7FDC2-A8C7-46A8-9E06-1E1AFC4351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F5F1-68DB-4855-A1E7-9FB737647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3795-E364-4127-8B7D-BF2864B0BF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844CA-ECAE-4203-B17D-C8AE6F9B37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08F12-878A-4946-9353-83702871A6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4F67-5F43-48BC-BE38-F12FCA5E90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5C75-8280-4FA0-A81A-58E1D2A597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460EB-B2DB-4850-A55E-E8C8957EB71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7BA30-48DA-449C-A3B9-B88C716D98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B3AC3-C9C6-4F0A-AF5B-AF3ABDF26F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33573-377C-4BFE-A0CF-AB56EFD7B6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5A2D9-15C7-4172-A71A-A6FFB640B9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478E-04D3-4F95-80C7-78FC70D7C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72D-61BB-485C-AA7C-A5CEA4BFC3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46501-67C5-449C-86DD-D683A14F12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A69B-98D6-4774-B154-32EACC1637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250-B6E2-481A-B36C-6550687C32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A39C-3C82-405D-90FD-A084E39F58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141-C5EA-4AC3-9433-ECABB23F45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53E-A9D7-4131-8F60-8C36CF9667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6EEB-2A27-49F5-83C8-1C2A2BA833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31A3-3279-461E-BFF8-18FD0FCE23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D6CC-BA5D-4F39-B6A4-3212795293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3C9-1636-41EA-A25D-80ED20444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7705-03AA-4D91-B131-EDCCCE96C7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AD7E-2A59-4A65-8474-36DAFC8166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CCBC-26C3-4951-BCBF-A8117B4C65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FA5-AADA-46F2-9FD0-ADDFF1DA5B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013A7-AB58-41C3-B409-EFF2F1A0C3A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36C3E-863F-4A77-B3CB-B382101685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0E57C-55F9-4A08-A066-B8077522DD6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D3C70-4301-487A-957C-5D773011D7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107EC-DE55-402C-AC65-CF54FE564E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6A61E-C7DD-4222-B641-A5EB8D1849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E2E30-A83D-42F2-A082-C092D6C46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92EE-26A3-4B9E-BCDF-A821458C6A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1E686-3EB7-4F2F-B9A4-F645D7BC6E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7CD4F-DCE9-4563-84FB-C03AE1725E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159D0-CD26-4205-8A15-162B8B5FEA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41092-8337-4AA1-BF59-2C62037290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9DF2E-A6E5-4074-82FE-5413CEFD00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0AD2E-E62F-493B-9E49-DB21DB6A385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883BA-2477-4693-9C0F-77CBFBBFBE0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82801-01F4-4CBD-A2D1-D0BC6D00C0B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00E97-CCBD-4A50-AB53-1FBDD70241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26C55-DF8C-4DB1-8022-CC5A63F1E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0D54-2190-42CD-A995-F29F8486C0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194C7-1E98-465A-B2E0-229AFEBB18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2EE24-CE27-4D0B-9D6A-D32012A5836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1744D-3CC0-4924-A58E-430C10A441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9BC57-83B6-41AC-965C-9BD136E0C4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616BB-8184-4DF2-B6C7-50DEF30D3F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742D5-D99E-4D7C-9697-BADE2261F9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456CD-4E82-4C00-B858-4E607B2BD3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447F-030B-40B8-BB47-3A770E8B43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8F92-2FA7-4E9C-9074-214570B2B6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4582-B8A0-4D2A-B75E-BC4116714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24298A-FD91-46EC-8DA0-D68926F2F81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414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6C27C4-2B22-463E-A9F6-1322B0391FA1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2340F2-6C3B-481F-AD50-D18775D4EB3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07D7F6-166C-44A4-AC5F-72D5F8E89B0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54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6CA7DE-B083-4B54-B760-286D3C4A008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06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FDB48C-097B-40AF-9F3A-C7277E8FF789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52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71F574-C8F6-4D8F-8FDB-4F8A7E27519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98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60D16A-AB54-4894-AF1F-D3C90AE1E24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75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1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1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1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C7BF23-F5EE-446D-BAEC-35592756044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05AEB0-2896-4578-AB57-33579ADBA9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85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509203-4F18-4158-82A2-CCCAACFA6EB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921F85-FFBE-4B85-9698-F9DE8D5F292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173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EA6056-7984-44C4-BFA0-80FB2A9AE5D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21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773D62-9FF1-49B2-A202-0632B47EEF0B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63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D740E9-18F1-45AF-8A1F-2335450627E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A08ACA-6954-495D-8664-E03C68CA0BC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366" name="Freeform 2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6680"/>
                <a:gd name="textAreaBottom" fmla="*/ 3047040 h 304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4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>
                <a:gd name="textAreaLeft" fmla="*/ 0 w 5483520"/>
                <a:gd name="textAreaRight" fmla="*/ 5483880 w 5483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>
                <a:gd name="textAreaLeft" fmla="*/ 0 w 7767720"/>
                <a:gd name="textAreaRight" fmla="*/ 7767720 w 7767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06800"/>
                <a:gd name="textAreaBottom" fmla="*/ 3107160 h 31068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7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118120"/>
                <a:gd name="textAreaBottom" fmla="*/ 5118480 h 5118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3972F4-4951-499D-9785-BDC44712BA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1"/>
          <p:cNvSpPr/>
          <p:nvPr/>
        </p:nvSpPr>
        <p:spPr>
          <a:xfrm>
            <a:off x="1187280" y="404640"/>
            <a:ext cx="6653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Контрольно-оценочная деятельность на уроках в начальной шк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"/>
          <p:cNvSpPr/>
          <p:nvPr/>
        </p:nvSpPr>
        <p:spPr>
          <a:xfrm>
            <a:off x="0" y="3886200"/>
            <a:ext cx="6400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оугольник 3"/>
          <p:cNvSpPr/>
          <p:nvPr/>
        </p:nvSpPr>
        <p:spPr>
          <a:xfrm>
            <a:off x="684360" y="350028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Arial"/>
              </a:rPr>
              <a:t>«Тот, кого я учу, — это, прежде всего, живой человек, ребенок, а потом ученик. Оценка, которую я ставлю ему — это не только измеритель его знаний, но, прежде всего, мое отношение к нему как к человеку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(В.А. Сухомлинский «Сердце отдаю детям»).</a:t>
            </a: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Подготовила: Шлычкова Л.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вила новой технологии оце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147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ценивается любо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обен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ействи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фиксируется отметкой только решение полноцен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.е. умения по использованию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 ученик по возможно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пределяют оценку в диа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внешняя оценка +самооцен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 каждую учебную зад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группу заданий, показывающих овладение отдельным умением,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вится отдельная отмет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 задачи, решенные при изучении новой темы, отметка ставится только по желанию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в процессе овладения умениями и знаниями по теме он имеет право на ошибку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 каждую задачу проверочной (контрольной)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итогам тем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тметки ставятся всем ученик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 право перес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ценка ученика определяется по универсальной шкале трех уровней успеш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нания, соответствующие государственному стандарту,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хорошо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функциональной грамотност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тлично»;необяз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ксим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- «превосхо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емы формирования само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Organization Chart 2"/>
          <p:cNvGrpSpPr/>
          <p:nvPr/>
        </p:nvGrpSpPr>
        <p:grpSpPr>
          <a:xfrm>
            <a:off x="250920" y="1566720"/>
            <a:ext cx="8389080" cy="4583520"/>
            <a:chOff x="250920" y="1566720"/>
            <a:chExt cx="8389080" cy="4583520"/>
          </a:xfrm>
        </p:grpSpPr>
        <p:cxnSp>
          <p:nvCxnSpPr>
            <p:cNvPr id="833" name="_s1028"/>
            <p:cNvCxnSpPr>
              <a:stCxn id="834" idx="0"/>
              <a:endCxn id="835" idx="2"/>
            </p:cNvCxnSpPr>
            <p:nvPr/>
          </p:nvCxnSpPr>
          <p:spPr>
            <a:xfrm flipV="1" rot="16200000">
              <a:off x="5455080" y="2389680"/>
              <a:ext cx="917280" cy="2936880"/>
            </a:xfrm>
            <a:prstGeom prst="bentConnector3">
              <a:avLst>
                <a:gd name="adj1" fmla="val 124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6" name="_s1029"/>
            <p:cNvCxnSpPr>
              <a:stCxn id="837" idx="0"/>
              <a:endCxn id="835" idx="2"/>
            </p:cNvCxnSpPr>
            <p:nvPr/>
          </p:nvCxnSpPr>
          <p:spPr>
            <a:xfrm flipV="1">
              <a:off x="4445280" y="3399840"/>
              <a:ext cx="3960" cy="91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8" name="_s1030"/>
            <p:cNvCxnSpPr>
              <a:stCxn id="839" idx="0"/>
              <a:endCxn id="835" idx="2"/>
            </p:cNvCxnSpPr>
            <p:nvPr/>
          </p:nvCxnSpPr>
          <p:spPr>
            <a:xfrm flipH="1" flipV="1" rot="5400000">
              <a:off x="2518560" y="2390040"/>
              <a:ext cx="917280" cy="2936880"/>
            </a:xfrm>
            <a:prstGeom prst="bentConnector3">
              <a:avLst>
                <a:gd name="adj1" fmla="val 124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5" name="_s1031"/>
            <p:cNvSpPr/>
            <p:nvPr/>
          </p:nvSpPr>
          <p:spPr>
            <a:xfrm>
              <a:off x="3187080" y="156672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Tahoma"/>
                  <a:ea typeface="Arial"/>
                </a:rPr>
                <a:t>ПРИЁМ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Tahoma"/>
                  <a:ea typeface="Arial"/>
                </a:rPr>
                <a:t>ФОРМИРОВА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_s1032"/>
            <p:cNvSpPr/>
            <p:nvPr/>
          </p:nvSpPr>
          <p:spPr>
            <a:xfrm>
              <a:off x="25092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ПИСЬМ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Дневник» ил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Журнал добрых дел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_s1033"/>
            <p:cNvSpPr/>
            <p:nvPr/>
          </p:nvSpPr>
          <p:spPr>
            <a:xfrm>
              <a:off x="318708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КОМПЛЕКС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 Мы оба похожи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1034"/>
            <p:cNvSpPr/>
            <p:nvPr/>
          </p:nvSpPr>
          <p:spPr>
            <a:xfrm>
              <a:off x="612324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ВЕРБА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Горячий стул»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Я хороший, потому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что…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риемы оценочной деятельности, используемые на уроке при безотметочном обучен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Лесенка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олшебная линеечка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ветофор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весное оцени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достижения конкретных предметных и метапредметных  результатов отслеживается с помощью «листов учебных достижений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19640" y="1700280"/>
            <a:ext cx="33940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8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10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12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4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AutoShape 15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AutoShape 16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9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20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25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26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2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AutoShape 2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9"/>
          <p:cNvSpPr/>
          <p:nvPr/>
        </p:nvSpPr>
        <p:spPr>
          <a:xfrm>
            <a:off x="457200" y="1600200"/>
            <a:ext cx="46195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30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31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32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Line 33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34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35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36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37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38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AutoShape 39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0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AutoShape 41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AutoShape 42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AutoShape 43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44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AutoShape 45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 Волшебная линееч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                         А                        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"/>
          <p:cNvSpPr/>
          <p:nvPr/>
        </p:nvSpPr>
        <p:spPr>
          <a:xfrm>
            <a:off x="10429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5"/>
          <p:cNvSpPr/>
          <p:nvPr/>
        </p:nvSpPr>
        <p:spPr>
          <a:xfrm>
            <a:off x="755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6"/>
          <p:cNvSpPr/>
          <p:nvPr/>
        </p:nvSpPr>
        <p:spPr>
          <a:xfrm>
            <a:off x="755640" y="422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7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Line 8"/>
          <p:cNvSpPr/>
          <p:nvPr/>
        </p:nvSpPr>
        <p:spPr>
          <a:xfrm>
            <a:off x="45007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Line 9"/>
          <p:cNvSpPr/>
          <p:nvPr/>
        </p:nvSpPr>
        <p:spPr>
          <a:xfrm>
            <a:off x="766764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4211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421164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4211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3"/>
          <p:cNvSpPr/>
          <p:nvPr/>
        </p:nvSpPr>
        <p:spPr>
          <a:xfrm>
            <a:off x="738036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738036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738036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ine 16"/>
          <p:cNvSpPr/>
          <p:nvPr/>
        </p:nvSpPr>
        <p:spPr>
          <a:xfrm flipH="1">
            <a:off x="82656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ine 17"/>
          <p:cNvSpPr/>
          <p:nvPr/>
        </p:nvSpPr>
        <p:spPr>
          <a:xfrm>
            <a:off x="8269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75247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Line 19"/>
          <p:cNvSpPr/>
          <p:nvPr/>
        </p:nvSpPr>
        <p:spPr>
          <a:xfrm>
            <a:off x="4356000" y="393372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Line 20"/>
          <p:cNvSpPr/>
          <p:nvPr/>
        </p:nvSpPr>
        <p:spPr>
          <a:xfrm flipH="1">
            <a:off x="745128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Line 21"/>
          <p:cNvSpPr/>
          <p:nvPr/>
        </p:nvSpPr>
        <p:spPr>
          <a:xfrm flipH="1">
            <a:off x="4284720" y="3933720"/>
            <a:ext cx="35856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ine 22"/>
          <p:cNvSpPr/>
          <p:nvPr/>
        </p:nvSpPr>
        <p:spPr>
          <a:xfrm flipH="1">
            <a:off x="82656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Line 24"/>
          <p:cNvSpPr/>
          <p:nvPr/>
        </p:nvSpPr>
        <p:spPr>
          <a:xfrm>
            <a:off x="90000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Oval 25"/>
          <p:cNvSpPr/>
          <p:nvPr/>
        </p:nvSpPr>
        <p:spPr>
          <a:xfrm>
            <a:off x="4140360" y="3716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Oval 26"/>
          <p:cNvSpPr/>
          <p:nvPr/>
        </p:nvSpPr>
        <p:spPr>
          <a:xfrm>
            <a:off x="7308720" y="2492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7"/>
          <p:cNvSpPr/>
          <p:nvPr/>
        </p:nvSpPr>
        <p:spPr>
          <a:xfrm>
            <a:off x="684360" y="3789360"/>
            <a:ext cx="720720" cy="7920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9"/>
          <p:cNvSpPr/>
          <p:nvPr/>
        </p:nvSpPr>
        <p:spPr>
          <a:xfrm>
            <a:off x="3995640" y="3573360"/>
            <a:ext cx="1008000" cy="107964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 Светоф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мею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мею, но               не уве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весные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4"/>
          <p:cNvSpPr/>
          <p:nvPr/>
        </p:nvSpPr>
        <p:spPr>
          <a:xfrm>
            <a:off x="468360" y="3213000"/>
            <a:ext cx="576360" cy="576360"/>
          </a:xfrm>
          <a:prstGeom prst="ellipse">
            <a:avLst/>
          </a:prstGeom>
          <a:solidFill>
            <a:srgbClr val="00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Oval 6"/>
          <p:cNvSpPr/>
          <p:nvPr/>
        </p:nvSpPr>
        <p:spPr>
          <a:xfrm>
            <a:off x="468360" y="4437000"/>
            <a:ext cx="576360" cy="5763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468360" y="2133720"/>
            <a:ext cx="576360" cy="576000"/>
          </a:xfrm>
          <a:prstGeom prst="ellipse">
            <a:avLst/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WordArt 8"/>
          <p:cNvSpPr txBox="1"/>
          <p:nvPr/>
        </p:nvSpPr>
        <p:spPr>
          <a:xfrm>
            <a:off x="5219640" y="2421000"/>
            <a:ext cx="20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WordArt 9"/>
          <p:cNvSpPr txBox="1"/>
          <p:nvPr/>
        </p:nvSpPr>
        <p:spPr>
          <a:xfrm>
            <a:off x="6372360" y="3573360"/>
            <a:ext cx="232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WordArt 10"/>
          <p:cNvSpPr txBox="1"/>
          <p:nvPr/>
        </p:nvSpPr>
        <p:spPr>
          <a:xfrm>
            <a:off x="5867280" y="4581360"/>
            <a:ext cx="2305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лич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6" name="WordArt 11"/>
          <p:cNvSpPr txBox="1"/>
          <p:nvPr/>
        </p:nvSpPr>
        <p:spPr>
          <a:xfrm>
            <a:off x="5724360" y="5805360"/>
            <a:ext cx="21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орош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cover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br>
              <a:rPr sz="3600"/>
            </a:br>
            <a:r>
              <a:rPr b="1" lang="ru-RU" sz="2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6633"/>
                </a:solidFill>
                <a:uFillTx/>
                <a:latin typeface="Times New Roman"/>
              </a:rPr>
              <a:t>Лист учебных достижений</a:t>
            </a: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следить динамику продвижения учащихся в достижении предметных и метапредмет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 создании учиты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грамму и требования к обязательному минимуму содержания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  индивидуальных  достижений  обучающегося – таблица, которая  вкладывается  в  дневник  и  заполняется  учеником  в  течение  нед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4" descr="5"/>
          <p:cNvPicPr/>
          <p:nvPr/>
        </p:nvPicPr>
        <p:blipFill>
          <a:blip r:embed="rId1"/>
          <a:stretch/>
        </p:blipFill>
        <p:spPr>
          <a:xfrm>
            <a:off x="6869160" y="0"/>
            <a:ext cx="2063880" cy="227664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5" descr="учебники 1"/>
          <p:cNvPicPr/>
          <p:nvPr/>
        </p:nvPicPr>
        <p:blipFill>
          <a:blip r:embed="rId2"/>
          <a:stretch/>
        </p:blipFill>
        <p:spPr>
          <a:xfrm>
            <a:off x="0" y="0"/>
            <a:ext cx="23036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56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5"/>
          <p:cNvSpPr/>
          <p:nvPr/>
        </p:nvSpPr>
        <p:spPr>
          <a:xfrm>
            <a:off x="2843280" y="33336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аблица 1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WordArt 5"/>
          <p:cNvSpPr txBox="1"/>
          <p:nvPr/>
        </p:nvSpPr>
        <p:spPr>
          <a:xfrm>
            <a:off x="1116000" y="404640"/>
            <a:ext cx="734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РТФОЛИО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ка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6" name="Picture 5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241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оценивани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пределение позитивных и негативных момент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нтроль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инструмент, позволяющий определять развитие, прогресс в препода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пособ коррекции деятельности обучаемых, с помощью которого учитель определяет уровень подготовлен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згляд на свои действия и поступки,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AutoShape 2"/>
          <p:cNvSpPr/>
          <p:nvPr/>
        </p:nvSpPr>
        <p:spPr>
          <a:xfrm>
            <a:off x="3995640" y="476280"/>
            <a:ext cx="5327640" cy="604836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Мои достиж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я лучш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, которое мне боль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понравило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прочитал ……. кни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я теперь зна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го не знал ран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я теперь уме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го не умел ран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 цели и планы на следующ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ный год: ………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у я еще хочу научить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книги прочит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е участие в школьн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х  мероприя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 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ты совместного твор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 родителями, одноклассника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Oval 5"/>
          <p:cNvSpPr/>
          <p:nvPr/>
        </p:nvSpPr>
        <p:spPr>
          <a:xfrm>
            <a:off x="78850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Group 8"/>
          <p:cNvGrpSpPr/>
          <p:nvPr/>
        </p:nvGrpSpPr>
        <p:grpSpPr>
          <a:xfrm>
            <a:off x="-252360" y="476280"/>
            <a:ext cx="5292720" cy="6048360"/>
            <a:chOff x="-252360" y="476280"/>
            <a:chExt cx="5292720" cy="6048360"/>
          </a:xfrm>
        </p:grpSpPr>
        <p:sp>
          <p:nvSpPr>
            <p:cNvPr id="930" name="AutoShape 3"/>
            <p:cNvSpPr/>
            <p:nvPr/>
          </p:nvSpPr>
          <p:spPr>
            <a:xfrm flipH="1">
              <a:off x="-252360" y="476280"/>
              <a:ext cx="5292720" cy="604836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Раздел «Рабочие материалы»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1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276640"/>
              <a:ext cx="33717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Oval 9"/>
          <p:cNvSpPr/>
          <p:nvPr/>
        </p:nvSpPr>
        <p:spPr>
          <a:xfrm>
            <a:off x="32400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4" descr="Изображени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1"/>
          <p:cNvSpPr/>
          <p:nvPr/>
        </p:nvSpPr>
        <p:spPr>
          <a:xfrm>
            <a:off x="457200" y="2779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Все виды контрольно-оценочных работ по учебным предметам оцениваются в процентном отношении к максимально возможному количеству баллов, выставляемому за рабо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ысокий уровень - 85-100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уровень выше среднего - 70-84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Arial"/>
              </a:rPr>
              <a:t>средний уровень - 50-69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уровень ниже среднего — 30-49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зкий уровень — менее 30 %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1"/>
          <p:cNvSpPr/>
          <p:nvPr/>
        </p:nvSpPr>
        <p:spPr>
          <a:xfrm>
            <a:off x="195120" y="228600"/>
            <a:ext cx="8015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программ начального образования. РУССКИЙ ЯЗЫК. ЧТЕН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2818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1"/>
          <p:cNvSpPr/>
          <p:nvPr/>
        </p:nvSpPr>
        <p:spPr>
          <a:xfrm>
            <a:off x="468360" y="620640"/>
            <a:ext cx="82296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На основании итоговых оценок по каждому предмету и по программе формирования универсальных учебных действий делаются следующие выводы о достижении планируемых результатов: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2"/>
          <p:cNvSpPr/>
          <p:nvPr/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1.   Выпускник овладел опорной системой знаний и учебными действиями, необходимыми для продолжения образования на следующей ступени, и способен использовать их для решения простых учебно-познавательных и учебно-практических задач средствами данного предмет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2.  Выпускник овладел опорной системой знаний, необходимой для продолжения образования на следующей ступени, на уровне осознанного произвольного овладения учебными действиям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3. Выпускник не овладел опорной системой знаний и учебными действиями, необходимыми для продолжения образования на следующей ступе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ешение об успешном освоении программы начального образования и переводе выпускника на следующую ступень общего образования принимается педагогическим советом образовательного учреждения на основе сделанных выводов о достижении планируемых результатов освоения основной образовательной программы начального общего образова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ценка – это правильное 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ровообращение,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без нее неизбежны застой и 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болезненные явления.</a:t>
            </a: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Н. Островски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457200" y="692280"/>
            <a:ext cx="8229600" cy="69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116000" y="0"/>
            <a:ext cx="7570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ль и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ой системы оценки достижения планируемых результато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757080" y="2127240"/>
            <a:ext cx="768996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4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Droid San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Система оценивания выступает не только как средство обучения, регулятор образовательного процесса, но и как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амостоятельный и самоценный элемент содерж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редство повышения эффективности преподавания и 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актор, обеспечивающий единство вариативной системы образования и регулятор программы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539640" y="1989000"/>
            <a:ext cx="7925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грирова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териальны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ться с помощью отметки могут толь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зультат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заимооц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Прямоугольник 3"/>
          <p:cNvSpPr/>
          <p:nvPr/>
        </p:nvSpPr>
        <p:spPr>
          <a:xfrm>
            <a:off x="755640" y="4046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aramond"/>
              </a:rPr>
              <a:t>Общие принципы контрольно-оценоч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6633"/>
                </a:solidFill>
                <a:latin typeface="Garamond"/>
              </a:rPr>
              <a:t>Принципы контрольно-оценочной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«блокового» контроля (контрольные работы проводятся по блокам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дифференциации (материал разного уровня сложности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выбора (обучающийся выбирает задания из набора известных, освоенных в процессе изучения по данному предмету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непрерывности (учащийся получает право на ошибку, которая, будучи исправленной, считается прогрессом в обучен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ибкость и вариативность инструментария оцен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четание качественной и количественной составляющих оцен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ественность процесса контроля и оценки (контроль и 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лжны проводиться в естественных для учащихся условиях, снижающих стресс и   напряжени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1"/>
          <p:cNvGrpSpPr/>
          <p:nvPr/>
        </p:nvGrpSpPr>
        <p:grpSpPr>
          <a:xfrm>
            <a:off x="971640" y="549360"/>
            <a:ext cx="7199280" cy="5627520"/>
            <a:chOff x="971640" y="549360"/>
            <a:chExt cx="7199280" cy="5627520"/>
          </a:xfrm>
        </p:grpSpPr>
        <p:pic>
          <p:nvPicPr>
            <p:cNvPr id="819" name="Picture 2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199280" cy="56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 Box 3"/>
            <p:cNvSpPr/>
            <p:nvPr/>
          </p:nvSpPr>
          <p:spPr>
            <a:xfrm>
              <a:off x="971640" y="549360"/>
              <a:ext cx="7199280" cy="56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1"/>
          <p:cNvGrpSpPr/>
          <p:nvPr/>
        </p:nvGrpSpPr>
        <p:grpSpPr>
          <a:xfrm>
            <a:off x="468360" y="230040"/>
            <a:ext cx="8205840" cy="6169320"/>
            <a:chOff x="468360" y="230040"/>
            <a:chExt cx="8205840" cy="6169320"/>
          </a:xfrm>
        </p:grpSpPr>
        <p:pic>
          <p:nvPicPr>
            <p:cNvPr id="822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230040"/>
              <a:ext cx="820584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 Box 3"/>
            <p:cNvSpPr/>
            <p:nvPr/>
          </p:nvSpPr>
          <p:spPr>
            <a:xfrm>
              <a:off x="468360" y="230040"/>
              <a:ext cx="8205840" cy="61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"/>
          <p:cNvSpPr/>
          <p:nvPr/>
        </p:nvSpPr>
        <p:spPr>
          <a:xfrm>
            <a:off x="324000" y="189000"/>
            <a:ext cx="864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Процедуры и механизмы оценки в начальной школе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"/>
          <p:cNvSpPr/>
          <p:nvPr/>
        </p:nvSpPr>
        <p:spPr>
          <a:xfrm>
            <a:off x="468360" y="1484280"/>
            <a:ext cx="822960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я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оценка самой школы (ребенка, учителя, школьного психолога, администрации и т. д.), которая выражается в текущих отметках, которые ставятся учителями; в результатах самооценки учащихся; в результатах наблюдений, проводящихся учителями и школьными психологами; в промежуточных и итоговой оценках учащихся и, наконец, в решении педагогического совета школы о переводе выпускника в следующий класс или на следующую ступень об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я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ценка, которая проводится внешними по отношению к школе службами, уполномоченными вести оценочную деятельнос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ова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«точка соприкосновения» внутренней и внешней оценки. В начальной школе в соответствии с Законом «Об образовании» государственная итоговая аттестация выпускников не предусматривается, поэтому прямое включение внешней оценки в итоговую оценку младших школьников исключа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фолио учащегос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то оптимальный способ организации системы накопительной оценки, понимаемое как коллекция работ и результатов учащегося, которая демонстрирует его усилия, прогресс и достижения в различных областях. Это может бы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борки детских работ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истематизированные материалы наблюд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атериалы, характеризующие достижения учащихся во внеучебной (школьной и внешкольной) и досугов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Способы осуществления оценивания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тестирования в бал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высказывания о процессе и результат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реа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7:50:22Z</dcterms:created>
  <dc:creator>777</dc:creator>
  <dc:description/>
  <dc:language>en-US</dc:language>
  <cp:lastModifiedBy>Admin</cp:lastModifiedBy>
  <dcterms:modified xsi:type="dcterms:W3CDTF">2018-01-27T18:49:14Z</dcterms:modified>
  <cp:revision>75</cp:revision>
  <dc:subject/>
  <dc:title>Место планируемых результатов в общей системе федерального стандарта</dc:title>
</cp:coreProperties>
</file>