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5EA-0045-4E30-BD59-351E35AF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195-4D8A-4F1F-8925-D911F6B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6DD-AC6B-4154-9E9A-FBFB8C25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79E-9213-4676-B963-02102814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E6C-F924-43C0-B4BF-E045586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8EF-A722-45BA-A006-66CED74E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EE4-63ED-46D3-9598-48B3824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CE7-8AAE-43BA-A52E-44E2FBEF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E09-ED6E-4551-B6F2-D72F0C2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02D-EA56-4420-8B82-51C0962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1F5-8125-4388-8CC9-27AD931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4EE-7EB3-443C-8DB5-FC85185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E7DF-148B-40F3-AEE0-FB7CD2AC369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31640" y="1768320"/>
            <a:ext cx="734364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t">
            <a:normAutofit fontScale="96000"/>
          </a:bodyPr>
          <a:p>
            <a:pPr marL="4143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ыставка лепбу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 старшей группе «Коло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ема «Птиц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4751280"/>
            <a:ext cx="90709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и пров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жих С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231640" y="301680"/>
            <a:ext cx="7343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школа № 207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тделение № 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4320" y="248760"/>
            <a:ext cx="76327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такое лэпбу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эпбук (лепбук, lap – колени, book – книга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Если переводить дословно , то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эпбук — это книжка на колен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Часто можно встретить и другие названия: тематическая папка, интерактивная папка, папка про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32000" y="2409840"/>
            <a:ext cx="7632720" cy="2557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эпбу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– сравнительно новое средство обучения. Впервые создавать лэпбуки начали американцы. Лэпбук – это книжка-раскладушка с кармашками, дверками, окошками, вкладками и подвижными деталями, в которую помещены материалы на одну тему. Это отличный способ закрепить определенную тему со школьниками и малышами, осмыслить содержание книги, провести исследовательскую работу, в процессе которой ребенок участвует в поиске, анализе и сортировке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0720" y="4967280"/>
            <a:ext cx="76327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algn="just">
              <a:lnSpc>
                <a:spcPct val="93000"/>
              </a:lnSpc>
              <a:spcAft>
                <a:spcPts val="11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Лэпбук это не только мощный справочный инструмент и особая форма организации учебного материала, это, прежде всего, основа партнерской проектной деятельности взрослого с детьми (педагога с воспитанниками, родителя с ребенком). Основа лэпбука создается педагогом и дополняется, совершенствуется вместе с детьми и их родителями. В результате такой работы у вас получается отлично проработанный исследовательский прое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60360" y="240840"/>
            <a:ext cx="75596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just">
              <a:lnSpc>
                <a:spcPct val="93000"/>
              </a:lnSpc>
              <a:spcAft>
                <a:spcPts val="112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Идеальный вариант изготовления тематической папки – совместно с ребенком, тогда он запоминает информацию в процессе создания лэпбука. В ходе работы с тематическим материалом ребенок проводит наблюдения, выполняет задания, изучает и закрепляет информацию. Впоследствии, имея под рукой готовую тематическую папку, ребенок может освежить свои знания по той или ин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31640" y="3743280"/>
            <a:ext cx="7343640" cy="3014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з чего состоит лэпбук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эпбук состоит из папки формата А3, в которую вклеиваются кармашки, книжки-раскладушки, окошки и другие детали с наглядной информацией по теме Лэпбука: от интересных игр до лексики и большого количества вкусно поданной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8920" y="561960"/>
            <a:ext cx="70563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Цель 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влечение к сотрудничеству педагогов, детей и родителей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познакомить родителей с новой формой работы с детьми — лэпбук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стимулирование творческого воображения в процессе работы над лэпбуками;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60360" y="3743280"/>
            <a:ext cx="7414920" cy="22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rebuchet MS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дать возможность родителям проявить фантазию и изобретательност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rebuchet MS"/>
              </a:rPr>
              <a:t>продемонстрировать лучшие и самые оригинальные решения в оформлении лэпбу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4000" y="6119640"/>
            <a:ext cx="69116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оки проведения выстав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09.10 2017 по 20.10.2017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87640" y="542880"/>
            <a:ext cx="770400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ам процесс исследования 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езультат проекта доставил детям радость, родителям – удовлетворение. При создании лэпбуков семьи проявили креатив, фантазию, заинтересованность.  Для оформления использовали свои художественные навыки, компьютерную графику, яркие иллюстративные материалы, декоративные элементы. Каждый лэпбук – по своему уникален. Наполняемость папок – огромное количество дидактических игр, загадок, стихов, раскрасок, картинок, фотографи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едставляю их Вашему вним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640" y="-127440"/>
            <a:ext cx="907128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Лэпбуки  «Птиц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мья Лизы Балакир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0720" y="1996920"/>
            <a:ext cx="3213000" cy="426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5400000">
            <a:off x="4941720" y="2655720"/>
            <a:ext cx="42670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824360" y="360360"/>
            <a:ext cx="4751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эпбук с загадками «Птицы- наши друзья» (семья Леры Купри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5400000">
            <a:off x="-128880" y="612360"/>
            <a:ext cx="5181480" cy="426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5340000">
            <a:off x="4819320" y="2428920"/>
            <a:ext cx="4152960" cy="56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16000" y="139680"/>
            <a:ext cx="360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ья Насти Козеняшевой представила лэпбук «Пт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5340000">
            <a:off x="-276120" y="2447640"/>
            <a:ext cx="5613480" cy="426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5400000">
            <a:off x="5767920" y="3232800"/>
            <a:ext cx="3700440" cy="483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5400000">
            <a:off x="6360840" y="290160"/>
            <a:ext cx="323676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720" y="455760"/>
            <a:ext cx="34560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эпбук Артема Стародеда «Птиц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04920" y="3527280"/>
            <a:ext cx="4267080" cy="288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5460000">
            <a:off x="4817880" y="990360"/>
            <a:ext cx="5689440" cy="41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6T08:06:00Z</dcterms:created>
  <dc:creator>Светлана </dc:creator>
  <dc:description/>
  <dc:language>en-US</dc:language>
  <cp:lastModifiedBy>Светлана </cp:lastModifiedBy>
  <dcterms:modified xsi:type="dcterms:W3CDTF">2018-01-27T09:18:45Z</dcterms:modified>
  <cp:revision>5</cp:revision>
  <dc:subject/>
  <dc:title/>
</cp:coreProperties>
</file>