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253D-4B6E-4ACA-B580-6A6A2E066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7D5A-8BD4-4DD9-B289-F34193E99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3DD2-3733-47B4-B4C2-42098DDCE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8DE7-0AE5-4BC6-BB8D-04E4972E3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5340-0E95-430F-82B3-E45F7E0584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7B59-40EA-4949-BEAE-E493052101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7F8A-6B6B-4D68-8007-9012A03E97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F12F-C615-4659-9990-91244EDE65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14CE-1083-4754-A621-1C3A308BBA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120" y="4984560"/>
            <a:ext cx="8185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0F6B-3B02-4E40-91F8-28675BF131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20AC-4DE0-4679-946B-158CAED36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4DBF-9E60-450A-825C-6051E797B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E6EC-CE4C-4AB3-B242-912F9E9B0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CFBF-897D-44AF-B8AE-FE0C78D354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0ED9-E9FB-4565-A81C-D9177DFCC1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1AB3-C757-40AF-9E8D-113F9F9D0E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40BC-054B-475A-A739-59257AA18C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AFB-A947-4055-BA50-97148FA240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53A-8836-4635-A8F8-6C85BD0039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4DF-B9E1-4A7A-8AE7-3FE8A344D6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A85-A62E-4F83-BFAE-6B364314FF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301-7545-4C7D-83EF-162D4376D8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552D-7EE1-459B-9706-2EA8F132F8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120" y="4984560"/>
            <a:ext cx="8185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F3A-B762-4D33-B20B-C4133BEB3C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2C4-C659-43C4-A4C7-3AAADD3B55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091-AF1B-4FD5-B4AA-3EFAA84AE4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145-733A-4D09-B0FF-1C6885836F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F5F-CDA3-4080-B024-BEBC336A3B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155-9A25-4D6C-8145-9C92A44FB7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0BF-4E65-4D28-9075-C55F93FE7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58DD-B58C-48BF-A822-4D71DB87B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2744-C4A3-444F-A865-45A8AB08A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120" y="4984560"/>
            <a:ext cx="8185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4B30-9ECC-4623-AB29-486F4B690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2FBB-A880-4C23-92F2-094B7A840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5829-5B63-4191-8A2E-574E22566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9215-907B-4DFD-9CE4-277399283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cap="rnd" w="3240">
            <a:solidFill>
              <a:srgbClr val="a2a1a1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17600" y="433440"/>
            <a:ext cx="8307360" cy="3108240"/>
          </a:xfrm>
          <a:prstGeom prst="roundRect">
            <a:avLst>
              <a:gd name="adj" fmla="val 4579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2160" y="10440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22160" y="3684600"/>
            <a:ext cx="7772400" cy="26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228600"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45720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685800"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914400"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914400"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914400"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346960" y="6232680"/>
            <a:ext cx="457200" cy="2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DB27-E579-42B1-A79D-94F577E65E69}" type="slidenum">
              <a:rPr b="0" lang="ru-RU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cap="rnd" w="3240">
            <a:solidFill>
              <a:srgbClr val="a2a1a1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1120" y="4849560"/>
            <a:ext cx="8185320" cy="11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1120" y="529920"/>
            <a:ext cx="8185320" cy="431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228600"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45720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685800"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914400"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914400"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914400"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8346960" y="6232680"/>
            <a:ext cx="457200" cy="2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0494-C1DF-4B72-B2BB-E2603E55FA33}" type="slidenum">
              <a:rPr b="0" lang="ru-RU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cap="rnd" w="3240">
            <a:solidFill>
              <a:srgbClr val="a2a1a1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1120" y="49845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3"/>
          </p:nvPr>
        </p:nvSpPr>
        <p:spPr>
          <a:xfrm>
            <a:off x="8346960" y="6232680"/>
            <a:ext cx="457200" cy="2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6A3F-72BA-429C-9B61-6B14CABE53E5}" type="slidenum">
              <a:rPr b="0" lang="ru-RU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228600"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457200"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68580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914400">
              <a:buClr>
                <a:srgbClr val="000000"/>
              </a:buClr>
              <a:buFont typeface="Helvetica"/>
              <a:buChar char="»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914400">
              <a:spcBef>
                <a:spcPts val="3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914400">
              <a:spcBef>
                <a:spcPts val="3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olkslovar.ru/ch312.html" TargetMode="External"/><Relationship Id="rId2" Type="http://schemas.openxmlformats.org/officeDocument/2006/relationships/hyperlink" Target="http://tolkslovar.ru/p3252.html" TargetMode="External"/><Relationship Id="rId3" Type="http://schemas.openxmlformats.org/officeDocument/2006/relationships/hyperlink" Target="http://tolkslovar.ru/ch312.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olkslovar.ru/r3441.html" TargetMode="External"/><Relationship Id="rId2" Type="http://schemas.openxmlformats.org/officeDocument/2006/relationships/hyperlink" Target="http://tolkslovar.ru/s9024.html" TargetMode="External"/><Relationship Id="rId3" Type="http://schemas.openxmlformats.org/officeDocument/2006/relationships/hyperlink" Target="http://tolkslovar.ru/u1898.html" TargetMode="External"/><Relationship Id="rId4" Type="http://schemas.openxmlformats.org/officeDocument/2006/relationships/hyperlink" Target="http://tolkslovar.ru/z6230.html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35712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ГИМНАЗИЯ г. САФОНОВО СМОЛ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2160" y="857160"/>
            <a:ext cx="777240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ЕЗЕНТА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«ЭНЦИКЛОПЕДИЯ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лово ГО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ченицы 7а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обазенковой Э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читель Ратникова Л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120" y="49827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120" y="571680"/>
            <a:ext cx="8185320" cy="544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252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Риф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52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280" indent="-125280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ГОЛОВА-Дрова, острова, слова, покрова, мо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2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52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280" indent="-125280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Руки работают, а голова корм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5280" indent="-125280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Куда голова придёт, туда и тело привед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5280" indent="-125280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Голова - всему 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5280" indent="-125280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Кто голову теряет, тот в дураках бы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120" y="49827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548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3500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Segoe Script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Segoe Script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Segoe Script"/>
              </a:rPr>
              <a:t>Горшок  умен,да семь дырок в не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Segoe Script"/>
              </a:rPr>
              <a:t>Растет она вниз головою,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Segoe Script"/>
              </a:rPr>
              <a:t>Не летом растет, а зимою.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Segoe Script"/>
              </a:rPr>
              <a:t>Но солнце её припечёт —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Segoe Script"/>
              </a:rPr>
              <a:t>Заплачет она и умр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Segoe Script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Segoe Script"/>
              </a:rPr>
              <a:t>Золотая голова велика, тяжела,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Segoe Script"/>
              </a:rPr>
              <a:t>Золотая голова отдохнуть прилегла.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Segoe Script"/>
              </a:rPr>
              <a:t>Голова велика, только шея тон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500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Скор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500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Наш голова вашего голову головой переголова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перевыголо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i.jpg"/>
          <p:cNvPicPr/>
          <p:nvPr/>
        </p:nvPicPr>
        <p:blipFill>
          <a:blip r:embed="rId1"/>
          <a:stretch/>
        </p:blipFill>
        <p:spPr>
          <a:xfrm>
            <a:off x="7020000" y="547560"/>
            <a:ext cx="168912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i (1).jpg"/>
          <p:cNvPicPr/>
          <p:nvPr/>
        </p:nvPicPr>
        <p:blipFill>
          <a:blip r:embed="rId2"/>
          <a:stretch/>
        </p:blipFill>
        <p:spPr>
          <a:xfrm>
            <a:off x="7020000" y="1987560"/>
            <a:ext cx="165564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i (2).jpg"/>
          <p:cNvPicPr/>
          <p:nvPr/>
        </p:nvPicPr>
        <p:blipFill>
          <a:blip r:embed="rId3"/>
          <a:stretch/>
        </p:blipFill>
        <p:spPr>
          <a:xfrm>
            <a:off x="7020000" y="3429000"/>
            <a:ext cx="16556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120" y="3714840"/>
            <a:ext cx="8185320" cy="23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120" y="530280"/>
            <a:ext cx="8185320" cy="311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205920" indent="-205920" algn="ctr">
              <a:lnSpc>
                <a:spcPct val="8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Притча «Голова и хвост зме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Script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Segoe Script"/>
              </a:rPr>
              <a:t>Некогда жила змея, голова и хвост которой все время спорили между собой. Голова говорит хвосту: «Меня должно считать старшей!» Хвост отвечает: «Я тоже достоин быть старшим». Голова говорит: «У меня есть уши, чтобы слышать, глаза, чтобы смотреть, рот, чтобы есть, при движении я впереди остального тела — вот почему меня должно считать старшей. А ты не имеешь таких достоинств, потому тебя нельзя считать старшим». А хвост в ответ: «Если я позволю тебе двигаться, то ты сможешь двигаться. А что, если я трижды обмотаюсь вокруг дерева?» Он так и сделал. Голова не смогла двигаться в поисках пищи и чуть не умерла от голода. Она сказала хвосту: Ты можешь отпустить меня, я признаю тебя старшим«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Segoe Script"/>
              </a:rPr>
              <a:t>Хвост, услышав эти слова, тут же отцепился от дерева. Голова снова говорит хвосту: «Раз ты признан старшим, то посмотрим, как ты пойдешь первым». Хвост отправился вперед, но не сделал и несколько шагов, как свалился в огненную яму, и змея погиб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Adder_vipera-berus.France.jpg"/>
          <p:cNvPicPr/>
          <p:nvPr/>
        </p:nvPicPr>
        <p:blipFill>
          <a:blip r:embed="rId1"/>
          <a:stretch/>
        </p:blipFill>
        <p:spPr>
          <a:xfrm>
            <a:off x="2000160" y="3857760"/>
            <a:ext cx="5112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120" y="49827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548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58840" indent="-258840" algn="ctr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Сказка: За дурной головой - ногам рабо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Script"/>
              </a:rPr>
              <a:t>Затопила баба печь и дыму в избу напустила — не продыхнуть. «Надо попросить у соседей решето — дым из избы вынести», — подумала баба и пошла к соседям, а дверь за собой не прикры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Script"/>
              </a:rPr>
              <a:t>Пришла к соседям. А те говоря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Script"/>
              </a:rPr>
              <a:t>— </a:t>
            </a:r>
            <a:r>
              <a:rPr b="1" lang="ru-RU" sz="2200" spc="-1" strike="noStrike">
                <a:solidFill>
                  <a:srgbClr val="000000"/>
                </a:solidFill>
                <a:latin typeface="Segoe Script"/>
              </a:rPr>
              <a:t>Нет у нас решета. Догадаихе одолжи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Script"/>
              </a:rPr>
              <a:t>Отправилась баба к Догадаихе, на край села, взяла у нее решето и пошла до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Script"/>
              </a:rPr>
              <a:t>Вошла в избу, а дыму в ней как не быва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Script"/>
              </a:rPr>
              <a:t>Смекнула тут баба, что, пока она ноги била, за решетом ходила, дым в дверь ушел, и закорила сама себя: «За дурной головой — ногам работа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1120" y="49827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41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39840" indent="-339840" algn="ctr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Script"/>
              </a:rPr>
              <a:t>Древнегреческая миф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http://data.photo.sibnet.ru/upload/imgbig/127340813005.jpg"/>
          <p:cNvPicPr/>
          <p:nvPr/>
        </p:nvPicPr>
        <p:blipFill>
          <a:blip r:embed="rId1"/>
          <a:stretch/>
        </p:blipFill>
        <p:spPr>
          <a:xfrm>
            <a:off x="971640" y="1195560"/>
            <a:ext cx="741672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1120" y="1410840"/>
            <a:ext cx="81853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Segoe Print"/>
              </a:rPr>
              <a:t>А.С. Пушкин «Руслан и Людмила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102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3920" indent="-223920" algn="ctr">
              <a:lnSpc>
                <a:spcPct val="9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Го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ctr">
              <a:lnSpc>
                <a:spcPct val="9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В Русских сказках и произвед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imgB.jpg"/>
          <p:cNvPicPr/>
          <p:nvPr/>
        </p:nvPicPr>
        <p:blipFill>
          <a:blip r:embed="rId1"/>
          <a:stretch/>
        </p:blipFill>
        <p:spPr>
          <a:xfrm>
            <a:off x="466560" y="2203560"/>
            <a:ext cx="8058240" cy="3854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120" y="49827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102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А. Беляев «Голова профессора Доуэ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6346082bcf9956f69ecd1933584_prev.jpg"/>
          <p:cNvPicPr/>
          <p:nvPr/>
        </p:nvPicPr>
        <p:blipFill>
          <a:blip r:embed="rId1"/>
          <a:stretch/>
        </p:blipFill>
        <p:spPr>
          <a:xfrm>
            <a:off x="1835280" y="1411200"/>
            <a:ext cx="532764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183520" cy="497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8346960" y="6232680"/>
            <a:ext cx="457200" cy="24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11C7-716A-4F5F-88DC-BEE87FD51804}" type="slidenum">
              <a:rPr b="0" lang="ru-RU" sz="1000" spc="-1" strike="noStrike">
                <a:solidFill>
                  <a:srgbClr val="a6a2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2755800"/>
            <a:ext cx="701676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187200"/>
            <a:ext cx="7772400" cy="346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70c0"/>
                </a:solidFill>
                <a:latin typeface="Segoe Script"/>
              </a:rPr>
              <a:t>Каждое слово уникально. Слова имеют множество значений и оттенков. В жизни мы не задумываемся над каждым отдельно взятым словом. 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4003200"/>
            <a:ext cx="7772400" cy="2049480"/>
          </a:xfrm>
          <a:prstGeom prst="rect">
            <a:avLst/>
          </a:prstGeom>
          <a:gradFill rotWithShape="0">
            <a:gsLst>
              <a:gs pos="0">
                <a:srgbClr val="f0eadc"/>
              </a:gs>
              <a:gs pos="100000">
                <a:srgbClr val="908b7f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rm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Segoe Script"/>
              </a:rPr>
              <a:t>Голов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1120" y="2492280"/>
            <a:ext cx="8185320" cy="354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41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Segoe Script"/>
              </a:rPr>
              <a:t>1. Верхня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Script"/>
                <a:hlinkClick r:id="rId1"/>
              </a:rPr>
              <a:t>часть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Segoe Script"/>
              </a:rPr>
              <a:t>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Segoe Script"/>
              </a:rPr>
              <a:t>тела человека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Script"/>
                <a:hlinkClick r:id="rId2"/>
              </a:rPr>
              <a:t>передняя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Segoe Script"/>
              </a:rPr>
              <a:t> или верхня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Script"/>
                <a:hlinkClick r:id="rId3"/>
              </a:rPr>
              <a:t>часть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Segoe Script"/>
              </a:rPr>
              <a:t> тела позвоночного живот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http://99px.ru/sstorage/53/2010/11/image_530411101915398562732.jpg"/>
          <p:cNvPicPr/>
          <p:nvPr/>
        </p:nvPicPr>
        <p:blipFill>
          <a:blip r:embed="rId4"/>
          <a:stretch/>
        </p:blipFill>
        <p:spPr>
          <a:xfrm>
            <a:off x="1258920" y="2563920"/>
            <a:ext cx="2952720" cy="288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ladyfromrussia.com/women/image/kr_sergi.jpg"/>
          <p:cNvPicPr/>
          <p:nvPr/>
        </p:nvPicPr>
        <p:blipFill>
          <a:blip r:embed="rId5"/>
          <a:stretch/>
        </p:blipFill>
        <p:spPr>
          <a:xfrm>
            <a:off x="4643280" y="2571840"/>
            <a:ext cx="285768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120" y="49827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232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2. Ум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Script"/>
                <a:hlinkClick r:id="rId1"/>
              </a:rPr>
              <a:t>рассудок,</a:t>
            </a: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Script"/>
                <a:hlinkClick r:id="rId2"/>
              </a:rPr>
              <a:t>сознание.</a:t>
            </a: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3. перен. разг.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Script"/>
                <a:hlinkClick r:id="rId3"/>
              </a:rPr>
              <a:t>Умный,</a:t>
            </a: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Segoe Script"/>
                <a:hlinkClick r:id="rId4"/>
              </a:rPr>
              <a:t>знающий,</a:t>
            </a: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 толковый человек. // Человек как носитель каких-либо качеств, сво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http://onua.com.ua/uploads/posts/2009-01/1232624560_15.jpg"/>
          <p:cNvPicPr/>
          <p:nvPr/>
        </p:nvPicPr>
        <p:blipFill>
          <a:blip r:embed="rId5"/>
          <a:stretch/>
        </p:blipFill>
        <p:spPr>
          <a:xfrm>
            <a:off x="2571840" y="2857680"/>
            <a:ext cx="4118040" cy="3444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120" y="2852280"/>
            <a:ext cx="8185320" cy="318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232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marL="160560" indent="-160560">
              <a:lnSpc>
                <a:spcPct val="9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4. перен. Передняя часть движущейся группы, колон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>
              <a:lnSpc>
                <a:spcPct val="9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5. перен. разг. Единица при счете (обычно животны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>
              <a:lnSpc>
                <a:spcPct val="9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6. перен. разг. Шаровидное или продолговатое соцветие растений, их плоды, вершины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>
              <a:lnSpc>
                <a:spcPct val="9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7. устар. Пищевой продукт в форме шара, кон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http://im8-tub-ru.yandex.net/i?id=27259339-67-72&amp;n=21"/>
          <p:cNvPicPr/>
          <p:nvPr/>
        </p:nvPicPr>
        <p:blipFill>
          <a:blip r:embed="rId1"/>
          <a:stretch/>
        </p:blipFill>
        <p:spPr>
          <a:xfrm>
            <a:off x="826920" y="4508640"/>
            <a:ext cx="2136960" cy="14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im7-tub-ru.yandex.net/i?id=263195841-48-72&amp;n=21"/>
          <p:cNvPicPr/>
          <p:nvPr/>
        </p:nvPicPr>
        <p:blipFill>
          <a:blip r:embed="rId2"/>
          <a:stretch/>
        </p:blipFill>
        <p:spPr>
          <a:xfrm>
            <a:off x="3780000" y="4508640"/>
            <a:ext cx="2050920" cy="1423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http://im3-tub-ru.yandex.net/i?id=520653059-25-72&amp;n=21"/>
          <p:cNvPicPr/>
          <p:nvPr/>
        </p:nvPicPr>
        <p:blipFill>
          <a:blip r:embed="rId3"/>
          <a:stretch/>
        </p:blipFill>
        <p:spPr>
          <a:xfrm>
            <a:off x="6730920" y="4437000"/>
            <a:ext cx="1425600" cy="1424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im2-tub-ru.yandex.net/i?id=63494809-12-72&amp;n=21"/>
          <p:cNvPicPr/>
          <p:nvPr/>
        </p:nvPicPr>
        <p:blipFill>
          <a:blip r:embed="rId4"/>
          <a:stretch/>
        </p:blipFill>
        <p:spPr>
          <a:xfrm>
            <a:off x="2482920" y="2924280"/>
            <a:ext cx="1903320" cy="142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im5-tub-ru.yandex.net/i?id=472969341-44-72&amp;n=21"/>
          <p:cNvPicPr/>
          <p:nvPr/>
        </p:nvPicPr>
        <p:blipFill>
          <a:blip r:embed="rId5"/>
          <a:stretch/>
        </p:blipFill>
        <p:spPr>
          <a:xfrm>
            <a:off x="5075280" y="2924280"/>
            <a:ext cx="1935000" cy="1425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331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ru-RU" sz="4600" spc="-1" strike="noStrike">
                <a:solidFill>
                  <a:srgbClr val="ff9254"/>
                </a:solidFill>
                <a:latin typeface="Segoe Script"/>
              </a:rPr>
              <a:t>Голов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1120" y="1915920"/>
            <a:ext cx="8185320" cy="360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64960" indent="-264960">
              <a:lnSpc>
                <a:spcPct val="90000"/>
              </a:lnSpc>
              <a:spcBef>
                <a:spcPts val="201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Мнения расходятся. Одни связывают это "голова" со словом "желвак" - "твердый гвыль"; другим оно кажется ближе к старославянскому "желвь" - "черепаха". Выводят это слово и из древнего значения основы "гол" - "лысый", "безволосый"; в этом случае. очевидно, ранним значением слова "голова" было "череп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120" y="49827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Segoe Script"/>
              </a:rPr>
              <a:t>ГОЛОВ</a:t>
            </a:r>
            <a:r>
              <a:rPr b="1" lang="ru-RU" sz="3600" spc="-1" strike="noStrike">
                <a:solidFill>
                  <a:srgbClr val="00b050"/>
                </a:solidFill>
                <a:latin typeface="Segoe Script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41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Script"/>
              </a:rPr>
              <a:t>Голова</a:t>
            </a:r>
            <a:r>
              <a:rPr b="1" lang="ru-RU" sz="1600" spc="-1" strike="noStrike">
                <a:solidFill>
                  <a:srgbClr val="000000"/>
                </a:solidFill>
                <a:latin typeface="Segoe Scrip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Женский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Первое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Голова – 3 сл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Г - [Г] согл. зв. твердый, па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О - [А] гл. безу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Л – [Л] согл. сонорный тверд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О – [А] гл. безу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В – [В] согл. зв. твердый п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А – [А] гл. у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8880" indent="-2188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6 букв 6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120" y="4982760"/>
            <a:ext cx="818532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600" spc="-1" strike="noStrike">
              <a:solidFill>
                <a:srgbClr val="ff9254"/>
              </a:solidFill>
              <a:latin typeface="Verdana"/>
              <a:ea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120" y="530280"/>
            <a:ext cx="8185320" cy="534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27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Segoe Script"/>
              </a:rPr>
              <a:t>Родствен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7080" indent="-1270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уменьшительно - ласкательные формы: головка, главка, главица, головушка, заголовочек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• уничижительные формы: головён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• увеличительные формы: голо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7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Слова-родствен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7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080" indent="-1270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глава, главарь, главврач, главнокомандующий, головёшка, головоломка, , заголовок, изголовье,  подголовни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7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Синони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7080" indent="-127080">
              <a:lnSpc>
                <a:spcPct val="8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башка, ум, интеллект, мозги, мозг, память, начало, кругляш, голо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7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Антон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7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хв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120" y="4003560"/>
            <a:ext cx="8185320" cy="208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Segoe Script"/>
              </a:rPr>
              <a:t>Ломать голову –напряженно ,усиленно думать, решать что-то сложное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Segoe Script"/>
              </a:rPr>
              <a:t>Терять голову - попав в затруднительную ситуацию ,не знать как поступить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Segoe Script"/>
              </a:rPr>
              <a:t>Как снег на голову - появиться совершенно неожиданно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120" y="529920"/>
            <a:ext cx="818532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37960" indent="-237960" algn="ctr">
              <a:lnSpc>
                <a:spcPct val="100000"/>
              </a:lnSpc>
              <a:spcBef>
                <a:spcPts val="99"/>
              </a:spcBef>
              <a:buClr>
                <a:srgbClr val="f07f09"/>
              </a:buClr>
              <a:buSzPct val="80000"/>
              <a:buFont typeface="Wingdings 2" charset="2"/>
              <a:buChar char="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Segoe Script"/>
              </a:rPr>
              <a:t>Фразеолог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http://desktop.alloflyrics.com/i/sport/36.jpg"/>
          <p:cNvPicPr/>
          <p:nvPr/>
        </p:nvPicPr>
        <p:blipFill>
          <a:blip r:embed="rId1"/>
          <a:stretch/>
        </p:blipFill>
        <p:spPr>
          <a:xfrm>
            <a:off x="682560" y="1411200"/>
            <a:ext cx="2305080" cy="2297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img-fotki.yandex.ru/get/5814/126546840.19/0_8521e_de33cd38_XL"/>
          <p:cNvPicPr/>
          <p:nvPr/>
        </p:nvPicPr>
        <p:blipFill>
          <a:blip r:embed="rId2"/>
          <a:stretch/>
        </p:blipFill>
        <p:spPr>
          <a:xfrm>
            <a:off x="3203640" y="1411200"/>
            <a:ext cx="230328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http://www.livejournal.ru/static/files/themes/46845_20.jpg"/>
          <p:cNvPicPr/>
          <p:nvPr/>
        </p:nvPicPr>
        <p:blipFill>
          <a:blip r:embed="rId3"/>
          <a:stretch/>
        </p:blipFill>
        <p:spPr>
          <a:xfrm>
            <a:off x="5722920" y="1411200"/>
            <a:ext cx="25210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лия</cp:lastModifiedBy>
  <dcterms:modified xsi:type="dcterms:W3CDTF">2018-01-27T19:45:52Z</dcterms:modified>
  <cp:revision>15</cp:revision>
  <dc:subject/>
  <dc:title>Каждое слово уникально. Слова имеют множество значений и оттенков. В жизни мы не задумываемся над каждым отдельно взятым словом.  </dc:title>
</cp:coreProperties>
</file>