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46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3CC-C11B-44A8-9C09-3E99B04C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D7E-5154-449C-8979-3C40F83A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8B2-D81E-4E94-B3EA-6EB4F3A7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9DE-9D1F-49C0-BD44-775371B9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467-5F1B-493D-8553-4C3ABD4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13B-28B2-4077-91B9-2C41E28D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E67-7A6F-4CE7-B43F-F2E2B99E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460-F183-4BA6-8301-B217FCC3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7E2-115D-4928-A59B-EE37AC73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44A-EBDE-4DD2-AC5F-809F86B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397-36DC-444C-B95D-0FBC36B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9E1-E35D-4F43-A601-F4DE609C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079-958A-4545-8CD4-45A6BA8FF9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71400" y="206280"/>
            <a:ext cx="780732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 ゴシック"/>
              </a:rPr>
              <a:t>Продолжи фразу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2209680"/>
            <a:ext cx="78073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Оренбургск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Вологодск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Дымковска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Жостовск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Хохлом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Золота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P ゴシック"/>
              </a:rPr>
              <a:t>Городецкая…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  <a:ea typeface="MS P ゴシック"/>
              </a:rPr>
              <a:t>росп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812760" y="2286000"/>
            <a:ext cx="27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MS P ゴシック"/>
              </a:rPr>
              <a:t>пуховый пла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857760" y="28576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MS P ゴシック"/>
              </a:rPr>
              <a:t>круже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797280" y="35002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MS P ゴシック"/>
              </a:rPr>
              <a:t>игру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3719520" y="40719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MS P ゴシック"/>
              </a:rPr>
              <a:t>подн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3502080" y="471492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MS P ゴシック"/>
              </a:rPr>
              <a:t>по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3078720" y="53578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MS P ゴシック"/>
              </a:rPr>
              <a:t>хохл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00816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1" name="Picture 7" descr="ж6"/>
          <p:cNvPicPr/>
          <p:nvPr/>
        </p:nvPicPr>
        <p:blipFill>
          <a:blip r:embed="rId1"/>
          <a:stretch/>
        </p:blipFill>
        <p:spPr>
          <a:xfrm>
            <a:off x="4267080" y="358128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алеко от Москвы, среди широких раздолий Русской равнины, в очень живописном месте находится село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Жостов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менито это село тем, что никто не может рисовать цветы лучше местных умельцев на железных подноса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ркие, сочные и крупные цветы в окружении свежей листвы. Широко и свободно брошенные на специально подготовленный фон подноса, - таков «классический» вид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жостовско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пис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ж4"/>
          <p:cNvPicPr/>
          <p:nvPr/>
        </p:nvPicPr>
        <p:blipFill>
          <a:blip r:embed="rId2"/>
          <a:stretch/>
        </p:blipFill>
        <p:spPr>
          <a:xfrm>
            <a:off x="5257800" y="609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5" name="Picture 6" descr="гжелевая звездочка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ж1"/>
          <p:cNvPicPr/>
          <p:nvPr/>
        </p:nvPicPr>
        <p:blipFill>
          <a:blip r:embed="rId2"/>
          <a:stretch/>
        </p:blipFill>
        <p:spPr>
          <a:xfrm rot="841200">
            <a:off x="5167440" y="2362320"/>
            <a:ext cx="34430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осто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8" name="Picture 8" descr="ж7"/>
          <p:cNvPicPr/>
          <p:nvPr/>
        </p:nvPicPr>
        <p:blipFill>
          <a:blip r:embed="rId1"/>
          <a:stretch/>
        </p:blipFill>
        <p:spPr>
          <a:xfrm rot="21073200">
            <a:off x="53316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ж10"/>
          <p:cNvPicPr/>
          <p:nvPr/>
        </p:nvPicPr>
        <p:blipFill>
          <a:blip r:embed="rId2"/>
          <a:stretch/>
        </p:blipFill>
        <p:spPr>
          <a:xfrm rot="20845800">
            <a:off x="1066320" y="3581280"/>
            <a:ext cx="2884680" cy="288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ж9"/>
          <p:cNvPicPr/>
          <p:nvPr/>
        </p:nvPicPr>
        <p:blipFill>
          <a:blip r:embed="rId3"/>
          <a:stretch/>
        </p:blipFill>
        <p:spPr>
          <a:xfrm rot="783600">
            <a:off x="4648320" y="22096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3008160" cy="825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Хохлом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2" name="Picture 8" descr="ваз"/>
          <p:cNvPicPr/>
          <p:nvPr/>
        </p:nvPicPr>
        <p:blipFill>
          <a:blip r:embed="rId1"/>
          <a:stretch/>
        </p:blipFill>
        <p:spPr>
          <a:xfrm>
            <a:off x="4495680" y="304920"/>
            <a:ext cx="300060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охлом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ело в 7 км.от Семёнова, стоящего над рекой Узолой в Заволжь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акой деревянной посуды и мебели в самой Хохломе не точили. Там была самая большая в Заволжье сельская  торговая площадь. Купля-продажа велась в Хохломе в таких размерах, что уже к начал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 здешние блюда, миски, ковши и ложки стали самыми любимыми в простом народе. Она–то и назвал их по месту продажи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охломс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канцнабор"/>
          <p:cNvPicPr/>
          <p:nvPr/>
        </p:nvPicPr>
        <p:blipFill>
          <a:blip r:embed="rId2"/>
          <a:stretch/>
        </p:blipFill>
        <p:spPr>
          <a:xfrm rot="776400">
            <a:off x="6295680" y="254304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коробка для рукоделия"/>
          <p:cNvPicPr/>
          <p:nvPr/>
        </p:nvPicPr>
        <p:blipFill>
          <a:blip r:embed="rId3"/>
          <a:stretch/>
        </p:blipFill>
        <p:spPr>
          <a:xfrm rot="18231000">
            <a:off x="4743360" y="3836880"/>
            <a:ext cx="1866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7" descr="конь-ладья"/>
          <p:cNvPicPr/>
          <p:nvPr/>
        </p:nvPicPr>
        <p:blipFill>
          <a:blip r:embed="rId1"/>
          <a:stretch/>
        </p:blipFill>
        <p:spPr>
          <a:xfrm>
            <a:off x="2286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кашпо"/>
          <p:cNvPicPr/>
          <p:nvPr/>
        </p:nvPicPr>
        <p:blipFill>
          <a:blip r:embed="rId2"/>
          <a:stretch/>
        </p:blipFill>
        <p:spPr>
          <a:xfrm>
            <a:off x="5410080" y="1447920"/>
            <a:ext cx="3457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мат1"/>
          <p:cNvPicPr/>
          <p:nvPr/>
        </p:nvPicPr>
        <p:blipFill>
          <a:blip r:embed="rId1"/>
          <a:stretch/>
        </p:blipFill>
        <p:spPr>
          <a:xfrm>
            <a:off x="4226040" y="144612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рёшка – это полая внутри деревянная ярко разрисованная кукла в виде полуовальной фигуры, в которую вставляются другие такие же куклы меньшего размера. (Словарь русского языка. С.И.Ожегов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995040" y="533520"/>
            <a:ext cx="25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трёш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гуляние"/>
          <p:cNvPicPr/>
          <p:nvPr/>
        </p:nvPicPr>
        <p:blipFill>
          <a:blip r:embed="rId1"/>
          <a:stretch/>
        </p:blipFill>
        <p:spPr>
          <a:xfrm>
            <a:off x="457200" y="22860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коробейники2"/>
          <p:cNvPicPr/>
          <p:nvPr/>
        </p:nvPicPr>
        <p:blipFill>
          <a:blip r:embed="rId2"/>
          <a:stretch/>
        </p:blipFill>
        <p:spPr>
          <a:xfrm>
            <a:off x="3733920" y="3429000"/>
            <a:ext cx="4876560" cy="325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 rot="21038400">
            <a:off x="823320" y="499572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трёш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300852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7" descr="21"/>
          <p:cNvPicPr/>
          <p:nvPr/>
        </p:nvPicPr>
        <p:blipFill>
          <a:blip r:embed="rId1"/>
          <a:stretch/>
        </p:blipFill>
        <p:spPr>
          <a:xfrm>
            <a:off x="4648320" y="685800"/>
            <a:ext cx="2638440" cy="2857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358164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ffff"/>
                </a:solidFill>
                <a:latin typeface="Arial"/>
              </a:rPr>
              <a:t>Вышивк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ышитый разноцветными нитями узор на тка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15"/>
          <p:cNvPicPr/>
          <p:nvPr/>
        </p:nvPicPr>
        <p:blipFill>
          <a:blip r:embed="rId2"/>
          <a:stretch/>
        </p:blipFill>
        <p:spPr>
          <a:xfrm rot="730200">
            <a:off x="5622480" y="3624120"/>
            <a:ext cx="245592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16"/>
          <p:cNvPicPr/>
          <p:nvPr/>
        </p:nvPicPr>
        <p:blipFill>
          <a:blip r:embed="rId1"/>
          <a:stretch/>
        </p:blipFill>
        <p:spPr>
          <a:xfrm rot="21096600">
            <a:off x="1080720" y="826920"/>
            <a:ext cx="2119320" cy="2438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18"/>
          <p:cNvPicPr/>
          <p:nvPr/>
        </p:nvPicPr>
        <p:blipFill>
          <a:blip r:embed="rId2"/>
          <a:stretch/>
        </p:blipFill>
        <p:spPr>
          <a:xfrm rot="888600">
            <a:off x="1328760" y="3782880"/>
            <a:ext cx="3090960" cy="245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171"/>
          <p:cNvPicPr/>
          <p:nvPr/>
        </p:nvPicPr>
        <p:blipFill>
          <a:blip r:embed="rId3"/>
          <a:stretch/>
        </p:blipFill>
        <p:spPr>
          <a:xfrm>
            <a:off x="5867280" y="762120"/>
            <a:ext cx="23097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Изображение 021"/>
          <p:cNvPicPr/>
          <p:nvPr/>
        </p:nvPicPr>
        <p:blipFill>
          <a:blip r:embed="rId1"/>
          <a:stretch/>
        </p:blipFill>
        <p:spPr>
          <a:xfrm rot="20820600">
            <a:off x="309600" y="1174320"/>
            <a:ext cx="4038480" cy="3218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Изображение 024"/>
          <p:cNvPicPr/>
          <p:nvPr/>
        </p:nvPicPr>
        <p:blipFill>
          <a:blip r:embed="rId2"/>
          <a:stretch/>
        </p:blipFill>
        <p:spPr>
          <a:xfrm rot="468000">
            <a:off x="4622760" y="185400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Народно-художественные промысл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4" descr="4.jpg"/>
          <p:cNvPicPr/>
          <p:nvPr/>
        </p:nvPicPr>
        <p:blipFill>
          <a:blip r:embed="rId2"/>
          <a:stretch/>
        </p:blipFill>
        <p:spPr>
          <a:xfrm>
            <a:off x="357120" y="1357200"/>
            <a:ext cx="2500560" cy="2344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800600" y="1371600"/>
            <a:ext cx="40384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логодское кружев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самое известное, оно выплетается там с 1820 года. Особое внимание уделяется штучным изделиям: знаменитым воротникам, пелеринам, шарфам, перчаткам, салфетка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C:\Documents and Settings\user\Рабочий стол\5.jpg"/>
          <p:cNvPicPr/>
          <p:nvPr/>
        </p:nvPicPr>
        <p:blipFill>
          <a:blip r:embed="rId3"/>
          <a:stretch/>
        </p:blipFill>
        <p:spPr>
          <a:xfrm>
            <a:off x="2643120" y="3929040"/>
            <a:ext cx="2168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родная глиняная игр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9" descr="Дымковская игрушка"/>
          <p:cNvPicPr/>
          <p:nvPr/>
        </p:nvPicPr>
        <p:blipFill>
          <a:blip r:embed="rId1"/>
          <a:stretch/>
        </p:blipFill>
        <p:spPr>
          <a:xfrm>
            <a:off x="3048120" y="1752480"/>
            <a:ext cx="2705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ымковская игр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Picture 6" descr="дымка1"/>
          <p:cNvPicPr/>
          <p:nvPr/>
        </p:nvPicPr>
        <p:blipFill>
          <a:blip r:embed="rId1"/>
          <a:stretch/>
        </p:blipFill>
        <p:spPr>
          <a:xfrm>
            <a:off x="304920" y="1295280"/>
            <a:ext cx="4101840" cy="5181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4495680" y="205740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боде Дымково около 50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на она ещё при Ива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м князе Московском, окончательно объединившим рус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 вокруг Москв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ымковские игрушки разнообраз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ушки-свистульки: уточки-крылатки, барашки, лошадки, всадники на ко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пные фигуры-барыни, няньки, кормилицы, водоноски, лихие гусары, крупные фигуры зверей и п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ерская игруш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изделия мастеров из Тверской области, а точнее из Торжка.Эти игрушки узнаешь сразу: птички, петушки, жар-птицы, царь рыбы, птицы-сирины,медведи и другие игрушки-свистульки покрыты чешуйками, которые затем ярко расписываются и очень нарядно смотрятся на красно-коричневом-фоне обозженной глины. Отличительной чертой тверской игрушки является их рельефное украшение в виде маленьких чешуек и обор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0" descr="Тверская игрушка"/>
          <p:cNvPicPr/>
          <p:nvPr/>
        </p:nvPicPr>
        <p:blipFill>
          <a:blip r:embed="rId1"/>
          <a:stretch/>
        </p:blipFill>
        <p:spPr>
          <a:xfrm>
            <a:off x="4572000" y="1700280"/>
            <a:ext cx="4392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284720" y="259920"/>
            <a:ext cx="46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польск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уш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сском Севере, неподалеку от небольшого города Карпоголя, в почти опустевшей деревушке Гринево жила мастерица-игрушница Ульяна Бабкина. Для лепки она брала красную глину. Фигурки лепила немного грубоватыми, коренастыми, плечи сливаются с затылком, короткие ноги. Изделия просушивали, а через несколько недель обжигали, потом белили. Роспись довольно проста: полоски, штрихи, ромбы, крапинки. Набор красок: голубой, кирпично-красный, зеленая, черный, охристая. Иногда добавляются золотая и серебрянные крас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Карпольская игрушка"/>
          <p:cNvPicPr/>
          <p:nvPr/>
        </p:nvPicPr>
        <p:blipFill>
          <a:blip r:embed="rId1"/>
          <a:stretch/>
        </p:blipFill>
        <p:spPr>
          <a:xfrm>
            <a:off x="179280" y="2133720"/>
            <a:ext cx="41054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рославская игру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в Ярославской области делали свистульки в виде коней или птиц с веретенообразными туловищами, двумя крохотными ножками и выгнутыми спинами. Игрушку покрывали глазурью или белой масляной краской с синими и красными полосами и пятнам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Ярославская игрушка"/>
          <p:cNvPicPr/>
          <p:nvPr/>
        </p:nvPicPr>
        <p:blipFill>
          <a:blip r:embed="rId1"/>
          <a:stretch/>
        </p:blipFill>
        <p:spPr>
          <a:xfrm>
            <a:off x="4284720" y="2357280"/>
            <a:ext cx="4680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48320" y="18864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ашевская игруш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 и работал в селе Абашево Пензенской области в 20-30 годах талантливый мастер Ларион Зоткин, был он один из тех кто возродил абашевскую игрушку. Все игрушки мастера Зоткина-свистульки в виде животных с длинным туловищем. Здесь можно увидеть голубого барана с могучими серебрянными рогами, зеленую в серебрянных пятнах собаку, красного оленя с великолепными многоярусными раззолоченными рогами, похожими на елку. Самые обыкновенные животные преврашались в руках Лариона Зоткина в сказочные существа неведомой породы. Традиции продолжают сейчас и другие мас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Абашевская игрушка"/>
          <p:cNvPicPr/>
          <p:nvPr/>
        </p:nvPicPr>
        <p:blipFill>
          <a:blip r:embed="rId1"/>
          <a:stretch/>
        </p:blipFill>
        <p:spPr>
          <a:xfrm>
            <a:off x="539640" y="549360"/>
            <a:ext cx="3922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716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имоновская игруш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естному преданию, основателем  деревни(еще во времена Ивана Грозного) был гончар Филимон (отсюда и Филимоново). Из филимоновской глины делали разную посуду и игрушки, да не всякие, а только свистульки для праздников: зверюшек, птиц, коней, барышень, солдат. Удлиненные пропорции объясняются свойствами местной глины. Филимоновская глина при сушке быстро покрывается трещинами, ее приходится постоянно заглаживать влажной рукой, невольно сужая и вытягивая туловище фигуры. Пока глина сохнет, игрушку много раз приходится оглаживать подтягивать выравнивая ее поверхность. А подглаживать и подтягивать ее приходится дней пять. Роспись игрушки ведется и сейчас не кисточкой , а гусиным пером. С кисточки краска к чистой глине не пристанет, а с гусиного пера ложится. Делают мастера и огромные игрушки-ростом с больших кукол, для украшения жилищ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Филимоновская игрушка"/>
          <p:cNvPicPr/>
          <p:nvPr/>
        </p:nvPicPr>
        <p:blipFill>
          <a:blip r:embed="rId1"/>
          <a:stretch/>
        </p:blipFill>
        <p:spPr>
          <a:xfrm>
            <a:off x="4788000" y="981000"/>
            <a:ext cx="415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539640" y="476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йдите ответы на вопрос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95280" y="2349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декоративно-прикладное искус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виды народных промыслов вы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материалы при этом использова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де можно применить изготовленные издел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matrishki_hohlomskie"/>
          <p:cNvPicPr/>
          <p:nvPr/>
        </p:nvPicPr>
        <p:blipFill>
          <a:blip r:embed="rId1"/>
          <a:stretch/>
        </p:blipFill>
        <p:spPr>
          <a:xfrm>
            <a:off x="5181480" y="4554360"/>
            <a:ext cx="2568600" cy="230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Cj04379560000[1]"/>
          <p:cNvPicPr/>
          <p:nvPr/>
        </p:nvPicPr>
        <p:blipFill>
          <a:blip r:embed="rId2"/>
          <a:stretch/>
        </p:blipFill>
        <p:spPr>
          <a:xfrm rot="10800000">
            <a:off x="0" y="5084640"/>
            <a:ext cx="1822320" cy="1702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MCj04379420000[1]"/>
          <p:cNvPicPr/>
          <p:nvPr/>
        </p:nvPicPr>
        <p:blipFill>
          <a:blip r:embed="rId3"/>
          <a:stretch/>
        </p:blipFill>
        <p:spPr>
          <a:xfrm rot="10800000">
            <a:off x="7315200" y="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омысел-эт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лкое ремесленное производство, обычно как подсобное занятие при основном, сельскохозяйствен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вание промыслам даются по названию  места, где они развиваю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539640" y="476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йдите ответы на вопрос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95280" y="2349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декоративно-прикладное искус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виды народных промыслов вы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материалы при этом использовали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де можно применить изготовленные издел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matrishki_hohlomskie"/>
          <p:cNvPicPr/>
          <p:nvPr/>
        </p:nvPicPr>
        <p:blipFill>
          <a:blip r:embed="rId1"/>
          <a:stretch/>
        </p:blipFill>
        <p:spPr>
          <a:xfrm>
            <a:off x="5148360" y="4508640"/>
            <a:ext cx="2568600" cy="23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Cj04379560000[1]"/>
          <p:cNvPicPr/>
          <p:nvPr/>
        </p:nvPicPr>
        <p:blipFill>
          <a:blip r:embed="rId2"/>
          <a:stretch/>
        </p:blipFill>
        <p:spPr>
          <a:xfrm rot="10800000">
            <a:off x="0" y="5084640"/>
            <a:ext cx="1822320" cy="1702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Cj04379420000[1]"/>
          <p:cNvPicPr/>
          <p:nvPr/>
        </p:nvPicPr>
        <p:blipFill>
          <a:blip r:embed="rId3"/>
          <a:stretch/>
        </p:blipFill>
        <p:spPr>
          <a:xfrm rot="10800000">
            <a:off x="7315200" y="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3008160" cy="673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" name="Picture 6" descr="поднос всадник"/>
          <p:cNvPicPr/>
          <p:nvPr/>
        </p:nvPicPr>
        <p:blipFill>
          <a:blip r:embed="rId1"/>
          <a:stretch/>
        </p:blipFill>
        <p:spPr>
          <a:xfrm>
            <a:off x="5486400" y="914400"/>
            <a:ext cx="3314880" cy="3314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4800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древности Городец на волге назывался малым Китеж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авился мастерами  -  «Домовиками», главным делом которых было строительство до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ма покрывали резьбой от самого конька до завалинки. Здесь же создавались пряничные доски для печатания пряников – свадебных, поминальных, имени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 коня – древний, связанный с культом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евний человек думал и верил в то, что если нарисовать солнце в виде животного, или красного круга, или цветка, или сделать в виде коня и иметь всегда рядом, то они охранят его от бед и несчастий. Принесут достаток и радость в 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лучайно в быту стали изображать коней на полотенцах, на  детских люльках, сделали коня главной игруш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20977200">
            <a:off x="6895440" y="47811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кат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7" name="Picture 7" descr="гор1"/>
          <p:cNvPicPr/>
          <p:nvPr/>
        </p:nvPicPr>
        <p:blipFill>
          <a:blip r:embed="rId1"/>
          <a:stretch/>
        </p:blipFill>
        <p:spPr>
          <a:xfrm>
            <a:off x="304920" y="17524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конекгорбунок"/>
          <p:cNvPicPr/>
          <p:nvPr/>
        </p:nvPicPr>
        <p:blipFill>
          <a:blip r:embed="rId2"/>
          <a:stretch/>
        </p:blipFill>
        <p:spPr>
          <a:xfrm>
            <a:off x="4572000" y="1447920"/>
            <a:ext cx="4343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род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0" name="Picture 7" descr="петушок"/>
          <p:cNvPicPr/>
          <p:nvPr/>
        </p:nvPicPr>
        <p:blipFill>
          <a:blip r:embed="rId1"/>
          <a:stretch/>
        </p:blipFill>
        <p:spPr>
          <a:xfrm>
            <a:off x="533520" y="1752480"/>
            <a:ext cx="405288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город"/>
          <p:cNvPicPr/>
          <p:nvPr/>
        </p:nvPicPr>
        <p:blipFill>
          <a:blip r:embed="rId2"/>
          <a:stretch/>
        </p:blipFill>
        <p:spPr>
          <a:xfrm>
            <a:off x="5257800" y="1371600"/>
            <a:ext cx="3610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5695920"/>
            <a:ext cx="41907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- большой район, объединяющий до 30 сёл и деревень, находится в 60 км. от Москвы по Рязанской железной дорог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известна массовым производством в течение всего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века ( а история её началась ранее) фарфорово – фаянсовой посуды, игрушек и декоративных статуэт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Гжель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– родина русской керамик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Гжельскую посуду отличает единство вещи и её декора.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се виды росписи – цветы, птицы, люди, животные – прочно связаны с формой, объёмом и конструкцией вещи, исполнены в плоскостной манере локальными красками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3" name="Picture 6" descr="ангелы"/>
          <p:cNvPicPr/>
          <p:nvPr/>
        </p:nvPicPr>
        <p:blipFill>
          <a:blip r:embed="rId1"/>
          <a:stretch/>
        </p:blipFill>
        <p:spPr>
          <a:xfrm>
            <a:off x="5791320" y="380880"/>
            <a:ext cx="2562120" cy="341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копилка поросенокна баксах"/>
          <p:cNvPicPr/>
          <p:nvPr/>
        </p:nvPicPr>
        <p:blipFill>
          <a:blip r:embed="rId2"/>
          <a:stretch/>
        </p:blipFill>
        <p:spPr>
          <a:xfrm>
            <a:off x="6684840" y="3581280"/>
            <a:ext cx="2459160" cy="32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4"/>
          <p:cNvSpPr/>
          <p:nvPr/>
        </p:nvSpPr>
        <p:spPr>
          <a:xfrm>
            <a:off x="3965760" y="228600"/>
            <a:ext cx="16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ж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7" name="Picture 6" descr="вечериний"/>
          <p:cNvPicPr/>
          <p:nvPr/>
        </p:nvPicPr>
        <p:blipFill>
          <a:blip r:embed="rId1"/>
          <a:stretch/>
        </p:blipFill>
        <p:spPr>
          <a:xfrm>
            <a:off x="685800" y="380880"/>
            <a:ext cx="2513160" cy="3353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даша с сыром"/>
          <p:cNvPicPr/>
          <p:nvPr/>
        </p:nvPicPr>
        <p:blipFill>
          <a:blip r:embed="rId2"/>
          <a:stretch/>
        </p:blipFill>
        <p:spPr>
          <a:xfrm rot="21096600">
            <a:off x="2971800" y="3200400"/>
            <a:ext cx="2516040" cy="335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два веселых гуся"/>
          <p:cNvPicPr/>
          <p:nvPr/>
        </p:nvPicPr>
        <p:blipFill>
          <a:blip r:embed="rId3"/>
          <a:stretch/>
        </p:blipFill>
        <p:spPr>
          <a:xfrm rot="585600">
            <a:off x="5410080" y="380880"/>
            <a:ext cx="314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en</cp:lastModifiedBy>
  <dcterms:modified xsi:type="dcterms:W3CDTF">2016-01-12T19:30:01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