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5B5-E1D0-4A74-BA09-DB1F4126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DD1-FF61-4D40-BF5C-7F0A88B5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F9C-A2AB-4DDD-B77E-D33AB40A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73DE-090F-47EC-8E03-764B98E6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2787-EA28-499F-8259-1A42C57F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6829-D42D-4AAB-9331-99502882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0DF4-CD11-4240-BB23-A8622B25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2870-777A-4337-AF56-F81811B4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D2CF-C429-4AC6-A05A-F5D7A396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A34B-272A-4183-AA43-11A009C2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5804-FEB4-4BE6-99EA-C1B0393B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01A-6F15-4475-A269-66A5C1E9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4752-28F6-4011-878E-F31CCE03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2097-6A12-4CE2-BACD-714D3F45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4B7F-AA0E-4441-BF57-1E94ACA8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7CA8-9B91-4649-93CD-0244D1A3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86C2-1993-4DB3-BF83-D884B366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1C27-F318-49BD-873C-CE50AA6F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0B5-0510-47F2-BCBC-3DE9B57F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295A-2E7B-466A-9702-35B08CE1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10D-DAE7-4B21-93D5-96A9B216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6F7-06E0-4BD9-B2A7-030AE235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148-BDC3-4949-93A6-7C39251E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365B-31ED-4457-9F95-EA9AA512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4BF2-5AFF-4885-835B-4AA4D48269BB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B8EC-0CD9-4934-8C6E-1BB2B53F55E4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927080" y="1295280"/>
            <a:ext cx="546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Rectangle 31"/>
          <p:cNvSpPr/>
          <p:nvPr/>
        </p:nvSpPr>
        <p:spPr>
          <a:xfrm>
            <a:off x="1476360" y="2543400"/>
            <a:ext cx="6610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5249"/>
                </a:solidFill>
                <a:latin typeface="Times New Roman"/>
              </a:rPr>
              <a:t>Русский язык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5249"/>
                </a:solidFill>
                <a:latin typeface="Times New Roman"/>
              </a:rPr>
              <a:t>5 класс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вторить п. 40-41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ыполнить упражнение 212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685800" y="304812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1243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95280" y="70668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Посмотрите на ряды однородных членов и найдите среди них обобщающие слова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11280" y="1904400"/>
            <a:ext cx="129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Берез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ле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син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ерево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7" descr="ur4st3_derevo"/>
          <p:cNvPicPr/>
          <p:nvPr/>
        </p:nvPicPr>
        <p:blipFill>
          <a:blip r:embed="rId1"/>
          <a:stretch/>
        </p:blipFill>
        <p:spPr>
          <a:xfrm>
            <a:off x="2050920" y="1916280"/>
            <a:ext cx="1871640" cy="15062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4356000" y="1861560"/>
            <a:ext cx="16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Тапочк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Ботинк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аленк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бувь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Picture 9" descr="ur4st3_obuv1"/>
          <p:cNvPicPr/>
          <p:nvPr/>
        </p:nvPicPr>
        <p:blipFill>
          <a:blip r:embed="rId2"/>
          <a:stretch/>
        </p:blipFill>
        <p:spPr>
          <a:xfrm>
            <a:off x="6300720" y="1760400"/>
            <a:ext cx="2664000" cy="15512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0"/>
          <p:cNvSpPr/>
          <p:nvPr/>
        </p:nvSpPr>
        <p:spPr>
          <a:xfrm>
            <a:off x="2627280" y="4372560"/>
            <a:ext cx="136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дежд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лать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Рубашк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жинс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уртка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Picture 11" descr="odezda"/>
          <p:cNvPicPr/>
          <p:nvPr/>
        </p:nvPicPr>
        <p:blipFill>
          <a:blip r:embed="rId3"/>
          <a:stretch/>
        </p:blipFill>
        <p:spPr>
          <a:xfrm>
            <a:off x="4788000" y="4221000"/>
            <a:ext cx="206532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914400" y="99072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b5249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Rectangle 30"/>
          <p:cNvSpPr/>
          <p:nvPr/>
        </p:nvSpPr>
        <p:spPr>
          <a:xfrm>
            <a:off x="1476360" y="1062360"/>
            <a:ext cx="63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- А помните, что происходило в сказке о Мойдодыре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«Утюги за сапогами, сапоги за пирогами, пироги за утюгами, кочерга з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кушаком – всё вертится, и кружится, и несётся кувырком»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Picture 31" descr="ur4st3_moj1"/>
          <p:cNvPicPr/>
          <p:nvPr/>
        </p:nvPicPr>
        <p:blipFill>
          <a:blip r:embed="rId1"/>
          <a:stretch/>
        </p:blipFill>
        <p:spPr>
          <a:xfrm>
            <a:off x="3203640" y="3462480"/>
            <a:ext cx="3384360" cy="3120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542960" y="2382840"/>
            <a:ext cx="60580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езентацию подготовила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ь русского языка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литературы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иранова Т.С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373320" y="319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71520" y="1060200"/>
            <a:ext cx="84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Графический диктан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527280" y="198000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684360" y="1452960"/>
            <a:ext cx="820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5b524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Свежий ветер пахнет мятой, васильками, лебедой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Мы желаем всем на свете мира, счастья и тепла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Зазнайство не возвышает, а унижает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Запасами кедровок кормятся и белки, и бурундуки, и мыши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ur4st3_cvety"/>
          <p:cNvPicPr/>
          <p:nvPr/>
        </p:nvPicPr>
        <p:blipFill>
          <a:blip r:embed="rId1"/>
          <a:stretch/>
        </p:blipFill>
        <p:spPr>
          <a:xfrm>
            <a:off x="5364000" y="1052640"/>
            <a:ext cx="3484800" cy="4968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395280" y="1299960"/>
            <a:ext cx="489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от перед нами ряд слов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Колокольчики, ромашки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цветы, одуванчики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Могут ли  все эти слова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являться однородными членами?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19556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219320" y="31240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Picture 6" descr="dom1"/>
          <p:cNvPicPr/>
          <p:nvPr/>
        </p:nvPicPr>
        <p:blipFill>
          <a:blip r:embed="rId1"/>
          <a:stretch/>
        </p:blipFill>
        <p:spPr>
          <a:xfrm>
            <a:off x="5076720" y="1557360"/>
            <a:ext cx="3892680" cy="34336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 flipV="1" rot="10800000">
            <a:off x="1257480" y="1414080"/>
            <a:ext cx="439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Слово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цветы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вмещает в себя и  </a:t>
            </a: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колокольчики, и ромашки, и одуванчики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 Это слово – как будто общий домик для всех остальных слов 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684360" y="3551760"/>
            <a:ext cx="48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c331a"/>
                </a:solidFill>
                <a:latin typeface="Times New Roman"/>
              </a:rPr>
              <a:t>Внимание!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Такой общий домик для однородных членов называется по-научному </a:t>
            </a:r>
            <a:r>
              <a:rPr b="1" lang="ru-RU" sz="2400" spc="-1" strike="noStrike" u="sng">
                <a:solidFill>
                  <a:srgbClr val="1932ed"/>
                </a:solidFill>
                <a:uFillTx/>
                <a:latin typeface="Times New Roman"/>
              </a:rPr>
              <a:t>обобщающим словом</a:t>
            </a:r>
            <a:r>
              <a:rPr b="1" lang="ru-RU" sz="2400" spc="-1" strike="noStrike" u="sng">
                <a:solidFill>
                  <a:srgbClr val="5b5249"/>
                </a:solidFill>
                <a:uFillTx/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Оно действительно обобщает, вмещая в себя все остальные слова.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295280" y="1828800"/>
            <a:ext cx="716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b0928"/>
                </a:solidFill>
                <a:latin typeface="Arial Black"/>
              </a:rPr>
              <a:t>Обобщающие слова при однородных членах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6248520" y="4419720"/>
            <a:ext cx="19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089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О каком знаке препинания </a:t>
            </a:r>
            <a:br>
              <a:rPr sz="4400"/>
            </a:b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дет речь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Я важней, чем запята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Или точка с запято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тому что я в два раз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Больше точки одноглазо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 оба глаза я гляжу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За порядком я слежу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476360" y="1117080"/>
            <a:ext cx="705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Самое интересное, что существуют коротенькие обобщающие слова, которые вмещают в себя самое большое количество однородных членов. Это слова ВСЕ, ВСЁ, ВСЮДУ. НИКТО, НИЧТО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1447920" y="2133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755640" y="111816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 доктору Айболиту приходили лечиться все: и ворона, и лисица, и жучок, и червячок, и медведица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Picture 9" descr="ajbolit"/>
          <p:cNvPicPr/>
          <p:nvPr/>
        </p:nvPicPr>
        <p:blipFill>
          <a:blip r:embed="rId1"/>
          <a:stretch/>
        </p:blipFill>
        <p:spPr>
          <a:xfrm>
            <a:off x="1979640" y="3141720"/>
            <a:ext cx="6697800" cy="2975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веточный город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1773360"/>
            <a:ext cx="7772400" cy="44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В одном сказочном городе жили коротышки. В городе у них было очень красиво. Вокруг каждого дома росли___ маргаритки ромашки одуванчики. Там даже ____ назывались именами ____ улица Колокольчиков аллея Ромашек бульвар Васильков. А сам город назывался Цветочным городом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Лето подходило к концу, и на улицах ____ самые красивые цветы белые хризантемы красные георгины разноцветные астры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6:23:21Z</dcterms:created>
  <dc:creator>Admin</dc:creator>
  <dc:description/>
  <dc:language>en-US</dc:language>
  <cp:lastModifiedBy>matrix</cp:lastModifiedBy>
  <dcterms:modified xsi:type="dcterms:W3CDTF">2017-11-12T11:41:47Z</dcterms:modified>
  <cp:revision>15</cp:revision>
  <dc:subject/>
  <dc:title>Презентация PowerPoint</dc:title>
</cp:coreProperties>
</file>