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5B2-75C2-44A4-9D0C-8CBB8C93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996-2320-479D-BBCF-67E01A3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402-A9DA-4154-8271-EFF4E16E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A4B-0DC2-469B-AA9F-0E573DE0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963-291A-486B-88DD-39E870B2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2702-0BF3-465C-8C35-D581629B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DCCF-2717-45C0-B8F0-E36650F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3048-B5D1-431F-A1EF-721478F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2E8-0471-4C58-9095-B7FBAD4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1518-9FAD-4D57-A0A1-DB1CD1B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92E-74C1-4734-80B8-4E878E2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528-3E84-402F-8128-B451630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769-0334-491C-985C-D2F1369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D9D-0FB9-41D1-B45E-F308027B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A868-9550-441E-9799-BCBC6A3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3FD-E812-4DE2-9A3A-476624B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271A-CBAA-44F5-A06F-679966D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1DC5-8B5C-47B7-929E-EB02973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91A4-EBA2-4360-986C-33DCFC1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1C9F-836A-4DAA-BF81-F97A69D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284C-2B3D-4B9B-A0B2-931B382C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23E2-EFDF-4975-ABD8-8134D39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F32-74A9-44E9-92C4-1502929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8DC6-64FB-40B8-A214-B8E832DD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E006-3FF7-4F30-880B-A809A70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AD3F-1F67-4582-9A18-ED16687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1EB3-8CB7-49EC-A26B-DC91452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329A-7162-43DE-9900-8F6E277A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3414-71AC-422E-8BA5-0C51C901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D2C9-30D9-46C4-A4BF-F858AECA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0C10-0C7B-4930-8A5B-324F1906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ADE8-80E2-4D75-955F-4D3DD23F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951F-9740-4B10-8C92-8FA7056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C88-3822-4781-BFAF-1BA0A40E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6800-80A7-4086-A9D6-A4DB936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8375-8DE0-4BDF-90F3-8C36FA7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0E2E-1FAE-46DE-BCCD-392E96B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A2CD-CB80-4B5D-BFD7-4D3AA79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F18B-2F92-4619-9DEB-619278A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2ED0-E1AA-4C5A-8D32-6A494C4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240E-7B21-4C45-81D4-86D5B20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B88F-B1F0-41CD-A43E-DDF82D3D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ECFE-2812-4C6D-BB53-7FB8F007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9B92-85D7-403F-AD2E-529670A4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4BA-C004-4D5A-8969-DA75581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80CA-1F15-4596-8E83-9EF3A6E9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DD6B-5621-4A23-9E3E-9ECEDB64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7BCD-A64E-4AAA-8525-F96F2E98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2F30-2553-4218-9CE5-BFFA36F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CA0B0-D2F8-4614-A556-7799B2C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0D70-528F-4472-B51E-6754BAD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42D7-7E3F-49BB-AE1B-61B9A25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F0D3-125C-437E-B4EC-A3672D3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763AC-CE4D-428A-9796-60B1C5EC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833B-994E-401F-ACA6-31927894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537-CD5B-4D26-A8C5-F4A109F3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5373-769E-430B-93DD-2292CB4F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14D-22AD-48A6-B484-6DF92B8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9D9-53F3-4290-AAC9-1B01EE3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71B-45AB-4AEF-A678-88FC2B7B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B5F3-FF2A-454E-A9A5-3884A9062E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3C5-7F0F-4489-A2BA-93283A2906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F92E-A046-40B4-A738-C7F7378FA0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EC33-FF8A-4D5F-8427-6EE12B560A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21E-3F02-40CC-B91A-A61B647B03A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28400" y="28548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Евгений Рачёв –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199080" indent="-199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художник-иллюстратор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Picture 2" descr="http://www.playcast.ru/uploads/2016/05/06/18557354.jpg"/>
          <p:cNvPicPr/>
          <p:nvPr/>
        </p:nvPicPr>
        <p:blipFill>
          <a:blip r:embed="rId1"/>
          <a:stretch/>
        </p:blipFill>
        <p:spPr>
          <a:xfrm>
            <a:off x="2643120" y="1785960"/>
            <a:ext cx="3965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428840" y="5929200"/>
            <a:ext cx="3000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Ю.Васнец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2" descr="http://cp14.nevsepic.com.ua/205/20492/thumbs/1385239326-101-9.jpeg"/>
          <p:cNvPicPr/>
          <p:nvPr/>
        </p:nvPicPr>
        <p:blipFill>
          <a:blip r:embed="rId1"/>
          <a:stretch/>
        </p:blipFill>
        <p:spPr>
          <a:xfrm>
            <a:off x="428760" y="357120"/>
            <a:ext cx="3938400" cy="5515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s://ozon-st.cdn.ngenix.net/multimedia/books_covers/1014329566.jpg"/>
          <p:cNvPicPr/>
          <p:nvPr/>
        </p:nvPicPr>
        <p:blipFill>
          <a:blip r:embed="rId2"/>
          <a:stretch/>
        </p:blipFill>
        <p:spPr>
          <a:xfrm>
            <a:off x="4643280" y="357120"/>
            <a:ext cx="4000680" cy="55720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5939640" y="5929200"/>
            <a:ext cx="157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Е. Рачё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s://im0-tub-ru.yandex.net/i?id=59a01eedb79b2718da1444c19854396a-l&amp;n=13"/>
          <p:cNvPicPr/>
          <p:nvPr/>
        </p:nvPicPr>
        <p:blipFill>
          <a:blip r:embed="rId1"/>
          <a:stretch/>
        </p:blipFill>
        <p:spPr>
          <a:xfrm>
            <a:off x="357120" y="214200"/>
            <a:ext cx="2500560" cy="362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im0-tub-ru.yandex.net/i?id=a57566ed633ca51fe33fc44c907f1b75-l&amp;n=13"/>
          <p:cNvPicPr/>
          <p:nvPr/>
        </p:nvPicPr>
        <p:blipFill>
          <a:blip r:embed="rId2"/>
          <a:stretch/>
        </p:blipFill>
        <p:spPr>
          <a:xfrm>
            <a:off x="3071880" y="214200"/>
            <a:ext cx="2438280" cy="3681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https://im0-tub-ru.yandex.net/i?id=9b0c75cbe8221043d2249b1c5487811b-l&amp;n=13"/>
          <p:cNvPicPr/>
          <p:nvPr/>
        </p:nvPicPr>
        <p:blipFill>
          <a:blip r:embed="rId3"/>
          <a:stretch/>
        </p:blipFill>
        <p:spPr>
          <a:xfrm>
            <a:off x="5786280" y="214200"/>
            <a:ext cx="2775240" cy="3714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https://fs00.infourok.ru/images/doc/223/22146/2/img0.jpg"/>
          <p:cNvPicPr/>
          <p:nvPr/>
        </p:nvPicPr>
        <p:blipFill>
          <a:blip r:embed="rId4"/>
          <a:stretch/>
        </p:blipFill>
        <p:spPr>
          <a:xfrm>
            <a:off x="571680" y="400068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https://im0-tub-ru.yandex.net/i?id=85dbf852db271ef858fcdd9ef3002270-l&amp;n=13"/>
          <p:cNvPicPr/>
          <p:nvPr/>
        </p:nvPicPr>
        <p:blipFill>
          <a:blip r:embed="rId5"/>
          <a:stretch/>
        </p:blipFill>
        <p:spPr>
          <a:xfrm>
            <a:off x="4500720" y="4071960"/>
            <a:ext cx="28573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зкультминутка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00680" y="1428480"/>
            <a:ext cx="4929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Шел по берегу Петух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ровалился в ямку. Бух!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Будет знать петух, что впред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до под ноги смотреть!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6" name="Picture 2" descr="http://zolotoypetushok.caduk.ru/images/129210308______4xx__10_.png"/>
          <p:cNvPicPr/>
          <p:nvPr/>
        </p:nvPicPr>
        <p:blipFill>
          <a:blip r:embed="rId1"/>
          <a:stretch/>
        </p:blipFill>
        <p:spPr>
          <a:xfrm>
            <a:off x="285840" y="3071880"/>
            <a:ext cx="35510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Рисуем маленького петуха ребенку"/>
          <p:cNvPicPr/>
          <p:nvPr/>
        </p:nvPicPr>
        <p:blipFill>
          <a:blip r:embed="rId1"/>
          <a:stretch/>
        </p:blipFill>
        <p:spPr>
          <a:xfrm>
            <a:off x="5786280" y="2643120"/>
            <a:ext cx="2840040" cy="297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Рисуем маленького петуха ребенку"/>
          <p:cNvPicPr/>
          <p:nvPr/>
        </p:nvPicPr>
        <p:blipFill>
          <a:blip r:embed="rId2"/>
          <a:stretch/>
        </p:blipFill>
        <p:spPr>
          <a:xfrm>
            <a:off x="500040" y="357120"/>
            <a:ext cx="1714680" cy="224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Рисуем маленького петуха ребенку"/>
          <p:cNvPicPr/>
          <p:nvPr/>
        </p:nvPicPr>
        <p:blipFill>
          <a:blip r:embed="rId3"/>
          <a:stretch/>
        </p:blipFill>
        <p:spPr>
          <a:xfrm>
            <a:off x="2571840" y="428760"/>
            <a:ext cx="1771560" cy="2071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Рисуем маленького петуха ребенку"/>
          <p:cNvPicPr/>
          <p:nvPr/>
        </p:nvPicPr>
        <p:blipFill>
          <a:blip r:embed="rId4"/>
          <a:srcRect l="0" t="-431" r="0" b="0"/>
          <a:stretch/>
        </p:blipFill>
        <p:spPr>
          <a:xfrm>
            <a:off x="4786200" y="428760"/>
            <a:ext cx="1428840" cy="192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Рисуем маленького петуха ребенку"/>
          <p:cNvPicPr/>
          <p:nvPr/>
        </p:nvPicPr>
        <p:blipFill>
          <a:blip r:embed="rId5"/>
          <a:stretch/>
        </p:blipFill>
        <p:spPr>
          <a:xfrm>
            <a:off x="6715080" y="428760"/>
            <a:ext cx="1357200" cy="2004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Рисуем маленького петуха ребенку"/>
          <p:cNvPicPr/>
          <p:nvPr/>
        </p:nvPicPr>
        <p:blipFill>
          <a:blip r:embed="rId6"/>
          <a:stretch/>
        </p:blipFill>
        <p:spPr>
          <a:xfrm>
            <a:off x="357120" y="3286080"/>
            <a:ext cx="1486080" cy="2500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Рисуем маленького петуха ребенку"/>
          <p:cNvPicPr/>
          <p:nvPr/>
        </p:nvPicPr>
        <p:blipFill>
          <a:blip r:embed="rId7"/>
          <a:stretch/>
        </p:blipFill>
        <p:spPr>
          <a:xfrm>
            <a:off x="2286000" y="2714760"/>
            <a:ext cx="2016000" cy="221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Рисуем маленького петуха ребенку"/>
          <p:cNvPicPr/>
          <p:nvPr/>
        </p:nvPicPr>
        <p:blipFill>
          <a:blip r:embed="rId8"/>
          <a:stretch/>
        </p:blipFill>
        <p:spPr>
          <a:xfrm>
            <a:off x="3618000" y="4714920"/>
            <a:ext cx="755640" cy="28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Рисуем маленького петуха ребенку"/>
          <p:cNvPicPr/>
          <p:nvPr/>
        </p:nvPicPr>
        <p:blipFill>
          <a:blip r:embed="rId9"/>
          <a:stretch/>
        </p:blipFill>
        <p:spPr>
          <a:xfrm>
            <a:off x="3643200" y="4583160"/>
            <a:ext cx="2071800" cy="2274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Рисуем маленького петуха ребенку"/>
          <p:cNvPicPr/>
          <p:nvPr/>
        </p:nvPicPr>
        <p:blipFill>
          <a:blip r:embed="rId10"/>
          <a:stretch/>
        </p:blipFill>
        <p:spPr>
          <a:xfrm>
            <a:off x="5072040" y="6715080"/>
            <a:ext cx="7556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571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олотой гребешок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асляна головушка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Шелкова бородушка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Что ты рано встаешь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олосисто поешь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ане спать не даеш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0040" y="571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олотой гребешок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асляна головушка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Шелкова бородушка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Что ты рано встаешь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олосисто поешь,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ане спать не даеш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0" name="Picture 2" descr="http://zolotoypetushok.caduk.ru/images/129210308______4xx__10_.png"/>
          <p:cNvPicPr/>
          <p:nvPr/>
        </p:nvPicPr>
        <p:blipFill>
          <a:blip r:embed="rId1"/>
          <a:stretch/>
        </p:blipFill>
        <p:spPr>
          <a:xfrm>
            <a:off x="4429080" y="2214720"/>
            <a:ext cx="41436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ема урока:</a:t>
            </a:r>
            <a:br>
              <a:rPr sz="4000"/>
            </a:b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тушок – золотой гребешок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ема урока:</a:t>
            </a:r>
            <a:br>
              <a:rPr sz="4000"/>
            </a:b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етушок – золотой гребешок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Цель: 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аучиться рисовать сказочного петушк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s://doc4web.ru/uploads/files/8/7777/hello_html_35d0802c.jpg"/>
          <p:cNvPicPr/>
          <p:nvPr/>
        </p:nvPicPr>
        <p:blipFill>
          <a:blip r:embed="rId1"/>
          <a:stretch/>
        </p:blipFill>
        <p:spPr>
          <a:xfrm>
            <a:off x="285840" y="285840"/>
            <a:ext cx="3929040" cy="3003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illustrators.ru/uploads/illustration/image/89721/main_89721_original.jpg"/>
          <p:cNvPicPr/>
          <p:nvPr/>
        </p:nvPicPr>
        <p:blipFill>
          <a:blip r:embed="rId2"/>
          <a:stretch/>
        </p:blipFill>
        <p:spPr>
          <a:xfrm>
            <a:off x="4857840" y="285840"/>
            <a:ext cx="4000320" cy="292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mycalend.ru/media/uploads/2012-11-27/2.jpg"/>
          <p:cNvPicPr/>
          <p:nvPr/>
        </p:nvPicPr>
        <p:blipFill>
          <a:blip r:embed="rId3"/>
          <a:stretch/>
        </p:blipFill>
        <p:spPr>
          <a:xfrm>
            <a:off x="285840" y="3571920"/>
            <a:ext cx="4008240" cy="273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yavix.ru/i/1/2/b/dfdd78f925b258eefa6f1e6d20b7e.jpg"/>
          <p:cNvPicPr/>
          <p:nvPr/>
        </p:nvPicPr>
        <p:blipFill>
          <a:blip r:embed="rId4"/>
          <a:stretch/>
        </p:blipFill>
        <p:spPr>
          <a:xfrm>
            <a:off x="4525920" y="3643200"/>
            <a:ext cx="43038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786480" cy="4797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Иллюстрация 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– рисунок, картинка, фотография к сказке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https://cs3.livemaster.ru/zhurnalfoto/0/a/8/141127134329.jpeg"/>
          <p:cNvPicPr/>
          <p:nvPr/>
        </p:nvPicPr>
        <p:blipFill>
          <a:blip r:embed="rId1"/>
          <a:stretch/>
        </p:blipFill>
        <p:spPr>
          <a:xfrm>
            <a:off x="4643280" y="500040"/>
            <a:ext cx="4096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Юрий Васнецов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художник-иллюстратор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4" descr="http://bigslide.ru/images/27/26680/960/img8.jpg"/>
          <p:cNvPicPr/>
          <p:nvPr/>
        </p:nvPicPr>
        <p:blipFill>
          <a:blip r:embed="rId1"/>
          <a:stretch/>
        </p:blipFill>
        <p:spPr>
          <a:xfrm>
            <a:off x="2857680" y="1428840"/>
            <a:ext cx="37684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8840" y="5929200"/>
            <a:ext cx="3000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Ю.Васнец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http://cp14.nevsepic.com.ua/205/20492/thumbs/1385239326-101-9.jpeg"/>
          <p:cNvPicPr/>
          <p:nvPr/>
        </p:nvPicPr>
        <p:blipFill>
          <a:blip r:embed="rId1"/>
          <a:stretch/>
        </p:blipFill>
        <p:spPr>
          <a:xfrm>
            <a:off x="428760" y="357120"/>
            <a:ext cx="39384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ульфия Шарипова</dc:creator>
  <dc:description/>
  <dc:language>en-US</dc:language>
  <cp:lastModifiedBy>2016</cp:lastModifiedBy>
  <dcterms:modified xsi:type="dcterms:W3CDTF">2018-01-27T05:21:56Z</dcterms:modified>
  <cp:revision>74</cp:revision>
  <dc:subject/>
  <dc:title>Слайд 1</dc:title>
</cp:coreProperties>
</file>