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5E67-AECA-41E2-B525-1B3C55A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DD38-3F52-4BA4-B4A3-D082A277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8B17-5918-49D2-A210-5DF8C24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259D-5F98-4711-B018-A2CB1B20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0BAF-A27C-4DA4-9E7A-C2C39761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9F8-3BF5-4FA3-A8F4-80D0680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9D7-A431-4BF5-B37A-82E6CCC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EF50-A9BC-40C9-8E7C-4E33489F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B52-32E0-4FC6-A6FD-FC5CF7D2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5EE-886C-4272-98D2-7017721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993F-613C-45AB-A9C9-A55249E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152A-5881-4321-B42C-F39E8DC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89EC-BA05-41E7-BB4B-B6D1A79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474-BF2F-4924-B4F5-689AF21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8D11-F4B6-4E04-8A2D-F11509D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0EA-9AEC-4DEF-A6E9-B37BF43D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044-E1EF-4C08-A398-CEDBCA4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187E-FE3D-45E4-B90C-E6C74E5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96E8-B095-4D09-93C0-D4A4718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4815-CE44-4DD8-82D0-54E07F0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80C1-21B5-4CB2-B940-7056F21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6239-B8CB-450F-A61F-232C7B7B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714F-E21A-477F-A7C2-162C678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A2AA-089B-463A-99C8-84AE521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80A-4653-42A1-AE87-0F1A55E9FC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6096-53E0-47CF-A9F6-9B71F4BED9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91;&#1081;&#1089;&#1082;&#1080;&#1077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699920"/>
            <a:ext cx="62276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равление Василия  Шуйског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www.the-submarine.ru/images/topics/photos/b/2015/02/2133_1_1423982441_515.png"/>
          <p:cNvPicPr/>
          <p:nvPr/>
        </p:nvPicPr>
        <p:blipFill>
          <a:blip r:embed="rId1"/>
          <a:stretch/>
        </p:blipFill>
        <p:spPr>
          <a:xfrm>
            <a:off x="324000" y="1035000"/>
            <a:ext cx="3448080" cy="417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395280" y="1268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ыл коронован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1 июня 1606 года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овгородским митрополитом Исид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://www.imha.ru/uploads/posts/2013-12/1386917133_uspenskiy-sobor.jpg"/>
          <p:cNvPicPr/>
          <p:nvPr/>
        </p:nvPicPr>
        <p:blipFill>
          <a:blip r:embed="rId1"/>
          <a:srcRect l="25751" t="0" r="0" b="0"/>
          <a:stretch/>
        </p:blipFill>
        <p:spPr>
          <a:xfrm>
            <a:off x="4284720" y="3068640"/>
            <a:ext cx="4191120" cy="2305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i.calameoassets.com/170306115901-5f4643d0c63c6d865562d3091c289947/large.jpg"/>
          <p:cNvPicPr/>
          <p:nvPr/>
        </p:nvPicPr>
        <p:blipFill>
          <a:blip r:embed="rId2"/>
          <a:stretch/>
        </p:blipFill>
        <p:spPr>
          <a:xfrm>
            <a:off x="826920" y="2492280"/>
            <a:ext cx="285768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19640" y="1196640"/>
            <a:ext cx="59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асилий Иванович да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рестоцеловальную запись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 ограничивавшую его вла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- не казнить без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- не слушать дон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- не отнимать имущество у родственников осужд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Василий Шуйский"/>
          <p:cNvPicPr/>
          <p:nvPr/>
        </p:nvPicPr>
        <p:blipFill>
          <a:blip r:embed="rId1"/>
          <a:stretch/>
        </p:blipFill>
        <p:spPr>
          <a:xfrm>
            <a:off x="179280" y="1484280"/>
            <a:ext cx="307512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Шуйский (1606 - 16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507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обился объявления царевича Дмитрия святым мучен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1606 – 1607 гг.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 – восстание Ивана Болотни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Василий Шуйский"/>
          <p:cNvPicPr/>
          <p:nvPr/>
        </p:nvPicPr>
        <p:blipFill>
          <a:blip r:embed="rId1"/>
          <a:stretch/>
        </p:blipFill>
        <p:spPr>
          <a:xfrm>
            <a:off x="0" y="836640"/>
            <a:ext cx="417204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859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вгусте 1607 год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а смену Болотникову пришёл новый претендент на престол — Лжедмитрий II. Царские войска были разбиты под Болховом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 мая 1608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). Царь со своим правительством был заперт в Москве; под её стенами возникла альтернативная столица со своей правительственной иерархией — Тушинский лаг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Лжедмитрий 2"/>
          <p:cNvPicPr/>
          <p:nvPr/>
        </p:nvPicPr>
        <p:blipFill>
          <a:blip r:embed="rId1"/>
          <a:stretch/>
        </p:blipFill>
        <p:spPr>
          <a:xfrm>
            <a:off x="4809960" y="0"/>
            <a:ext cx="4334040" cy="6093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4643280" y="5805360"/>
            <a:ext cx="4500720" cy="1052640"/>
          </a:xfrm>
          <a:prstGeom prst="rect">
            <a:avLst/>
          </a:prstGeom>
          <a:solidFill>
            <a:srgbClr val="f4f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Михаил Молч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1920" y="1125000"/>
            <a:ext cx="4941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 концу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08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уйский не контролировал многие регионы страны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боргский тракта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чал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09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ещал территориальные уступки шведской короне в обмен на вооружённую помощь царскому правительст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мандование русско-шведской армией принял на себя князь М. В. Скопин-Шуйский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http://s017.radikal.ru/i439/1602/d7/096d5354a969.jpg"/>
          <p:cNvPicPr/>
          <p:nvPr/>
        </p:nvPicPr>
        <p:blipFill>
          <a:blip r:embed="rId1"/>
          <a:stretch/>
        </p:blipFill>
        <p:spPr>
          <a:xfrm>
            <a:off x="139680" y="1141560"/>
            <a:ext cx="40575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63640" y="1125000"/>
            <a:ext cx="3813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2 марта 1610 г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.В. Скопин-Шуйский торжественно вступил в Москву. В нем видели наследник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.И. Шу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незапно воевода умер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Москве считали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его отравил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жена царского брата Дмитрия Шуйского – дочь Малюты Скурат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Въезд войск Скопина-Шуйского в Москву"/>
          <p:cNvPicPr/>
          <p:nvPr/>
        </p:nvPicPr>
        <p:blipFill>
          <a:blip r:embed="rId1"/>
          <a:stretch/>
        </p:blipFill>
        <p:spPr>
          <a:xfrm>
            <a:off x="0" y="981000"/>
            <a:ext cx="53640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М"/>
          <p:cNvPicPr/>
          <p:nvPr/>
        </p:nvPicPr>
        <p:blipFill>
          <a:blip r:embed="rId2"/>
          <a:stretch/>
        </p:blipFill>
        <p:spPr>
          <a:xfrm>
            <a:off x="0" y="2781360"/>
            <a:ext cx="536400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5520" y="1052640"/>
            <a:ext cx="8988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ентябре 1609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пределы России вторгся польско-литовский король Сигизмунд III, осадивший Смолен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ражение войск Дмитрия Шуйского под Клушином от армии Сигизмунд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 июля 1610 года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и восстание в Москве привели к падению Шуй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http://quick-news.pro/wp-content/uploads/2016/07/SHturm-Smolenska.jpg"/>
          <p:cNvPicPr/>
          <p:nvPr/>
        </p:nvPicPr>
        <p:blipFill>
          <a:blip r:embed="rId1"/>
          <a:stretch/>
        </p:blipFill>
        <p:spPr>
          <a:xfrm>
            <a:off x="4516560" y="3789360"/>
            <a:ext cx="4390920" cy="28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://diletant.media/upload/iblock/dea/dea3dcf0ad04a49714ef529f89a39772.jpg"/>
          <p:cNvPicPr/>
          <p:nvPr/>
        </p:nvPicPr>
        <p:blipFill>
          <a:blip r:embed="rId2"/>
          <a:stretch/>
        </p:blipFill>
        <p:spPr>
          <a:xfrm>
            <a:off x="138240" y="4437000"/>
            <a:ext cx="412596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179280" y="116676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7 июля 1610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астью боярства, столичного и провинциального дворянства  Василий IV Иоаннович был свергнут с престола и насильственно пострижен в монахи, причём отказался сам произносить монашеские об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ote4estvo.ru/uploads/1389612850_106560844_11.jpg"/>
          <p:cNvPicPr/>
          <p:nvPr/>
        </p:nvPicPr>
        <p:blipFill>
          <a:blip r:embed="rId1"/>
          <a:stretch/>
        </p:blipFill>
        <p:spPr>
          <a:xfrm>
            <a:off x="2268360" y="341460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3276720" y="1166760"/>
            <a:ext cx="56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ентябре 1610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н был выдан (не как монах, а в мирской одежде) польскому гетману Жолкевскому, который вывез его и его братьев Дмитрия и Ивана в октябре под Смоленск, а позднее в Польшу. В Варшаве царь и его братья были представлены как пленники королю Сигизмунду и принесли ему торжественную прися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:\Users\Альберт\Desktop\200px-Stanisław_Żółkiewski_11.PNG"/>
          <p:cNvPicPr/>
          <p:nvPr/>
        </p:nvPicPr>
        <p:blipFill>
          <a:blip r:embed="rId1"/>
          <a:stretch/>
        </p:blipFill>
        <p:spPr>
          <a:xfrm>
            <a:off x="282600" y="1628640"/>
            <a:ext cx="2835360" cy="3672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429120" y="558972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етман Жолк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7d"/>
                </a:solidFill>
                <a:latin typeface="Arial"/>
              </a:rPr>
              <a:t>Бывший царь умер </a:t>
            </a:r>
            <a:r>
              <a:rPr b="1" lang="ru-RU" sz="2900" spc="-1" strike="noStrike">
                <a:solidFill>
                  <a:srgbClr val="c00000"/>
                </a:solidFill>
                <a:latin typeface="Arial"/>
              </a:rPr>
              <a:t>22 сентября 1612 года </a:t>
            </a:r>
            <a:r>
              <a:rPr b="1" lang="ru-RU" sz="2900" spc="-1" strike="noStrike">
                <a:solidFill>
                  <a:srgbClr val="00007d"/>
                </a:solidFill>
                <a:latin typeface="Arial"/>
              </a:rPr>
              <a:t>в заключении в Гостынинском замке, в 130 верстах от Варшавы, через несколько дней там же умер его брат Дмитрий. Третий брат, Иван Иванович Шуйский, впоследствии вернулся в Россию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:\Users\Альберт\Desktop\1de1541e5a4935935bd898d41cc8edb1_i-208.jpg"/>
          <p:cNvPicPr/>
          <p:nvPr/>
        </p:nvPicPr>
        <p:blipFill>
          <a:blip r:embed="rId1"/>
          <a:stretch/>
        </p:blipFill>
        <p:spPr>
          <a:xfrm>
            <a:off x="4189320" y="3213000"/>
            <a:ext cx="462456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410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Русский ц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c 29 мая 1606 по 29 июля 1610 годы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едставитель княжеского рода Шуйских (суздальская ветвь Рюриковичей). После низложения жил в плену у поляков. Последний представитель рода Рюриковичей на российском пре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Василий Шуйский"/>
          <p:cNvPicPr/>
          <p:nvPr/>
        </p:nvPicPr>
        <p:blipFill>
          <a:blip r:embed="rId1"/>
          <a:stretch/>
        </p:blipFill>
        <p:spPr>
          <a:xfrm>
            <a:off x="0" y="1413000"/>
            <a:ext cx="362592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79640" y="691920"/>
            <a:ext cx="4679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635 году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о просьбе царя Михаила Фёдоровича Романова останки Василия Шуйского были возвращены поляками в Россию. Василия погребли в Архангельском соборе Московского Кр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Альберт\Desktop\DEOBf0xtRyAT_mikhail-romanov.jpg"/>
          <p:cNvPicPr/>
          <p:nvPr/>
        </p:nvPicPr>
        <p:blipFill>
          <a:blip r:embed="rId1"/>
          <a:stretch/>
        </p:blipFill>
        <p:spPr>
          <a:xfrm>
            <a:off x="307800" y="1052640"/>
            <a:ext cx="3289320" cy="438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http://okoguide.com/upload/img/big/MOS_93_1.jpg"/>
          <p:cNvPicPr/>
          <p:nvPr/>
        </p:nvPicPr>
        <p:blipFill>
          <a:blip r:embed="rId2"/>
          <a:stretch/>
        </p:blipFill>
        <p:spPr>
          <a:xfrm>
            <a:off x="3924360" y="3429000"/>
            <a:ext cx="504036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Василий Иванович Шуй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асилий Шуйский был правителем, который правил в один из самых трудных периодов в Истории нашего государства. Возможно именно поэтому его правление было очень скоротечным и менее плодотворным. Но все равно он сум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лож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ач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ля борьбы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ль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нтервенцией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поху Сму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ages.aif.ru/003/886/50454b5c3c3b994efd6070a43ae2b17e.jpg"/>
          <p:cNvPicPr/>
          <p:nvPr/>
        </p:nvPicPr>
        <p:blipFill>
          <a:blip r:embed="rId1"/>
          <a:stretch/>
        </p:blipFill>
        <p:spPr>
          <a:xfrm>
            <a:off x="3419640" y="3278160"/>
            <a:ext cx="543708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9520" y="907920"/>
            <a:ext cx="53341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одился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2 сентября 1552 г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, Москва, Русское ц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Умер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2 сентября 1612 г.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(59 лет), Гостынин, Речь Посполи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В браке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 Елена Михайловна Репнина, Мария Петровна Буйносова-Росто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одители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Иван Андреевич Шуйский, Анна Фе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Дети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Анастасия и Анн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(ум. в младенчест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school.edu.ru/UploadedFiles/Image/N7246B2BFAC6941F6BA8D743CA2541D4C.jpg"/>
          <p:cNvPicPr/>
          <p:nvPr/>
        </p:nvPicPr>
        <p:blipFill>
          <a:blip r:embed="rId1"/>
          <a:stretch/>
        </p:blipFill>
        <p:spPr>
          <a:xfrm>
            <a:off x="0" y="134136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67280" y="1169640"/>
            <a:ext cx="489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т правитель был венчан на царствование в итоге заговора Лжедмитрия Первого. Также Василия историки часто называют «боярским князем». Влиятельный клан Шуйских был представлен при дворе не только Василием, но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раткая биография Василия Шуйского"/>
          <p:cNvPicPr/>
          <p:nvPr/>
        </p:nvPicPr>
        <p:blipFill>
          <a:blip r:embed="rId1"/>
          <a:stretch/>
        </p:blipFill>
        <p:spPr>
          <a:xfrm>
            <a:off x="179280" y="1484280"/>
            <a:ext cx="3767400" cy="3735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179280" y="5519880"/>
            <a:ext cx="8569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го братьями – Андреем, Дмитрием и Иваном Пуго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179280" y="120816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84 год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оярин и глава Московской судной пал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похода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74, 1576, 1577 и 1579 гг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ында (знаменосец)  с большим сайдаком (набор конного лучни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етом 1581 год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евода Большого полка в походе к Серпух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июля 1582 год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евода Большого полка в походе к Новгороду при брате Андр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 апреле 1583 года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евода полка правой руки в походе к Серпух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85 – 1587 гг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евода смолен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86 году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неизвестным причинам был в непродолжительной ссы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4067280" y="1628640"/>
            <a:ext cx="460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о время преследования 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Шуйски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 Годуновым с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58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ходился в ссылке в Галич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591 году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орис Годунов, уже не видя опасности в Шуйских, возвращает их в Москв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onhistory.ru/uploads/posts/2017-07/1501486639_boris.jpg"/>
          <p:cNvPicPr/>
          <p:nvPr/>
        </p:nvPicPr>
        <p:blipFill>
          <a:blip r:embed="rId2"/>
          <a:stretch/>
        </p:blipFill>
        <p:spPr>
          <a:xfrm>
            <a:off x="179280" y="1268280"/>
            <a:ext cx="36673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4000" y="1393560"/>
            <a:ext cx="51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91 году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ёл следствие по делу царевича Дмитрия. Будучи под строгим надзором Годунова, Шуйский признал причиной смерти царевича самоубийство, несчастный случай. С этого же года вновь введён в Боярскую ду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этого был воеводой новгородским. Первый воевода полка правой руки в армии Мстиславского в Крымском походе к Серпухову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598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vmestemir.ru/uploads/pravoslaviye/iconi/svyatyye/Dimitriy-Uglichskiy.jpg"/>
          <p:cNvPicPr/>
          <p:nvPr/>
        </p:nvPicPr>
        <p:blipFill>
          <a:blip r:embed="rId1"/>
          <a:stretch/>
        </p:blipFill>
        <p:spPr>
          <a:xfrm>
            <a:off x="155520" y="1268280"/>
            <a:ext cx="3286080" cy="480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324000" y="134136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января 1605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значен воеводой полка правой руки в походе против Лжедмитрия, и в битве при Добрыничах одержал победу. Однако, не сильно желая победы Годунова, бездействием дал усилиться самозван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сле смерти Годунова пытался осуществить переворот, однако был арестован и сослан вместе с братьями. Но Лжедмитрий нуждался в боярской поддержке, и в конц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05 г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Шуйские вернулись в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асилий Иванович Шу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5019840" y="1549440"/>
            <a:ext cx="413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ходе вооружённого народного бунт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7 мая 1606 года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, организованного Василием Шуйским, Лжедмитрий I был убит, 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9 мая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группа приверженцев Василия Ивановича «выкликнула» Шуйского царё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Последние минуты жизни Лжедмитрийя 1"/>
          <p:cNvPicPr/>
          <p:nvPr/>
        </p:nvPicPr>
        <p:blipFill>
          <a:blip r:embed="rId1"/>
          <a:stretch/>
        </p:blipFill>
        <p:spPr>
          <a:xfrm>
            <a:off x="468360" y="1484280"/>
            <a:ext cx="416088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0:00:02Z</dcterms:created>
  <dc:creator>Андрей</dc:creator>
  <dc:description/>
  <dc:language>en-US</dc:language>
  <cp:lastModifiedBy>Пользователь</cp:lastModifiedBy>
  <dcterms:modified xsi:type="dcterms:W3CDTF">2018-01-27T06:53:21Z</dcterms:modified>
  <cp:revision>61</cp:revision>
  <dc:subject/>
  <dc:title>Слайд 1</dc:title>
</cp:coreProperties>
</file>