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CBE7-13ED-498C-BE05-CB85BD72AD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38B9-47BF-4944-B653-55B5DD43AD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588B-8DF6-42F0-9381-10D0D8ECCF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2C45-BB6E-458F-BB06-AA2E94C1F2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95E0-20D2-4054-9DD4-E60F848AB12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574A-58B3-4AE6-8F9B-EBD377F024C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69B1-1916-4304-ABB5-6514AE2ED0F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07C1-FAF1-417A-A2C4-97F992200FC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60F-DE4A-44D5-82F3-D7BF3B62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01B-9299-40C5-BFBD-9460AB39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FBC-6F1B-4B24-914A-CD9B9909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1A8-AE65-4A2A-873A-9D409F96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EE7-6F8E-45DD-AE7E-9D07E580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79D-EBAF-4FCE-A450-F103F5A6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CCD-6D65-41B9-8AAC-A7DEE34F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69A-2959-43FD-BF2E-C0AB5430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A03-8585-4ED3-BF2E-6C8553D1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54C-6B39-4376-A89A-BB352EA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B1A-5630-4E6F-8A56-C00AF5E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0E5-8AEF-48F1-B087-D55A6AC6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000C-1AB8-45E7-810B-421972792B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4360" y="-85392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6" descr=""/>
          <p:cNvPicPr/>
          <p:nvPr/>
        </p:nvPicPr>
        <p:blipFill>
          <a:blip r:embed="rId2"/>
          <a:stretch/>
        </p:blipFill>
        <p:spPr>
          <a:xfrm>
            <a:off x="-622440" y="1884240"/>
            <a:ext cx="8498160" cy="549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АУТИНКА ПРОЕКТА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8504280" cy="683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ЛАН ОСУЩЕСТВЛЕНИЯ ПРОЕКТА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(ОСНОВНОЙ ЭТАП)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479600"/>
          <a:ext cx="8229600" cy="4397400"/>
        </p:xfrm>
        <a:graphic>
          <a:graphicData uri="http://schemas.openxmlformats.org/drawingml/2006/table">
            <a:tbl>
              <a:tblPr/>
              <a:tblGrid>
                <a:gridCol w="1593720"/>
                <a:gridCol w="2664000"/>
                <a:gridCol w="1977840"/>
                <a:gridCol w="1994040"/>
              </a:tblGrid>
              <a:tr h="4269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жимные моме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вместная работа педагога с деть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вместная работа родителей с деть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вободная творческая деятельность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826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Утр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Великая Отечественная войн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ая работа: заучивание стихотворений для участия в празднике «9 Ма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 в подборе иллюстрац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каз «Родственники  участвовавшие в ВО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исование, сюжетно ролевые игры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826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Непосредственно образовательная деятельно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волы Победы - ордена, медали и знамена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 мультфильмов о патриотизм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произведения о Великой отечественной Войн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руирование  из разных видов конструкторов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Прогул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блюдение за природой, сравнение состоянии природы сейчас и описанию какая погода была в мае 1941 год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седы с детьми о ВОВ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южетно-ролевые игры по тем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5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Вторая половина дн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сказки Ю.Я.Яковлев «Как Сережа на войну ходил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комендуется сходить в детскую библиотек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ЕДВАРИТЕЛЬНАЯ РАБОТА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Знакомство с литературными произведениями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смотр мультфильма с детьми «Солдатская сказка» по сказке К.Паустовского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смотр мультфильма с родителями «Сильные духом крепче стены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Слушание музыкальных произведений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Марш защитников Москвы» А.Сурков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инута молчания,«Катюша» М.Блантер,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Священная война» А.Александров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Ах, война, что ты, подлая, сделала» Б.Окуджав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Работа на занятиях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еп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исова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глазами детей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428616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3"/>
          <a:stretch/>
        </p:blipFill>
        <p:spPr>
          <a:xfrm>
            <a:off x="2195640" y="3657600"/>
            <a:ext cx="4876560" cy="3300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0" y="-126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549000"/>
            <a:ext cx="8713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формационно­-практико­-ориентированны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УЧАСТНИКОВ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лективны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ДОЛЖИТЕЛЬНОСТИ: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реднесрочный (3 недели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ети старшей группы, родители воспитанников, музыкальный руководитель, воспитател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6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ПРОЕК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Савельева И.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астер-класс «Гвоздика-символ Победы!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Объект 4" descr="Фото2093"/>
          <p:cNvPicPr/>
          <p:nvPr/>
        </p:nvPicPr>
        <p:blipFill>
          <a:blip r:embed="rId1"/>
          <a:stretch/>
        </p:blipFill>
        <p:spPr>
          <a:xfrm>
            <a:off x="179280" y="1268280"/>
            <a:ext cx="3961080" cy="2952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Фото2097"/>
          <p:cNvPicPr/>
          <p:nvPr/>
        </p:nvPicPr>
        <p:blipFill>
          <a:blip r:embed="rId2"/>
          <a:stretch/>
        </p:blipFill>
        <p:spPr>
          <a:xfrm>
            <a:off x="4417920" y="1300320"/>
            <a:ext cx="4281480" cy="28494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Фото2103"/>
          <p:cNvPicPr/>
          <p:nvPr/>
        </p:nvPicPr>
        <p:blipFill>
          <a:blip r:embed="rId3"/>
          <a:stretch/>
        </p:blipFill>
        <p:spPr>
          <a:xfrm>
            <a:off x="2195640" y="32004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аздник «9 мая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Рисунок 4" descr="SAM_0276"/>
          <p:cNvPicPr/>
          <p:nvPr/>
        </p:nvPicPr>
        <p:blipFill>
          <a:blip r:embed="rId1"/>
          <a:stretch/>
        </p:blipFill>
        <p:spPr>
          <a:xfrm>
            <a:off x="0" y="1341360"/>
            <a:ext cx="3174840" cy="2921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SAM_0278 - копия"/>
          <p:cNvPicPr/>
          <p:nvPr/>
        </p:nvPicPr>
        <p:blipFill>
          <a:blip r:embed="rId2"/>
          <a:stretch/>
        </p:blipFill>
        <p:spPr>
          <a:xfrm>
            <a:off x="1835280" y="1341360"/>
            <a:ext cx="3673440" cy="2948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SAM_0313"/>
          <p:cNvPicPr/>
          <p:nvPr/>
        </p:nvPicPr>
        <p:blipFill>
          <a:blip r:embed="rId3"/>
          <a:stretch/>
        </p:blipFill>
        <p:spPr>
          <a:xfrm>
            <a:off x="5508720" y="1341360"/>
            <a:ext cx="3635280" cy="29480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SAM_0317"/>
          <p:cNvPicPr/>
          <p:nvPr/>
        </p:nvPicPr>
        <p:blipFill>
          <a:blip r:embed="rId4"/>
          <a:stretch/>
        </p:blipFill>
        <p:spPr>
          <a:xfrm>
            <a:off x="0" y="4262400"/>
            <a:ext cx="3859200" cy="2643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SAM_0338"/>
          <p:cNvPicPr/>
          <p:nvPr/>
        </p:nvPicPr>
        <p:blipFill>
          <a:blip r:embed="rId5"/>
          <a:stretch/>
        </p:blipFill>
        <p:spPr>
          <a:xfrm>
            <a:off x="3859200" y="4289400"/>
            <a:ext cx="3059280" cy="2600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SAM_0358"/>
          <p:cNvPicPr/>
          <p:nvPr/>
        </p:nvPicPr>
        <p:blipFill>
          <a:blip r:embed="rId6"/>
          <a:stretch/>
        </p:blipFill>
        <p:spPr>
          <a:xfrm>
            <a:off x="6932520" y="4295880"/>
            <a:ext cx="2197080" cy="2566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скурси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 мемориальный комплекс «Героям Северного фаса Курской дуги»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7" descr="SAM_0397"/>
          <p:cNvPicPr/>
          <p:nvPr/>
        </p:nvPicPr>
        <p:blipFill>
          <a:blip r:embed="rId1"/>
          <a:stretch/>
        </p:blipFill>
        <p:spPr>
          <a:xfrm>
            <a:off x="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SAM_0398"/>
          <p:cNvPicPr/>
          <p:nvPr/>
        </p:nvPicPr>
        <p:blipFill>
          <a:blip r:embed="rId2"/>
          <a:stretch/>
        </p:blipFill>
        <p:spPr>
          <a:xfrm>
            <a:off x="3686040" y="2743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6" descr="SAM_0401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SAM_0405"/>
          <p:cNvPicPr/>
          <p:nvPr/>
        </p:nvPicPr>
        <p:blipFill>
          <a:blip r:embed="rId2"/>
          <a:stretch/>
        </p:blipFill>
        <p:spPr>
          <a:xfrm>
            <a:off x="0" y="3068640"/>
            <a:ext cx="507672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0" y="17002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2"/>
          <a:stretch/>
        </p:blipFill>
        <p:spPr>
          <a:xfrm>
            <a:off x="4356000" y="31878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частие в шестви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Бессмертный полк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ультфильмы для просмот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Солдатская сказка (1983)" descr=""/>
          <p:cNvPicPr/>
          <p:nvPr/>
        </p:nvPicPr>
        <p:blipFill>
          <a:blip r:embed="rId1"/>
          <a:stretch/>
        </p:blipFill>
        <p:spPr>
          <a:xfrm>
            <a:off x="993600" y="933480"/>
            <a:ext cx="71568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Мультфильм про Великую отечественную войну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70580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пасибо за внимание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БЛЕМА: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ать представления о ВОВ детям 5-6 лет: событиях, фактах, подвигах советских солдат, сформировать такие понятия, как «ветераны», «оборона», «захватчики», «фашистская Германия»;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расширить знания детей об истории нашей стра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УАЛЬНОСТЬ ТЕМЫ: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Историческое значение каждого русского человека измеряется его заслугами Родине, его человеческое достоинство — силою его патриотизма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Чернышевский Н. Г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тановление гражданского общества и правового государства в нашей стране во многом зависит от уровня гражданского образования и патриотического воспитания. Поэтому в настоящее время вопрос о патриотическом воспитании в дошкольных учреждениях стал особо актуален, так как сегодня государство стремится возвратить утерянные ценности. Понятие «патриотизм» включает в себя любовь к Родине, к земле, где родился и вырос, гордость за исторические свершения народ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oup 2" descr=""/>
          <p:cNvPicPr/>
          <p:nvPr/>
        </p:nvPicPr>
        <p:blipFill>
          <a:blip r:embed="rId1"/>
          <a:stretch/>
        </p:blipFill>
        <p:spPr>
          <a:xfrm>
            <a:off x="201600" y="255600"/>
            <a:ext cx="8656560" cy="6346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спитание гражданских чувств, чувства любви к Родине, родному краю. Повышение интереса к истории своей страны. Воспитание чувства гордости и сопричастности к наследию своих предк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ать представление о значении Победы нашего народа в Великой Отечественной войне; познакомить с историческими фактами военных лет; формировать у детей гражданскую позицию, чувство любви к Родине; воспитывать  уважение к заслугам и подвигам воинов Великой Отечественной вой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АПЫ РЕАЛИЗАЦИИ ПРОЕК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раскрывает проблему, вхождение детей в проект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звать положительный отклик родителей н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ющую проблему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ЛАНИРОВАНИЕ ДЕЯТЕЛЬНОСТИ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еды: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«Великая Отечественная война»,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«Парад Победы. В каком городе проходил первый Парад Победы?», «Великие битвы», «Родственники, участники ВОВ»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</a:rPr>
              <a:t>Сюжетно-ролевые игры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 «Мы военные», «Праздник в семье», «Моряки», «Пограничники»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ие :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«Как называется военный…», «Узнай и назови боевую технику ВОВ»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вижные игры: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«Доставь донесение», «Сбей самолет», «Сигнальщики», «Самый ловкий и быстрый», «Самый меткий». Игры – эстафеты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Д (познавательное развитие):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«Символы Победы - ордена, медали и знамена»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Д (художественно – эстетическое развитие):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онкурс рисунков «День Победы»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-коммуникативное развитие: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смотр мультфильма с детьми «Солдатская сказка» по сказке К.Паустовского. Просмотр мультфильма с родителями «Сильные духом крепче стены»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ушанье музыкальных произведений: </a:t>
            </a: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Марш защитников Москвы» А.Сурков, Минута молчания,«Катюша» М.Блантер,  «Священная война» А.Александров, «Ах, война, что ты, подлая, сделала» Б.Окуджавы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Оформление группы к празднику. Оформление выставки рисунков.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учивание игр, стихотворений, участие продуктивной деятельности, поиск с родителями  новых знаний  и подготовка сообщен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бор информации, материала о Великой Отечественной Войне (песни, стихи, плакаты, показ настоящих наград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ссматривание плакатов военных лет, фотографий, иллюстрац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ультации: «Как рассказывать детям о войне.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в создании работ на тему: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Родственники, участники ВОВ»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 в создании атрибут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ие в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мастер-класс на тему: «Гвоздика-символ Победы!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ЛЮЧИТЕЛЬНЫ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ПО ПРОЕКТУ: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Все мероприятия, запланированные в данном проекте, направлены на достижение главной цели – расширять кругозор детей об историческом периоде Великой Отечественной войны. Участвуя в мероприятиях, дети смогут приобрести новые знания о героях ­земляках, об их участии в Великой Отечественной войне. Узнают о героическом прошлом своей страны России, о подвиге всего народа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овладели средствами общения со взрослыми и сверстниками, владеют диалогической речью и конструктивными способами взаимодействия с детьми и взрослыми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е взаимодействия педагогов с родителями и повышение роли семьи в воспитании детей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ные сдвиги в эмоциональной сфере взаимоотношений между родителями и детьми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ПРОЕКТА: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Оформление группы к празднику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Оформление выставки рисунков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аздник «9 мая».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Мастер-класс с родителями и детьми на тему: «Гвоздика-символ Победы!»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готовление дидактических игр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2:15:35Z</dcterms:created>
  <dc:creator>Пользователь</dc:creator>
  <dc:description/>
  <dc:language>en-US</dc:language>
  <cp:lastModifiedBy>SALEX</cp:lastModifiedBy>
  <dcterms:modified xsi:type="dcterms:W3CDTF">2018-01-27T15:29:33Z</dcterms:modified>
  <cp:revision>79</cp:revision>
  <dc:subject/>
  <dc:title>Презентация PowerPoint</dc:title>
</cp:coreProperties>
</file>