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A41-2E38-4620-8CF4-07580C14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4B8-2997-4578-BCDF-989CC65D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D3A-B321-4318-A219-A9D17E62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DBB-E11E-4203-980E-71EFC624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29A6-C7C8-4043-B399-424FCDE4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8B9B-6BB7-496F-9032-120E74FD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46CF-51F3-4A7F-BF35-DBBAD1C2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4987-D426-465D-A4DD-D7300731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0283-B6C0-4DC4-9671-F94D33DB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4442-1147-4514-AF37-9E64FABB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F136-EC3B-4EC0-BD75-D4EE490C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7C0-BD36-4B2D-AD07-28967BA4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12C2-EDF3-47A4-BF0B-486BFC52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EC3C-3097-4D82-B004-F01E39DF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1FD4-413A-472D-A5AA-30B33039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E2C7-4880-43B8-9E0C-39A9C164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DC33-2ACC-4D19-AC5A-4B2AC649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DC1-A9EE-4A4C-8915-D6853D86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C82E-77DF-4C0C-B9D0-4BAA62A8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AC4-A99F-489A-9E9E-E52E0634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37D-B3B6-4B6D-836D-1D56B199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A07-A30D-4E6D-A5A7-197DAD99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C09-4BEA-4D3A-95FC-E7D722D3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9C4-2BD0-471E-B97C-2F65080E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1A2E-C559-4FD8-B25C-DBA64C37BE1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CA80-F5F8-4364-A30C-EDA2ABAC5B4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623360" cy="12956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1104"/>
                </a:solidFill>
                <a:latin typeface="Garamond"/>
              </a:rPr>
              <a:t>Тема : Александр Трифонович Твардовский</a:t>
            </a:r>
            <a:br>
              <a:rPr sz="2400"/>
            </a:br>
            <a:r>
              <a:rPr b="0" lang="ru-RU" sz="2400" spc="-1" strike="noStrike">
                <a:solidFill>
                  <a:srgbClr val="621104"/>
                </a:solidFill>
                <a:latin typeface="Garamond"/>
              </a:rPr>
              <a:t>Поэма «Василий Тёркин». Главы из поэмы.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 Второй урок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267080" y="4800600"/>
            <a:ext cx="4267440" cy="914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Самахужина Фазима Ураз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МОУ Метелев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2774880" cy="37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авы «От автора», «На привале»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943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аков он, Василий Тёркин?  Что вы узнали о его внеш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его биографии и судьбе?  Как автор отвечает на этот вопро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3810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305560" cy="5181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Глава «Переправа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Как изображены в главе «Переправа» молодые советские солдат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Почему поэт сравнивает молодых бойцов с их отцами – героями гражданской войны и с русскими воинами прошлых лет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Какие подробности фронтового быта переданы в глав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Какими деталями подчёркнута мысль, что война – это не только боевые подвиги. Но и изнурительный труд и тяжёлый быт солда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Глава «Переправа»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В главах «О награде», «Гармонь», и «Два солдата» автор показывает Василия Тёркина в иных ситуациях – в редкие минуты отдыха или в часы вынужденного бездействия (по дороге к месту боёв). Какие стороны характнра Тёркина проявились в этих главах?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82760" y="1600200"/>
            <a:ext cx="6377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Глава «О награде».</a:t>
            </a:r>
            <a:br>
              <a:rPr sz="24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     Какова основная мысль главы?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800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              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Глава «Гармонь»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876560" cy="6095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33362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                                    </a:t>
            </a:r>
            <a:r>
              <a:rPr b="0" lang="ru-RU" sz="3200" spc="-1" strike="noStrike">
                <a:solidFill>
                  <a:srgbClr val="006633"/>
                </a:solidFill>
                <a:latin typeface="Times New Roman"/>
              </a:rPr>
              <a:t>Глава «От автора»</a:t>
            </a:r>
            <a:r>
              <a:rPr b="0" lang="en-US" sz="3200" spc="-1" strike="noStrike">
                <a:solidFill>
                  <a:srgbClr val="006633"/>
                </a:solidFill>
                <a:latin typeface="Times New Roman"/>
              </a:rPr>
              <a:t>  </a:t>
            </a:r>
            <a:br>
              <a:rPr sz="3200"/>
            </a:br>
            <a:r>
              <a:rPr b="0" lang="en-US" sz="4200" spc="-1" strike="noStrike">
                <a:solidFill>
                  <a:srgbClr val="006633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6633"/>
                </a:solidFill>
                <a:latin typeface="Times New Roman"/>
              </a:rPr>
              <a:t>Какой смысл вложен в заключительные строки поэмы?</a:t>
            </a:r>
            <a:br>
              <a:rPr sz="2800"/>
            </a:br>
            <a:br>
              <a:rPr sz="2400"/>
            </a:br>
            <a:r>
              <a:rPr b="0" i="1" lang="ru-RU" sz="2800" spc="-1" strike="noStrike">
                <a:solidFill>
                  <a:srgbClr val="006633"/>
                </a:solidFill>
                <a:latin typeface="Times New Roman"/>
              </a:rPr>
              <a:t>То серьёзный, то потешный,</a:t>
            </a:r>
            <a:br>
              <a:rPr sz="2800"/>
            </a:br>
            <a:r>
              <a:rPr b="0" i="1" lang="ru-RU" sz="2800" spc="-1" strike="noStrike">
                <a:solidFill>
                  <a:srgbClr val="006633"/>
                </a:solidFill>
                <a:latin typeface="Times New Roman"/>
              </a:rPr>
              <a:t>Нипочём что дождь, что снег, -</a:t>
            </a:r>
            <a:br>
              <a:rPr sz="2800"/>
            </a:br>
            <a:r>
              <a:rPr b="0" i="1" lang="ru-RU" sz="2800" spc="-1" strike="noStrike">
                <a:solidFill>
                  <a:srgbClr val="006633"/>
                </a:solidFill>
                <a:latin typeface="Times New Roman"/>
              </a:rPr>
              <a:t>В бой, вперёд, в огонь кромешный</a:t>
            </a:r>
            <a:br>
              <a:rPr sz="2800"/>
            </a:br>
            <a:r>
              <a:rPr b="0" i="1" lang="ru-RU" sz="2800" spc="-1" strike="noStrike">
                <a:solidFill>
                  <a:srgbClr val="006633"/>
                </a:solidFill>
                <a:latin typeface="Times New Roman"/>
              </a:rPr>
              <a:t>Он идёт, святой и грешный,</a:t>
            </a:r>
            <a:br>
              <a:rPr sz="2800"/>
            </a:br>
            <a:r>
              <a:rPr b="0" i="1" lang="ru-RU" sz="2800" spc="-1" strike="noStrike">
                <a:solidFill>
                  <a:srgbClr val="006633"/>
                </a:solidFill>
                <a:latin typeface="Times New Roman"/>
              </a:rPr>
              <a:t>Русский чудо – человек.</a:t>
            </a:r>
            <a:r>
              <a:rPr b="0" i="1" lang="en-US" sz="2800" spc="-1" strike="noStrike">
                <a:solidFill>
                  <a:srgbClr val="006633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                            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21240" y="1295280"/>
            <a:ext cx="3487680" cy="5334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3045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79938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762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Times New Roman"/>
              </a:rPr>
              <a:t>Итог урока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600" y="838080"/>
            <a:ext cx="8763120" cy="3276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йна – постоянное, часто предельное напряжение физических и моральных качеств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Юмор, смех, шутка, хорошая песня  помогали бойцам в трудную минуту. Чувство юмора на фронте создавало хорошее настроение, облегчало трудности походов, поднимало дух солдат, смягчало грусть поте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Юмор рождался вопреки и наперекор опасности. Так появился герой поэмы А.Т.Твардовского – Василий Тёрк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229600" cy="2286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сьменно ответить на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акие качества сделали Тёркина любимейшим героем читател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 чём говорит фамилия геро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Фазима Уразаевна</cp:lastModifiedBy>
  <dcterms:modified xsi:type="dcterms:W3CDTF">2008-03-04T10:06:2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