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929-0CF1-4C46-8495-1809AD6F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1FA-EF1F-41CB-B3FE-8C3DD35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86D-5112-4167-BA55-92A55554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4CB-F818-484B-8B7F-0DE8DF7D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34E-F6F2-4DAE-8FB3-A983780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BFAC-CFBE-4904-BC25-5625FF7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E463-CCF9-44F2-9798-660335C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6D51-3434-402C-8A8F-F5111EE1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45A6-F6DB-4998-8B0D-F141A9BB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CDF2-F7EA-44F2-AB2F-04531FB0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5BCE-0F15-4DD3-8238-EA6B2A1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491-7B2B-4134-BE72-7E5B5A6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F7BF-54C9-4322-A71C-445878A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B4E6-1236-45E9-B2ED-AAF5F6C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FDF8-630B-422E-9350-33F989D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50EE-AC88-4AC5-83B0-B65E08D8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FDD8-9852-4854-8CE5-61F49AC3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905-C35E-4768-9B00-32532F75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20E-02A9-44F4-9749-027279FE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9B2-C73E-430F-90D7-2BD0858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1A0-02D8-4439-B274-4EC2A3E4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22E-ED6C-4F9E-B13E-CACED1C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44E-17EA-4D1E-96C3-C024019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840-582D-40DC-B7E4-A81D85E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224-CEC3-4F5A-8C31-12282972BA4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F53-A220-4392-9E43-E422A94313C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0;&#1086;&#1083;&#1086;&#1075;&#1080;&#1095;&#1077;&#1089;&#1082;&#1072;&#1103;_&#1101;&#1074;&#1086;&#1083;&#1102;&#1094;&#1080;&#1103;" TargetMode="External"/><Relationship Id="rId2" Type="http://schemas.openxmlformats.org/officeDocument/2006/relationships/hyperlink" Target="http://ru.wikipedia.org/wiki/&#1063;&#1077;&#1083;&#1086;&#1074;&#1077;&#1082;_&#1088;&#1072;&#1079;&#1091;&#1084;&#1085;&#1099;&#1081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&#1043;&#1086;&#1084;&#1080;&#1085;&#1080;&#1076;&#1099;" TargetMode="External"/><Relationship Id="rId5" Type="http://schemas.openxmlformats.org/officeDocument/2006/relationships/hyperlink" Target="http://ru.wikipedia.org/wiki/&#1063;&#1077;&#1083;&#1086;&#1074;&#1077;&#1082;&#1086;&#1086;&#1073;&#1088;&#1072;&#1079;&#1085;&#1099;&#1077;_&#1086;&#1073;&#1077;&#1079;&#1100;&#1103;&#1085;&#1099;" TargetMode="External"/><Relationship Id="rId6" Type="http://schemas.openxmlformats.org/officeDocument/2006/relationships/hyperlink" Target="http://ru.wikipedia.org/wiki/&#1055;&#1083;&#1072;&#1094;&#1077;&#1085;&#1090;&#1072;&#1088;&#1085;&#1099;&#1077;" TargetMode="External"/><Relationship Id="rId7" Type="http://schemas.openxmlformats.org/officeDocument/2006/relationships/hyperlink" Target="http://ru.wikipedia.org/wiki/&#1063;&#1077;&#1083;&#1086;&#1074;&#1077;&#1082;" TargetMode="External"/><Relationship Id="rId8" Type="http://schemas.openxmlformats.org/officeDocument/2006/relationships/hyperlink" Target="http://ru.wikipedia.org/wiki/&#1058;&#1088;&#1091;&#1076;" TargetMode="External"/><Relationship Id="rId9" Type="http://schemas.openxmlformats.org/officeDocument/2006/relationships/hyperlink" Target="http://ru.wikipedia.org/wiki/&#1056;&#1077;&#1095;&#1100;" TargetMode="External"/><Relationship Id="rId10" Type="http://schemas.openxmlformats.org/officeDocument/2006/relationships/hyperlink" Target="http://ru.wikipedia.org/wiki/&#1040;&#1085;&#1090;&#1088;&#1086;&#1087;&#1086;&#1083;&#1086;&#1075;&#1080;&#1103;" TargetMode="External"/><Relationship Id="rId11" Type="http://schemas.openxmlformats.org/officeDocument/2006/relationships/hyperlink" Target="http://ru.wikipedia.org/wiki/&#1055;&#1072;&#1083;&#1077;&#1086;&#1072;&#1085;&#1090;&#1088;&#1086;&#1087;&#1086;&#1083;&#1086;&#1075;&#1080;&#1103;" TargetMode="External"/><Relationship Id="rId12" Type="http://schemas.openxmlformats.org/officeDocument/2006/relationships/hyperlink" Target="http://ru.wikipedia.org/wiki/&#1043;&#1077;&#1085;&#1077;&#1090;&#1080;&#1082;&#1072;" TargetMode="External"/><Relationship Id="rId13" Type="http://schemas.openxmlformats.org/officeDocument/2006/relationships/hyperlink" Target="http://ru.wikipedia.org/wiki/&#1051;&#1080;&#1085;&#1075;&#1074;&#1080;&#1089;&#1090;&#1080;&#1082;&#1072;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Homo" TargetMode="External"/><Relationship Id="rId2" Type="http://schemas.openxmlformats.org/officeDocument/2006/relationships/hyperlink" Target="http://ru.wikipedia.org/wiki/&#1043;&#1086;&#1084;&#1080;&#1085;&#1080;&#1076;&#1099;" TargetMode="External"/><Relationship Id="rId3" Type="http://schemas.openxmlformats.org/officeDocument/2006/relationships/hyperlink" Target="http://ru.wikipedia.org/wiki/&#1040;&#1074;&#1089;&#1090;&#1088;&#1072;&#1083;&#1086;&#1087;&#1080;&#1090;&#1077;&#1082;" TargetMode="External"/><Relationship Id="rId4" Type="http://schemas.openxmlformats.org/officeDocument/2006/relationships/hyperlink" Target="http://ru.wikipedia.org/wiki/&#1043;&#1086;&#1084;&#1080;&#1085;&#1080;&#1085;&#1099;" TargetMode="External"/><Relationship Id="rId5" Type="http://schemas.openxmlformats.org/officeDocument/2006/relationships/hyperlink" Target="http://ru.wikipedia.org/wiki/&#1040;&#1092;&#1088;&#1080;&#1082;&#1072;" TargetMode="External"/><Relationship Id="rId6" Type="http://schemas.openxmlformats.org/officeDocument/2006/relationships/hyperlink" Target="http://ru.wikipedia.org/wiki/%C0%ED%F2%F0%EE%EF%EE%E3%E5%ED%E5%E7#cite_note-2" TargetMode="External"/><Relationship Id="rId7" Type="http://schemas.openxmlformats.org/officeDocument/2006/relationships/hyperlink" Target="http://ru.wikipedia.org/wiki/&#1069;&#1088;&#1077;&#1082;&#1090;&#1091;&#1089;&#1099;" TargetMode="External"/><Relationship Id="rId8" Type="http://schemas.openxmlformats.org/officeDocument/2006/relationships/hyperlink" Target="http://ru.wikipedia.org/wiki/&#1053;&#1077;&#1072;&#1085;&#1076;&#1077;&#1088;&#1090;&#1072;&#1083;&#1100;&#1094;&#1099;" TargetMode="External"/><Relationship Id="rId9" Type="http://schemas.openxmlformats.org/officeDocument/2006/relationships/hyperlink" Target="http://ru.wikipedia.org/wiki/&#1054;&#1088;&#1091;&#1076;&#1080;&#1103;_&#1090;&#1088;&#1091;&#1076;&#1072;" TargetMode="External"/><Relationship Id="rId10" Type="http://schemas.openxmlformats.org/officeDocument/2006/relationships/hyperlink" Target="http://ru.wikipedia.org/wiki/&#1054;&#1089;&#1074;&#1086;&#1077;&#1085;&#1080;&#1077;_&#1086;&#1075;&#1085;&#1103;_&#1076;&#1088;&#1077;&#1074;&#1085;&#1080;&#1084;&#1080;_&#1083;&#1102;&#1076;&#1100;&#1084;&#1080;" TargetMode="External"/><Relationship Id="rId11" Type="http://schemas.openxmlformats.org/officeDocument/2006/relationships/hyperlink" Target="http://ru.wikipedia.org/wiki/&#1055;&#1088;&#1086;&#1080;&#1089;&#1093;&#1086;&#1078;&#1076;&#1077;&#1085;&#1080;&#1077;_&#1103;&#1079;&#1099;&#1082;&#1072;" TargetMode="External"/><Relationship Id="rId12" Type="http://schemas.openxmlformats.org/officeDocument/2006/relationships/hyperlink" Target="http://ru.wikipedia.org/wiki/Homo_habilis" TargetMode="External"/><Relationship Id="rId13" Type="http://schemas.openxmlformats.org/officeDocument/2006/relationships/hyperlink" Target="http://ru.wikipedia.org/wiki/&#1050;&#1072;&#1084;&#1077;&#1085;&#1085;&#1099;&#1077;_&#1086;&#1088;&#1091;&#1076;&#1080;&#1103;" TargetMode="External"/><Relationship Id="rId14" Type="http://schemas.openxmlformats.org/officeDocument/2006/relationships/hyperlink" Target="http://ru.wikipedia.org/wiki/&#1055;&#1072;&#1083;&#1077;&#1086;&#1083;&#1080;&#1090;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3;&#1110;&#1087;&#1086;&#1090;&#1077;&#1079;&#1080;_&#1087;&#1086;&#1093;&#1086;&#1076;&#1078;&#1077;&#1085;&#1085;&#1103;_&#1083;&#1102;&#1076;&#1080;&#1085;&#1080;._&#1055;&#1086;&#1074;&#1085;&#1110;_&#1091;&#1088;&#1086;&#1082;&#1080;" TargetMode="External"/><Relationship Id="rId2" Type="http://schemas.openxmlformats.org/officeDocument/2006/relationships/hyperlink" Target="http://school.xvatit.com/index.php?title=&#1056;&#1072;&#1079;&#1074;&#1080;&#1090;&#1080;&#1077;_&#1101;&#1074;&#1086;&#1083;&#1102;&#1094;&#1080;&#1086;&#1085;&#1085;&#1086;&#1075;&#1086;_&#1091;&#1095;&#1077;&#1085;&#1080;&#1103;_&#1063;._&#1044;&#1072;&#1088;&#1074;&#1080;&#1085;&#1072;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xvatit.com/vuzi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новные стадии антропогенез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760" y="464796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ил: ученик 11 клас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толовский Иль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верила: учитель би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фонова О. 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4582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настоящему времени известно несколько ископаемых форм архантропов: питекантроп (обезьяночеловек), его останки были обнаружены на острове Ява; синантроп, его останки были обнаружены в пещере близ г. Пеки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анки ископаемых людей, сходных с питекантропами и синантропами, были обнаружены на территории ФРГ (гейдельбергский человек), Алжира (атлантроп) и многих других стран. Судя по археологическим находкам, популяции архантропов обитали в различных районах земного шара приблизительно от 2 млн до 200 тыс. лет назад. "Ученые считают, что все они относились к одному виду — Человек прямоходящий (Н. erectus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ст Человека прямоходящего достигал 160 см и более. Средний объем его мозга составлял 800—1200 см3. Он умел изготовлять каменные орудия труда и поддерживать огонь (рис. 108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10-11_79_2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ревние люд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алеоантропы представляли собой крайне разнообразную как в морфологическом, так и хронологическом отношении группу ископаемых людей. Они заселяли обширные территории Европы, Азии и Африки. Первая находка скелетных останков палеоантропов была сделана в долине реки Неандерталь в Германии в 1856 г., откуда и пошло другое их название — неандертальц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ольшинство многочисленных находок останков палеоантропов датируется временем от 250 до 35 тыс. лет назад. Но ученые считают, что палеоантропы появились значительно раньш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ревние люди имели объем черепной коробки около 1400 см3, изготовляли разнообразные каменные орудия (рубила, скребла, остроконечники и др.), обладали зачатками членораздельной речи (рис. 109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ченые еще не пришли к общему мнению о месте и роли неандертальцев в антропогенезе и выдвинули три гипотезы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   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андертальцы — прямые предки человека современного тип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    неандертальцы внесли некоторый генетический вклад в генофонд человека современного тип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—    неандертальцы являются боковой тупиковой ветвью эволюции гоминид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6" descr="550px-10-11_79_2_4"/>
          <p:cNvPicPr/>
          <p:nvPr/>
        </p:nvPicPr>
        <p:blipFill>
          <a:blip r:embed="rId1"/>
          <a:stretch/>
        </p:blipFill>
        <p:spPr>
          <a:xfrm>
            <a:off x="609480" y="1828800"/>
            <a:ext cx="7925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Люди современного анатомического тип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ледняя стадия эволюции человека — современные люди, или неоантропы. Впервые костные останки неоантропов были найдены в гроте Кро Маньон во Франции в 1868 г., откуда и пошло другое название — кроманьонц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целом кроманьонцы уже не имели существенных отличий от ныне живущих людей. Рост их составлял до 180 см, объем мозга — до 1600 см3. Мозговой отдел их черепа преобладал над лицевым, сплошной надглазничный валик отсутствовал, развитый подбородочный выступ указывал на то, что они смогли общаться с помощью членораздельной речи (рис. 110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 окончательно решенным остается вопрос о возникновении подвида Н, sapiens sapiens, к которому принадлежит современное человечеств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10-11_79_2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ализ палеонтологических материалов показал, что можно выделить три типа ископаемых людей, живших одновременно: неандертальцев, людей современного типа и промежуточные формы. Это дает основание предположить, что неандертальцы и кроманьонцы долгое время сосуществовали рядом и нередки были случаи смешения (метисации ). Остатки подобных промежуточных форм предков современных людей, в которых сочетались черты и неандертальцев, и кроманьонцев недавно были найдены на Ближнем Востоке на территории современного Израил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длительного сосуществования двух подвидов гоминид, примерно 40 тыс. лет назад, произошел демографический взрыв в популяциях людей современного анатомического типа, который сопровождался увеличением плотности населения и прогрессивными изменениями в области материальной культуры. В тяжелых условиях ледникового периода неандертальцы, очевидно, не выдержали конкурентной борьбы с кроманьонцами, были ими вытеснены и, возможно, частично истребле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льнейшие исследования палеоантропологов и специалистов других специальностей, несомненно, внесут ясность в еще не решенные вопросы антропогенез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http://ru.wikipedia.org/wiki/%C0%ED%F2%F0%EE%EF%EE%E3%E5%ED%E5%E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http://school.xvatit.com/index.php?title=%D0%9E%D1%81%D0%BD%D0%BE%D0%B2%D0%BD%D1%8B%D0%B5_%D1%81%D1%82%D0%B0%D0%B4%D0%B8%D0%B8_%D0%B0%D0%BD%D1%82%D1%80%D0%BE%D0%BF%D0%BE%D0%B3%D0%B5%D0%BD%D0%B5%D0%B7%D0%B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нтропогене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тропогенез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— часть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биологической эволю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оторая привела к появлению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человека разумног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Homo sapiens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, отделившегося от прочих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человекообразных обезья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и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плацентарных млекопитающих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роцесс историко-эволюционного формирования физического типа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челове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ервоначального развития его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трудов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реч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Изучением антропогенеза занимается множество наук, в частности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антрополог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алеоантрополог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генети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лингвисти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волюционном контексте термин «человек» относится не только к ныне живущим людям, но и к представителям вымерших видов рода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omo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Кроме того, исследования антропогенеза распространяются на других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например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австралопитек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Род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Homo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отделился от австралопитеков или подобных им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гомини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около 2 млн лет назад в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Африк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уществовало несколько видов людей, большинство из которых вымерло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[2]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К ним, в частности, относятс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эректус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и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неандертальц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ажнейшими этапами антропогенеза, отделившими человека от других гоминид и выделившими его из мира животных, были начало изготовления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орудий тру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освоение огн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и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оявление язы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чиная с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H. habilis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люди использовали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каменные оруд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всё более искусно изготовленные (см.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Палеоли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. В последние 50 тыс. лет технология и культура изменяются быстрее, чем в предшествующие эпох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временные взгляды на развитие человека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Широко распространено мнение, что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челов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произошел от человекообразных обезьян. Это не совсем верн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витие человека и человекообразных обезьян — это не последовательные ступени, а параллельные ветви эволюции, расхождение между которыми с эволюционной точки зрения очень глубокое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ходки палеонтологов свидетельствуют, что приматы появились около 70 млн лет наза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мерно 30—40 млн лет назад от общей исходной формы разошлись две ветви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эволюци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первая, приведшая к современным высшим обезьянам, и вторая, развитие которой в конечном счете привело к появлению человека современного анатомического типа, В дальнейшем представители этих ветвей в течение многих миллионов лет развивались независимо друг от друга. В ходе эволюции у представителей каждой из двух ветвей выработались специфические особенности биологической организации, связанные с приспособлением к соответствующему образу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евнейшими общими предками человека и человекообразных обезьян (антропоидов) принято считать парапитеков — малоспециализированных высших обезьян, которые вели как древесный, так и наземный образ жизни. От них произошла вымершая впоследствии сборная группа обезьян — дриопите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Учены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считают, что именно от какой-то группы дриопитеков, например рамапитеков, начинается эволюционная линия гоминид. (рис. 106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5" descr="550px-10-11_79_2_1"/>
          <p:cNvPicPr/>
          <p:nvPr/>
        </p:nvPicPr>
        <p:blipFill>
          <a:blip r:embed="rId2"/>
          <a:stretch/>
        </p:blipFill>
        <p:spPr>
          <a:xfrm>
            <a:off x="685800" y="13716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ечественные антропологи, внесшие большой вклад в разработку теории эволюции человека, выделяют четыре стадии антропогенез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.    Предшественники человека — австралопитековы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I.    Древнейшие люди — прогрессивные австралопитеки, архантропы (питекантропы, синантропы, атлантропы, гейдельбергский человек и др.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II.    Древние люди — палеоантропы (неандертальцы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V.    Ископаемые люди современного анатомического типа — неоантропы (кроманьонц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редшественники человека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иболее ранними представителями семейства гоминид считаются австралопитековые (лат. australis — южный и греч. pithecos — обезьяна). Наиболее древние находки австралопитековых (их иногда называют «предавстралопитеки»), найденные в Восточной Африке, датируются 4,5—6,5 млн лет. Изучение остатков скелета этих существ показало, что их зубы почти сходны с человеческими, объем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головного мозг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достигал более 500 см3, а масса тела составляла 35—55 кг. Они обладали способностью к прямохождению (рис. 107). От них произошли несколько видов более поздних австралопитеков, отличавшихся размерами, массой тела, особенностями в строении череп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ревнейшие люд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ервыми представителями рода Homo, по мнению большинства специалистов, был прогрессивный вариант австралопитека — Человек умелый (Н. habilis). Это название связано с тем, что эти существа умели изготовлять примитивные режущие и рубящие орудия из галь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10-11_79_2"/>
          <p:cNvPicPr/>
          <p:nvPr/>
        </p:nvPicPr>
        <p:blipFill>
          <a:blip r:embed="rId1"/>
          <a:stretch/>
        </p:blipFill>
        <p:spPr>
          <a:xfrm>
            <a:off x="533520" y="2438280"/>
            <a:ext cx="79246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ст Человека умелого достигал 150 см. объем мозга был на 100 см3 больше, чем у других австралопитеков и имел массу до 650 г. Он имел зубы человеческого типа, а первый палец стопы, как и у современного человека, не был отведен в сторону. В морфологическом плане Человек умелый незначительно отличался от австралопитеков, но способность изготовления орудий труда (хотя еще очень примитивных) позволила ему преодолеть грань, отделявшую ископаемых человекообразных обезьян от древнейших люд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читается, что первая 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пуля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человеческих существ имеет древность 2—2,5 млн лет. Но, по мнению многих ученых, первые люди могли появиться значительно раньш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полагают, что, расселяясь и попадая в новые условия существования, популяции Человека умелого образовывали отдельные изолированные формы архантропов, занимающих по многим существенным признакам промежуточное положение между австралопитеком и современным человек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12:11:28Z</dcterms:created>
  <dc:creator>Администратор</dc:creator>
  <dc:description/>
  <dc:language>en-US</dc:language>
  <cp:lastModifiedBy>шмо естественных н</cp:lastModifiedBy>
  <dcterms:modified xsi:type="dcterms:W3CDTF">2018-01-19T09:24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