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C98-1FDF-45DA-85D2-2957B736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71F-A66F-40A9-95E4-CAF11B1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7B3-E7F8-4DD4-AD3C-29498D59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723-C4E4-45B3-A7CE-5BBE7748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8DF1-3118-438C-B17D-B0607D86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9758-8849-4A51-A155-0F6F4F63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B62E-31F2-43F8-94D0-E92F7D1D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03E2-A24A-42C8-A5FC-CF1401C7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339C-5868-4D0E-98FA-ADC87850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F949-71A2-4A72-83A1-497A1B1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3794-B5F5-4FBA-93B1-50A78E5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3F6-E0AD-4A8D-B866-F7131202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8988-189F-41B7-9882-67B801E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B45F-E247-4B45-81EE-A5F942B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0448-417C-447A-B722-406EB3EA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ED2F-DFFF-4215-9132-DC11D9C7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BE5C-5101-435E-9FD9-9DF81EA2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F87-72BE-4DA2-8FC4-89B61562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954-F359-45E4-B644-C909B1F3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A65-D3CF-45B8-9141-67683551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C66-7145-45EA-8C7C-65980C4E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879-95CF-4897-A6FA-3B63757F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A3D-0518-4553-8E2E-443845EB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864-9B4E-47F4-B090-A8BCF735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0A81-15F1-4C9F-8A4D-8969050DF5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BAE7-9FE9-4BAD-86EF-BBAE71B3D2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08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0000"/>
                </a:solidFill>
                <a:latin typeface="Garamond"/>
              </a:rPr>
              <a:t>       </a:t>
            </a: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Родительское собрание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     «Как помочь ребенку при подготовке к участию в ВПР»</a:t>
            </a:r>
            <a:br>
              <a:rPr sz="4800"/>
            </a:br>
            <a:r>
              <a:rPr b="1" i="1" lang="ru-RU" sz="4600" spc="-1" strike="noStrike">
                <a:solidFill>
                  <a:srgbClr val="006633"/>
                </a:solidFill>
                <a:latin typeface="Garamond"/>
              </a:rPr>
              <a:t>«</a:t>
            </a:r>
            <a:r>
              <a:rPr b="1" i="1" lang="ru-RU" sz="4400" spc="-1" strike="noStrike">
                <a:solidFill>
                  <a:srgbClr val="006633"/>
                </a:solidFill>
                <a:latin typeface="Monotype Corsiva"/>
              </a:rPr>
              <a:t>Если ребёнку удается добиться успеха в школе, у него есть все шансы на успех в жизни.»  </a:t>
            </a:r>
            <a:br>
              <a:rPr sz="4400"/>
            </a:br>
            <a:r>
              <a:rPr b="1" i="1" lang="ru-RU" sz="4400" spc="-1" strike="noStrike">
                <a:solidFill>
                  <a:srgbClr val="006633"/>
                </a:solidFill>
                <a:latin typeface="Monotype Corsiva"/>
              </a:rPr>
              <a:t>                У. Глассер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4" descr="06907"/>
          <p:cNvPicPr/>
          <p:nvPr/>
        </p:nvPicPr>
        <p:blipFill>
          <a:blip r:embed="rId1"/>
          <a:stretch/>
        </p:blipFill>
        <p:spPr>
          <a:xfrm>
            <a:off x="6084720" y="4076640"/>
            <a:ext cx="272268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Monotype Corsiva"/>
              </a:rPr>
              <a:t>создать в семье благоприятный климат, эмоционально ровный настрой родителей, наличие поддержки детя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Monotype Corsiva"/>
              </a:rPr>
              <a:t>Развивать самостоятельность в процессе жизненного самоопределен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Monotype Corsiva"/>
              </a:rPr>
              <a:t>Следить за правильной организации режима дня ребён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Monotype Corsiva"/>
              </a:rPr>
              <a:t>следить за записями домашних заданий в дневнике, контролировать их выполнени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Monotype Corsiva"/>
              </a:rPr>
              <a:t>Приучать детей к самосто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Расписание ВПР в 2017-2018 году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17,19 апреля- русский язы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24 апреля – матема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26 апреля – окружающий 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Monotype Corsiva"/>
              </a:rPr>
              <a:t>ВПР будет проходить по следующим правилам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На каждый предмет будет отведен свой ден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На написание ответов на каждый предмет отведено 45 мину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Запрещается пользоваться любыми учебниками во время выполнения зад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В журнале будет выставлен бал за ВПР, как при контрольной раб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чень важным моментом является выработка привычки к неукоснительному выполнению домашних заданий:</a:t>
            </a:r>
            <a:r>
              <a:rPr b="1" i="1" lang="ru-RU" sz="4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820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какая бы погода ни бы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какие бы ни шли телепередач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• чей бы день рождения ни отмечал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Monotype Corsiva"/>
              </a:rPr>
              <a:t>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Уроки должны быть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выполнены, и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выполнены хорошо. 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2613_NpAdvHover"/>
          <p:cNvPicPr/>
          <p:nvPr/>
        </p:nvPicPr>
        <p:blipFill>
          <a:blip r:embed="rId1"/>
          <a:stretch/>
        </p:blipFill>
        <p:spPr>
          <a:xfrm>
            <a:off x="25092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68360" y="5057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Организация рабочего места.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Важным является и место выполнения  работы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42848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Оно должно быть постоя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Никто не должен мешать уче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Очень важно заниматься собран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хорошем темпе,  не отвлекаясь на  посторонние дел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Очень важен темп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Работают хорошо те, кто работ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быст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seminar3"/>
          <p:cNvPicPr/>
          <p:nvPr/>
        </p:nvPicPr>
        <p:blipFill>
          <a:blip r:embed="rId1"/>
          <a:stretch/>
        </p:blipFill>
        <p:spPr>
          <a:xfrm>
            <a:off x="0" y="3500280"/>
            <a:ext cx="163656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Никогда не называйте ребенка бестолковым и т.п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Хвалите ребенка за любой успех, пусть даже самый незначительн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Ежедневно просматривайте без нареканий тетради, дневник, спокойно попросите объяснения по тому или иному факту, а затем спросите, чем вы можете помоч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Любите своего ребенка и вселяйте ежедневно в него уверен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Не ругайте, а учит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50920" y="549360"/>
            <a:ext cx="8713800" cy="568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        </a:t>
            </a: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адуйтесь тому,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что у вас есть такое счастье -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      </a:t>
            </a: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с кем-то делать уроки, 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кому-то помогать взрослеть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i="1" lang="ru-RU" sz="7200" spc="-1" strike="noStrike">
                <a:solidFill>
                  <a:srgbClr val="ff0000"/>
                </a:solidFill>
                <a:latin typeface="Monotype Corsiva"/>
              </a:rPr>
              <a:t>РЕШЕНИЕ СОБРАНИЯ.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Использовать полученную информацию в своей работе с ребен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Применять различную популярную развивающую литературу для организации занятий с детьми (для развития памяти, мышления, внимания, наблюдательности, воображения и т. д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WordArt 4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8192880" cy="35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285840" y="-852840"/>
            <a:ext cx="835812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Ваш ребенок чему-то учится. Общий итог будет состоять из нескольких частных результатов. Назовем четыре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амый очевидный - это знание, которое он получит, или умение, которое он осво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езультат менее очевидный - это тренировка общей способности учиться, то есть учить самого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езультат - эмоциональный след от занятия: удовлетворение или разочарование, уверенность или неуверенность в своих си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езультат - след ваших взаимоотношений с ним, если вы прини­мали участие в занятиях. Здесь итог может быть либо положительным (остались довольны друг другом), либо отрицательным (пополнилась копилка взаимных недовольст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  </a:t>
            </a:r>
            <a:r>
              <a:rPr b="1" i="1" lang="ru-RU" sz="6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тобы сохранить у ребенка желание учиться, стремление к знаниям, необходимо научить его хорошо учить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е значение в этом случае приобретает сотрудничество родителей и учителей, согласование их действий. Усилия семьи и школы в решении этой проблемы – едины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мощь детям должна быть эффективной, грамотной и должна идти в трех направлениях: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591480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рганизация режима дн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онтроль за выполнением домашних заданий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учение детей к самостоятельности </a:t>
            </a:r>
            <a:br>
              <a:rPr sz="2600"/>
            </a:b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i"/>
          <p:cNvPicPr/>
          <p:nvPr/>
        </p:nvPicPr>
        <p:blipFill>
          <a:blip r:embed="rId1"/>
          <a:stretch/>
        </p:blipFill>
        <p:spPr>
          <a:xfrm>
            <a:off x="6084720" y="3500280"/>
            <a:ext cx="2714760" cy="30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рганизация режима дн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рганизация режима дня позволяет ребен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•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легче справиться с учебной нагрузкой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•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щищает нервную систему от переутомления, т.е. укрепляет здоровь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 20% школьников плохое здоровье - причина неуспеваемости. </a:t>
            </a:r>
            <a:br>
              <a:rPr sz="3600"/>
            </a:b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8832091_6546"/>
          <p:cNvPicPr/>
          <p:nvPr/>
        </p:nvPicPr>
        <p:blipFill>
          <a:blip r:embed="rId1"/>
          <a:stretch/>
        </p:blipFill>
        <p:spPr>
          <a:xfrm>
            <a:off x="7236000" y="333360"/>
            <a:ext cx="103788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00000"/>
                </a:solidFill>
                <a:latin typeface="Monotype Corsiva"/>
              </a:rPr>
              <a:t>Точный распорядок занятий - это основа любого труд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ежедневное выполнение домашних обязанност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ежедневное чтение кни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организация досуг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правиль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организованный с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antn071"/>
          <p:cNvPicPr/>
          <p:nvPr/>
        </p:nvPicPr>
        <p:blipFill>
          <a:blip r:embed="rId1"/>
          <a:stretch/>
        </p:blipFill>
        <p:spPr>
          <a:xfrm>
            <a:off x="5724360" y="3933720"/>
            <a:ext cx="324648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аправление помощи — контроль за выполнением домашних заданий.</a:t>
            </a:r>
            <a:r>
              <a:rPr b="1" i="1" lang="ru-RU" sz="3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онтроль должен быть систематическим, а не от случая к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мощь детям должна оказываться свое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 можно больше требовательности к детям и как можно больше уважения, контроль должен быть ненавязчивым и такт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чень важно контролировать не конечный продукт их труда, а сам проце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адо учить их размышлять самостоятельно, анализировать, доказ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ля подготовки школьника к ВПР родителям необходимо соблюдать следующие правила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9680" y="99972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-создать ситуацию эмоционального комфорта для ребенка на этапе подготов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- не нагнетать обстановку, напоминая о серьезности предстоящей работы и значимости её результатов. Чрезмерное повышение тревоги приведет к дезорганизации деятель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- создать для ребёнка ситуацию успеха, поощрения, поддерж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- обеспечить детям ощущение эмоциональной поддержки во время проведения ВП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39:39Z</dcterms:created>
  <dc:creator>ЕГОР</dc:creator>
  <dc:description/>
  <dc:language>en-US</dc:language>
  <cp:lastModifiedBy>1</cp:lastModifiedBy>
  <dcterms:modified xsi:type="dcterms:W3CDTF">2017-09-07T06:53:42Z</dcterms:modified>
  <cp:revision>33</cp:revision>
  <dc:subject/>
  <dc:title>Родительское собрание «Нравственные законы семьи - законы жизни»</dc:title>
</cp:coreProperties>
</file>