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AE68-725A-4C90-BC90-023BF82DB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6BB5-5442-4143-8FF8-CAEB10442C4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7E007F-A920-4041-857A-7DC21711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84F736-8B83-4A5A-A8FB-96D37A5D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95187C-CAFD-4B71-B26D-5752EAD1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D3737D-7FE5-49B3-BA8E-6A527186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9FF7A4-DCBA-4384-A332-4E258248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301AA6-A988-4315-8289-67BE7652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541E65-D6A4-42C8-8C12-AED46B57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E530FD-11B2-4A17-AF4B-6D9E6A08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865A03-6A86-46E7-AC5C-C8A10565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6A7B62-D80C-41C5-814C-E744A4F4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064C-E966-4318-B0FF-9559E740D7F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3AAC45-5153-4D87-BC05-20303D43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16FB68-CE13-44F5-BC14-3285A3C6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6D358B-EF38-4DE3-8F6C-5ACA1E55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E0CC47-BBBC-4CF2-93F2-F5790F1C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637357-5E85-4B41-9B16-25B35DD7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53BCFB-0058-4DA5-B59D-633D2005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8DA1F4-D748-4837-AE78-7AA29911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84A632-69D2-4DC7-A878-DCFF6E51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D3240A-1ADB-4FE8-B8E4-FACF1C24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C0BFAE-C4B6-4F54-B74A-53057A3B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DDA8-A3DF-4A64-AC65-27B7E55C25B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07AD84-61BC-4B95-AE70-7A14F3A7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9ABC6C-B15B-47CE-B08D-D67D16F2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722FBF-CD11-4F3C-BB8F-4A59F7D0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5E377C-B65E-4216-BBA5-B57EB0AB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48FAEF-EDDC-4279-ACC4-B51C96B1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B8738D-5429-4261-A844-0B37F45D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D0FB49-14DA-493B-8101-64E47C03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4C0D61-1A1C-41F1-A852-7AE8D88A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C7E281-011D-4255-AAD8-000B846E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650C4A-2299-4B71-ABE4-384FA5E8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B8017-B66D-4A93-A2AF-1FD6F76D079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C71B95-6EAF-4043-AD02-EE2B9CE1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122FC2-8C96-44EE-A47A-845673AB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E1B03C-0C8F-4F47-8B19-F97B2213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02F92F-639C-4A5A-B29A-D599651A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B823AF-751A-4C4D-8DBD-16F75715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591C31-FBCA-4DC3-9DB8-7B8AD050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D4C6BC-348E-4017-BAE0-B4364FA5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4651CB-C1DC-43CA-A814-8683FB63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E2700C-08EC-4DA8-B936-4CD38F7D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2E414D-4D12-40DA-983C-DBC63AA6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F0E8-2B24-4527-92AA-18500982460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1F6F06-CD05-4BE2-A313-9E172BFC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8A82DF-1484-4FB9-A2BF-A8598D87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4641CA-FF00-42B9-8103-19E1A01B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3E3F36-3C6A-4FD4-A7D5-F85EEA60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B4F7BE-DA7B-461C-8CB0-5F01FEEB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6B330E-F873-481A-A55A-6E19C602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DC7742-E3BB-4CC4-8C80-05804D6B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861286-1771-4336-B322-71380F80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FFAB92-0061-4328-A472-19550C60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9C40E7-CB36-4732-8C02-C63B13F9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7B742-1D62-4D35-AFC0-13BDBCCFCC7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CA1750-A86F-441B-818A-96ADEB0C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23DE08-E12B-491A-A817-4952DCA7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E2B772-1856-4631-8190-421376A8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D934FC-4353-4BBD-86E9-B88C2942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962F41-2764-47A2-9070-34155D8A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E825C5-0ADF-4106-ACD5-E5C6C87E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8F60AF-6EE6-445D-BB60-F6D613E0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3AD0F5-DD8C-4275-A660-A8F6FDFB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B30E2B-EF34-4D36-8F3E-D296A08B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355DFE-41DB-4CE3-B55B-EA73C6FC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0C98-F7FF-4EAA-9583-9AEAA757E78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EC2572-B198-4791-950C-251700FD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1AA860-11C3-4C83-A2E4-89439051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CE2FA9-9BFC-4096-9AF4-A9BBE00F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0CEC40-B9FC-4BC5-A381-849DE50C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001BDA-C955-4026-B9E5-9F1C0681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2B5D57-BCD4-4481-AE59-7FA7F9D3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B91EAD-A5B4-48F3-B71B-1FD7DCF5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661055-F648-4DCA-930A-54272EA1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0B24D3-813B-4846-803C-21FB4508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EBF7FF-76D0-4407-B964-01CDA605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1145B-0DA0-473B-A181-1FE64D309CE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07050D-8064-4D4C-A167-1055D5E0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D29799-E0F4-47B8-B077-6E673D9F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B27A27-5DFB-4DF4-8ABF-523CDA91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522861-96B5-497A-AF75-29967C4F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E149A7-FAC1-4584-BD68-D1FE2F8C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C91B6D-2BAC-4E16-95C9-B258CBD0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7B9902-30E1-4FDB-97A0-EB4B7D80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62CAE28-F0CF-4545-9907-96516CFB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1B722F-4D48-4F54-B837-8BC7E935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4EF5E4-8CB2-4EB4-9C8C-271B01C1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CC40-C711-4184-967F-E13F37FB9E5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2A0ABB-D0E6-443F-BE5A-23D7EA0F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88FA45-5DDB-47FA-98A5-74EBC483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5FEB97-2C85-4B8E-B60F-71882B29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6FE213-B271-4F07-A419-916ABF8B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F84D63-9C03-4950-B932-0D17FE2C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CFAA2D-D3C0-4711-8AFF-DD384929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5740A3-9391-4730-A615-3DCD7F59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1DE695-58C4-48E2-A3F2-4182307F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EDADE2-68C3-4442-A3EA-C306D427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79A265-6ABA-4945-937D-0329C8B5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DE784-4581-4C8F-ABDA-A968CB16981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E52315-3C21-44E6-B027-1D235C62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258190-121D-4049-B9FE-8BAAEB61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EB1DB3-53AE-49F4-A6A1-F0BEB6E3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669F8A-658B-4711-8ABA-50F50B4A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457EF3-24DB-4020-A6D8-46320590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F4429B-AD06-46FE-AD67-DCEBF22C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C64106-5B36-44EA-92E3-28A8175C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C04753-67DD-4CFF-9957-3C808131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2B538A-D099-43B9-882D-4FBD65BE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0D24BD-1371-44F2-9DA7-3CF96D0B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26EC-109C-4D3A-A2A0-7679946EE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7695-6FE0-4EBF-9C95-CEF68EB260D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CD11B0F-0D00-454A-83F1-E3D5B051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C031D2F-9AC0-48A3-ABD4-42E5C08E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AF5443-4836-4582-8009-55F4FA4D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FE1412-9C12-48E1-96A7-6AAAE622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A2A9D0-BC7A-4200-9E31-1D6A7D4D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633B23-6394-457B-A795-304222C8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537EBFC-F9DF-40E5-9D55-EDC15422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36FE75-AC17-4C59-9813-15519523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FA808D-5C3D-4764-B275-67DB54E9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81DA39-A078-48AB-B816-D0E62B68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F366-2E72-49CC-9CC5-06AF5034644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2852E3-48C3-4268-8291-0F198C10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0B17E3-7422-4D05-A57E-CE542505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9C458C-ECDA-4749-96E8-1B40E8C5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CCC9F3-46F2-4AC2-BE41-A199B852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A801C7-69D3-4140-9456-5B6AF4F5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793381-83F3-4F18-9A6E-989C370C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13D21F-00C5-4ADA-BDEA-C096DC5F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6736F43-3270-40A8-8A1F-CAA480E3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2371C01-9CD7-4499-96D8-ABCD180D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8512BA6-062D-4B27-BB01-440D3266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A1BEE-A49A-4795-9785-05BFDF4AB40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F55A43D-8574-4318-8007-91582D9F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C996D2F-CE78-4612-8BE3-9E3113DC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5BC01C6-9D89-42FC-8992-5572A7AD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1CA0B1A-6E0E-4C4C-85C7-07CD3D96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3AAC6FC-169D-4B93-870B-4C4F5141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758F03C-3175-400A-9A18-85B8E665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A2A2FB-39E5-4E95-89AB-C2AEC1CE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AAD4D50-CE2C-4F05-8BA1-C01A25AE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D872FD2-4F6B-4D2D-8473-8129AFD7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A3A65C2-D110-4ED2-A422-61F0D1DB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22A3-3300-4D9C-93A8-CC7A07D2A7B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DA0A12-F1D5-406F-8215-3DEB7333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8041DC5-B5AC-41F4-B6BA-BA384654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AE70B2-0931-4D8A-86C8-2847119F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6247934-A500-42A7-A8C7-B264BECB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9C17AD-8964-4411-B081-E23BB86A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2D7DBFF-B8DD-49F0-B2A7-8A23E82D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59187E-6EC2-432F-8E59-F5CB2A63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520B71B-DE06-4714-99F4-66A15E99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41AE36E-A0CC-4647-B161-59DE68B0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951165-B453-4C60-887A-5BA78379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C690-E18A-47D0-8515-AB885C09F9D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6DCA2FB-FC59-40DC-9813-2DA859CC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D1DF9A1-32A4-4CEA-B335-6B16BD67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074F5CC-D5D0-4299-805D-B051A0D2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9C02DC-1C9F-46B3-810A-94819934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BFC03A3-7D6E-47A0-90B8-FCB93247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0BB3537-8D52-4718-ABC8-11A5B068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F0F195B-2E90-4374-AD86-83FA0F88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AFD0557-C1DC-4764-B367-0E1D94C9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F851D3B-7E6A-458D-B87C-C277D883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3608ADA-87D3-49D6-9A04-C8BFF539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6A8FF-B8FA-4FC0-9286-F8DA3860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9F1C07D-38FF-4EBB-AE81-C4E6A3E0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7415FD-9570-48CA-B56A-655A907F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DDB6357-C25F-49B7-B826-36CBFD62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C8A0320-2441-48E4-B990-1993ECA3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051877A-9325-4637-80E1-551B6446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B0678FA-7794-42F3-895B-2F49ED91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1C2A6D4-11A7-472B-A655-7634D533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5F341A6-AE54-4B30-A2B2-9B110C9B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58F0223-1DCC-456A-9A0C-CE3E3E82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6FD85A8-9111-4204-B827-D57D369A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ED9C4-7374-4BF5-B890-4DB10D19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69DD5EE-A97C-4CFD-841C-A202AA55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660D142-9767-4FCD-90A3-DBD3E784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549527-81C7-454B-9A79-AA3B009F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57D44B2-9645-4124-B5AD-6812F0D6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5FB4EC5-24EB-4D7E-B2A7-83B41E9A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C6C1C-F341-495B-B2F2-BA532F57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C2DD1-771E-4394-8535-1F5FFA42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01E2F-9759-410E-A8E6-83C4F63E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5C0A-7268-4550-A0EF-6EB7BF8745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13BDC-CD0D-444E-8D80-DEB2ECA4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9738B-70F9-4922-AFD0-20257AF0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469C5-3EAE-44ED-9BFA-EF90B3BF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71C31-899F-436A-B966-57D5EFAE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D01CF-483B-4D2B-8DAA-CA9EF300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57BC7-402E-4249-8D09-D32F42C2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2C27C-2358-4A4A-8EB9-E8FE4A54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A0825-54E6-4B70-84D7-741F3CBB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3C9BA-4899-4F27-AB0E-34CA93FC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5961E-A65F-4928-B2A0-E5311F27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10B8-6CCB-4C16-890A-03BEDF2FFE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8FE81-A9D7-4D4B-AF2A-27919120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EEA74F-F8D7-4269-BCBF-CA583EC2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67BC5-8DB1-42B9-9F3B-C1E7054E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6CB0C-3BCE-4FC6-9E2A-138D3530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CD7D2-EA07-4A87-AA2C-AD9319A4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4A461-1824-4523-A7A4-372FBAFE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C1839-879F-460C-B9E7-2639F066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A1E85-C439-45E7-8EB8-B49C2E9F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BE063-CBF7-4040-83B7-FF4C7FAE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A9E06-B3AA-4055-927F-B03409E9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EE3B-8020-4DF1-B45D-E7152EB561A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616CB-EA07-46ED-AE5F-2BF9C4CA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16EB0-F74C-4DDD-AD23-6BBDBA47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4A34A-F6CF-41AA-A6EA-D66AB3CD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4E5C21-8A4F-42E0-8C53-EF446EFC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3619D-597A-4AEF-9BAB-A7E29B35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A79AD2-2D1E-4EA2-A308-8C8C7D79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2C4058-8072-421F-B71C-A53F07B3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42D73C-444A-4946-B767-4122C8B7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5BFC65-FD72-4EDA-B31E-7AB1794D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5FA658-CD3E-4F3F-929D-425E4976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E5CB-0380-4178-89CB-EB1EC2EC740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8CA10-98A6-46F2-BC07-ED3268CF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D3515-CC73-48AD-9912-E496CE77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3D5DF-C3A7-4663-96AB-C812C193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4DB3E-8603-405E-B047-583B3645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0A318-EF63-49C1-B91C-3343FA9F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7D925-D500-4C26-BBB0-9D0E376E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30FDE-CD39-4305-B3BC-AA71248C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5749E-8457-434D-9045-11E16924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9A459C-4326-4B20-A5E3-3DA2D5E6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5D107-3DA9-4587-871B-4BB23738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2ACB-7870-42D2-81A8-48C5C36E351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9795C-60F0-4A96-82D9-9438ECD6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8F1E6-5B6E-4FD9-9A67-32152767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A00A6B-30BB-4AF0-997C-26D10E47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2B5FFB-0EF5-4384-BE43-FB244FE4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9B8671-AD51-4F44-80AD-D2769F3A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9DDBBB-C63D-4451-82B2-FAE413D8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196FA-9ED5-49AA-A9DF-72764D02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B3334-8CD8-43ED-95BD-2C96D17A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61CE79-2EFB-4178-B0D6-ADC5C941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99D322-F8A5-4B6A-A6EB-C35F85AC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C8C7-A0BD-4FB6-9A4E-52A99551762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DDA56-714B-481E-B65E-82764062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8AFAB2-5A19-40EE-8FA5-5A5C1C1D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118AB-051C-4EA3-98DE-D6A73A1A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8D310-81F5-411E-BF93-F15476E9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330D8-FDCC-4038-9B97-DC4005AA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46261-AAE6-4A0D-9685-BA2655FB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74F6C6-A14C-456D-AFE7-3319CCD7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29C3C-82B6-4590-A7F7-5369FBB8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1D68C-41A1-4A70-A98C-FD60EE81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3B5B4-71F1-40BC-9961-E3DE5122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3E1B-5E55-4B7E-B804-084CA9A4D97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709A5A-7D87-4BE6-B7B6-AAE6B66D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57613-8098-4B9E-A8A1-3D81BBA1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948ED-926E-4EAA-AD3B-9157AF8D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34C84F-49E3-4F91-812B-D91697B2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D970A6-2E0C-4294-9713-E6F1B44C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7FEBD5-BC4C-45FC-87AC-909F857A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E08EC5-84F2-49DE-A67E-B4B203F3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F27E32-E784-4EF9-8368-974D8269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DEB997-D11C-428E-A679-3417CA32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F52456-94D5-4E87-BFEB-6481CE3E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60948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380880" y="1416960"/>
              <a:ext cx="8304480" cy="180720"/>
              <a:chOff x="380880" y="1416960"/>
              <a:chExt cx="8304480" cy="180720"/>
            </a:xfrm>
          </p:grpSpPr>
          <p:sp>
            <p:nvSpPr>
              <p:cNvPr id="3" name="Rectangle 4"/>
              <p:cNvSpPr/>
              <p:nvPr/>
            </p:nvSpPr>
            <p:spPr>
              <a:xfrm>
                <a:off x="6856560" y="1416960"/>
                <a:ext cx="1828440" cy="1807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Line 5"/>
              <p:cNvSpPr/>
              <p:nvPr/>
            </p:nvSpPr>
            <p:spPr>
              <a:xfrm>
                <a:off x="380880" y="1492200"/>
                <a:ext cx="8304480" cy="108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-157320"/>
            <a:ext cx="77709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914400" y="6251400"/>
            <a:ext cx="1981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3352680" y="624852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2501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CB4D0E-0D51-4C89-B4BA-384FB75F33CA}" type="slidenum">
              <a:rPr b="0" lang="en-GB" sz="1000" spc="-1" strike="noStrike">
                <a:solidFill>
                  <a:srgbClr val="25014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1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4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5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6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9356B1-2196-4507-984A-4AC35F173DB1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7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8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9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613367-3FD4-4EF4-A446-4CB765907AA9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0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1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2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122385-E1F4-4916-962B-23E903B7D5E1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3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4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827836-1BE4-4A27-8A5B-2CCB351A9C1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6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7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8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91EEB1-0628-4F51-809D-F096CCD17A7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E272D8-3C50-4D78-8AA1-4AD11FE4D63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2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3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4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46F520-3337-48B2-9EB3-E0DBBC393E8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5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7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358B28-AE74-4474-AA74-E8692909AE1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4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4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EB4396-BA18-41AD-B900-222A6E83542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51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52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53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4B72E2-61A0-46A8-BEBC-9DFAB6D06C60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"/>
          <p:cNvGrpSpPr/>
          <p:nvPr/>
        </p:nvGrpSpPr>
        <p:grpSpPr>
          <a:xfrm>
            <a:off x="-3222720" y="304920"/>
            <a:ext cx="11907720" cy="4722480"/>
            <a:chOff x="-3222720" y="304920"/>
            <a:chExt cx="11907720" cy="4722480"/>
          </a:xfrm>
        </p:grpSpPr>
        <p:sp>
          <p:nvSpPr>
            <p:cNvPr id="48" name="Line 2"/>
            <p:cNvSpPr/>
            <p:nvPr/>
          </p:nvSpPr>
          <p:spPr>
            <a:xfrm>
              <a:off x="1447200" y="2513880"/>
              <a:ext cx="72378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3"/>
            <p:cNvSpPr/>
            <p:nvPr/>
          </p:nvSpPr>
          <p:spPr>
            <a:xfrm>
              <a:off x="-2514600" y="1371240"/>
              <a:ext cx="3656880" cy="365616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-3222720" y="304920"/>
              <a:ext cx="4038120" cy="40370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252000"/>
            <a:ext cx="73119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99cccc"/>
              </a:buClr>
              <a:buSzPct val="6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57200" y="624528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124080" y="62452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D1CE7E-C029-46F5-876C-BA55A825AC4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4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5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6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57EC98-33C3-4526-B2A2-8C6DD5E4E88A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A6FE49-84E1-459D-92A0-886127C5611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6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0B3D77-4DCE-4C9B-B71C-3B245CF3351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EBBE14-6581-4257-BC91-44B24A853C5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6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7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8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FA6E86-62F5-4AB2-A9D9-991CFFA392C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9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0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1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D94C8D-8B87-4636-9131-A3F376898BA5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2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3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384B67-B0B0-46C4-9E23-7D141DB284D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5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6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7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FDFF5E-3731-4954-B589-F4736FB6859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2DB894-3870-449F-AE87-6452F2E7916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1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2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3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5E5CF8-5EC4-4560-8783-52F19CCD154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1"/>
          <p:cNvSpPr/>
          <p:nvPr/>
        </p:nvSpPr>
        <p:spPr>
          <a:xfrm>
            <a:off x="205740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Times New Roman"/>
              </a:rPr>
              <a:t>ЗДОРОВАЯ СЕМЬЯ – ЗДОРОВЫЙ РЕБЕ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Text Box 2"/>
          <p:cNvSpPr/>
          <p:nvPr/>
        </p:nvSpPr>
        <p:spPr>
          <a:xfrm>
            <a:off x="1835280" y="4365720"/>
            <a:ext cx="74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Picture 2" descr="C:\Users\Школа1\Pictures\2013-01-25\100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Text Box 1"/>
          <p:cNvSpPr/>
          <p:nvPr/>
        </p:nvSpPr>
        <p:spPr>
          <a:xfrm>
            <a:off x="755640" y="378000"/>
            <a:ext cx="792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ОТКАЗ ОТ ВРЕДНЫХ ПРИСТРАСТ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Text Box 2"/>
          <p:cNvSpPr/>
          <p:nvPr/>
        </p:nvSpPr>
        <p:spPr>
          <a:xfrm>
            <a:off x="1042920" y="5661000"/>
            <a:ext cx="7313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003366"/>
                </a:solidFill>
                <a:latin typeface="Verdana"/>
              </a:rPr>
              <a:t>Вредные привычк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003366"/>
                </a:solidFill>
                <a:latin typeface="Verdana"/>
              </a:rPr>
              <a:t>пусть горят, как спички!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2" name="i-main-pic" descr="Картинка 49 из 84000"/>
          <p:cNvPicPr/>
          <p:nvPr/>
        </p:nvPicPr>
        <p:blipFill>
          <a:blip r:embed="rId1"/>
          <a:stretch/>
        </p:blipFill>
        <p:spPr>
          <a:xfrm>
            <a:off x="857160" y="1785960"/>
            <a:ext cx="2197080" cy="37339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4" descr=""/>
          <p:cNvPicPr/>
          <p:nvPr/>
        </p:nvPicPr>
        <p:blipFill>
          <a:blip r:embed="rId2"/>
          <a:stretch/>
        </p:blipFill>
        <p:spPr>
          <a:xfrm>
            <a:off x="6786720" y="1928880"/>
            <a:ext cx="2060280" cy="34290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4" descr="i?id=46237673-15-24"/>
          <p:cNvPicPr/>
          <p:nvPr/>
        </p:nvPicPr>
        <p:blipFill>
          <a:blip r:embed="rId3"/>
          <a:stretch/>
        </p:blipFill>
        <p:spPr>
          <a:xfrm>
            <a:off x="3571920" y="2143080"/>
            <a:ext cx="2697120" cy="26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ЛИЧНАЯ ГИГИЕ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2"/>
          <p:cNvSpPr/>
          <p:nvPr/>
        </p:nvSpPr>
        <p:spPr>
          <a:xfrm>
            <a:off x="324000" y="5661000"/>
            <a:ext cx="7313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003366"/>
                </a:solidFill>
                <a:latin typeface="Verdana"/>
              </a:rPr>
              <a:t>Запомнить нужно навсегда: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003366"/>
                </a:solidFill>
                <a:latin typeface="Verdana"/>
              </a:rPr>
              <a:t>залог здоровья – чистота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7" name="Picture 33" descr="91307b4f8fa3t"/>
          <p:cNvPicPr/>
          <p:nvPr/>
        </p:nvPicPr>
        <p:blipFill>
          <a:blip r:embed="rId1"/>
          <a:srcRect l="0" t="0" r="197" b="5497"/>
          <a:stretch/>
        </p:blipFill>
        <p:spPr>
          <a:xfrm>
            <a:off x="214200" y="150012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34" descr="6ef2c4d023c6t"/>
          <p:cNvPicPr/>
          <p:nvPr/>
        </p:nvPicPr>
        <p:blipFill>
          <a:blip r:embed="rId2"/>
          <a:srcRect l="0" t="0" r="0" b="6901"/>
          <a:stretch/>
        </p:blipFill>
        <p:spPr>
          <a:xfrm>
            <a:off x="5643720" y="3143160"/>
            <a:ext cx="33494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 Box 1"/>
          <p:cNvSpPr/>
          <p:nvPr/>
        </p:nvSpPr>
        <p:spPr>
          <a:xfrm>
            <a:off x="1370160" y="255600"/>
            <a:ext cx="7313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ПОЛОЖИТЕЛЬНЫЕ ЭМО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Text Box 2"/>
          <p:cNvSpPr/>
          <p:nvPr/>
        </p:nvSpPr>
        <p:spPr>
          <a:xfrm>
            <a:off x="684360" y="5157720"/>
            <a:ext cx="79992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900" spc="-1" strike="noStrike">
                <a:solidFill>
                  <a:srgbClr val="003366"/>
                </a:solidFill>
                <a:latin typeface="Verdana"/>
              </a:rPr>
              <a:t>Больше улыбайтесь,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900" spc="-1" strike="noStrike">
                <a:solidFill>
                  <a:srgbClr val="003366"/>
                </a:solidFill>
                <a:latin typeface="Verdana"/>
              </a:rPr>
              <a:t>каждым днем вы наслаждайтесь!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Rectangle 3"/>
          <p:cNvSpPr/>
          <p:nvPr/>
        </p:nvSpPr>
        <p:spPr>
          <a:xfrm>
            <a:off x="4503240" y="2563920"/>
            <a:ext cx="426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Здоровье - царство смех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Сам смех – тропа к успех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И все нам уда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когда душа сме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2" name="Picture 4" descr="post-53751-1221158065тб"/>
          <p:cNvPicPr/>
          <p:nvPr/>
        </p:nvPicPr>
        <p:blipFill>
          <a:blip r:embed="rId1"/>
          <a:stretch/>
        </p:blipFill>
        <p:spPr>
          <a:xfrm>
            <a:off x="361800" y="1785960"/>
            <a:ext cx="3067200" cy="302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1000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1"/>
          <p:cNvSpPr/>
          <p:nvPr/>
        </p:nvSpPr>
        <p:spPr>
          <a:xfrm>
            <a:off x="501480" y="1979640"/>
            <a:ext cx="77788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юбите своего ребёнк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юбите любым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лантливым  и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неталантливы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чливым и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неудач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Общаясь с ним, радуйтесь, потому что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ребёнок - это праздник,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котор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             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пока с Вами!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Rectangle 2" descr=""/>
          <p:cNvPicPr/>
          <p:nvPr/>
        </p:nvPicPr>
        <p:blipFill>
          <a:blip r:embed="rId1"/>
          <a:stretch/>
        </p:blipFill>
        <p:spPr>
          <a:xfrm>
            <a:off x="1365120" y="244440"/>
            <a:ext cx="7321680" cy="12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1"/>
          <p:cNvGrpSpPr/>
          <p:nvPr/>
        </p:nvGrpSpPr>
        <p:grpSpPr>
          <a:xfrm>
            <a:off x="0" y="-1440"/>
            <a:ext cx="9142560" cy="6858000"/>
            <a:chOff x="0" y="-1440"/>
            <a:chExt cx="9142560" cy="6858000"/>
          </a:xfrm>
        </p:grpSpPr>
        <p:pic>
          <p:nvPicPr>
            <p:cNvPr id="96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-1440"/>
              <a:ext cx="914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Text Box 3"/>
            <p:cNvSpPr/>
            <p:nvPr/>
          </p:nvSpPr>
          <p:spPr>
            <a:xfrm>
              <a:off x="0" y="-1440"/>
              <a:ext cx="9142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ПОСЛОВИЦЫ О ЗДОРОВЬ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2"/>
          <p:cNvSpPr/>
          <p:nvPr/>
        </p:nvSpPr>
        <p:spPr>
          <a:xfrm>
            <a:off x="1332000" y="1989000"/>
            <a:ext cx="31687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В ЗДОРОВОМ ТЕЛЕ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3"/>
          <p:cNvSpPr/>
          <p:nvPr/>
        </p:nvSpPr>
        <p:spPr>
          <a:xfrm>
            <a:off x="4500720" y="1989000"/>
            <a:ext cx="266364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ЗДОРОВЫЙ ДУ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4"/>
          <p:cNvSpPr/>
          <p:nvPr/>
        </p:nvSpPr>
        <p:spPr>
          <a:xfrm>
            <a:off x="900000" y="2924280"/>
            <a:ext cx="352764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ДЕРЖИ ГОЛОВУ В ХОЛОДЕ,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Rectangle 5"/>
          <p:cNvSpPr/>
          <p:nvPr/>
        </p:nvSpPr>
        <p:spPr>
          <a:xfrm>
            <a:off x="4427640" y="2924280"/>
            <a:ext cx="295272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А НОГИ -  В ТЕП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6"/>
          <p:cNvSpPr/>
          <p:nvPr/>
        </p:nvSpPr>
        <p:spPr>
          <a:xfrm>
            <a:off x="684360" y="3789360"/>
            <a:ext cx="568944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ВСЯКОЕ ДЕЛО ПОПРАВИМО, ЕСЛИ ЧЕЛОВЕК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Rectangle 7"/>
          <p:cNvSpPr/>
          <p:nvPr/>
        </p:nvSpPr>
        <p:spPr>
          <a:xfrm>
            <a:off x="6372360" y="3789360"/>
            <a:ext cx="172872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ЗД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Rectangle 8"/>
          <p:cNvSpPr/>
          <p:nvPr/>
        </p:nvSpPr>
        <p:spPr>
          <a:xfrm>
            <a:off x="684360" y="4581360"/>
            <a:ext cx="4824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ЗАБОЛЕЛ ЖИВОТ, ДЕРЖ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9"/>
          <p:cNvSpPr/>
          <p:nvPr/>
        </p:nvSpPr>
        <p:spPr>
          <a:xfrm>
            <a:off x="5508720" y="4581360"/>
            <a:ext cx="215892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ПУСТЫМ 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Rectangle 10"/>
          <p:cNvSpPr/>
          <p:nvPr/>
        </p:nvSpPr>
        <p:spPr>
          <a:xfrm>
            <a:off x="684360" y="5300640"/>
            <a:ext cx="482436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ЗЕМЛЮ СУШИТ ЗНОЙ, А ЧЕЛОВЕКА -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Rectangle 11"/>
          <p:cNvSpPr/>
          <p:nvPr/>
        </p:nvSpPr>
        <p:spPr>
          <a:xfrm>
            <a:off x="5508720" y="5300640"/>
            <a:ext cx="230328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БОЛЕЗ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Rectangle 12"/>
          <p:cNvSpPr/>
          <p:nvPr/>
        </p:nvSpPr>
        <p:spPr>
          <a:xfrm>
            <a:off x="684360" y="6165720"/>
            <a:ext cx="467964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К СЛАБОМУ И БОЛЕЗН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Rectangle 13"/>
          <p:cNvSpPr/>
          <p:nvPr/>
        </p:nvSpPr>
        <p:spPr>
          <a:xfrm>
            <a:off x="5364000" y="6165720"/>
            <a:ext cx="2592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ПРИСТ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par>
              <p:cTn id="2" nodeType="interactiveSeq" fill="hold">
                <p:childTnLst>
                  <p:par>
                    <p:cTn id="3" fill="hold"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1" nodeType="interactiveSeq" fill="hold">
                <p:childTnLst>
                  <p:par>
                    <p:cTn id="12" fill="hold"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0" nodeType="interactiveSeq" fill="hold">
                <p:childTnLst>
                  <p:par>
                    <p:cTn id="21" fill="hold"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9" nodeType="interactiveSeq" fill="hold">
                <p:childTnLst>
                  <p:par>
                    <p:cTn id="30" fill="hold"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38" nodeType="interactiveSeq" fill="hold">
                <p:childTnLst>
                  <p:par>
                    <p:cTn id="39" fill="hold"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47" nodeType="interactiveSeq" fill="hold">
                <p:childTnLst>
                  <p:par>
                    <p:cTn id="48" fill="hold"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seq>
              <p:cTn id="56" restart="whenNotActive" nodeType="interactiveSeq" fill="hold">
                <p:stCondLst>
                  <p:cond evt="onClick">
                    <p:tgtEl>
                      <p:spTgt spid="964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964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1" dur="250" autoRev="1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2" dur="250" autoRev="1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50" autoRev="1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2" dur="250" autoRev="1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3" dur="250" autoRev="1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50" autoRev="1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4" dur="250" autoRev="1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970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970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250" autoRev="1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94" dur="250" autoRev="1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" dur="250" autoRev="1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972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972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5" dur="250" autoRev="1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6" dur="250" autoRev="1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74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974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50" autoRev="1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6" dur="250" autoRev="1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7" dur="250" autoRev="1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1"/>
          <p:cNvSpPr/>
          <p:nvPr/>
        </p:nvSpPr>
        <p:spPr>
          <a:xfrm>
            <a:off x="1547640" y="1989000"/>
            <a:ext cx="676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Здоровая семья – это семья,  в которой присутствуют взаимопонимание,  доверие,  уважение,  любовь,  дружба,  совместные д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1"/>
          <p:cNvGrpSpPr/>
          <p:nvPr/>
        </p:nvGrpSpPr>
        <p:grpSpPr>
          <a:xfrm>
            <a:off x="0" y="-1440"/>
            <a:ext cx="9142560" cy="6858000"/>
            <a:chOff x="0" y="-1440"/>
            <a:chExt cx="9142560" cy="6858000"/>
          </a:xfrm>
        </p:grpSpPr>
        <p:pic>
          <p:nvPicPr>
            <p:cNvPr id="979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-1440"/>
              <a:ext cx="914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Text Box 3"/>
            <p:cNvSpPr/>
            <p:nvPr/>
          </p:nvSpPr>
          <p:spPr>
            <a:xfrm>
              <a:off x="0" y="-1440"/>
              <a:ext cx="9142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РАЦИОНАЛЬНОЕ ПИТ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2"/>
          <p:cNvSpPr/>
          <p:nvPr/>
        </p:nvSpPr>
        <p:spPr>
          <a:xfrm>
            <a:off x="1332000" y="5805360"/>
            <a:ext cx="7313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Verdana"/>
              </a:rPr>
              <a:t>Будешь правильно питаться –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Verdana"/>
              </a:rPr>
              <a:t>со здоровьем будешь знаться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3" name="Picture 5" descr="F:\К педсовету ЗОЖ\Здоровая семья Род собрание\pitanie1.gif"/>
          <p:cNvPicPr/>
          <p:nvPr/>
        </p:nvPicPr>
        <p:blipFill>
          <a:blip r:embed="rId1"/>
          <a:stretch/>
        </p:blipFill>
        <p:spPr>
          <a:xfrm>
            <a:off x="2286000" y="1643040"/>
            <a:ext cx="4286160" cy="39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1"/>
          <p:cNvSpPr/>
          <p:nvPr/>
        </p:nvSpPr>
        <p:spPr>
          <a:xfrm>
            <a:off x="900000" y="500040"/>
            <a:ext cx="77835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ОПТИМАЛЬНЫЙ ДВИГАТЕЛЬНЫЙ РЕЖ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1370160" y="5734080"/>
            <a:ext cx="73134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Verdana"/>
              </a:rPr>
              <a:t>Чтоб сильным и здоровым бы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Verdana"/>
              </a:rPr>
              <a:t>в спортивный зал надо ходи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i-main-pic" descr="Картинка 9 из 84000"/>
          <p:cNvPicPr/>
          <p:nvPr/>
        </p:nvPicPr>
        <p:blipFill>
          <a:blip r:embed="rId1"/>
          <a:srcRect l="0" t="0" r="15206" b="0"/>
          <a:stretch/>
        </p:blipFill>
        <p:spPr>
          <a:xfrm>
            <a:off x="2571840" y="1928880"/>
            <a:ext cx="3786120" cy="33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Picture 3" descr="C:\Users\Школа1\Desktop\ПОРТФОЛИО\SAM_9945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2" descr="C:\Users\Школа1\Desktop\ПОРТФОЛИО\SAM_9950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нтарева Анна Ивановна</dc:creator>
  <dc:description/>
  <dc:language>en-US</dc:language>
  <cp:lastModifiedBy>Школа1</cp:lastModifiedBy>
  <dcterms:modified xsi:type="dcterms:W3CDTF">2018-01-27T16:47:30Z</dcterms:modified>
  <cp:revision>12</cp:revision>
  <dc:subject/>
  <dc:title>ЗДОРОВАЯ СЕМЬЯ – ЗДОРОВЫЙ РЕБЕНОК</dc:title>
</cp:coreProperties>
</file>