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D4BA3-E6EC-45A8-AFA0-36463E1C9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F5AA6-F38D-46E8-9B6B-822E09B3D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BD2D6-E0F0-4844-9D0E-C4BA4A4BA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2DDC9-A030-44DB-8DE3-D61162F2A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6CB9D-A447-40DB-89A6-43A72D7AC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5A7E9-E598-4BB6-B593-E3D0E376D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85F25-4F34-47DF-B914-BA8B80D08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90389-DF37-4282-8B19-8BEFD85D4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4BF57-36E7-4390-9250-85E4CEC55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0A829-AE44-4E4F-81AB-572DE0F93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2A582-1A4B-4DE7-ACD8-0C4B2AB75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D5659-FED2-4AD1-B79A-0ED78324A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8CB24-0880-42C7-ADEC-E18DEBE86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413D4-9360-4172-86F4-DB7AD981E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0AB8A-5BF3-4300-8AE1-33787DF75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8D291-5427-4F26-A31B-6983C9BC9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EC27F-9EEB-491F-ABE7-27A000411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5E875-CDA1-4316-94DC-BDA9AC159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6B50C-2176-44C7-AEDE-63DBEBAC1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BFDAD-3DB0-44EE-ABB8-D8FAF4B8B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1FF38-3A9C-4BD6-8BB8-AA706812D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EB98A-8624-4882-B1EA-78DC53442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AE357-0561-4FAE-AA33-B473A58C1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11E02-FF0F-409F-AB73-F1EDB7734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77D05-DA2A-4E87-AF07-2D9D5697EED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E9842-A92C-4451-9AA6-A0E405CBCEB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Строение Земли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98" name="Picture 7" descr="ANIM0041"/>
          <p:cNvPicPr/>
          <p:nvPr/>
        </p:nvPicPr>
        <p:blipFill>
          <a:blip r:embed="rId1"/>
          <a:stretch/>
        </p:blipFill>
        <p:spPr>
          <a:xfrm>
            <a:off x="2771640" y="2492280"/>
            <a:ext cx="3595680" cy="33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Домашнее задание:</a:t>
            </a: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§</a:t>
            </a: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6 или Презентация о внутреннем строении планет солнечной системы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07T18:56:28Z</dcterms:created>
  <dc:creator>Customer</dc:creator>
  <dc:description/>
  <dc:language>en-US</dc:language>
  <cp:lastModifiedBy>Customer</cp:lastModifiedBy>
  <dcterms:modified xsi:type="dcterms:W3CDTF">2014-10-07T19:04:38Z</dcterms:modified>
  <cp:revision>1</cp:revision>
  <dc:subject/>
  <dc:title>  Строение Земли</dc:title>
</cp:coreProperties>
</file>