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33.png" ContentType="image/png"/>
  <Override PartName="/ppt/media/image43.png" ContentType="image/png"/>
  <Override PartName="/ppt/media/image5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51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54.png" ContentType="image/png"/>
  <Override PartName="/ppt/media/image31.jpeg" ContentType="image/jpeg"/>
  <Override PartName="/ppt/media/image30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5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47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778-21FF-4358-A948-DEA55273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8F7-75C8-4DAE-9A3A-297FA28D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E35-AF50-4065-97ED-3069EDAB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3A85-E6BA-4240-BCED-3639EB36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45F0-2064-4C0E-A77B-64D7365C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A5A5-A949-49B3-8E14-8C069575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C7B0-7248-49E3-8434-DF4E0C03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EFB0-5FC2-4DB5-8E17-77390590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7032-0C56-47E4-B3E8-A4580D3E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11DC-5A66-4451-9D06-4760673D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EDE5-6E45-46D0-B15A-B040D9A1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3B5-BCB6-43D7-A5FF-DF0DE0AB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C520-24FB-4333-BC59-3991E54F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4FEB-1D3E-4DED-87CB-9BF29812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F806-7D7D-45C7-A4C6-36F304CD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174C-216F-48D4-A22F-BE147992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6E88-EAAB-4533-8D46-45ADF14E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9A8-5A3A-497C-8F5C-02D86BF2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22E-F080-4F2B-8880-866A7831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49E-20BD-48EE-90F2-6624788F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51A-4535-45D7-8023-6F9D164D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D54-A12E-4F2B-A5D7-A9316A3B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073-137D-4A41-81E3-A4E69381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8FA-2BEE-44E0-87AF-F2638F66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0895-083C-48F3-A520-329F71DC37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68CA-CA86-4F5C-BB24-CAA0ED90FD4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47.png"/><Relationship Id="rId14" Type="http://schemas.openxmlformats.org/officeDocument/2006/relationships/image" Target="../media/image52.jpeg"/><Relationship Id="rId15" Type="http://schemas.openxmlformats.org/officeDocument/2006/relationships/image" Target="../media/image53.jpe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3.png"/><Relationship Id="rId11" Type="http://schemas.openxmlformats.org/officeDocument/2006/relationships/image" Target="../media/image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54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3.png"/><Relationship Id="rId13" Type="http://schemas.openxmlformats.org/officeDocument/2006/relationships/image" Target="../media/image9.png"/><Relationship Id="rId14" Type="http://schemas.openxmlformats.org/officeDocument/2006/relationships/image" Target="../media/image10.jpeg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3.png"/><Relationship Id="rId11" Type="http://schemas.openxmlformats.org/officeDocument/2006/relationships/image" Target="../media/image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3.png"/><Relationship Id="rId13" Type="http://schemas.openxmlformats.org/officeDocument/2006/relationships/image" Target="../media/image19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20.png"/><Relationship Id="rId10" Type="http://schemas.openxmlformats.org/officeDocument/2006/relationships/image" Target="../media/image5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3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jpeg"/><Relationship Id="rId17" Type="http://schemas.openxmlformats.org/officeDocument/2006/relationships/image" Target="../media/image26.jpeg"/><Relationship Id="rId18" Type="http://schemas.openxmlformats.org/officeDocument/2006/relationships/image" Target="../media/image27.jpe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image" Target="../media/image30.jpeg"/><Relationship Id="rId22" Type="http://schemas.openxmlformats.org/officeDocument/2006/relationships/image" Target="../media/image31.jpeg"/><Relationship Id="rId23" Type="http://schemas.openxmlformats.org/officeDocument/2006/relationships/image" Target="../media/image32.jpe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8.jpe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39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0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3.png"/><Relationship Id="rId13" Type="http://schemas.openxmlformats.org/officeDocument/2006/relationships/image" Target="../media/image43.png"/><Relationship Id="rId14" Type="http://schemas.openxmlformats.org/officeDocument/2006/relationships/image" Target="../media/image11.jpeg"/><Relationship Id="rId15" Type="http://schemas.openxmlformats.org/officeDocument/2006/relationships/image" Target="../media/image44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295280" y="0"/>
            <a:ext cx="7848720" cy="6858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WordArt 7"/>
          <p:cNvSpPr txBox="1"/>
          <p:nvPr/>
        </p:nvSpPr>
        <p:spPr>
          <a:xfrm rot="5400000">
            <a:off x="-2095560" y="3085920"/>
            <a:ext cx="5410080" cy="609480"/>
          </a:xfrm>
          <a:prstGeom prst="rect">
            <a:avLst/>
          </a:prstGeom>
        </p:spPr>
        <p:txBody>
          <a:bodyPr wrap="none" lIns="90000" rIns="90000" tIns="46800" bIns="46800" anchor="t" vert="eaVert">
            <a:prstTxWarp prst="textPlain">
              <a:avLst>
                <a:gd name="adj" fmla="val 49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3" name="Rectangle 40"/>
          <p:cNvSpPr/>
          <p:nvPr/>
        </p:nvSpPr>
        <p:spPr>
          <a:xfrm>
            <a:off x="1295280" y="82440"/>
            <a:ext cx="78487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54"/>
          <p:cNvSpPr/>
          <p:nvPr/>
        </p:nvSpPr>
        <p:spPr>
          <a:xfrm>
            <a:off x="4114800" y="3809880"/>
            <a:ext cx="609480" cy="1905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55"/>
          <p:cNvSpPr/>
          <p:nvPr/>
        </p:nvSpPr>
        <p:spPr>
          <a:xfrm>
            <a:off x="2286000" y="3809880"/>
            <a:ext cx="609480" cy="1905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56"/>
          <p:cNvSpPr/>
          <p:nvPr/>
        </p:nvSpPr>
        <p:spPr>
          <a:xfrm>
            <a:off x="2895480" y="3809880"/>
            <a:ext cx="609840" cy="1905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57"/>
          <p:cNvSpPr/>
          <p:nvPr/>
        </p:nvSpPr>
        <p:spPr>
          <a:xfrm>
            <a:off x="3505320" y="3809880"/>
            <a:ext cx="609480" cy="1905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8"/>
          <p:cNvSpPr/>
          <p:nvPr/>
        </p:nvSpPr>
        <p:spPr>
          <a:xfrm>
            <a:off x="4724280" y="3809880"/>
            <a:ext cx="609840" cy="1905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59"/>
          <p:cNvSpPr/>
          <p:nvPr/>
        </p:nvSpPr>
        <p:spPr>
          <a:xfrm>
            <a:off x="5334120" y="3809880"/>
            <a:ext cx="609480" cy="1905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60"/>
          <p:cNvSpPr/>
          <p:nvPr/>
        </p:nvSpPr>
        <p:spPr>
          <a:xfrm>
            <a:off x="5943600" y="3809880"/>
            <a:ext cx="609480" cy="1905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6553080" y="3809880"/>
            <a:ext cx="609840" cy="1905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62"/>
          <p:cNvSpPr/>
          <p:nvPr/>
        </p:nvSpPr>
        <p:spPr>
          <a:xfrm>
            <a:off x="7162920" y="3809880"/>
            <a:ext cx="609480" cy="1905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63"/>
          <p:cNvSpPr/>
          <p:nvPr/>
        </p:nvSpPr>
        <p:spPr>
          <a:xfrm>
            <a:off x="1905120" y="2209680"/>
            <a:ext cx="6476760" cy="160020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64"/>
          <p:cNvSpPr/>
          <p:nvPr/>
        </p:nvSpPr>
        <p:spPr>
          <a:xfrm>
            <a:off x="2971800" y="4114800"/>
            <a:ext cx="1295280" cy="1066680"/>
          </a:xfrm>
          <a:custGeom>
            <a:avLst/>
            <a:gdLst>
              <a:gd name="textAreaLeft" fmla="*/ 323640 w 1295280"/>
              <a:gd name="textAreaRight" fmla="*/ 971640 w 12952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6229" h="21600">
                <a:moveTo>
                  <a:pt x="0" y="0"/>
                </a:moveTo>
                <a:lnTo>
                  <a:pt x="0" y="21600"/>
                </a:lnTo>
                <a:lnTo>
                  <a:pt x="26229" y="21600"/>
                </a:lnTo>
                <a:lnTo>
                  <a:pt x="26229" y="0"/>
                </a:lnTo>
                <a:lnTo>
                  <a:pt x="0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0829" y="16200"/>
                </a:lnTo>
                <a:lnTo>
                  <a:pt x="20829" y="5400"/>
                </a:lnTo>
                <a:lnTo>
                  <a:pt x="5400" y="5400"/>
                </a:lnTo>
                <a:close/>
              </a:path>
            </a:pathLst>
          </a:custGeom>
          <a:gradFill rotWithShape="0">
            <a:gsLst>
              <a:gs pos="0">
                <a:srgbClr val="646d53"/>
              </a:gs>
              <a:gs pos="50000">
                <a:srgbClr val="d8ecb3"/>
              </a:gs>
              <a:gs pos="100000">
                <a:srgbClr val="646d5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65"/>
          <p:cNvSpPr/>
          <p:nvPr/>
        </p:nvSpPr>
        <p:spPr>
          <a:xfrm>
            <a:off x="5943600" y="4114800"/>
            <a:ext cx="1295280" cy="1066680"/>
          </a:xfrm>
          <a:custGeom>
            <a:avLst/>
            <a:gdLst>
              <a:gd name="textAreaLeft" fmla="*/ 323640 w 1295280"/>
              <a:gd name="textAreaRight" fmla="*/ 971640 w 12952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6229" h="21600">
                <a:moveTo>
                  <a:pt x="0" y="0"/>
                </a:moveTo>
                <a:lnTo>
                  <a:pt x="0" y="21600"/>
                </a:lnTo>
                <a:lnTo>
                  <a:pt x="26229" y="21600"/>
                </a:lnTo>
                <a:lnTo>
                  <a:pt x="26229" y="0"/>
                </a:lnTo>
                <a:lnTo>
                  <a:pt x="0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0829" y="16200"/>
                </a:lnTo>
                <a:lnTo>
                  <a:pt x="20829" y="5400"/>
                </a:lnTo>
                <a:lnTo>
                  <a:pt x="5400" y="5400"/>
                </a:lnTo>
                <a:close/>
              </a:path>
            </a:pathLst>
          </a:custGeom>
          <a:gradFill rotWithShape="0">
            <a:gsLst>
              <a:gs pos="0">
                <a:srgbClr val="646d53"/>
              </a:gs>
              <a:gs pos="50000">
                <a:srgbClr val="d8ecb3"/>
              </a:gs>
              <a:gs pos="100000">
                <a:srgbClr val="646d5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6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7"/>
          <p:cNvSpPr/>
          <p:nvPr/>
        </p:nvSpPr>
        <p:spPr>
          <a:xfrm>
            <a:off x="6248520" y="4343400"/>
            <a:ext cx="6858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68"/>
          <p:cNvSpPr/>
          <p:nvPr/>
        </p:nvSpPr>
        <p:spPr>
          <a:xfrm>
            <a:off x="4800600" y="4114800"/>
            <a:ext cx="609480" cy="1066680"/>
          </a:xfrm>
          <a:prstGeom prst="rect">
            <a:avLst/>
          </a:pr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72"/>
          <p:cNvSpPr/>
          <p:nvPr/>
        </p:nvSpPr>
        <p:spPr>
          <a:xfrm>
            <a:off x="2209680" y="2209680"/>
            <a:ext cx="5867640" cy="1524240"/>
          </a:xfrm>
          <a:prstGeom prst="triangle">
            <a:avLst>
              <a:gd name="adj" fmla="val 507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«ДЕТСКИЙ САД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ОБЩЕРАЗВИВАЮЩЕГО ВИДА №З4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Cloud"/>
          <p:cNvSpPr/>
          <p:nvPr/>
        </p:nvSpPr>
        <p:spPr>
          <a:xfrm>
            <a:off x="5715000" y="1523880"/>
            <a:ext cx="1981080" cy="855720"/>
          </a:xfrm>
          <a:custGeom>
            <a:avLst/>
            <a:gdLst>
              <a:gd name="textAreaLeft" fmla="*/ 272880 w 1981080"/>
              <a:gd name="textAreaRight" fmla="*/ 1567440 w 1981080"/>
              <a:gd name="textAreaTop" fmla="*/ 129240 h 855720"/>
              <a:gd name="textAreaBottom" fmla="*/ 686880 h 855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Cloud"/>
          <p:cNvSpPr/>
          <p:nvPr/>
        </p:nvSpPr>
        <p:spPr>
          <a:xfrm>
            <a:off x="7531200" y="1986120"/>
            <a:ext cx="1600200" cy="1073160"/>
          </a:xfrm>
          <a:custGeom>
            <a:avLst/>
            <a:gdLst>
              <a:gd name="textAreaLeft" fmla="*/ 220320 w 1600200"/>
              <a:gd name="textAreaRight" fmla="*/ 1266120 w 1600200"/>
              <a:gd name="textAreaTop" fmla="*/ 162000 h 1073160"/>
              <a:gd name="textAreaBottom" fmla="*/ 861480 h 1073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WordArt 107"/>
          <p:cNvSpPr txBox="1"/>
          <p:nvPr/>
        </p:nvSpPr>
        <p:spPr>
          <a:xfrm>
            <a:off x="2819520" y="2819520"/>
            <a:ext cx="4495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Rectangle 111"/>
          <p:cNvSpPr/>
          <p:nvPr/>
        </p:nvSpPr>
        <p:spPr>
          <a:xfrm>
            <a:off x="2971800" y="5791320"/>
            <a:ext cx="41911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12"/>
          <p:cNvSpPr/>
          <p:nvPr/>
        </p:nvSpPr>
        <p:spPr>
          <a:xfrm>
            <a:off x="3124080" y="5715000"/>
            <a:ext cx="38102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13"/>
          <p:cNvSpPr/>
          <p:nvPr/>
        </p:nvSpPr>
        <p:spPr>
          <a:xfrm>
            <a:off x="2819520" y="5867280"/>
            <a:ext cx="449568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4"/>
          <p:cNvSpPr/>
          <p:nvPr/>
        </p:nvSpPr>
        <p:spPr>
          <a:xfrm>
            <a:off x="2743200" y="5943600"/>
            <a:ext cx="472428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ree"/>
          <p:cNvSpPr/>
          <p:nvPr/>
        </p:nvSpPr>
        <p:spPr>
          <a:xfrm>
            <a:off x="1295280" y="3733920"/>
            <a:ext cx="1809720" cy="312408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3247920 h 3124080"/>
              <a:gd name="textAreaBottom" fmla="*/ 409068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ree"/>
          <p:cNvSpPr/>
          <p:nvPr/>
        </p:nvSpPr>
        <p:spPr>
          <a:xfrm>
            <a:off x="2895480" y="504828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121"/>
          <p:cNvSpPr/>
          <p:nvPr/>
        </p:nvSpPr>
        <p:spPr>
          <a:xfrm>
            <a:off x="1295280" y="0"/>
            <a:ext cx="7848720" cy="1219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filecab3"/>
          <p:cNvSpPr/>
          <p:nvPr/>
        </p:nvSpPr>
        <p:spPr>
          <a:xfrm>
            <a:off x="3200400" y="228600"/>
            <a:ext cx="5562720" cy="990720"/>
          </a:xfrm>
          <a:custGeom>
            <a:avLst/>
            <a:gdLst>
              <a:gd name="textAreaLeft" fmla="*/ 258480 w 5562720"/>
              <a:gd name="textAreaRight" fmla="*/ 5290560 w 5562720"/>
              <a:gd name="textAreaTop" fmla="*/ 23400 h 990720"/>
              <a:gd name="textAreaBottom" fmla="*/ 860760 h 990720"/>
            </a:gdLst>
            <a:ahLst/>
            <a:rect l="textAreaLeft" t="textAreaTop" r="textAreaRight" b="textAreaBottom"/>
            <a:pathLst>
              <a:path w="21600" h="21600">
                <a:moveTo>
                  <a:pt x="10788" y="0"/>
                </a:moveTo>
                <a:lnTo>
                  <a:pt x="0" y="0"/>
                </a:lnTo>
                <a:lnTo>
                  <a:pt x="0" y="10800"/>
                </a:lnTo>
                <a:lnTo>
                  <a:pt x="0" y="19099"/>
                </a:lnTo>
                <a:lnTo>
                  <a:pt x="8466" y="19099"/>
                </a:lnTo>
                <a:lnTo>
                  <a:pt x="8490" y="19440"/>
                </a:lnTo>
                <a:lnTo>
                  <a:pt x="8537" y="20008"/>
                </a:lnTo>
                <a:lnTo>
                  <a:pt x="8607" y="20349"/>
                </a:lnTo>
                <a:lnTo>
                  <a:pt x="8701" y="20691"/>
                </a:lnTo>
                <a:lnTo>
                  <a:pt x="8842" y="21145"/>
                </a:lnTo>
                <a:lnTo>
                  <a:pt x="9053" y="21373"/>
                </a:lnTo>
                <a:lnTo>
                  <a:pt x="9264" y="21600"/>
                </a:lnTo>
                <a:lnTo>
                  <a:pt x="9545" y="21600"/>
                </a:lnTo>
                <a:lnTo>
                  <a:pt x="10718" y="21600"/>
                </a:lnTo>
                <a:lnTo>
                  <a:pt x="11891" y="21600"/>
                </a:lnTo>
                <a:lnTo>
                  <a:pt x="12266" y="21600"/>
                </a:lnTo>
                <a:lnTo>
                  <a:pt x="12477" y="21429"/>
                </a:lnTo>
                <a:lnTo>
                  <a:pt x="12618" y="21202"/>
                </a:lnTo>
                <a:lnTo>
                  <a:pt x="12758" y="20861"/>
                </a:lnTo>
                <a:lnTo>
                  <a:pt x="12922" y="20349"/>
                </a:lnTo>
                <a:lnTo>
                  <a:pt x="12993" y="19952"/>
                </a:lnTo>
                <a:lnTo>
                  <a:pt x="13016" y="19440"/>
                </a:lnTo>
                <a:lnTo>
                  <a:pt x="13063" y="19099"/>
                </a:lnTo>
                <a:lnTo>
                  <a:pt x="21600" y="19099"/>
                </a:lnTo>
                <a:lnTo>
                  <a:pt x="21600" y="10800"/>
                </a:lnTo>
                <a:lnTo>
                  <a:pt x="21600" y="0"/>
                </a:lnTo>
                <a:lnTo>
                  <a:pt x="10788" y="0"/>
                </a:lnTo>
                <a:close/>
                <a:moveTo>
                  <a:pt x="9053" y="19099"/>
                </a:moveTo>
                <a:lnTo>
                  <a:pt x="9053" y="19440"/>
                </a:lnTo>
                <a:lnTo>
                  <a:pt x="9076" y="19611"/>
                </a:lnTo>
                <a:lnTo>
                  <a:pt x="9123" y="19781"/>
                </a:lnTo>
                <a:lnTo>
                  <a:pt x="9193" y="20008"/>
                </a:lnTo>
                <a:lnTo>
                  <a:pt x="9264" y="20179"/>
                </a:lnTo>
                <a:lnTo>
                  <a:pt x="9334" y="20293"/>
                </a:lnTo>
                <a:lnTo>
                  <a:pt x="9405" y="20349"/>
                </a:lnTo>
                <a:lnTo>
                  <a:pt x="9545" y="20349"/>
                </a:lnTo>
                <a:lnTo>
                  <a:pt x="11891" y="20349"/>
                </a:lnTo>
                <a:lnTo>
                  <a:pt x="12031" y="20349"/>
                </a:lnTo>
                <a:lnTo>
                  <a:pt x="12172" y="20236"/>
                </a:lnTo>
                <a:lnTo>
                  <a:pt x="12266" y="20179"/>
                </a:lnTo>
                <a:lnTo>
                  <a:pt x="12336" y="20008"/>
                </a:lnTo>
                <a:lnTo>
                  <a:pt x="12383" y="19838"/>
                </a:lnTo>
                <a:lnTo>
                  <a:pt x="12430" y="19611"/>
                </a:lnTo>
                <a:lnTo>
                  <a:pt x="12477" y="19440"/>
                </a:lnTo>
                <a:lnTo>
                  <a:pt x="12477" y="19099"/>
                </a:lnTo>
                <a:lnTo>
                  <a:pt x="9053" y="19099"/>
                </a:lnTo>
                <a:close/>
              </a:path>
              <a:path w="21600" h="21600">
                <a:moveTo>
                  <a:pt x="9053" y="19099"/>
                </a:moveTo>
                <a:lnTo>
                  <a:pt x="0" y="19099"/>
                </a:lnTo>
                <a:lnTo>
                  <a:pt x="21600" y="19099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23"/>
          <p:cNvSpPr/>
          <p:nvPr/>
        </p:nvSpPr>
        <p:spPr>
          <a:xfrm>
            <a:off x="3200400" y="228600"/>
            <a:ext cx="5867280" cy="990720"/>
          </a:xfrm>
          <a:prstGeom prst="rect">
            <a:avLst/>
          </a:prstGeom>
          <a:solidFill>
            <a:srgbClr val="eff83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УНИЦИПАЛЬНО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ДОШКОЛЬНОЕ ОБРАЗОВАТЕЛЬНОЕ УЧРЕЖДЕНИЕ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СОВЕТСКОГО  РАЙОНА  ГОРОДА ВОРОНЕЖ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24"/>
          <p:cNvSpPr/>
          <p:nvPr/>
        </p:nvSpPr>
        <p:spPr>
          <a:xfrm>
            <a:off x="1066680" y="0"/>
            <a:ext cx="2057400" cy="190512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434880 h 1905120"/>
              <a:gd name="textAreaBottom" fmla="*/ 14702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125"/>
          <p:cNvSpPr/>
          <p:nvPr/>
        </p:nvSpPr>
        <p:spPr>
          <a:xfrm>
            <a:off x="1447920" y="304920"/>
            <a:ext cx="1295280" cy="1218960"/>
          </a:xfrm>
          <a:prstGeom prst="smileyFace">
            <a:avLst>
              <a:gd name="adj" fmla="val 9282"/>
            </a:avLst>
          </a:prstGeom>
          <a:solidFill>
            <a:srgbClr val="fdd81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Oval 126"/>
          <p:cNvSpPr/>
          <p:nvPr/>
        </p:nvSpPr>
        <p:spPr>
          <a:xfrm>
            <a:off x="1828800" y="68580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Oval 127"/>
          <p:cNvSpPr/>
          <p:nvPr/>
        </p:nvSpPr>
        <p:spPr>
          <a:xfrm>
            <a:off x="2286000" y="685800"/>
            <a:ext cx="15228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128"/>
          <p:cNvSpPr/>
          <p:nvPr/>
        </p:nvSpPr>
        <p:spPr>
          <a:xfrm>
            <a:off x="1981080" y="914400"/>
            <a:ext cx="228600" cy="1522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29"/>
          <p:cNvSpPr/>
          <p:nvPr/>
        </p:nvSpPr>
        <p:spPr>
          <a:xfrm rot="16200000">
            <a:off x="1981080" y="1294920"/>
            <a:ext cx="152280" cy="304560"/>
          </a:xfrm>
          <a:prstGeom prst="flowChartCollat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Иnstrumental_naya_muzyka%2FRichard_Klauderman_-_Romeo_i_Dzhul_etta_val_s_Иnstrumental_naya_mp3davalka.com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686800" cy="6095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eff83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eff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Oval 5"/>
          <p:cNvSpPr/>
          <p:nvPr/>
        </p:nvSpPr>
        <p:spPr>
          <a:xfrm>
            <a:off x="4876920" y="1523880"/>
            <a:ext cx="228600" cy="228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Oval 6"/>
          <p:cNvSpPr/>
          <p:nvPr/>
        </p:nvSpPr>
        <p:spPr>
          <a:xfrm>
            <a:off x="6553080" y="289548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Oval 7"/>
          <p:cNvSpPr/>
          <p:nvPr/>
        </p:nvSpPr>
        <p:spPr>
          <a:xfrm>
            <a:off x="5867280" y="205740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Oval 8"/>
          <p:cNvSpPr/>
          <p:nvPr/>
        </p:nvSpPr>
        <p:spPr>
          <a:xfrm>
            <a:off x="8077320" y="243828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2133720" y="594360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3505320" y="5867280"/>
            <a:ext cx="228600" cy="2286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Oval 11"/>
          <p:cNvSpPr/>
          <p:nvPr/>
        </p:nvSpPr>
        <p:spPr>
          <a:xfrm>
            <a:off x="4191120" y="5181480"/>
            <a:ext cx="228600" cy="2286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AutoShape 12"/>
          <p:cNvSpPr/>
          <p:nvPr/>
        </p:nvSpPr>
        <p:spPr>
          <a:xfrm>
            <a:off x="0" y="0"/>
            <a:ext cx="8229600" cy="1219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Oval 16"/>
          <p:cNvSpPr/>
          <p:nvPr/>
        </p:nvSpPr>
        <p:spPr>
          <a:xfrm>
            <a:off x="8153280" y="990720"/>
            <a:ext cx="762120" cy="6858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Oval 17"/>
          <p:cNvSpPr/>
          <p:nvPr/>
        </p:nvSpPr>
        <p:spPr>
          <a:xfrm>
            <a:off x="6705720" y="1600200"/>
            <a:ext cx="228600" cy="2286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Oval 18"/>
          <p:cNvSpPr/>
          <p:nvPr/>
        </p:nvSpPr>
        <p:spPr>
          <a:xfrm>
            <a:off x="4267080" y="2438280"/>
            <a:ext cx="762120" cy="6858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AutoShape 19"/>
          <p:cNvSpPr/>
          <p:nvPr/>
        </p:nvSpPr>
        <p:spPr>
          <a:xfrm>
            <a:off x="0" y="228600"/>
            <a:ext cx="8191440" cy="1104840"/>
          </a:xfrm>
          <a:prstGeom prst="flowChartAlternateProcess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ОЧЕНЬ ПРИЯТНО, ЧТО ВОСПИТАННИКИ ГРУППЫ «ЛИМПОПО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ПРИ АКТИВНОЙ ПОМОЩИ РОДИТЕЛЕЙ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СТАЛИ ПРИЗЕРАМИ В ТРЕХ ТВОРЧЕСКИХ КОНКУРСАХ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ПРОВОДИМЫХ В ДЕТСКОМ САДУ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057320" y="5410080"/>
            <a:ext cx="3505320" cy="76212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ДЕТИ ОЧЕНЬ ГОРДЯТСЯ НАШИМ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ДОСТИЖЕНИЯМ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5410080" y="1333440"/>
            <a:ext cx="3733920" cy="95256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КОНКУРС  ИГР П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СОЦИАЛЬНО-КОММУНИКАТИВНОМ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РАЗВИТИЮ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Picture 2" descr="H:\DCIM\101MSDCF\DSC03115.JPG"/>
          <p:cNvPicPr/>
          <p:nvPr/>
        </p:nvPicPr>
        <p:blipFill>
          <a:blip r:embed="rId14"/>
          <a:stretch/>
        </p:blipFill>
        <p:spPr>
          <a:xfrm>
            <a:off x="4876920" y="2666880"/>
            <a:ext cx="4230720" cy="3954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H:\DCIM\101MSDCF\DSC03116.JPG"/>
          <p:cNvPicPr/>
          <p:nvPr/>
        </p:nvPicPr>
        <p:blipFill>
          <a:blip r:embed="rId15"/>
          <a:stretch/>
        </p:blipFill>
        <p:spPr>
          <a:xfrm>
            <a:off x="611280" y="1828800"/>
            <a:ext cx="4079880" cy="3060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686800" cy="6095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eff83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eff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4876920" y="1523880"/>
            <a:ext cx="228600" cy="228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89548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5867280" y="205740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Oval 8"/>
          <p:cNvSpPr/>
          <p:nvPr/>
        </p:nvSpPr>
        <p:spPr>
          <a:xfrm>
            <a:off x="8077320" y="243828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Oval 9"/>
          <p:cNvSpPr/>
          <p:nvPr/>
        </p:nvSpPr>
        <p:spPr>
          <a:xfrm>
            <a:off x="2133720" y="594360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3505320" y="5867280"/>
            <a:ext cx="228600" cy="2286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11"/>
          <p:cNvSpPr/>
          <p:nvPr/>
        </p:nvSpPr>
        <p:spPr>
          <a:xfrm>
            <a:off x="4191120" y="5181480"/>
            <a:ext cx="228600" cy="2286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AutoShape 12"/>
          <p:cNvSpPr/>
          <p:nvPr/>
        </p:nvSpPr>
        <p:spPr>
          <a:xfrm>
            <a:off x="0" y="0"/>
            <a:ext cx="8229600" cy="1219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Oval 16"/>
          <p:cNvSpPr/>
          <p:nvPr/>
        </p:nvSpPr>
        <p:spPr>
          <a:xfrm>
            <a:off x="8153280" y="990720"/>
            <a:ext cx="762120" cy="6858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Oval 17"/>
          <p:cNvSpPr/>
          <p:nvPr/>
        </p:nvSpPr>
        <p:spPr>
          <a:xfrm>
            <a:off x="6705720" y="1600200"/>
            <a:ext cx="228600" cy="2286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Oval 18"/>
          <p:cNvSpPr/>
          <p:nvPr/>
        </p:nvSpPr>
        <p:spPr>
          <a:xfrm>
            <a:off x="4267080" y="2438280"/>
            <a:ext cx="762120" cy="6858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AutoShape 19"/>
          <p:cNvSpPr/>
          <p:nvPr/>
        </p:nvSpPr>
        <p:spPr>
          <a:xfrm>
            <a:off x="0" y="228600"/>
            <a:ext cx="8191440" cy="914400"/>
          </a:xfrm>
          <a:prstGeom prst="flowChartAlternateProcess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У творческого воспитателя обязательно должно быть увлече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Мое увлечение – сохранение старинных предметов русского быт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Оно переросло в серьезную работу – минимузей «Бабушкина избушк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1057320" y="5838840"/>
            <a:ext cx="3505320" cy="86688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В результате  уже собрано 40 экспонатов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домашней утвари и предме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крестьянской жизни  19-20 век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21"/>
          <p:cNvSpPr/>
          <p:nvPr/>
        </p:nvSpPr>
        <p:spPr>
          <a:xfrm>
            <a:off x="5410080" y="1333440"/>
            <a:ext cx="3733920" cy="95256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Для приобщения дошкольников к истокам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народной духовности и сохранению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преемственности поколений создан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парциальная программа «Юный краевед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9" name="Picture 26" descr="H:\DCIM\101MSDCF\DSC02411.JPG"/>
          <p:cNvPicPr/>
          <p:nvPr/>
        </p:nvPicPr>
        <p:blipFill>
          <a:blip r:embed="rId14"/>
          <a:stretch/>
        </p:blipFill>
        <p:spPr>
          <a:xfrm>
            <a:off x="743040" y="1523880"/>
            <a:ext cx="4133880" cy="3886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7" descr="H:\DCIM\101MSDCF\DSC02412.JPG"/>
          <p:cNvPicPr/>
          <p:nvPr/>
        </p:nvPicPr>
        <p:blipFill>
          <a:blip r:embed="rId15"/>
          <a:stretch/>
        </p:blipFill>
        <p:spPr>
          <a:xfrm>
            <a:off x="5105520" y="2438280"/>
            <a:ext cx="3809880" cy="4033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686800" cy="6095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eff83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eff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8153280" y="990720"/>
            <a:ext cx="762120" cy="685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Oval 6"/>
          <p:cNvSpPr/>
          <p:nvPr/>
        </p:nvSpPr>
        <p:spPr>
          <a:xfrm>
            <a:off x="5638680" y="114300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6553080" y="289548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Oval 8"/>
          <p:cNvSpPr/>
          <p:nvPr/>
        </p:nvSpPr>
        <p:spPr>
          <a:xfrm>
            <a:off x="6400800" y="205740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Oval 9"/>
          <p:cNvSpPr/>
          <p:nvPr/>
        </p:nvSpPr>
        <p:spPr>
          <a:xfrm>
            <a:off x="8381880" y="236232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5334120" y="2209680"/>
            <a:ext cx="228600" cy="2286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Oval 11"/>
          <p:cNvSpPr/>
          <p:nvPr/>
        </p:nvSpPr>
        <p:spPr>
          <a:xfrm>
            <a:off x="2133720" y="5943600"/>
            <a:ext cx="228600" cy="2286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12"/>
          <p:cNvSpPr/>
          <p:nvPr/>
        </p:nvSpPr>
        <p:spPr>
          <a:xfrm>
            <a:off x="3505320" y="5867280"/>
            <a:ext cx="228600" cy="2286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Oval 13"/>
          <p:cNvSpPr/>
          <p:nvPr/>
        </p:nvSpPr>
        <p:spPr>
          <a:xfrm>
            <a:off x="4191120" y="5181480"/>
            <a:ext cx="228600" cy="2286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0" y="0"/>
            <a:ext cx="8229600" cy="137160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Oval 21"/>
          <p:cNvSpPr/>
          <p:nvPr/>
        </p:nvSpPr>
        <p:spPr>
          <a:xfrm>
            <a:off x="8153280" y="4572000"/>
            <a:ext cx="762120" cy="6858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Oval 23"/>
          <p:cNvSpPr/>
          <p:nvPr/>
        </p:nvSpPr>
        <p:spPr>
          <a:xfrm>
            <a:off x="533520" y="2133720"/>
            <a:ext cx="2590560" cy="25146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Активным донором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крови Воронежско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станции перелив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AutoShape 31"/>
          <p:cNvSpPr/>
          <p:nvPr/>
        </p:nvSpPr>
        <p:spPr>
          <a:xfrm>
            <a:off x="914400" y="2133720"/>
            <a:ext cx="1676520" cy="914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14400"/>
              <a:gd name="textAreaBottom" fmla="*/ 32652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Oval 32"/>
          <p:cNvSpPr/>
          <p:nvPr/>
        </p:nvSpPr>
        <p:spPr>
          <a:xfrm>
            <a:off x="3467160" y="3352680"/>
            <a:ext cx="2514600" cy="251460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Эксперт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регионально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аттестационно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комиссии ВИРО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Oval 33"/>
          <p:cNvSpPr/>
          <p:nvPr/>
        </p:nvSpPr>
        <p:spPr>
          <a:xfrm>
            <a:off x="6019920" y="2209680"/>
            <a:ext cx="2514600" cy="251460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Общественным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наблюдателем пр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проведен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государственно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итоговой аттест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обучающихс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AutoShape 34"/>
          <p:cNvSpPr/>
          <p:nvPr/>
        </p:nvSpPr>
        <p:spPr>
          <a:xfrm>
            <a:off x="3886200" y="3352680"/>
            <a:ext cx="1676520" cy="914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14400"/>
              <a:gd name="textAreaBottom" fmla="*/ 32652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utoShape 35"/>
          <p:cNvSpPr/>
          <p:nvPr/>
        </p:nvSpPr>
        <p:spPr>
          <a:xfrm>
            <a:off x="6477120" y="2209680"/>
            <a:ext cx="1676160" cy="914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914400"/>
              <a:gd name="textAreaBottom" fmla="*/ 32652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utoShape 36"/>
          <p:cNvSpPr/>
          <p:nvPr/>
        </p:nvSpPr>
        <p:spPr>
          <a:xfrm rot="10800000">
            <a:off x="914040" y="3733920"/>
            <a:ext cx="1676520" cy="914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14400"/>
              <a:gd name="textAreaBottom" fmla="*/ 32652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utoShape 37"/>
          <p:cNvSpPr/>
          <p:nvPr/>
        </p:nvSpPr>
        <p:spPr>
          <a:xfrm rot="10800000">
            <a:off x="3885840" y="4952880"/>
            <a:ext cx="1676520" cy="914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14400"/>
              <a:gd name="textAreaBottom" fmla="*/ 32652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AutoShape 38"/>
          <p:cNvSpPr/>
          <p:nvPr/>
        </p:nvSpPr>
        <p:spPr>
          <a:xfrm rot="10800000">
            <a:off x="6552720" y="3809880"/>
            <a:ext cx="1676520" cy="914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14400"/>
              <a:gd name="textAreaBottom" fmla="*/ 32652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AutoShape 40"/>
          <p:cNvSpPr/>
          <p:nvPr/>
        </p:nvSpPr>
        <p:spPr>
          <a:xfrm>
            <a:off x="4343400" y="1219320"/>
            <a:ext cx="485640" cy="1981080"/>
          </a:xfrm>
          <a:prstGeom prst="downArrow">
            <a:avLst>
              <a:gd name="adj1" fmla="val 50000"/>
              <a:gd name="adj2" fmla="val 10198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AutoShape 42"/>
          <p:cNvSpPr/>
          <p:nvPr/>
        </p:nvSpPr>
        <p:spPr>
          <a:xfrm>
            <a:off x="6934320" y="114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AutoShape 43"/>
          <p:cNvSpPr/>
          <p:nvPr/>
        </p:nvSpPr>
        <p:spPr>
          <a:xfrm>
            <a:off x="1600200" y="1066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AutoShape 45"/>
          <p:cNvSpPr/>
          <p:nvPr/>
        </p:nvSpPr>
        <p:spPr>
          <a:xfrm>
            <a:off x="457200" y="380880"/>
            <a:ext cx="6819840" cy="914400"/>
          </a:xfrm>
          <a:prstGeom prst="flowChartAlternateProcess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Для меня,  кроме профессии и семьи  важно имет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активную жизненную позицию и бы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686800" cy="6095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eff83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eff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8153280" y="990720"/>
            <a:ext cx="762120" cy="685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5638680" y="114300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6553080" y="289548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9"/>
          <p:cNvSpPr/>
          <p:nvPr/>
        </p:nvSpPr>
        <p:spPr>
          <a:xfrm>
            <a:off x="8229600" y="266688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2133720" y="594360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3505320" y="5867280"/>
            <a:ext cx="228600" cy="2286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Oval 13"/>
          <p:cNvSpPr/>
          <p:nvPr/>
        </p:nvSpPr>
        <p:spPr>
          <a:xfrm>
            <a:off x="4191120" y="5181480"/>
            <a:ext cx="228600" cy="2286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0" y="0"/>
            <a:ext cx="8229600" cy="1371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34"/>
          <p:cNvSpPr/>
          <p:nvPr/>
        </p:nvSpPr>
        <p:spPr>
          <a:xfrm>
            <a:off x="228600" y="228600"/>
            <a:ext cx="7543800" cy="914400"/>
          </a:xfrm>
          <a:prstGeom prst="flowChartAlternateProcess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КОНКУРС ПЕДАГОГИЧЕСКОГО МАСТЕР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7"/>
          <p:cNvSpPr/>
          <p:nvPr/>
        </p:nvSpPr>
        <p:spPr>
          <a:xfrm>
            <a:off x="1595520" y="1676520"/>
            <a:ext cx="7010280" cy="38098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«Я – ПЕДАГОГ»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«УЛЫБНУЛАСЬ МНЕ В ЖИЗНИ УДАЧ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БЛАГОДАРНА ЗА ЭТО СУДЬБЕ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НАЮ Я, НЕ МОГЛО БЫТЬ ИНАЧ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 ЭТОМ МИРЕ, НА ЭТОЙ ЗЕМЛ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ЕДЬ ПРОФЕССИЙ ТАК МНОГО НА СВЕТЕ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АЖНЫХ, НУЖНЫХ И ТРУДОВЫХ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НО МЕНЯ ПРИВЛЕКАЮТ ДЕТ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И НЕ МЫСЛЮ Я ЖИЗНИ БЕЗ НИХ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Ю. ЛИВИНЕ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39"/>
          <p:cNvSpPr/>
          <p:nvPr/>
        </p:nvSpPr>
        <p:spPr>
          <a:xfrm>
            <a:off x="5334120" y="1676520"/>
            <a:ext cx="228600" cy="2286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41"/>
          <p:cNvSpPr/>
          <p:nvPr/>
        </p:nvSpPr>
        <p:spPr>
          <a:xfrm>
            <a:off x="1214280" y="2033640"/>
            <a:ext cx="762120" cy="6858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686800" cy="6019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-1440"/>
            <a:ext cx="9144000" cy="761760"/>
          </a:xfrm>
          <a:prstGeom prst="rect">
            <a:avLst/>
          </a:prstGeom>
          <a:solidFill>
            <a:srgbClr val="eff83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eff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8153280" y="990720"/>
            <a:ext cx="762120" cy="685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5334120" y="152388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6553080" y="289548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6400800" y="205740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9"/>
          <p:cNvSpPr/>
          <p:nvPr/>
        </p:nvSpPr>
        <p:spPr>
          <a:xfrm>
            <a:off x="8077320" y="243828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Oval 10"/>
          <p:cNvSpPr/>
          <p:nvPr/>
        </p:nvSpPr>
        <p:spPr>
          <a:xfrm>
            <a:off x="6400800" y="1523880"/>
            <a:ext cx="228600" cy="2286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Oval 11"/>
          <p:cNvSpPr/>
          <p:nvPr/>
        </p:nvSpPr>
        <p:spPr>
          <a:xfrm>
            <a:off x="2133720" y="5943600"/>
            <a:ext cx="228600" cy="2286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3505320" y="5867280"/>
            <a:ext cx="228600" cy="2286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191120" y="5181480"/>
            <a:ext cx="228600" cy="2286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4686480" y="4648320"/>
            <a:ext cx="4228920" cy="12189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ВОСПИТАТЕЛЬ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старшей группы «ЛИМПОПО» № 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Стаж работы в данной дошкольной организаци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СЕМЬ МЕСЯЦЕ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343080" y="6058080"/>
            <a:ext cx="8458200" cy="68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Горжусь своей профессией, потому что у меня есть прекрас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озможность постоянно находиться в мире игры, сказки, фантазии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23"/>
          <p:cNvSpPr/>
          <p:nvPr/>
        </p:nvSpPr>
        <p:spPr>
          <a:xfrm>
            <a:off x="4419720" y="3962520"/>
            <a:ext cx="761760" cy="6858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28"/>
          <p:cNvSpPr/>
          <p:nvPr/>
        </p:nvSpPr>
        <p:spPr>
          <a:xfrm>
            <a:off x="457200" y="762120"/>
            <a:ext cx="3809880" cy="114300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ПОПОВА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СВЕТЛАНА АЛЕКСАДРОВН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23" descr="H:\DCIM\101MSDCF\DSC02428.JPG"/>
          <p:cNvPicPr/>
          <p:nvPr/>
        </p:nvPicPr>
        <p:blipFill>
          <a:blip r:embed="rId14"/>
          <a:stretch/>
        </p:blipFill>
        <p:spPr>
          <a:xfrm>
            <a:off x="500040" y="2301840"/>
            <a:ext cx="3811680" cy="3352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H:\DCIM\101MSDCF\DSC02675.JPG"/>
          <p:cNvPicPr/>
          <p:nvPr/>
        </p:nvPicPr>
        <p:blipFill>
          <a:blip r:embed="rId15"/>
          <a:srcRect l="6355" t="-499" r="-6337" b="524"/>
          <a:stretch/>
        </p:blipFill>
        <p:spPr>
          <a:xfrm>
            <a:off x="-12801600" y="-960120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1" descr="H:\DCIM\101MSDCF\DSC02999.JPG"/>
          <p:cNvPicPr/>
          <p:nvPr/>
        </p:nvPicPr>
        <p:blipFill>
          <a:blip r:embed="rId16"/>
          <a:stretch/>
        </p:blipFill>
        <p:spPr>
          <a:xfrm>
            <a:off x="4952880" y="1143000"/>
            <a:ext cx="3962520" cy="3276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686800" cy="6095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eff83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eff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5"/>
          <p:cNvSpPr/>
          <p:nvPr/>
        </p:nvSpPr>
        <p:spPr>
          <a:xfrm>
            <a:off x="8153280" y="990720"/>
            <a:ext cx="762120" cy="685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Oval 6"/>
          <p:cNvSpPr/>
          <p:nvPr/>
        </p:nvSpPr>
        <p:spPr>
          <a:xfrm>
            <a:off x="5638680" y="114300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7"/>
          <p:cNvSpPr/>
          <p:nvPr/>
        </p:nvSpPr>
        <p:spPr>
          <a:xfrm>
            <a:off x="6553080" y="289548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6400800" y="205740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8381880" y="236232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5334120" y="2209680"/>
            <a:ext cx="228600" cy="2286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Oval 11"/>
          <p:cNvSpPr/>
          <p:nvPr/>
        </p:nvSpPr>
        <p:spPr>
          <a:xfrm>
            <a:off x="2133720" y="5943600"/>
            <a:ext cx="228600" cy="2286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12"/>
          <p:cNvSpPr/>
          <p:nvPr/>
        </p:nvSpPr>
        <p:spPr>
          <a:xfrm>
            <a:off x="3505320" y="5867280"/>
            <a:ext cx="228600" cy="2286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13"/>
          <p:cNvSpPr/>
          <p:nvPr/>
        </p:nvSpPr>
        <p:spPr>
          <a:xfrm>
            <a:off x="4191120" y="5181480"/>
            <a:ext cx="228600" cy="2286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14"/>
          <p:cNvSpPr/>
          <p:nvPr/>
        </p:nvSpPr>
        <p:spPr>
          <a:xfrm>
            <a:off x="0" y="0"/>
            <a:ext cx="8229600" cy="137160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21"/>
          <p:cNvSpPr/>
          <p:nvPr/>
        </p:nvSpPr>
        <p:spPr>
          <a:xfrm>
            <a:off x="8153280" y="4572000"/>
            <a:ext cx="762120" cy="6858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23"/>
          <p:cNvSpPr/>
          <p:nvPr/>
        </p:nvSpPr>
        <p:spPr>
          <a:xfrm>
            <a:off x="533520" y="2133720"/>
            <a:ext cx="2590560" cy="25146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Высше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педагогическо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образовани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Окончила  ВГУ в 1997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Географически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факульте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31"/>
          <p:cNvSpPr/>
          <p:nvPr/>
        </p:nvSpPr>
        <p:spPr>
          <a:xfrm>
            <a:off x="914400" y="2133720"/>
            <a:ext cx="1676520" cy="914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14400"/>
              <a:gd name="textAreaBottom" fmla="*/ 32652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Oval 32"/>
          <p:cNvSpPr/>
          <p:nvPr/>
        </p:nvSpPr>
        <p:spPr>
          <a:xfrm>
            <a:off x="3467160" y="3352680"/>
            <a:ext cx="2514600" cy="251460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Имею высшую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квалификационную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категорию п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должност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воспитатель с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2007 год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Oval 33"/>
          <p:cNvSpPr/>
          <p:nvPr/>
        </p:nvSpPr>
        <p:spPr>
          <a:xfrm>
            <a:off x="6019920" y="2209680"/>
            <a:ext cx="2514600" cy="251460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Стаж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педагогической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работы с детьм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17 ле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34"/>
          <p:cNvSpPr/>
          <p:nvPr/>
        </p:nvSpPr>
        <p:spPr>
          <a:xfrm>
            <a:off x="3886200" y="3352680"/>
            <a:ext cx="1676520" cy="914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14400"/>
              <a:gd name="textAreaBottom" fmla="*/ 32652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35"/>
          <p:cNvSpPr/>
          <p:nvPr/>
        </p:nvSpPr>
        <p:spPr>
          <a:xfrm>
            <a:off x="6477120" y="2209680"/>
            <a:ext cx="1676160" cy="914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914400"/>
              <a:gd name="textAreaBottom" fmla="*/ 32652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36"/>
          <p:cNvSpPr/>
          <p:nvPr/>
        </p:nvSpPr>
        <p:spPr>
          <a:xfrm rot="10800000">
            <a:off x="914040" y="3733920"/>
            <a:ext cx="1676520" cy="914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14400"/>
              <a:gd name="textAreaBottom" fmla="*/ 32652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37"/>
          <p:cNvSpPr/>
          <p:nvPr/>
        </p:nvSpPr>
        <p:spPr>
          <a:xfrm rot="10800000">
            <a:off x="3885840" y="4952880"/>
            <a:ext cx="1676520" cy="914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14400"/>
              <a:gd name="textAreaBottom" fmla="*/ 32652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38"/>
          <p:cNvSpPr/>
          <p:nvPr/>
        </p:nvSpPr>
        <p:spPr>
          <a:xfrm rot="10800000">
            <a:off x="6552720" y="3809880"/>
            <a:ext cx="1676520" cy="914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14400"/>
              <a:gd name="textAreaBottom" fmla="*/ 32652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40"/>
          <p:cNvSpPr/>
          <p:nvPr/>
        </p:nvSpPr>
        <p:spPr>
          <a:xfrm>
            <a:off x="4343400" y="1219320"/>
            <a:ext cx="485640" cy="1981080"/>
          </a:xfrm>
          <a:prstGeom prst="downArrow">
            <a:avLst>
              <a:gd name="adj1" fmla="val 50000"/>
              <a:gd name="adj2" fmla="val 10198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AutoShape 42"/>
          <p:cNvSpPr/>
          <p:nvPr/>
        </p:nvSpPr>
        <p:spPr>
          <a:xfrm>
            <a:off x="6934320" y="114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3"/>
          <p:cNvSpPr/>
          <p:nvPr/>
        </p:nvSpPr>
        <p:spPr>
          <a:xfrm>
            <a:off x="1600200" y="1066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45"/>
          <p:cNvSpPr/>
          <p:nvPr/>
        </p:nvSpPr>
        <p:spPr>
          <a:xfrm>
            <a:off x="533520" y="380880"/>
            <a:ext cx="7543800" cy="914400"/>
          </a:xfrm>
          <a:prstGeom prst="flowChartAlternateProcess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Немного о себ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94960"/>
            <a:ext cx="8686800" cy="6095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eff83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eff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Oval 6"/>
          <p:cNvSpPr/>
          <p:nvPr/>
        </p:nvSpPr>
        <p:spPr>
          <a:xfrm>
            <a:off x="4876920" y="1523880"/>
            <a:ext cx="228600" cy="228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6553080" y="289548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Oval 8"/>
          <p:cNvSpPr/>
          <p:nvPr/>
        </p:nvSpPr>
        <p:spPr>
          <a:xfrm>
            <a:off x="5867280" y="205740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Oval 9"/>
          <p:cNvSpPr/>
          <p:nvPr/>
        </p:nvSpPr>
        <p:spPr>
          <a:xfrm>
            <a:off x="8077320" y="243828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2133720" y="594360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Oval 12"/>
          <p:cNvSpPr/>
          <p:nvPr/>
        </p:nvSpPr>
        <p:spPr>
          <a:xfrm>
            <a:off x="3505320" y="5867280"/>
            <a:ext cx="228600" cy="2286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Oval 13"/>
          <p:cNvSpPr/>
          <p:nvPr/>
        </p:nvSpPr>
        <p:spPr>
          <a:xfrm>
            <a:off x="4191120" y="5181480"/>
            <a:ext cx="228600" cy="2286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AutoShape 14"/>
          <p:cNvSpPr/>
          <p:nvPr/>
        </p:nvSpPr>
        <p:spPr>
          <a:xfrm>
            <a:off x="0" y="0"/>
            <a:ext cx="8229600" cy="1219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71"/>
          <p:cNvSpPr/>
          <p:nvPr/>
        </p:nvSpPr>
        <p:spPr>
          <a:xfrm>
            <a:off x="57240" y="1638360"/>
            <a:ext cx="2133360" cy="3124080"/>
          </a:xfrm>
          <a:prstGeom prst="flowChartProcess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ервая причина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емейная традиция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я – педагог в треть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колен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utoShape 72"/>
          <p:cNvSpPr/>
          <p:nvPr/>
        </p:nvSpPr>
        <p:spPr>
          <a:xfrm>
            <a:off x="2362320" y="2590920"/>
            <a:ext cx="2057400" cy="3124080"/>
          </a:xfrm>
          <a:prstGeom prst="flowChartProcess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торая причина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главный герой мое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жизни – моя доч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Благодаря ей я и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тала воспитател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детского с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73"/>
          <p:cNvSpPr/>
          <p:nvPr/>
        </p:nvSpPr>
        <p:spPr>
          <a:xfrm>
            <a:off x="4572000" y="2381400"/>
            <a:ext cx="2133720" cy="3124080"/>
          </a:xfrm>
          <a:prstGeom prst="flowChartProcess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Третья причина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удьба дала мн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наставника, котор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могла мн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чувствовать  вку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рофессии, стат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рофессиона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AutoShape 74"/>
          <p:cNvSpPr/>
          <p:nvPr/>
        </p:nvSpPr>
        <p:spPr>
          <a:xfrm>
            <a:off x="6781680" y="1600200"/>
            <a:ext cx="2133720" cy="3124080"/>
          </a:xfrm>
          <a:prstGeom prst="flowChartProcess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Четвертая причина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любовь к детям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основа мо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едагогическ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мастерства, 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ответная любов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детей – мо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наивысшая нагр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Oval 75"/>
          <p:cNvSpPr/>
          <p:nvPr/>
        </p:nvSpPr>
        <p:spPr>
          <a:xfrm>
            <a:off x="8153280" y="990720"/>
            <a:ext cx="762120" cy="6858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Oval 76"/>
          <p:cNvSpPr/>
          <p:nvPr/>
        </p:nvSpPr>
        <p:spPr>
          <a:xfrm flipH="1">
            <a:off x="6545160" y="1600200"/>
            <a:ext cx="46080" cy="4608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Oval 77"/>
          <p:cNvSpPr/>
          <p:nvPr/>
        </p:nvSpPr>
        <p:spPr>
          <a:xfrm>
            <a:off x="2819520" y="1447920"/>
            <a:ext cx="761760" cy="68580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WordArt 79"/>
          <p:cNvSpPr txBox="1"/>
          <p:nvPr/>
        </p:nvSpPr>
        <p:spPr>
          <a:xfrm>
            <a:off x="0" y="152280"/>
            <a:ext cx="82296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07932" dir="27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Чтобы стать педагогом у меня было четыре причин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07932" dir="27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58560" y="915840"/>
            <a:ext cx="8839080" cy="6096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eff83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eff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4876920" y="1523880"/>
            <a:ext cx="228600" cy="228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6553080" y="289548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5867280" y="205740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8077320" y="243828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Oval 9"/>
          <p:cNvSpPr/>
          <p:nvPr/>
        </p:nvSpPr>
        <p:spPr>
          <a:xfrm>
            <a:off x="2133720" y="594360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3505320" y="5867280"/>
            <a:ext cx="228600" cy="2286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11"/>
          <p:cNvSpPr/>
          <p:nvPr/>
        </p:nvSpPr>
        <p:spPr>
          <a:xfrm>
            <a:off x="4419720" y="5181480"/>
            <a:ext cx="228600" cy="2286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0" y="0"/>
            <a:ext cx="8229600" cy="1219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16"/>
          <p:cNvSpPr/>
          <p:nvPr/>
        </p:nvSpPr>
        <p:spPr>
          <a:xfrm>
            <a:off x="6705720" y="1600200"/>
            <a:ext cx="228600" cy="2286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Oval 17"/>
          <p:cNvSpPr/>
          <p:nvPr/>
        </p:nvSpPr>
        <p:spPr>
          <a:xfrm flipV="1">
            <a:off x="1752480" y="4191120"/>
            <a:ext cx="762120" cy="12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18"/>
          <p:cNvSpPr/>
          <p:nvPr/>
        </p:nvSpPr>
        <p:spPr>
          <a:xfrm>
            <a:off x="228600" y="228600"/>
            <a:ext cx="7543800" cy="914400"/>
          </a:xfrm>
          <a:prstGeom prst="flowChartAlternateProcess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В текущем учебном году веду за руку в детские год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воспитанников старшей группы »Лимпопо» и мы вмест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30"/>
          <p:cNvSpPr/>
          <p:nvPr/>
        </p:nvSpPr>
        <p:spPr>
          <a:xfrm>
            <a:off x="609480" y="6058080"/>
            <a:ext cx="8001000" cy="79992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И основным направлением  в работе с любознательными детьми группы  считаю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активизацию познавательной активности детей через использование ресурса развивающе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среды и постоянную поисково-исследовательскую деятельнос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32"/>
          <p:cNvSpPr/>
          <p:nvPr/>
        </p:nvSpPr>
        <p:spPr>
          <a:xfrm>
            <a:off x="6172200" y="2895480"/>
            <a:ext cx="2971800" cy="53352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Мечтаем и превращаем игру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в действительнос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Oval 33"/>
          <p:cNvSpPr/>
          <p:nvPr/>
        </p:nvSpPr>
        <p:spPr>
          <a:xfrm>
            <a:off x="8381880" y="549360"/>
            <a:ext cx="762120" cy="68580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35"/>
          <p:cNvSpPr/>
          <p:nvPr/>
        </p:nvSpPr>
        <p:spPr>
          <a:xfrm>
            <a:off x="0" y="2895480"/>
            <a:ext cx="3124080" cy="53352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Одушевляем  неодушевленный ми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37"/>
          <p:cNvSpPr/>
          <p:nvPr/>
        </p:nvSpPr>
        <p:spPr>
          <a:xfrm>
            <a:off x="3124080" y="3429000"/>
            <a:ext cx="2971800" cy="5335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Окрашиваем  яркими краскам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впечат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22" descr="H:\DCIM\101MSDCF\DSC03021.JPG"/>
          <p:cNvPicPr/>
          <p:nvPr/>
        </p:nvPicPr>
        <p:blipFill>
          <a:blip r:embed="rId16"/>
          <a:stretch/>
        </p:blipFill>
        <p:spPr>
          <a:xfrm>
            <a:off x="3438360" y="4191120"/>
            <a:ext cx="1671840" cy="1857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3" descr="H:\DCIM\101MSDCF\DSC03063.JPG"/>
          <p:cNvPicPr/>
          <p:nvPr/>
        </p:nvPicPr>
        <p:blipFill>
          <a:blip r:embed="rId17"/>
          <a:stretch/>
        </p:blipFill>
        <p:spPr>
          <a:xfrm>
            <a:off x="5460840" y="4017960"/>
            <a:ext cx="2616480" cy="1925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4" descr="H:\DCIM\101MSDCF\DSC03061.JPG"/>
          <p:cNvPicPr/>
          <p:nvPr/>
        </p:nvPicPr>
        <p:blipFill>
          <a:blip r:embed="rId18"/>
          <a:stretch/>
        </p:blipFill>
        <p:spPr>
          <a:xfrm>
            <a:off x="601560" y="3695760"/>
            <a:ext cx="2400480" cy="2262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5" descr="H:\DCIM\101MSDCF\DSC03062.JPG"/>
          <p:cNvPicPr/>
          <p:nvPr/>
        </p:nvPicPr>
        <p:blipFill>
          <a:blip r:embed="rId19"/>
          <a:stretch/>
        </p:blipFill>
        <p:spPr>
          <a:xfrm>
            <a:off x="3311640" y="1744560"/>
            <a:ext cx="2063520" cy="16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5" descr="H:\DCIM\101MSDCF\DSC03108.JPG"/>
          <p:cNvPicPr/>
          <p:nvPr/>
        </p:nvPicPr>
        <p:blipFill>
          <a:blip r:embed="rId20"/>
          <a:stretch/>
        </p:blipFill>
        <p:spPr>
          <a:xfrm>
            <a:off x="639720" y="1235160"/>
            <a:ext cx="2532240" cy="1644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6" descr="H:\DCIM\101MSDCF\DSC03110.JPG"/>
          <p:cNvPicPr/>
          <p:nvPr/>
        </p:nvPicPr>
        <p:blipFill>
          <a:blip r:embed="rId21"/>
          <a:stretch/>
        </p:blipFill>
        <p:spPr>
          <a:xfrm>
            <a:off x="5460840" y="1468440"/>
            <a:ext cx="1616400" cy="1305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7" descr="H:\DCIM\101MSDCF\DSC03112.JPG"/>
          <p:cNvPicPr/>
          <p:nvPr/>
        </p:nvPicPr>
        <p:blipFill>
          <a:blip r:embed="rId22"/>
          <a:stretch/>
        </p:blipFill>
        <p:spPr>
          <a:xfrm>
            <a:off x="7124760" y="1246320"/>
            <a:ext cx="2019240" cy="1555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8" descr="H:\DCIM\101MSDCF\DSC03102.JPG"/>
          <p:cNvPicPr/>
          <p:nvPr/>
        </p:nvPicPr>
        <p:blipFill>
          <a:blip r:embed="rId23"/>
          <a:stretch/>
        </p:blipFill>
        <p:spPr>
          <a:xfrm>
            <a:off x="7848720" y="3575160"/>
            <a:ext cx="1295280" cy="1162080"/>
          </a:xfrm>
          <a:prstGeom prst="rect">
            <a:avLst/>
          </a:prstGeom>
          <a:ln w="0">
            <a:noFill/>
          </a:ln>
        </p:spPr>
      </p:pic>
      <p:sp>
        <p:nvSpPr>
          <p:cNvPr id="266" name="Oval 33"/>
          <p:cNvSpPr/>
          <p:nvPr/>
        </p:nvSpPr>
        <p:spPr>
          <a:xfrm>
            <a:off x="8305920" y="5108400"/>
            <a:ext cx="761760" cy="68580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793360" cy="621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eff83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eff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Oval 6"/>
          <p:cNvSpPr/>
          <p:nvPr/>
        </p:nvSpPr>
        <p:spPr>
          <a:xfrm>
            <a:off x="8915400" y="3505320"/>
            <a:ext cx="228600" cy="228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7"/>
          <p:cNvSpPr/>
          <p:nvPr/>
        </p:nvSpPr>
        <p:spPr>
          <a:xfrm>
            <a:off x="8458200" y="480060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Oval 8"/>
          <p:cNvSpPr/>
          <p:nvPr/>
        </p:nvSpPr>
        <p:spPr>
          <a:xfrm>
            <a:off x="8305920" y="281952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2133720" y="594360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3505320" y="586728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Oval 11"/>
          <p:cNvSpPr/>
          <p:nvPr/>
        </p:nvSpPr>
        <p:spPr>
          <a:xfrm>
            <a:off x="4038480" y="1447920"/>
            <a:ext cx="228600" cy="2286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0" y="0"/>
            <a:ext cx="8229600" cy="1219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21"/>
          <p:cNvSpPr/>
          <p:nvPr/>
        </p:nvSpPr>
        <p:spPr>
          <a:xfrm>
            <a:off x="8153280" y="990720"/>
            <a:ext cx="762120" cy="6858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Oval 23"/>
          <p:cNvSpPr/>
          <p:nvPr/>
        </p:nvSpPr>
        <p:spPr>
          <a:xfrm>
            <a:off x="2819520" y="1447920"/>
            <a:ext cx="761760" cy="6858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24"/>
          <p:cNvSpPr/>
          <p:nvPr/>
        </p:nvSpPr>
        <p:spPr>
          <a:xfrm>
            <a:off x="304920" y="228600"/>
            <a:ext cx="7543800" cy="914400"/>
          </a:xfrm>
          <a:prstGeom prst="flowChartAlternateProcess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Выбирая профессию педагог, автоматически обрекаем себя н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вечное познание истины, постоянное учение, поэтому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воспитатель должен все время совершенствовать свои знания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повышать свою квалификацию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27"/>
          <p:cNvSpPr/>
          <p:nvPr/>
        </p:nvSpPr>
        <p:spPr>
          <a:xfrm>
            <a:off x="380880" y="5638680"/>
            <a:ext cx="3733920" cy="106704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Прошла обучение в ВОИПКиПР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По профессиональной программ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«Деятельность  педработников ДОУ 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условиях введения и реализации ФГОС ДО»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34"/>
          <p:cNvSpPr/>
          <p:nvPr/>
        </p:nvSpPr>
        <p:spPr>
          <a:xfrm>
            <a:off x="4572000" y="3200400"/>
            <a:ext cx="3733920" cy="83808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В 2014 г. получила диплом о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профессиональной переподготовке в ВИВ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«Менеджмент в образовании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35"/>
          <p:cNvSpPr/>
          <p:nvPr/>
        </p:nvSpPr>
        <p:spPr>
          <a:xfrm>
            <a:off x="4267080" y="6019920"/>
            <a:ext cx="4419720" cy="68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Прошла профессиональную переподготовку в 2015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и имею право на ведение профессионально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деятельности в сфере дошкольного образова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Oval 36"/>
          <p:cNvSpPr/>
          <p:nvPr/>
        </p:nvSpPr>
        <p:spPr>
          <a:xfrm>
            <a:off x="4495680" y="4114800"/>
            <a:ext cx="228600" cy="22860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Oval 37"/>
          <p:cNvSpPr/>
          <p:nvPr/>
        </p:nvSpPr>
        <p:spPr>
          <a:xfrm>
            <a:off x="3733920" y="2514600"/>
            <a:ext cx="228600" cy="22860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Picture 25" descr="H:\DCIM\101MSDCF\DSC02555.JPG"/>
          <p:cNvPicPr/>
          <p:nvPr/>
        </p:nvPicPr>
        <p:blipFill>
          <a:blip r:embed="rId15"/>
          <a:stretch/>
        </p:blipFill>
        <p:spPr>
          <a:xfrm>
            <a:off x="228600" y="1390680"/>
            <a:ext cx="4038480" cy="4095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6" descr="H:\DCIM\101MSDCF\DSC02557.JPG"/>
          <p:cNvPicPr/>
          <p:nvPr/>
        </p:nvPicPr>
        <p:blipFill>
          <a:blip r:embed="rId16"/>
          <a:stretch/>
        </p:blipFill>
        <p:spPr>
          <a:xfrm>
            <a:off x="4876920" y="1219320"/>
            <a:ext cx="3124080" cy="1981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4" descr="H:\DCIM\101MSDCF\DSC02988.JPG"/>
          <p:cNvPicPr/>
          <p:nvPr/>
        </p:nvPicPr>
        <p:blipFill>
          <a:blip r:embed="rId17"/>
          <a:stretch/>
        </p:blipFill>
        <p:spPr>
          <a:xfrm>
            <a:off x="5029200" y="4089240"/>
            <a:ext cx="2971800" cy="1854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686800" cy="6095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eff83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eff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3048120" y="1752480"/>
            <a:ext cx="228600" cy="228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3581280" y="373392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3276720" y="312408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3886200" y="419112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133720" y="594360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3505320" y="5867280"/>
            <a:ext cx="228600" cy="2286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AutoShape 12"/>
          <p:cNvSpPr/>
          <p:nvPr/>
        </p:nvSpPr>
        <p:spPr>
          <a:xfrm>
            <a:off x="0" y="0"/>
            <a:ext cx="8229600" cy="1219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Oval 17"/>
          <p:cNvSpPr/>
          <p:nvPr/>
        </p:nvSpPr>
        <p:spPr>
          <a:xfrm>
            <a:off x="3733920" y="2286000"/>
            <a:ext cx="228600" cy="2286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AutoShape 19"/>
          <p:cNvSpPr/>
          <p:nvPr/>
        </p:nvSpPr>
        <p:spPr>
          <a:xfrm>
            <a:off x="228600" y="228600"/>
            <a:ext cx="7543800" cy="914400"/>
          </a:xfrm>
          <a:prstGeom prst="flowChartAlternateProcess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Профессия педагога дает возможность мыслить и творить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только нужно не забывать делиться своим опытом с коллега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31"/>
          <p:cNvSpPr/>
          <p:nvPr/>
        </p:nvSpPr>
        <p:spPr>
          <a:xfrm>
            <a:off x="2095560" y="5973840"/>
            <a:ext cx="5524560" cy="6094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В моей методической копилке  девять печатных изданий из опыт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работы, изданных в региональных сборниках работ педагогов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Oval 34"/>
          <p:cNvSpPr/>
          <p:nvPr/>
        </p:nvSpPr>
        <p:spPr>
          <a:xfrm>
            <a:off x="8229600" y="838080"/>
            <a:ext cx="762120" cy="6858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Oval 35"/>
          <p:cNvSpPr/>
          <p:nvPr/>
        </p:nvSpPr>
        <p:spPr>
          <a:xfrm>
            <a:off x="685800" y="5943600"/>
            <a:ext cx="762120" cy="6858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3886200" y="5410080"/>
            <a:ext cx="228600" cy="2286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Picture 26" descr="H:\DCIM\101MSDCF\DSC02558.JPG"/>
          <p:cNvPicPr/>
          <p:nvPr/>
        </p:nvPicPr>
        <p:blipFill>
          <a:blip r:embed="rId13"/>
          <a:stretch/>
        </p:blipFill>
        <p:spPr>
          <a:xfrm>
            <a:off x="1562040" y="1219320"/>
            <a:ext cx="6058080" cy="4419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686800" cy="6019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0" y="-1440"/>
            <a:ext cx="9144000" cy="761760"/>
          </a:xfrm>
          <a:prstGeom prst="rect">
            <a:avLst/>
          </a:prstGeom>
          <a:solidFill>
            <a:srgbClr val="eff83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0" y="762120"/>
            <a:ext cx="457200" cy="6095880"/>
          </a:xfrm>
          <a:prstGeom prst="rect">
            <a:avLst/>
          </a:prstGeom>
          <a:solidFill>
            <a:srgbClr val="eff8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Oval 5"/>
          <p:cNvSpPr/>
          <p:nvPr/>
        </p:nvSpPr>
        <p:spPr>
          <a:xfrm>
            <a:off x="8153280" y="990720"/>
            <a:ext cx="762120" cy="685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5334120" y="152388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6553080" y="289548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400800" y="205740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8077320" y="243828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400800" y="1523880"/>
            <a:ext cx="228600" cy="2286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2133720" y="5943600"/>
            <a:ext cx="228600" cy="2286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3505320" y="5867280"/>
            <a:ext cx="228600" cy="2286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4191120" y="5181480"/>
            <a:ext cx="228600" cy="2286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4587840" y="2057400"/>
            <a:ext cx="4229280" cy="290844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В  ТЕКУЩЕМ УЧЕБНОМ ГОДУ  С ДЕТЬМ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ПРОВЕДЕНО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ТРЕНИНГИ: «Правила поведения с незнакомым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предметами на участке ДОУ»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«Пожарная тревога», «Правила поведения 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незнакомыми людьми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Работа на тренажере «Наша  улица»  (постоянно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Представление пальчикового театра «Наш дру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Светофор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Итоговое мероприятие «Школа пешеходных наук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интерактивное развлечение  с приглашением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ребят группы № 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228600" y="5181480"/>
            <a:ext cx="8686800" cy="156240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ЫБОР ЭТОЙ ТЕМЫ БЫЛ НЕ СЛУЧАЕН. В ТЕОРИИ ДЕ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НАЮТ МНОГОЕ, А НА ПРАКТИКЕ ТЕРЯЮТСЯ И ПРИМЕНИ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ВОИ ЗНАНИЯ И УМЕНИЯ НЕ МОГУТ, ПОЭТОМУ ПРАКТИЧЕСК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УПРАЖНЕНИЯ И ТРЕНИНГИ ПОМОГУТ ИМ ДЕЙСТВОВАТЬ САМИ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 ЗАВИСИМОСТИ ОТ СИТУАЦИ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Oval 23"/>
          <p:cNvSpPr/>
          <p:nvPr/>
        </p:nvSpPr>
        <p:spPr>
          <a:xfrm>
            <a:off x="3664080" y="4280040"/>
            <a:ext cx="761760" cy="6858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28"/>
          <p:cNvSpPr/>
          <p:nvPr/>
        </p:nvSpPr>
        <p:spPr>
          <a:xfrm>
            <a:off x="457200" y="379440"/>
            <a:ext cx="8344080" cy="95400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ТЕМА МОЕГО САМООБРАЗОВАНИЯ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«ЗДОРОВЫЙ ОБРАЗ ЖИЗНИ. ВНЕДРЕНИЕ ПЕДАГОГИЧЕСКИХ ТЕХНОЛОГИ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  ПРАКТИКУ ДЕТСКОГО САДА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22" descr="H:\DCIM\101MSDCF\DSC02675.JPG"/>
          <p:cNvPicPr/>
          <p:nvPr/>
        </p:nvPicPr>
        <p:blipFill>
          <a:blip r:embed="rId14"/>
          <a:srcRect l="6355" t="-499" r="-6337" b="524"/>
          <a:stretch/>
        </p:blipFill>
        <p:spPr>
          <a:xfrm>
            <a:off x="-12801600" y="-960120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H:\DCIM\101MSDCF\DSC03126.JPG"/>
          <p:cNvPicPr/>
          <p:nvPr/>
        </p:nvPicPr>
        <p:blipFill>
          <a:blip r:embed="rId15"/>
          <a:stretch/>
        </p:blipFill>
        <p:spPr>
          <a:xfrm>
            <a:off x="736560" y="1646280"/>
            <a:ext cx="3251160" cy="3268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52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172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а</cp:lastModifiedBy>
  <dcterms:modified xsi:type="dcterms:W3CDTF">2018-01-27T20:14:27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