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5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14.jpeg" ContentType="image/jpeg"/>
  <Override PartName="/ppt/media/image8.png" ContentType="image/png"/>
  <Override PartName="/ppt/media/image29.jpeg" ContentType="image/jpeg"/>
  <Override PartName="/ppt/media/image5.png" ContentType="image/png"/>
  <Override PartName="/ppt/media/image10.jpeg" ContentType="image/jpeg"/>
  <Override PartName="/ppt/media/image30.png" ContentType="image/png"/>
  <Override PartName="/ppt/media/image13.jpeg" ContentType="image/jpeg"/>
  <Override PartName="/ppt/media/image3.png" ContentType="image/png"/>
  <Override PartName="/ppt/media/image17.jpeg" ContentType="image/jpeg"/>
  <Override PartName="/ppt/media/image12.png" ContentType="image/png"/>
  <Override PartName="/ppt/media/image23.jpeg" ContentType="image/jpeg"/>
  <Override PartName="/ppt/media/image1.png" ContentType="image/png"/>
  <Override PartName="/ppt/media/image24.png" ContentType="image/png"/>
  <Override PartName="/ppt/media/image11.jpeg" ContentType="image/jpeg"/>
  <Override PartName="/ppt/media/image15.png" ContentType="image/png"/>
  <Override PartName="/ppt/media/image16.jpeg" ContentType="image/jpeg"/>
  <Override PartName="/ppt/media/image18.png" ContentType="image/png"/>
  <Override PartName="/ppt/media/image2.jpeg" ContentType="image/jpeg"/>
  <Override PartName="/ppt/media/image20.png" ContentType="image/png"/>
  <Override PartName="/ppt/media/image28.jpeg" ContentType="image/jpeg"/>
  <Override PartName="/ppt/media/image19.jpeg" ContentType="image/jpeg"/>
  <Override PartName="/ppt/media/image21.png" ContentType="image/png"/>
  <Override PartName="/ppt/media/image26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B092-5351-4F48-B99B-FE2E2BA62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0584-9B36-4937-B58F-81D02F670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3476-0D5C-48CB-A76A-95F127A30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C240-0986-4C29-8EBC-1AB040E81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02A68-100E-4B8E-ADF7-243C337F8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041A2-76B4-4E07-8D8F-17B98CC3B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7E709-B808-41EB-BAC6-1639C3E5C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BC841-29D3-4F4C-9B88-A44B8B27F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8DB5E-B728-4BB0-ADCA-7D9AA3507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D33E9-027A-468B-82B4-086FC51F6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A7811-26A0-43F9-9703-A8588C356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D9B7-A156-475C-9B0D-C5907DBDE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581AE-85CA-4395-8747-E72B05B10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9A944-4DF0-4195-9FE3-AF624AD62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BEB47-44AF-40AC-8FB2-39CC16F56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76916-A9AA-4654-8232-E1D315C66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6272E-EE41-42A8-B0CF-D237E2C23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ADB6A-6FB0-403A-9088-70A577969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956F2-9373-442F-9FD2-B48F52DAE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7EBBD-6805-43A3-9510-E8AD336BC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D98C6-5D04-4614-A16D-260FFF7F2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44426-D1AC-454C-918C-5D1F82F71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820C-0CC8-41BD-9C20-52EDC1548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831D3-26AE-4F00-978F-86E00E5EE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3BB50-617E-4FE6-8135-8C6EBEB30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30F75-0219-47DD-B227-D59A89001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0D6F4-15E7-4DDA-9254-61B599A78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9A77E-C249-415E-8775-B5EB1A5BF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F28AD-B06A-445E-92BA-98CC94822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9AF6F-3805-4936-B74B-91982994E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AD494-E324-4881-8A7F-BD98358C7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41F59-3F19-4D03-B4EA-D8C344EB4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3E4FB-C908-4EC5-93B9-E4BFCFB6D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43FB-6306-43AA-9013-604CB8A41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C58F9-161A-4996-841A-6C2D733AA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9DAE1-B88E-4E96-ADD9-520D999AE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08D53-C0E8-458F-9C17-BA238357D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51AC2-D47A-483B-BFAF-0925DABA9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714BD-639D-4301-A7CD-84FCAC0FC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0742F-CF14-48E8-AC2B-CF52AE92E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EFAEF-9D16-4A9C-ACB7-32C4D55F8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88A5C-441A-4C96-915A-81FB5EA4E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CC1C9-C250-4523-AD2A-010121277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C5AB5A-8EF2-4661-A184-5201F0AE2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5C21-8D2C-4FFC-92A2-F702F7E2A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234AC2-682A-4EC5-9A29-F9815FE1E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66A9F-97C1-44CB-B48B-9C8F34339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C3AA8E-B240-4D11-BBD8-83870836E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5C9D42-42C3-4C7E-98C8-0E6A40117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299B7F-90B5-4393-8FFB-8D2899A55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D518C7-39E6-49A9-845C-66BBF5FB6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366659-4374-4BE2-BE09-D2DD80A8B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1A4154-CD56-47E6-8BE0-6A0F1CECA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0A872A-1038-4BCA-8F29-9DA393CD5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9D1040-DAAB-4A79-9F23-FDB237A43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E464-B8C3-43B2-9B00-A5382AB37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73345E-3383-437D-8BED-8F9AEE16C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199F-B7D5-48C2-A5FF-15633C19A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8A5C-04A4-458B-8FFD-60D7A89B3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7B8E-5B1D-4558-8B04-2960335DC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54F58-323B-4F45-9FDB-A78F67F222BC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FDCCF-6312-4B72-9B99-64634D0392C8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1253F-D7D0-44A9-A5E9-DB14145D2168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6C5EA-FC7F-45C4-9BD6-D3C0BD7154E2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409B5-1B21-46B8-9D61-9F27D9DAFB1B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2639880" y="103320"/>
            <a:ext cx="7290000" cy="330516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4571640"/>
            <a:ext cx="5114880" cy="17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Заголовок 1" descr=""/>
          <p:cNvPicPr/>
          <p:nvPr/>
        </p:nvPicPr>
        <p:blipFill>
          <a:blip r:embed="rId1"/>
          <a:stretch/>
        </p:blipFill>
        <p:spPr>
          <a:xfrm>
            <a:off x="189000" y="-66600"/>
            <a:ext cx="7576920" cy="1535040"/>
          </a:xfrm>
          <a:prstGeom prst="rect">
            <a:avLst/>
          </a:prstGeom>
          <a:ln w="0">
            <a:noFill/>
          </a:ln>
        </p:spPr>
      </p:pic>
      <p:pic>
        <p:nvPicPr>
          <p:cNvPr id="247" name="Содержимое 9" descr="ворона-2.jpg"/>
          <p:cNvPicPr/>
          <p:nvPr/>
        </p:nvPicPr>
        <p:blipFill>
          <a:blip r:embed="rId2"/>
          <a:stretch/>
        </p:blipFill>
        <p:spPr>
          <a:xfrm>
            <a:off x="4286160" y="4143240"/>
            <a:ext cx="3571920" cy="2500560"/>
          </a:xfrm>
          <a:prstGeom prst="rect">
            <a:avLst/>
          </a:prstGeom>
          <a:ln w="0">
            <a:noFill/>
          </a:ln>
        </p:spPr>
      </p:pic>
      <p:pic>
        <p:nvPicPr>
          <p:cNvPr id="248" name="Содержимое 8" descr="воробей3.jpg"/>
          <p:cNvPicPr/>
          <p:nvPr/>
        </p:nvPicPr>
        <p:blipFill>
          <a:blip r:embed="rId3"/>
          <a:stretch/>
        </p:blipFill>
        <p:spPr>
          <a:xfrm>
            <a:off x="214200" y="1428840"/>
            <a:ext cx="3714840" cy="2643120"/>
          </a:xfrm>
          <a:prstGeom prst="rect">
            <a:avLst/>
          </a:prstGeom>
          <a:ln w="0">
            <a:noFill/>
          </a:ln>
        </p:spPr>
      </p:pic>
      <p:pic>
        <p:nvPicPr>
          <p:cNvPr id="249" name="Содержимое 5" descr="синицы-3.jpg"/>
          <p:cNvPicPr/>
          <p:nvPr/>
        </p:nvPicPr>
        <p:blipFill>
          <a:blip r:embed="rId4"/>
          <a:stretch/>
        </p:blipFill>
        <p:spPr>
          <a:xfrm>
            <a:off x="4286160" y="1428840"/>
            <a:ext cx="3595680" cy="2697120"/>
          </a:xfrm>
          <a:prstGeom prst="rect">
            <a:avLst/>
          </a:prstGeom>
          <a:ln w="0">
            <a:noFill/>
          </a:ln>
        </p:spPr>
      </p:pic>
      <p:pic>
        <p:nvPicPr>
          <p:cNvPr id="250" name="Содержимое 4" descr="сорока-2.jpg"/>
          <p:cNvPicPr/>
          <p:nvPr/>
        </p:nvPicPr>
        <p:blipFill>
          <a:blip r:embed="rId5"/>
          <a:stretch/>
        </p:blipFill>
        <p:spPr>
          <a:xfrm>
            <a:off x="285840" y="4071960"/>
            <a:ext cx="362412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214200" y="213840"/>
            <a:ext cx="421488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окормите птиц зимой,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Чтоб со всех концов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К вам слетались, как домой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Стайки на крыльцо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Сколько гибнет их - не счесть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Видеть тяжело,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А ведь в нашем доме есть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И для них тепло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Не богаты их корма,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Горсть одна нужна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Горсть одна – и не страшн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Будет им зима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риручите птиц в мороз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к своему окну,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Чтоб без песни не пришлось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Нам встречать весну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А.ЯШИН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Содержимое 10" descr="пепельные чечётки.jpg"/>
          <p:cNvPicPr/>
          <p:nvPr/>
        </p:nvPicPr>
        <p:blipFill>
          <a:blip r:embed="rId1"/>
          <a:stretch/>
        </p:blipFill>
        <p:spPr>
          <a:xfrm>
            <a:off x="3571920" y="571680"/>
            <a:ext cx="4357800" cy="52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Заголовок 4" descr=""/>
          <p:cNvPicPr/>
          <p:nvPr/>
        </p:nvPicPr>
        <p:blipFill>
          <a:blip r:embed="rId1"/>
          <a:stretch/>
        </p:blipFill>
        <p:spPr>
          <a:xfrm>
            <a:off x="2779560" y="530280"/>
            <a:ext cx="6340680" cy="312084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олучить представления о жизни птиц зимой, повторить условия жизни зимующих птиц и способы приспособления к условиям обитания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оздать мини-картотеку на зимующих птиц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Заголовок 1" descr=""/>
          <p:cNvPicPr/>
          <p:nvPr/>
        </p:nvPicPr>
        <p:blipFill>
          <a:blip r:embed="rId1"/>
          <a:stretch/>
        </p:blipFill>
        <p:spPr>
          <a:xfrm>
            <a:off x="244440" y="317520"/>
            <a:ext cx="7588440" cy="1150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Работа в группах по плану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узнай  птицу по описанию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предели особенности обитания птицы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предели какой корм нужен птице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расскажи всему классу что ты узнал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осади птицу на дерево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Заголовок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7255080" cy="8715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142560" y="928800"/>
            <a:ext cx="80010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СЕМЕН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52f74"/>
                </a:solidFill>
                <a:latin typeface="Trebuchet MS"/>
              </a:rPr>
              <a:t>подсолнечника         овса                     арбуз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(все птицы)            (синицы,             (поползня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всянка)               синицы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52f74"/>
                </a:solidFill>
                <a:latin typeface="Trebuchet MS"/>
              </a:rPr>
              <a:t>пшена, проса                  тыквы, дыни, кабачков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(воробьи, синицы)    (поползни, синицы, воробьи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52f74"/>
                </a:solidFill>
                <a:latin typeface="Trebuchet MS"/>
              </a:rPr>
              <a:t>лесные орешки                рябина, калин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(дятлы, поползни)             (снегири, свиристели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52f74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852f74"/>
                </a:solidFill>
                <a:latin typeface="Trebuchet MS"/>
              </a:rPr>
              <a:t>льна                                   клевер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(все птицы)                 (чечетки, воробьи, синицы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                       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САЛО, МЯСО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(синицы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                    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Заголовок 1" descr=""/>
          <p:cNvPicPr/>
          <p:nvPr/>
        </p:nvPicPr>
        <p:blipFill>
          <a:blip r:embed="rId1"/>
          <a:stretch/>
        </p:blipFill>
        <p:spPr>
          <a:xfrm>
            <a:off x="450720" y="115920"/>
            <a:ext cx="9436320" cy="11764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" descr="K:\ольга фёдоровна\снегирь03.jpg"/>
          <p:cNvPicPr/>
          <p:nvPr/>
        </p:nvPicPr>
        <p:blipFill>
          <a:blip r:embed="rId2"/>
          <a:stretch/>
        </p:blipFill>
        <p:spPr>
          <a:xfrm>
            <a:off x="214200" y="1571760"/>
            <a:ext cx="4000680" cy="42638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K:\ольга фёдоровна\снегирь-4.jpg"/>
          <p:cNvPicPr/>
          <p:nvPr/>
        </p:nvPicPr>
        <p:blipFill>
          <a:blip r:embed="rId3"/>
          <a:stretch/>
        </p:blipFill>
        <p:spPr>
          <a:xfrm>
            <a:off x="4500720" y="928800"/>
            <a:ext cx="357156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Заголовок 1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7255080" cy="1176480"/>
          </a:xfrm>
          <a:prstGeom prst="rect">
            <a:avLst/>
          </a:prstGeom>
          <a:ln w="0">
            <a:noFill/>
          </a:ln>
        </p:spPr>
      </p:pic>
      <p:pic>
        <p:nvPicPr>
          <p:cNvPr id="232" name="Содержимое 9" descr="дятел-2.jpg"/>
          <p:cNvPicPr/>
          <p:nvPr/>
        </p:nvPicPr>
        <p:blipFill>
          <a:blip r:embed="rId2"/>
          <a:stretch/>
        </p:blipFill>
        <p:spPr>
          <a:xfrm>
            <a:off x="214200" y="1500120"/>
            <a:ext cx="3571920" cy="4429080"/>
          </a:xfrm>
          <a:prstGeom prst="rect">
            <a:avLst/>
          </a:prstGeom>
          <a:ln w="0">
            <a:noFill/>
          </a:ln>
        </p:spPr>
      </p:pic>
      <p:pic>
        <p:nvPicPr>
          <p:cNvPr id="233" name="Содержимое 11" descr="13dyatel1.jpg"/>
          <p:cNvPicPr/>
          <p:nvPr/>
        </p:nvPicPr>
        <p:blipFill>
          <a:blip r:embed="rId3"/>
          <a:stretch/>
        </p:blipFill>
        <p:spPr>
          <a:xfrm>
            <a:off x="4071960" y="1714680"/>
            <a:ext cx="4000320" cy="485748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45684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7255080" cy="1176480"/>
          </a:xfrm>
          <a:prstGeom prst="rect">
            <a:avLst/>
          </a:prstGeom>
          <a:ln w="0">
            <a:noFill/>
          </a:ln>
        </p:spPr>
      </p:pic>
      <p:pic>
        <p:nvPicPr>
          <p:cNvPr id="236" name="Содержимое 4" descr="поползень фото.jpg"/>
          <p:cNvPicPr/>
          <p:nvPr/>
        </p:nvPicPr>
        <p:blipFill>
          <a:blip r:embed="rId2"/>
          <a:stretch/>
        </p:blipFill>
        <p:spPr>
          <a:xfrm>
            <a:off x="214200" y="1571760"/>
            <a:ext cx="3521160" cy="3071520"/>
          </a:xfrm>
          <a:prstGeom prst="rect">
            <a:avLst/>
          </a:prstGeom>
          <a:ln w="0">
            <a:noFill/>
          </a:ln>
        </p:spPr>
      </p:pic>
      <p:pic>
        <p:nvPicPr>
          <p:cNvPr id="237" name="Содержимое 4" descr="275px-Sitta_europaea_wildlife_2_1.jpg"/>
          <p:cNvPicPr/>
          <p:nvPr/>
        </p:nvPicPr>
        <p:blipFill>
          <a:blip r:embed="rId3"/>
          <a:stretch/>
        </p:blipFill>
        <p:spPr>
          <a:xfrm>
            <a:off x="3857760" y="2000160"/>
            <a:ext cx="4154400" cy="46436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417780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Заголовок 1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7473960" cy="1176480"/>
          </a:xfrm>
          <a:prstGeom prst="rect">
            <a:avLst/>
          </a:prstGeom>
          <a:ln w="0">
            <a:noFill/>
          </a:ln>
        </p:spPr>
      </p:pic>
      <p:pic>
        <p:nvPicPr>
          <p:cNvPr id="240" name="Содержимое 5" descr="-3.jpg"/>
          <p:cNvPicPr/>
          <p:nvPr/>
        </p:nvPicPr>
        <p:blipFill>
          <a:blip r:embed="rId2"/>
          <a:stretch/>
        </p:blipFill>
        <p:spPr>
          <a:xfrm>
            <a:off x="4857840" y="1643040"/>
            <a:ext cx="3143160" cy="4500720"/>
          </a:xfrm>
          <a:prstGeom prst="rect">
            <a:avLst/>
          </a:prstGeom>
          <a:ln w="0">
            <a:noFill/>
          </a:ln>
        </p:spPr>
      </p:pic>
      <p:pic>
        <p:nvPicPr>
          <p:cNvPr id="241" name="Содержимое 4" descr="свирист-4.bmp"/>
          <p:cNvPicPr/>
          <p:nvPr/>
        </p:nvPicPr>
        <p:blipFill>
          <a:blip r:embed="rId3"/>
          <a:stretch/>
        </p:blipFill>
        <p:spPr>
          <a:xfrm>
            <a:off x="285840" y="1571760"/>
            <a:ext cx="4429080" cy="457200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45684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Заголовок 1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7255080" cy="1176480"/>
          </a:xfrm>
          <a:prstGeom prst="rect">
            <a:avLst/>
          </a:prstGeom>
          <a:ln w="0">
            <a:noFill/>
          </a:ln>
        </p:spPr>
      </p:pic>
      <p:pic>
        <p:nvPicPr>
          <p:cNvPr id="244" name="Содержимое 7" descr="клесты6.jpg"/>
          <p:cNvPicPr/>
          <p:nvPr/>
        </p:nvPicPr>
        <p:blipFill>
          <a:blip r:embed="rId2"/>
          <a:stretch/>
        </p:blipFill>
        <p:spPr>
          <a:xfrm>
            <a:off x="4143240" y="1600200"/>
            <a:ext cx="3786480" cy="4900680"/>
          </a:xfrm>
          <a:prstGeom prst="rect">
            <a:avLst/>
          </a:prstGeom>
          <a:ln w="0">
            <a:noFill/>
          </a:ln>
        </p:spPr>
      </p:pic>
      <p:pic>
        <p:nvPicPr>
          <p:cNvPr id="245" name="Содержимое 6" descr="клесты7.jpg"/>
          <p:cNvPicPr/>
          <p:nvPr/>
        </p:nvPicPr>
        <p:blipFill>
          <a:blip r:embed="rId3"/>
          <a:srcRect l="0" t="0" r="0" b="6924"/>
          <a:stretch/>
        </p:blipFill>
        <p:spPr>
          <a:xfrm>
            <a:off x="428760" y="1643040"/>
            <a:ext cx="352080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6T19:58:49Z</dcterms:created>
  <dc:creator>Grey Wolf</dc:creator>
  <dc:description/>
  <dc:language>en-US</dc:language>
  <cp:lastModifiedBy>Анастасия</cp:lastModifiedBy>
  <dcterms:modified xsi:type="dcterms:W3CDTF">2018-01-27T14:36:38Z</dcterms:modified>
  <cp:revision>23</cp:revision>
  <dc:subject/>
  <dc:title>ПТИЦЫ   ЗИМОЙ.</dc:title>
</cp:coreProperties>
</file>