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5174-1AAE-4939-B560-652F3CF1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0578-2B78-41EF-8D46-5009AE2B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D97-2251-475A-9DA7-25C03E7D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683E-932E-4FD1-BA6B-0CC53BFE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C20-5B0C-409B-950B-986A3B8B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95A-D470-4571-96FE-DA83F588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014-A85C-413A-A241-9A5620E5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24AB-824D-4E25-84B6-2E21C0EA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701F-517D-4FA4-A515-575C1315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075-AF96-4412-9C26-752DB4CB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612D-0E69-4558-BEA3-945C7EC1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155-8D3D-4500-80B0-78657744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1AB2-E2CC-4C2C-89A2-A7397FD991D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IMG_1698.JPG"/>
          <p:cNvPicPr/>
          <p:nvPr/>
        </p:nvPicPr>
        <p:blipFill>
          <a:blip r:embed="rId1"/>
          <a:stretch/>
        </p:blipFill>
        <p:spPr>
          <a:xfrm>
            <a:off x="2693880" y="2414520"/>
            <a:ext cx="3249720" cy="198612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3" descr=""/>
          <p:cNvPicPr/>
          <p:nvPr/>
        </p:nvPicPr>
        <p:blipFill>
          <a:blip r:embed="rId2"/>
          <a:stretch/>
        </p:blipFill>
        <p:spPr>
          <a:xfrm>
            <a:off x="493560" y="4992840"/>
            <a:ext cx="7785360" cy="148104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714240" y="42876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шко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Центр развития ребенка – детский сад №128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тогалерея воспитателя Высоцкой Ларисы Валерьев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MG_1719.JPG"/>
          <p:cNvPicPr/>
          <p:nvPr/>
        </p:nvPicPr>
        <p:blipFill>
          <a:blip r:embed="rId1"/>
          <a:stretch/>
        </p:blipFill>
        <p:spPr>
          <a:xfrm>
            <a:off x="822240" y="2249640"/>
            <a:ext cx="2176560" cy="16999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IMG_1721.JPG"/>
          <p:cNvPicPr/>
          <p:nvPr/>
        </p:nvPicPr>
        <p:blipFill>
          <a:blip r:embed="rId2"/>
          <a:stretch/>
        </p:blipFill>
        <p:spPr>
          <a:xfrm>
            <a:off x="4973760" y="2273400"/>
            <a:ext cx="2165400" cy="164628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785880" y="50720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Каждый день по утр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Делаем зарядк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214960" y="507204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чень нравится 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Делать по порядк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IMG_1725.JPG"/>
          <p:cNvPicPr/>
          <p:nvPr/>
        </p:nvPicPr>
        <p:blipFill>
          <a:blip r:embed="rId1"/>
          <a:stretch/>
        </p:blipFill>
        <p:spPr>
          <a:xfrm>
            <a:off x="1322280" y="974880"/>
            <a:ext cx="2176560" cy="178092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6" descr="IMG_1726.JPG"/>
          <p:cNvPicPr/>
          <p:nvPr/>
        </p:nvPicPr>
        <p:blipFill>
          <a:blip r:embed="rId2"/>
          <a:stretch/>
        </p:blipFill>
        <p:spPr>
          <a:xfrm>
            <a:off x="4638600" y="974880"/>
            <a:ext cx="2432160" cy="1671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10"/>
          <p:cNvSpPr/>
          <p:nvPr/>
        </p:nvSpPr>
        <p:spPr>
          <a:xfrm>
            <a:off x="1547640" y="392904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оды в колодце набер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Клумбы наши мы поль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ы природу уважа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ережем и понима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6" descr="IMG_1906.JPG"/>
          <p:cNvPicPr/>
          <p:nvPr/>
        </p:nvPicPr>
        <p:blipFill>
          <a:blip r:embed="rId1"/>
          <a:stretch/>
        </p:blipFill>
        <p:spPr>
          <a:xfrm>
            <a:off x="3054240" y="3492360"/>
            <a:ext cx="2603520" cy="2103480"/>
          </a:xfrm>
          <a:prstGeom prst="rect">
            <a:avLst/>
          </a:prstGeom>
          <a:ln w="0">
            <a:noFill/>
          </a:ln>
        </p:spPr>
      </p:pic>
      <p:sp>
        <p:nvSpPr>
          <p:cNvPr id="53" name="TextBox 9"/>
          <p:cNvSpPr/>
          <p:nvPr/>
        </p:nvSpPr>
        <p:spPr>
          <a:xfrm>
            <a:off x="1187280" y="928800"/>
            <a:ext cx="59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ри клада у Природы е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ода, земля и воздух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ри ее основ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Какая бы ни грянула бе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целы он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сё возродится сн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2920" y="3598920"/>
            <a:ext cx="7308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IMG_1706.JPG"/>
          <p:cNvPicPr/>
          <p:nvPr/>
        </p:nvPicPr>
        <p:blipFill>
          <a:blip r:embed="rId1"/>
          <a:stretch/>
        </p:blipFill>
        <p:spPr>
          <a:xfrm>
            <a:off x="2766960" y="2414520"/>
            <a:ext cx="2890800" cy="174312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5" descr=""/>
          <p:cNvPicPr/>
          <p:nvPr/>
        </p:nvPicPr>
        <p:blipFill>
          <a:blip r:embed="rId2"/>
          <a:stretch/>
        </p:blipFill>
        <p:spPr>
          <a:xfrm>
            <a:off x="1017720" y="5065560"/>
            <a:ext cx="6937200" cy="92088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8" descr=""/>
          <p:cNvPicPr/>
          <p:nvPr/>
        </p:nvPicPr>
        <p:blipFill>
          <a:blip r:embed="rId3"/>
          <a:stretch/>
        </p:blipFill>
        <p:spPr>
          <a:xfrm>
            <a:off x="633240" y="480960"/>
            <a:ext cx="7712280" cy="1208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5:06:30Z</dcterms:created>
  <dc:creator>Дмитрий</dc:creator>
  <dc:description/>
  <dc:language>en-US</dc:language>
  <cp:lastModifiedBy>RePack by SPecialiST</cp:lastModifiedBy>
  <dcterms:modified xsi:type="dcterms:W3CDTF">2018-01-28T14:05:52Z</dcterms:modified>
  <cp:revision>91</cp:revision>
  <dc:subject/>
  <dc:title>Муниципальное дошкольное образовательное учреждение  «Центр развития ребенка – детский сад №128»</dc:title>
</cp:coreProperties>
</file>