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046B0-7C2E-4CC3-9A1D-ED34C82ED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D950E-ED10-4762-8B4E-619F117CA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E95F6-DB44-4EDB-A354-417551453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DC27E-E534-420C-8342-B4833DDFB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D9D26-7A75-4EA1-A8B9-FF4773C1B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4D38E-F91E-4B01-92A0-AF978AAE0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3CBBE-826F-48F6-9770-F366FACA7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151D8-00FB-46BF-A30B-999885A6D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A60EA-1BBA-41FD-974C-4AB2EECDE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F73FF-CA63-464B-A4E3-8AB1F71C2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32BB3-961B-4916-B53A-EEAF3D6BA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CCFC0-B3B6-48C8-9932-8C5896289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3A0E4-307D-4F2F-B267-74810AA58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1B224-30A1-4B87-8773-CC08E84BD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0718B-6423-4B76-9BFA-AB057458A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DD7BC-0FB3-472E-A6E5-9EABBF49E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16532-15AE-4163-ADD4-BFF6A041E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A468B-C8D6-4613-BDF9-871D6CAEB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14A34-E932-43E4-ACF5-75CE09F62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21744-E257-48C2-8C94-E20EAAE1D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B45C6-18AD-4A6F-861A-B0FD64D52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FDADF-6F4B-4555-A6B0-43C5DE146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41793-949D-4DD2-A982-5BEE9ACF5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2B11B-3F3F-4597-A175-E76F243AA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A56CE-FAF0-45A8-9BF2-9EE066F55E00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31369-B686-4CCB-AA3B-776D15D45434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Задачи: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79246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«Погружение» родителей в проблемное поле с целью вооружения их информацией о профилактике курени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своение навыков адекватного и  продуктивного взаимодействия родителей с детьми по профилактике курения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Вариант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опытаемся научить ребенка противостоять этому прессингу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чень полезным оказывается «проигрывание» с ребенком ситуаций, когда ему якобы навязывают сигарету или обвиняют в том, что он еще маленький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Дополнительная информация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Если вы все же чувствуете, что ваш ребёнок не вполне убежден в вашей правоте по поводу вреда курения либо колеблется под влиянием сверстников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опробуйте предложить ему вместе с вами прочитать и посмотреть информацию о вреде курени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В помощь родителям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амятка «О влиянии курения на здоровье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«Из истории пресечения пагубной привычки»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Диск с роликом «О вреде курения»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Цитаты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«Табак приносит вред телу, разрушает разум, отупляет целые нации»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(О. де Бальзак)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«Не пейте вина, не огорчайте сердца табачищем, и проживете , сколько жил Тициан»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(И.П. Павлов) (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около 100 лет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«Самое простое в жизни — бросить курить. Тысячу раз бросал — и не получилось»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     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(М. Твен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80880" y="1523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8a500"/>
                </a:solidFill>
                <a:latin typeface="Arial"/>
              </a:rPr>
              <a:t>Давайте же, объединив усилия, спасём наших детей от дыма сигареты!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66"/>
                </a:solidFill>
                <a:latin typeface="Tahoma"/>
              </a:rPr>
              <a:t>  </a:t>
            </a:r>
            <a:r>
              <a:rPr b="0" lang="en-US" sz="4800" spc="-1" strike="noStrike">
                <a:solidFill>
                  <a:srgbClr val="000066"/>
                </a:solidFill>
                <a:latin typeface="Tahoma"/>
              </a:rPr>
              <a:t>Спасибо за внимание!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e468b2"/>
                </a:solidFill>
                <a:latin typeface="Arial"/>
              </a:rPr>
              <a:t>«СПАСЁМ ДЕТЕЙ ОТ ДЫМА СИГАРЕТЫ».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1219320" y="2057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Родительское собрани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2590920" y="2752560"/>
            <a:ext cx="3671640" cy="4105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ЦЕЛЬ: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066680" y="1599840"/>
            <a:ext cx="68580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тработка педагогически обоснованных подходов к профилактике курения дете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Форма проведения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Ситуативная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игра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5076720" y="1844640"/>
            <a:ext cx="367200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3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Подрастают наши дети. 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Из маленьких, беспомощных они превращаются в подростков. Более серьёзными становятся проблемы, с которыми мы сталкиваемся в их воспитании. Давайте задумаемся о пагубных привычках, подстерегающих их. Как уберечь ребёнка от курени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вопрос: </a:t>
            </a:r>
            <a:br>
              <a:rPr sz="4000"/>
            </a:b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Что вы знаете о курении?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1. Подростки курят, чтобы «быть как все»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2. Некурящие вынуждены страдать от заболеваний дыхательной системы в результате курения другими людьм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3. Курение помогает расслабиться, когда человек нервничает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4.Физические упражнения нейтрализуют вред, наносимый курение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5. Табакокурение является одной из основных причин заболевания сердц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6. Большинство курящих получают от курения удовольствие и не собираются бросать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Ситуация 1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аш ребенок нашел информацию о курении: в России курят 65% мужчин и 30% женщин и задает вам вопрос: «Если курить так вредно, почему же так много людей курят?»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Что вы ответите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Варианты ответа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Курят, конечно, многие. Но спроси любого взрослого курильщика, нравится ли ему быть зависимым от сигареты?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Распространение табака выгодно, приносит огромные доходы отдельным людям. Вот они то и не курят. Но эти доходы - на здоровье и слёзах курящих и их близких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Знай, что сначала курят для того, чтобы казаться мужественным, а потом всю жизнь борются с этой пагубной привычкой и страдают от нее. А взрослость можно доказать другими поступками, я знаю, ты на них способен. Спасибо, что ты меня понял, я тебя люблю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Ситуация 2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аш ребенок, даже понимая, что курение вредно, порой, мучительно ищет баланс между этим пониманием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и жестким натиском со стороны сверстников, которые считают тех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кто не курит, «слабаками» 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«маменькиными сынками»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Как противостоять этому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1T06:35:12Z</dcterms:created>
  <dc:creator>1</dc:creator>
  <dc:description/>
  <dc:language>en-US</dc:language>
  <cp:lastModifiedBy>1</cp:lastModifiedBy>
  <dcterms:modified xsi:type="dcterms:W3CDTF">2012-02-08T06:05:00Z</dcterms:modified>
  <cp:revision>2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