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A15-58A7-411E-A2A3-EE46FF98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5F7-7AEC-4E3D-A404-8EA221C1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034-54B6-4A69-BBB7-AD1404E9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11D-2857-4B8D-B408-8C0CC672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A7C-CD71-4B27-94A7-11309D4F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11E-961B-421F-92EC-08A32407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5CD-C950-4B12-992F-965E3578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08D-A7F7-4116-A3FD-9EF4D2BB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5AD-4060-4686-B3BC-FA97E86E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B68-F4CC-4045-9E6C-6B8FAE80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A2D-D35E-4332-8DAC-7E9990D3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C08-F4BA-4A21-9358-B9898851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1E2A-9BEB-4BB3-A7B0-4FC8BEA65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дзаголовок 2"/>
          <p:cNvSpPr/>
          <p:nvPr/>
        </p:nvSpPr>
        <p:spPr>
          <a:xfrm>
            <a:off x="1835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АУДО г.Ялутор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Детский сад №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6516720" y="5157720"/>
            <a:ext cx="22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ндентник 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3635280" y="580536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г.Ялутор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2017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112000" cy="2519280"/>
          </a:xfrm>
          <a:prstGeom prst="rect">
            <a:avLst/>
          </a:prstGeom>
          <a:ln w="0">
            <a:noFill/>
          </a:ln>
        </p:spPr>
      </p:pic>
      <p:sp>
        <p:nvSpPr>
          <p:cNvPr id="45" name="Подзаголовок 2"/>
          <p:cNvSpPr/>
          <p:nvPr/>
        </p:nvSpPr>
        <p:spPr>
          <a:xfrm>
            <a:off x="1692360" y="155736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имнастика для гла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«Берегите зрение!!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2016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Бел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125360"/>
          <a:ext cx="8785080" cy="2048040"/>
        </p:xfrm>
        <a:graphic>
          <a:graphicData uri="http://schemas.openxmlformats.org/drawingml/2006/table">
            <a:tbl>
              <a:tblPr/>
              <a:tblGrid>
                <a:gridCol w="3025800"/>
                <a:gridCol w="5759280"/>
              </a:tblGrid>
              <a:tr h="20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елка дятла поджидал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стя вкусно угоща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у-ка дятел посмотр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от орехи — раз, два, тр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обедал дятел с бел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 пошел играть в горел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зко перемещают взгляд вправо- вле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верх-вни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ргают глаз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крывают глаза, гладят веки указательным пальц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12000" y="3716280"/>
            <a:ext cx="2293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2016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Терем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0920" y="1125360"/>
          <a:ext cx="8785080" cy="1798920"/>
        </p:xfrm>
        <a:graphic>
          <a:graphicData uri="http://schemas.openxmlformats.org/drawingml/2006/table">
            <a:tbl>
              <a:tblPr/>
              <a:tblGrid>
                <a:gridCol w="3025800"/>
                <a:gridCol w="5759280"/>
              </a:tblGrid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ерем- терем- теремок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н не низок, не высок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верху петух сидит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кареку он крич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вижение глазами вправо- вле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вижение глазами вверх- вни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ргают глазами.</a:t>
                      </a:r>
                      <a:r>
                        <a:rPr b="0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12000" y="3716280"/>
            <a:ext cx="2293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2016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Заяц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8920" y="836640"/>
          <a:ext cx="8785080" cy="3124080"/>
        </p:xfrm>
        <a:graphic>
          <a:graphicData uri="http://schemas.openxmlformats.org/drawingml/2006/table">
            <a:tbl>
              <a:tblPr/>
              <a:tblGrid>
                <a:gridCol w="3960720"/>
                <a:gridCol w="4824360"/>
              </a:tblGrid>
              <a:tr h="312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верх морковку подними, на нее ты посмотр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олько глаз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и: вверх-вниз, вправо-вле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й-да заинька, умелый! Глазками морга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ки закрыва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йчики морковки взяли, с ними весело пляса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вер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ыгаем, как зайч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ами смотрят вверх-вниз, вправо-вле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ргают глаз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ки закрываю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4076640"/>
            <a:ext cx="21668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4000" y="620640"/>
            <a:ext cx="2016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Дожд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1197000"/>
          <a:ext cx="8389800" cy="1944360"/>
        </p:xfrm>
        <a:graphic>
          <a:graphicData uri="http://schemas.openxmlformats.org/drawingml/2006/table">
            <a:tbl>
              <a:tblPr/>
              <a:tblGrid>
                <a:gridCol w="3782880"/>
                <a:gridCol w="4606920"/>
              </a:tblGrid>
              <a:tr h="19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ождик, дождик, пуще 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апель, капель не жа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олько нас не замо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ря в окошко не стучи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вер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ни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елают круговые движения глаз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508720" y="3500280"/>
            <a:ext cx="2309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64000" y="189000"/>
            <a:ext cx="2016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Кош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620640"/>
          <a:ext cx="8640720" cy="3272040"/>
        </p:xfrm>
        <a:graphic>
          <a:graphicData uri="http://schemas.openxmlformats.org/drawingml/2006/table">
            <a:tbl>
              <a:tblPr/>
              <a:tblGrid>
                <a:gridCol w="3168360"/>
                <a:gridCol w="5472360"/>
              </a:tblGrid>
              <a:tr h="32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от окошко распахнулос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шка вышла на карни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смотрела кошка ввер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смотрела кошка вни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от налево повернула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оводила взглядом му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тянулась, улыбнула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 уселась на карни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а вправо отвел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смотрела на ко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 закрыла их в мурчань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зводят руки в сторо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митируют мягкую, грациозную походку кош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вер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ни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ле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зглядом проводят «муху» от левого плеча к право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ети приседаю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прям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крывают глаза ру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12000" y="3933720"/>
            <a:ext cx="2309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92000" y="549360"/>
            <a:ext cx="201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Каче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4000" y="981000"/>
          <a:ext cx="8640720" cy="2160720"/>
        </p:xfrm>
        <a:graphic>
          <a:graphicData uri="http://schemas.openxmlformats.org/drawingml/2006/table">
            <a:tbl>
              <a:tblPr/>
              <a:tblGrid>
                <a:gridCol w="3887640"/>
                <a:gridCol w="475308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Есть качели на луг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верх-вниз, вверх-вн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Я качаться побе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верх-вниз, вверх-вн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смотреть глазами вверх, вн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смотреть вверх, вн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309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00" y="549360"/>
            <a:ext cx="201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Луч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4000" y="981000"/>
          <a:ext cx="8640720" cy="2684520"/>
        </p:xfrm>
        <a:graphic>
          <a:graphicData uri="http://schemas.openxmlformats.org/drawingml/2006/table">
            <a:tbl>
              <a:tblPr/>
              <a:tblGrid>
                <a:gridCol w="3887640"/>
                <a:gridCol w="4753080"/>
              </a:tblGrid>
              <a:tr h="26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учик, лучик озорно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играй-ка ты со мн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у-ка лучик, повернис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 глаза мне покаж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згляд я влево отвед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учик солнца я най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еперь вправо посмотрю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нова лучик я най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ргают глаз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елают круговые движения глаз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тводят взгляд вле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тводят взгляд впра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309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6920" y="549360"/>
            <a:ext cx="4032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Отдыхалоч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981000"/>
          <a:ext cx="8640720" cy="2160720"/>
        </p:xfrm>
        <a:graphic>
          <a:graphicData uri="http://schemas.openxmlformats.org/drawingml/2006/table">
            <a:tbl>
              <a:tblPr/>
              <a:tblGrid>
                <a:gridCol w="3887640"/>
                <a:gridCol w="475308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ы играли, рисова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ши глазки так уст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ы дадим им отдохнут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х закроем на чуть — чу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 теперь их открыва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 немного поморга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ыполняется действ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 которых идет реч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309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26920" y="549360"/>
            <a:ext cx="4032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Ноч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981000"/>
          <a:ext cx="8640720" cy="2390760"/>
        </p:xfrm>
        <a:graphic>
          <a:graphicData uri="http://schemas.openxmlformats.org/drawingml/2006/table">
            <a:tbl>
              <a:tblPr/>
              <a:tblGrid>
                <a:gridCol w="3887640"/>
                <a:gridCol w="4753080"/>
              </a:tblGrid>
              <a:tr h="23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очь. Темно на улиц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до нам зажмури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з, два, три, четыре, п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жно глазки открыва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нова до пяти считаем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нова глазки закрыва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з, два, три, четыре, п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ткрываем их опя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ыполняется действ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 которых идет реч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309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6920" y="549360"/>
            <a:ext cx="4032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«Прогулка в лесу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692280"/>
          <a:ext cx="8640720" cy="3859200"/>
        </p:xfrm>
        <a:graphic>
          <a:graphicData uri="http://schemas.openxmlformats.org/drawingml/2006/table">
            <a:tbl>
              <a:tblPr/>
              <a:tblGrid>
                <a:gridCol w="3887640"/>
                <a:gridCol w="4753080"/>
              </a:tblGrid>
              <a:tr h="38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ы отправились гуля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Шагают на ме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рибы — ягоды иск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ак прекрасен этот л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лон разных он чуд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ветит солнце в вышин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от грибок растет на пн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розд на дереве сидит,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Ежик под кустом шурш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лева ель растет — старушк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права сосенки — подруж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де вы, ягоды, ау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е равно я вас найду!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вер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н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вер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</a:t>
                      </a: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трят вн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пра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л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вторяют движения гл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лево — вправо, вверх — вни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1878120" cy="21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дзаголовок 2"/>
          <p:cNvSpPr/>
          <p:nvPr/>
        </p:nvSpPr>
        <p:spPr>
          <a:xfrm>
            <a:off x="250920" y="836640"/>
            <a:ext cx="87138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Я жду с минуты на минуту гонца. Взгляни на дорогу, кого ты там видишь?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— Никого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— Мне бы такое зрение — увидеть никого, да еще на таком расстоян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ьюис Кэрролл «Алиса в Зазеркаль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9811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6920" y="549360"/>
            <a:ext cx="4032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«Само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125360"/>
          <a:ext cx="8640720" cy="2160360"/>
        </p:xfrm>
        <a:graphic>
          <a:graphicData uri="http://schemas.openxmlformats.org/drawingml/2006/table">
            <a:tbl>
              <a:tblPr/>
              <a:tblGrid>
                <a:gridCol w="3024000"/>
                <a:gridCol w="561672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олетает самолет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 ним собрался я в полет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авое крыло отве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смот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евое крыло отве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гляд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верх и водят пальцем за воображаемым самоле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тводят руки по переменно и прослеживают взгля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251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дзаголовок 2"/>
          <p:cNvSpPr/>
          <p:nvPr/>
        </p:nvSpPr>
        <p:spPr>
          <a:xfrm>
            <a:off x="250920" y="692280"/>
            <a:ext cx="8642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имнастика для глаз для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сталость глаз очень часто приводит к зрительным нарушениям. В наш век преобладания технических средств обучения, повышенных умственных нагрузок очень важно заниматься профилактикой заболеваний глаз. И лучше всего с этим справляется детская зрительная гимнастика. Узнаем о ее видах.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50752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дзаголовок 2"/>
          <p:cNvSpPr/>
          <p:nvPr/>
        </p:nvSpPr>
        <p:spPr>
          <a:xfrm>
            <a:off x="179280" y="260280"/>
            <a:ext cx="87138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Гимнастика для глаз в детском саду, в школе, на уро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же при посещении детского дошкольного учреждения ребенок может испытывать длительные зрительные нагрузки. Речь идет о занятиях рисованием, лепкой, конструированием, которые требуют напряжения глаз, сосредоточения внимания на одной точке. Такие нагрузки увеличиваются в школе, на уроках. Специальные упражнения помогут снять зрительное напряжение, дать возможность глазам отдохнуть. Итак, для детей дошкольного возраста рекомендуется делать дважды в день следующее: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Движение глазами вправо-влево. Воспитатель показывает их детям сначала в медленном темпе, предлагая представить себя хитрой лисицей, которая высматривает зайца. Затем такие движения выполняются в ускоренном темпе. В конце глаза закрываются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Зажмуривание с широким открытием глаз. Воспитатель показывает, как сильно нужно зажмурить глазки на 4-5 секунд, а затем открыть их широко-широко, как бы сильно удивляясь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Чешем носик. Рука вытягивается полностью, указательный пальчик помещается напротив носа. Глаза смотрят на приближающийся издали палец, который легонько почесывает нос и медленно удаляется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 школе для выполнения подобной гимнастики подойдут учебные пособия. Например, учитель берет в руки большой треугольник и предлагает детям обвести его взглядом, останавливаясь на углах. То же самое можно сделать с прямоугольником, круг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Еще одно упражнение с геометрическими фигурами — «Покажи глазами». Учитель на доске прикрепляет в ряд 6-7 геометрических фигур. Задача ученика — по заданию педагога, глазами, без поворота головы показать фигуру, которую он называет. Упражнение представляет собой перемещение глаз и закрепление знаний о фор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Эффективным является упражнение, при котором движения глазными яблокам выполняются с закрытыми веками. Дети смотрят вверх, вниз, вправо, вле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«Удивимся» — дети глазами имитируют удивление, поднимая широко раскрытые глаза вверх вместе с бровями. В этом положении нужно задержаться на 3-4 секунд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имнастика для глаз  в стих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1268280"/>
          <a:ext cx="8229600" cy="2830680"/>
        </p:xfrm>
        <a:graphic>
          <a:graphicData uri="http://schemas.openxmlformats.org/drawingml/2006/table">
            <a:tbl>
              <a:tblPr/>
              <a:tblGrid>
                <a:gridCol w="2735280"/>
                <a:gridCol w="5494320"/>
              </a:tblGrid>
              <a:tr h="28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кам нужно отдохну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ужно глубоко вздохну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а по кругу побегут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ного-много раз моргнут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кам стало хорошо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видят мои глазки в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бята закрывают гл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убокий вдох. Глаза все так же закры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а открыты. Движение зрачком по кругу по часовой и против часовой стрел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астое моргание глаз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егкое касание кончиками пальцев закрытых гл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а распахнуты. На лице широкая улыб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1685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1268280"/>
          <a:ext cx="8713800" cy="2292480"/>
        </p:xfrm>
        <a:graphic>
          <a:graphicData uri="http://schemas.openxmlformats.org/drawingml/2006/table">
            <a:tbl>
              <a:tblPr/>
              <a:tblGrid>
                <a:gridCol w="2854080"/>
                <a:gridCol w="5859720"/>
              </a:tblGrid>
              <a:tr h="22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пал цве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 вдруг проснулс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ольше спать не захоте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трепенулся, потянулс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звился вверх и полет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крыть глаза, расслабиться, помассировать веки, слегка надавливая на них по часовой стрелке и против не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моргать глаз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уки поднять вверх (вдох). Посмотреть на ру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уки согнуты в стороны (выдох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трясти кистями, посмотреть вправо-вл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1685880" cy="1905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38160" y="62064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Баб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19640" y="764640"/>
            <a:ext cx="237456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Мост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8360" y="1268280"/>
          <a:ext cx="8229600" cy="3368880"/>
        </p:xfrm>
        <a:graphic>
          <a:graphicData uri="http://schemas.openxmlformats.org/drawingml/2006/table">
            <a:tbl>
              <a:tblPr/>
              <a:tblGrid>
                <a:gridCol w="3743280"/>
                <a:gridCol w="4486320"/>
              </a:tblGrid>
              <a:tr h="33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крываем мы глаза, вот какие чуде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ши глазки отдыхают, упражненья выполня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 теперь мы их откроем, через речку мост построи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рисуем букву «О», получается лег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верх поднимем, глянем вн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право, влево поверн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ниматься вновь начн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крывают оба гл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одолжают стоять с закрытыми глаз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ткрывают глаза, взглядом рисуют м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ами рисуют букву «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а поднимают вверх, опускают вн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ами двигают вправо-вл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ами смотрят вверх-вн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77080" y="4797360"/>
            <a:ext cx="1685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2016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Стрекоз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125360"/>
          <a:ext cx="8229600" cy="2341800"/>
        </p:xfrm>
        <a:graphic>
          <a:graphicData uri="http://schemas.openxmlformats.org/drawingml/2006/table">
            <a:tbl>
              <a:tblPr/>
              <a:tblGrid>
                <a:gridCol w="3743280"/>
                <a:gridCol w="4486320"/>
              </a:tblGrid>
              <a:tr h="23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от какая стрекоза- как горошины глаз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лево- вправо, назад- вперед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у, совсем как вертол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ы летаем высок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ы летаем низк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ы летаем далек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ы летаем близк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льцами делают оч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лазами смотрят вправо- вле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руговые движения гл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вер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ни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пер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мотрят вни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2000" y="3716280"/>
            <a:ext cx="2293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2016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Ве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125360"/>
          <a:ext cx="8496360" cy="1798920"/>
        </p:xfrm>
        <a:graphic>
          <a:graphicData uri="http://schemas.openxmlformats.org/drawingml/2006/table">
            <a:tbl>
              <a:tblPr/>
              <a:tblGrid>
                <a:gridCol w="2879640"/>
                <a:gridCol w="5616720"/>
              </a:tblGrid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етер дует нам в лиц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качалось деревц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етер тише, тише, тише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еревца все выше, выше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асто моргают ве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е поворачивая головы, смотрят вправо- вле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дленно приседают, опуская глаза вни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тают и глаза поднимают вверх.</a:t>
                      </a:r>
                      <a:r>
                        <a:rPr b="0" i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12000" y="3716280"/>
            <a:ext cx="2293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6T09:48:04Z</dcterms:created>
  <dc:creator>Марина</dc:creator>
  <dc:description/>
  <dc:language>en-US</dc:language>
  <cp:lastModifiedBy>Марина</cp:lastModifiedBy>
  <dcterms:modified xsi:type="dcterms:W3CDTF">2017-03-26T11:57:51Z</dcterms:modified>
  <cp:revision>20</cp:revision>
  <dc:subject/>
  <dc:title>Слайд 1</dc:title>
</cp:coreProperties>
</file>