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16579-E294-429A-8D18-51002717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C8488-98FB-4AE6-B3BB-86953C73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6D3B6-B471-46D2-B8D7-85F54EF0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316A-ED66-4672-A4A4-35A33054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3F3D-BC5B-471B-9CDF-90284B4D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599D-4E50-48D3-9BEB-E2D62D72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596A-8B79-4128-974E-F05B7DA5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1EA7-EEEF-49B7-BF76-1495B988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E5EB-CB9B-4F59-A619-A45407FB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3230-7BF7-4E49-A736-6FE15021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7B1E-7B15-4F79-86D9-04C4A18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2275-16A7-41A6-9E0F-63824E9A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90A9-56B7-4735-B641-6A3E9DA5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DE1D-067C-46BB-8B96-993645E6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C8B3-3477-4313-81DB-144566C6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53F4-2541-4D13-B029-0C91FC8A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E007-2DC3-488E-B84D-CDA7DA13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7A43-7C76-4323-A068-DBB46520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D917C-C6A5-4AE4-9FA2-41A1CD1D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0D36-90D4-4522-8653-FC8B8CDC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25EB9-3A4E-42F0-B9FB-022F6D1F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7E9C2-C32D-4A30-9BDA-AB095A06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7B569-8AF7-4CCD-AB70-99CDB832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73E62-B7E2-430E-A6DC-6BACE937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61FE-06EB-4F79-B92C-F2F8464798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4735-3A6F-4C50-A991-C092D48A29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60208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Тема: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Химическая связь и ее тип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246560" y="189000"/>
            <a:ext cx="489744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рок химии в 11 класс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ярность ковалентной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епень смещ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щих электронных пар к одному из связанных ими атом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Organization Chart 9"/>
          <p:cNvGrpSpPr/>
          <p:nvPr/>
        </p:nvGrpSpPr>
        <p:grpSpPr>
          <a:xfrm>
            <a:off x="3094920" y="2204640"/>
            <a:ext cx="2672280" cy="1041480"/>
            <a:chOff x="3094920" y="2204640"/>
            <a:chExt cx="2672280" cy="1041480"/>
          </a:xfrm>
        </p:grpSpPr>
        <p:cxnSp>
          <p:nvCxnSpPr>
            <p:cNvPr id="150" name="_s1028"/>
            <p:cNvCxnSpPr>
              <a:stCxn id="151" idx="0"/>
              <a:endCxn id="152" idx="2"/>
            </p:cNvCxnSpPr>
            <p:nvPr/>
          </p:nvCxnSpPr>
          <p:spPr>
            <a:xfrm flipV="1" rot="16200000">
              <a:off x="4673160" y="2368800"/>
              <a:ext cx="228960" cy="7149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1029"/>
            <p:cNvCxnSpPr>
              <a:stCxn id="154" idx="0"/>
              <a:endCxn id="152" idx="2"/>
            </p:cNvCxnSpPr>
            <p:nvPr/>
          </p:nvCxnSpPr>
          <p:spPr>
            <a:xfrm flipH="1" flipV="1" rot="5400000">
              <a:off x="3960000" y="2370600"/>
              <a:ext cx="228960" cy="7117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_s1030"/>
            <p:cNvSpPr/>
            <p:nvPr/>
          </p:nvSpPr>
          <p:spPr>
            <a:xfrm>
              <a:off x="3954240" y="2204640"/>
              <a:ext cx="952920" cy="407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вяз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1"/>
            <p:cNvSpPr/>
            <p:nvPr/>
          </p:nvSpPr>
          <p:spPr>
            <a:xfrm>
              <a:off x="3094920" y="2841120"/>
              <a:ext cx="1246320" cy="405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полярно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32"/>
            <p:cNvSpPr/>
            <p:nvPr/>
          </p:nvSpPr>
          <p:spPr>
            <a:xfrm>
              <a:off x="4520880" y="2841120"/>
              <a:ext cx="1246320" cy="405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яр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18"/>
          <p:cNvSpPr/>
          <p:nvPr/>
        </p:nvSpPr>
        <p:spPr>
          <a:xfrm>
            <a:off x="2556000" y="5373720"/>
            <a:ext cx="386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лектроотрицательн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ЭО) — свойство оттягивать к себе валентные электроны от других ат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611280" y="342900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валентную химическую связь, образующуюся между атомами с одинаковой электроотрицательностью, называют неполя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4572000" y="342900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валентную химическую связь, образующуюся между атомами с разной электроотрицательностью, называют поля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684360" y="494172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6516720" y="501336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С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>
            <a:off x="7093080" y="5445000"/>
            <a:ext cx="358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1332000" y="544500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71499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атность ковалент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щих электронных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вязывающих ат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564000" y="2997360"/>
            <a:ext cx="1998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сид углеро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=с=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651640" y="2997360"/>
            <a:ext cx="122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979640" y="2997360"/>
            <a:ext cx="15843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-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Organization Chart 8"/>
          <p:cNvGrpSpPr/>
          <p:nvPr/>
        </p:nvGrpSpPr>
        <p:grpSpPr>
          <a:xfrm>
            <a:off x="2340000" y="1412280"/>
            <a:ext cx="4092120" cy="1223640"/>
            <a:chOff x="2340000" y="1412280"/>
            <a:chExt cx="4092120" cy="1223640"/>
          </a:xfrm>
        </p:grpSpPr>
        <p:cxnSp>
          <p:nvCxnSpPr>
            <p:cNvPr id="168" name="_s2052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4988160" y="1217520"/>
              <a:ext cx="228960" cy="14331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2053"/>
            <p:cNvCxnSpPr>
              <a:stCxn id="172" idx="0"/>
              <a:endCxn id="170" idx="2"/>
            </p:cNvCxnSpPr>
            <p:nvPr/>
          </p:nvCxnSpPr>
          <p:spPr>
            <a:xfrm flipV="1">
              <a:off x="4386240" y="1819800"/>
              <a:ext cx="180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2054"/>
            <p:cNvCxnSpPr>
              <a:stCxn id="174" idx="0"/>
              <a:endCxn id="170" idx="2"/>
            </p:cNvCxnSpPr>
            <p:nvPr/>
          </p:nvCxnSpPr>
          <p:spPr>
            <a:xfrm flipH="1" flipV="1" rot="5400000">
              <a:off x="3555720" y="1217520"/>
              <a:ext cx="228960" cy="14331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0" name="_s2055"/>
            <p:cNvSpPr/>
            <p:nvPr/>
          </p:nvSpPr>
          <p:spPr>
            <a:xfrm>
              <a:off x="3842640" y="1412280"/>
              <a:ext cx="1085400" cy="407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связ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56"/>
            <p:cNvSpPr/>
            <p:nvPr/>
          </p:nvSpPr>
          <p:spPr>
            <a:xfrm>
              <a:off x="2340000" y="2048760"/>
              <a:ext cx="1227240" cy="587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500" spc="-1" strike="noStrike">
                  <a:solidFill>
                    <a:srgbClr val="000000"/>
                  </a:solidFill>
                  <a:latin typeface="Arial"/>
                </a:rPr>
                <a:t>одинар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57"/>
            <p:cNvSpPr/>
            <p:nvPr/>
          </p:nvSpPr>
          <p:spPr>
            <a:xfrm>
              <a:off x="3772440" y="2048760"/>
              <a:ext cx="1227240" cy="587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двой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58"/>
            <p:cNvSpPr/>
            <p:nvPr/>
          </p:nvSpPr>
          <p:spPr>
            <a:xfrm>
              <a:off x="5204880" y="2048760"/>
              <a:ext cx="1227240" cy="587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тройные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Line 17"/>
          <p:cNvSpPr/>
          <p:nvPr/>
        </p:nvSpPr>
        <p:spPr>
          <a:xfrm>
            <a:off x="6156360" y="40053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6156360" y="407664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6156360" y="41497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250920" y="479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ишите отдельно структурные формулы веществ с ковалентной полярной и неполярной связью. Укажите при помощи стрелки полярность. Определите валентность и степень окисления ато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Н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КВг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типы химических связей между атомами в веществах, формулы которых написаны на дос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, CaO, Br2, H2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628640"/>
            <a:ext cx="878508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имической связью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онимаю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акое </a:t>
            </a:r>
            <a:r>
              <a:rPr b="0" i="1" lang="ru-RU" sz="3200" spc="-1" strike="noStrike">
                <a:solidFill>
                  <a:srgbClr val="cc0000"/>
                </a:solidFill>
                <a:latin typeface="Arial"/>
              </a:rPr>
              <a:t>взаимодействие ато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торое связывает их в </a:t>
            </a:r>
            <a:r>
              <a:rPr b="0" i="1" lang="ru-RU" sz="3200" spc="-1" strike="noStrike">
                <a:solidFill>
                  <a:srgbClr val="0066ff"/>
                </a:solidFill>
                <a:latin typeface="Arial"/>
              </a:rPr>
              <a:t>молекулы, </a:t>
            </a:r>
            <a:br>
              <a:rPr sz="3200"/>
            </a:br>
            <a:r>
              <a:rPr b="0" i="1" lang="ru-RU" sz="3200" spc="-1" strike="noStrike">
                <a:solidFill>
                  <a:srgbClr val="0066ff"/>
                </a:solidFill>
                <a:latin typeface="Arial"/>
              </a:rPr>
              <a:t>ионы, радикалы, кристаллы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онная химическ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147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вязь, образовавшаяся за сч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статического притя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атион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анион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68360" y="494172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ишите формулы веществ с ионной связ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С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СС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C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С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B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ИС"/>
          <p:cNvPicPr/>
          <p:nvPr/>
        </p:nvPicPr>
        <p:blipFill>
          <a:blip r:embed="rId1"/>
          <a:stretch/>
        </p:blipFill>
        <p:spPr>
          <a:xfrm>
            <a:off x="324000" y="2924280"/>
            <a:ext cx="5256000" cy="1436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ИС 1"/>
          <p:cNvPicPr/>
          <p:nvPr/>
        </p:nvPicPr>
        <p:blipFill>
          <a:blip r:embed="rId2"/>
          <a:stretch/>
        </p:blipFill>
        <p:spPr>
          <a:xfrm>
            <a:off x="6443640" y="2492280"/>
            <a:ext cx="2330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16360" y="259920"/>
            <a:ext cx="46800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 связь между положительно поляризованными атомами водорода одной молекулы (или ее части) и отрицательно поляризованными атомами сильно электроотрицательных элементов, имеющих неподеленные электронные пар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, N и реже С1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й молекулы (или ее ча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   H…..O    H…..O    H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            H            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 flipV="1">
            <a:off x="5292720" y="4724280"/>
            <a:ext cx="0" cy="43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900000" y="4365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276720" y="4365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5580000" y="4365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611280" y="4724280"/>
            <a:ext cx="0" cy="43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987640" y="4724280"/>
            <a:ext cx="0" cy="43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аллическ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в металлах и сплавах, которую выполняют относительно свободные электроны между ионами металлов в металлической кристаллической реше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68360" y="4869000"/>
            <a:ext cx="33224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411280" y="4292640"/>
            <a:ext cx="4392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 — 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     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251640" y="4005360"/>
            <a:ext cx="47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образования металлической связ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4356000" y="4941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4716360" y="51577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79280" y="5516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ишите формулы веществ, в которых присутствует металлическая и водородная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, KF, N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OOH, 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AL, NaC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валентная химическая связ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569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вязь, возникающая между атомами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за сч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ования </a:t>
            </a:r>
            <a:r>
              <a:rPr b="0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бщих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электронных 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кс1"/>
          <p:cNvPicPr/>
          <p:nvPr/>
        </p:nvPicPr>
        <p:blipFill>
          <a:blip r:embed="rId1"/>
          <a:stretch/>
        </p:blipFill>
        <p:spPr>
          <a:xfrm>
            <a:off x="395280" y="3716280"/>
            <a:ext cx="8064360" cy="1519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кс111"/>
          <p:cNvPicPr/>
          <p:nvPr/>
        </p:nvPicPr>
        <p:blipFill>
          <a:blip r:embed="rId2"/>
          <a:stretch/>
        </p:blipFill>
        <p:spPr>
          <a:xfrm>
            <a:off x="3203640" y="5445000"/>
            <a:ext cx="5184720" cy="12589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2"/>
          <p:cNvSpPr/>
          <p:nvPr/>
        </p:nvSpPr>
        <p:spPr>
          <a:xfrm>
            <a:off x="5580000" y="278136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ме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норно-акцепто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1906920" y="292428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ханизм образования связ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кс2безымянный1"/>
          <p:cNvPicPr/>
          <p:nvPr/>
        </p:nvPicPr>
        <p:blipFill>
          <a:blip r:embed="rId1"/>
          <a:stretch/>
        </p:blipFill>
        <p:spPr>
          <a:xfrm>
            <a:off x="1187280" y="549360"/>
            <a:ext cx="6336000" cy="265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кс22безымянный1"/>
          <p:cNvPicPr/>
          <p:nvPr/>
        </p:nvPicPr>
        <p:blipFill>
          <a:blip r:embed="rId2"/>
          <a:stretch/>
        </p:blipFill>
        <p:spPr>
          <a:xfrm>
            <a:off x="1692360" y="3357720"/>
            <a:ext cx="5400720" cy="904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кс222безымянный1"/>
          <p:cNvPicPr/>
          <p:nvPr/>
        </p:nvPicPr>
        <p:blipFill>
          <a:blip r:embed="rId3"/>
          <a:stretch/>
        </p:blipFill>
        <p:spPr>
          <a:xfrm>
            <a:off x="755640" y="4653000"/>
            <a:ext cx="77040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онорно-акцепторный меха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безымянный1"/>
          <p:cNvPicPr/>
          <p:nvPr/>
        </p:nvPicPr>
        <p:blipFill>
          <a:blip r:embed="rId1"/>
          <a:stretch/>
        </p:blipFill>
        <p:spPr>
          <a:xfrm>
            <a:off x="539640" y="1989000"/>
            <a:ext cx="80647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особ перекрывания электронных орбита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кс3безымянный1"/>
          <p:cNvPicPr/>
          <p:nvPr/>
        </p:nvPicPr>
        <p:blipFill>
          <a:blip r:embed="rId1"/>
          <a:stretch/>
        </p:blipFill>
        <p:spPr>
          <a:xfrm>
            <a:off x="179280" y="1197000"/>
            <a:ext cx="4897440" cy="170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кс33безымянный1"/>
          <p:cNvPicPr/>
          <p:nvPr/>
        </p:nvPicPr>
        <p:blipFill>
          <a:blip r:embed="rId2"/>
          <a:stretch/>
        </p:blipFill>
        <p:spPr>
          <a:xfrm>
            <a:off x="179280" y="3429000"/>
            <a:ext cx="4896000" cy="2800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кс333безымянный1"/>
          <p:cNvPicPr/>
          <p:nvPr/>
        </p:nvPicPr>
        <p:blipFill>
          <a:blip r:embed="rId3"/>
          <a:stretch/>
        </p:blipFill>
        <p:spPr>
          <a:xfrm>
            <a:off x="5796000" y="1197000"/>
            <a:ext cx="2592360" cy="15145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5651640" y="2492280"/>
            <a:ext cx="302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№ 1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помните, что такое  сигма- и пи-  связ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5148360" y="4718160"/>
            <a:ext cx="39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№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ажите пару формул веществ, в молекулах которых есть только сигма-связи:   а) С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и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;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и 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8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8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8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NY</cp:lastModifiedBy>
  <dcterms:modified xsi:type="dcterms:W3CDTF">2018-01-28T17:08:13Z</dcterms:modified>
  <cp:revision>37</cp:revision>
  <dc:subject/>
  <dc:title>PowerPoint Presentation</dc:title>
</cp:coreProperties>
</file>