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F9B-F253-478E-87A1-88850F6C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A98C-94DF-482C-B8FC-4AA7EC49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C5B7-1D5C-46EA-ACEF-5678BF95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784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48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784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48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D45-AA45-4219-84FF-AB73BE2B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583-CF9B-4BE9-90FF-506440EC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22CF-4C52-4A18-A360-788F7376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85F-A895-4CBC-B777-18FB4203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1FB-B206-45E8-AC96-05810C98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478-7D1C-4B8E-9458-7DBDF337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F034-1931-4014-93CD-4AE92862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DB4E-FF34-48E5-BCB6-0E9500F7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FE6-D535-49A8-AD5C-97B33034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6e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6e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6e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6e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6e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6e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6e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6B51-D23D-4D8E-B7AB-C4C7C884EA5D}" type="slidenum">
              <a:rPr b="0" lang="ru-RU" sz="1000" spc="-1" strike="noStrike">
                <a:solidFill>
                  <a:srgbClr val="e6e6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oktorroma.ru/wp-content/uploads/2012/11/vliyanie.jp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384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ектная работа по физике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«Электромагнитное излучение и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его влияние на здоровье человека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73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6e6ff"/>
                </a:solidFill>
                <a:latin typeface="Arial"/>
              </a:rPr>
              <a:t>Подготовила: Борькина Маргарита,</a:t>
            </a:r>
            <a:endParaRPr b="0" lang="en-US" sz="2400" spc="-1" strike="noStrike">
              <a:solidFill>
                <a:srgbClr val="e6e6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6e6ff"/>
                </a:solidFill>
                <a:latin typeface="Arial"/>
              </a:rPr>
              <a:t>студентка группы №21</a:t>
            </a:r>
            <a:endParaRPr b="0" lang="en-US" sz="2400" spc="-1" strike="noStrike">
              <a:solidFill>
                <a:srgbClr val="e6e6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6e6ff"/>
                </a:solidFill>
                <a:latin typeface="Arial"/>
              </a:rPr>
              <a:t>Руководитель: Осипова М.В., преподаватель Зубово- Полянского аграрного техникума Республики Мордовия</a:t>
            </a:r>
            <a:endParaRPr b="0" lang="en-US" sz="2400" spc="-1" strike="noStrike">
              <a:solidFill>
                <a:srgbClr val="e6e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prodayu-mobilniy-toshi-t38i"/>
          <p:cNvPicPr/>
          <p:nvPr/>
        </p:nvPicPr>
        <p:blipFill>
          <a:blip r:embed="rId2"/>
          <a:stretch/>
        </p:blipFill>
        <p:spPr>
          <a:xfrm>
            <a:off x="468360" y="549360"/>
            <a:ext cx="4105080" cy="3967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324000" y="4221000"/>
            <a:ext cx="84960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Между лицом и экраном должно быть расстояние около 0,7 метра;</a:t>
            </a:r>
            <a:endParaRPr b="0" lang="en-US" sz="3000" spc="-1" strike="noStrike">
              <a:solidFill>
                <a:srgbClr val="e6e6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б) достаточная освещенность рабочего места;</a:t>
            </a:r>
            <a:endParaRPr b="0" lang="en-US" sz="3000" spc="-1" strike="noStrike">
              <a:solidFill>
                <a:srgbClr val="e6e6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в) кратковременные перерывы в процессе работы.</a:t>
            </a:r>
            <a:endParaRPr b="0" lang="en-US" sz="30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1052640"/>
            <a:ext cx="39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 использовании монитора следует соблюдать некоторые меры предосторожности, такие как:</a:t>
            </a:r>
            <a:endParaRPr b="0" lang="en-US" sz="3200" spc="-1" strike="noStrike">
              <a:solidFill>
                <a:srgbClr val="e6e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79280" y="404640"/>
            <a:ext cx="3673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ти, ради их здоровья,  должны быть полностью защищены от использования сотового телефона, потому что их черепные коробки являются более тонкими.</a:t>
            </a:r>
            <a:endParaRPr b="0" lang="en-US" sz="2400" spc="-1" strike="noStrike">
              <a:solidFill>
                <a:srgbClr val="e6e6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комендуется, чтобы дети до 10 лет вообще не использовали сотовые телефоны. Дети старшего возраста также нуждаются в соблюдении строгих принципов относительно использования телефонов.</a:t>
            </a:r>
            <a:endParaRPr b="0" lang="en-US" sz="2400" spc="-1" strike="noStrike">
              <a:solidFill>
                <a:srgbClr val="e6e6ff"/>
              </a:solidFill>
              <a:latin typeface="Arial"/>
            </a:endParaRPr>
          </a:p>
        </p:txBody>
      </p:sp>
      <p:pic>
        <p:nvPicPr>
          <p:cNvPr id="73" name="Picture 3" descr="мобильный"/>
          <p:cNvPicPr/>
          <p:nvPr/>
        </p:nvPicPr>
        <p:blipFill>
          <a:blip r:embed="rId2"/>
          <a:stretch/>
        </p:blipFill>
        <p:spPr>
          <a:xfrm>
            <a:off x="4067280" y="333360"/>
            <a:ext cx="48258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7"/>
          <p:cNvSpPr/>
          <p:nvPr/>
        </p:nvSpPr>
        <p:spPr>
          <a:xfrm>
            <a:off x="4211640" y="260280"/>
            <a:ext cx="4681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ff"/>
                </a:solidFill>
                <a:latin typeface="Calibri"/>
              </a:rPr>
              <a:t>Человек состоит из мельчайших живых структур - клеток. Внутри каждой клетки протекают химические процессы. В результате протекания  химических  реакций клетки вырабатывают ток. Электрические токи в свою очередь создают электромагнитное поле вокруг каждой клетки, а сливаясь от всех клеток вместе образуют вокруг человека электромагнитное поле (ауру).</a:t>
            </a:r>
            <a:endParaRPr b="0" lang="en-US" sz="20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179280" y="436572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ff"/>
                </a:solidFill>
                <a:latin typeface="Calibri"/>
              </a:rPr>
              <a:t>И если человек подвержен внешнему электромагнитному излучению, то разрушается собственное электромагнитное поле человека (аура), вследствие  этого происходят нарушения в химических процессах в клетках человека. </a:t>
            </a:r>
            <a:endParaRPr b="0" lang="en-US" sz="2000" spc="-1" strike="noStrike">
              <a:solidFill>
                <a:srgbClr val="e6e6ff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4788000" y="4149720"/>
            <a:ext cx="4105080" cy="2381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179280" y="404640"/>
            <a:ext cx="3810240" cy="3073680"/>
          </a:xfrm>
          <a:prstGeom prst="rect">
            <a:avLst/>
          </a:prstGeom>
          <a:ln w="0">
            <a:noFill/>
          </a:ln>
        </p:spPr>
      </p:pic>
      <p:sp>
        <p:nvSpPr>
          <p:cNvPr id="78" name="TextBox 10"/>
          <p:cNvSpPr/>
          <p:nvPr/>
        </p:nvSpPr>
        <p:spPr>
          <a:xfrm>
            <a:off x="684360" y="371628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6e6ff"/>
                </a:solidFill>
                <a:latin typeface="Calibri"/>
              </a:rPr>
              <a:t>Аура здорового человека.</a:t>
            </a:r>
            <a:endParaRPr b="0" lang="en-US" sz="18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5219640" y="371628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6e6ff"/>
                </a:solidFill>
                <a:latin typeface="Calibri"/>
              </a:rPr>
              <a:t>Аура больного человека.</a:t>
            </a:r>
            <a:endParaRPr b="0" lang="en-US" sz="1800" spc="-1" strike="noStrike">
              <a:solidFill>
                <a:srgbClr val="e6e6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304920"/>
            <a:ext cx="8154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Физиотерапия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1" name="Picture 2" descr="C:\Users\Администратор.TSVU\Desktop\32-02_imgid_text.jpeg"/>
          <p:cNvPicPr/>
          <p:nvPr/>
        </p:nvPicPr>
        <p:blipFill>
          <a:blip r:embed="rId2"/>
          <a:stretch/>
        </p:blipFill>
        <p:spPr>
          <a:xfrm>
            <a:off x="179280" y="3141720"/>
            <a:ext cx="4480200" cy="3316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Администратор\Desktop\P1000692.JPG"/>
          <p:cNvPicPr/>
          <p:nvPr/>
        </p:nvPicPr>
        <p:blipFill>
          <a:blip r:embed="rId3"/>
          <a:stretch/>
        </p:blipFill>
        <p:spPr>
          <a:xfrm>
            <a:off x="4643280" y="3141720"/>
            <a:ext cx="4329360" cy="3255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42920" y="1557360"/>
            <a:ext cx="727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6e6ff"/>
                </a:solidFill>
                <a:latin typeface="Arial"/>
              </a:rPr>
              <a:t>Физиопроцедуры оказывают положительный эффект на здоровье человека, но принимать </a:t>
            </a:r>
            <a:r>
              <a:rPr b="0" lang="en-US" sz="25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e6e6ff"/>
                </a:solidFill>
                <a:latin typeface="Arial"/>
              </a:rPr>
              <a:t>их следует строго по назначению врача.</a:t>
            </a: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6e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94920" y="119664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99"/>
              </a:spcBef>
              <a:buClr>
                <a:srgbClr val="e6e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приобретая бытовую технику, проверяйте в гигиеническом заключении (сертификате) отметку о соответствии изделия требованиям  "Межгосударственных санитарных норм допустимых уровней  физических факторов при применении товаров народного потребления   в бытовых условиях", СанПиН 001-96;</a:t>
            </a:r>
            <a:endParaRPr b="0" lang="en-US" sz="2000" spc="-1" strike="noStrike">
              <a:solidFill>
                <a:srgbClr val="e6e6ff"/>
              </a:solidFill>
              <a:latin typeface="Arial"/>
            </a:endParaRPr>
          </a:p>
          <a:p>
            <a:pPr marL="242640" indent="-242640">
              <a:spcBef>
                <a:spcPts val="499"/>
              </a:spcBef>
              <a:buClr>
                <a:srgbClr val="e6e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используйте технику с меньшей потребляемой мощностью: магнитные поля промышленной частоты будут меньше при прочих равных условиях и ограничьте время работы её; </a:t>
            </a:r>
            <a:endParaRPr b="0" lang="en-US" sz="2000" spc="-1" strike="noStrike">
              <a:solidFill>
                <a:srgbClr val="e6e6ff"/>
              </a:solidFill>
              <a:latin typeface="Arial"/>
            </a:endParaRPr>
          </a:p>
          <a:p>
            <a:pPr marL="242640" indent="-242640">
              <a:spcBef>
                <a:spcPts val="499"/>
              </a:spcBef>
              <a:buClr>
                <a:srgbClr val="e6e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спальное место должно быть  на расстоянии не менее 2-х метров от электробытовых приборов;</a:t>
            </a:r>
            <a:endParaRPr b="0" lang="en-US" sz="2000" spc="-1" strike="noStrike">
              <a:solidFill>
                <a:srgbClr val="e6e6ff"/>
              </a:solidFill>
              <a:latin typeface="Arial"/>
            </a:endParaRPr>
          </a:p>
          <a:p>
            <a:pPr marL="242640" indent="-242640">
              <a:spcBef>
                <a:spcPts val="499"/>
              </a:spcBef>
              <a:buClr>
                <a:srgbClr val="e6e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отключайте от сети электроприборы, которые находятся в режиме ожидания;</a:t>
            </a:r>
            <a:endParaRPr b="0" lang="en-US" sz="2000" spc="-1" strike="noStrike">
              <a:solidFill>
                <a:srgbClr val="e6e6ff"/>
              </a:solidFill>
              <a:latin typeface="Arial"/>
            </a:endParaRPr>
          </a:p>
          <a:p>
            <a:pPr marL="242640" indent="-242640">
              <a:spcBef>
                <a:spcPts val="499"/>
              </a:spcBef>
              <a:buClr>
                <a:srgbClr val="e6e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для приготовления пищи используйте СВЧ печь в случаях крайней необходимости ;</a:t>
            </a:r>
            <a:endParaRPr b="0" lang="en-US" sz="2000" spc="-1" strike="noStrike">
              <a:solidFill>
                <a:srgbClr val="e6e6ff"/>
              </a:solidFill>
              <a:latin typeface="Arial"/>
            </a:endParaRPr>
          </a:p>
          <a:p>
            <a:pPr marL="242640" indent="-242640">
              <a:spcBef>
                <a:spcPts val="499"/>
              </a:spcBef>
              <a:buClr>
                <a:srgbClr val="e6e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Arial"/>
              </a:rPr>
              <a:t>не злоупотребляйте физиопроцедурами, а принимайте их строго по  назначению врача.</a:t>
            </a:r>
            <a:r>
              <a:rPr b="1" lang="ru-RU" sz="2000" spc="-1" strike="noStrike">
                <a:solidFill>
                  <a:srgbClr val="e6e6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e6e6ff"/>
              </a:solidFill>
              <a:latin typeface="Arial"/>
            </a:endParaRPr>
          </a:p>
          <a:p>
            <a:pPr marL="242640" indent="-242640">
              <a:spcBef>
                <a:spcPts val="499"/>
              </a:spcBef>
              <a:buClr>
                <a:srgbClr val="e6e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Р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екомендации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10920" y="1988640"/>
            <a:ext cx="776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80000"/>
              </a:lnSpc>
              <a:spcBef>
                <a:spcPts val="524"/>
              </a:spcBef>
              <a:buClr>
                <a:srgbClr val="e6e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6e6ff"/>
                </a:solidFill>
                <a:latin typeface="Arial"/>
              </a:rPr>
              <a:t>Миллионы людей ежедневно пользуются бытовой техникой, сотовыми телефонами.</a:t>
            </a:r>
            <a:endParaRPr b="0" lang="en-US" sz="2100" spc="-1" strike="noStrike">
              <a:solidFill>
                <a:srgbClr val="e6e6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524"/>
              </a:spcBef>
              <a:buClr>
                <a:srgbClr val="e6e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6e6ff"/>
                </a:solidFill>
                <a:latin typeface="Arial"/>
              </a:rPr>
              <a:t>В настоящее время признано, что электромагнитное поле искусственного происхождения является важным значимым экологическим фактором с высокой биологической активностью. </a:t>
            </a:r>
            <a:endParaRPr b="0" lang="en-US" sz="2100" spc="-1" strike="noStrike">
              <a:solidFill>
                <a:srgbClr val="e6e6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524"/>
              </a:spcBef>
              <a:buClr>
                <a:srgbClr val="e6e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6e6ff"/>
                </a:solidFill>
                <a:latin typeface="Arial"/>
              </a:rPr>
              <a:t>Электромагнитные поля оказывают пагубное влияние на организм человека. </a:t>
            </a:r>
            <a:endParaRPr b="0" lang="en-US" sz="2100" spc="-1" strike="noStrike">
              <a:solidFill>
                <a:srgbClr val="e6e6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524"/>
              </a:spcBef>
              <a:buClr>
                <a:srgbClr val="e6e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6e6ff"/>
                </a:solidFill>
                <a:latin typeface="Arial"/>
              </a:rPr>
              <a:t>Рассмотренная в данной работе проблема в настоящее время находится в центре внимания научной общественности как у нас в стране, так и за рубежом. </a:t>
            </a:r>
            <a:endParaRPr b="0" lang="en-US" sz="2100" spc="-1" strike="noStrike">
              <a:solidFill>
                <a:srgbClr val="e6e6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524"/>
              </a:spcBef>
              <a:buClr>
                <a:srgbClr val="e6e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6e6ff"/>
                </a:solidFill>
                <a:latin typeface="Arial"/>
              </a:rPr>
              <a:t>Необходимо вести разъяснительную работу по сохранению здоровья человека при влиянии на него электромагнитных полей, разработать меры предосторожности и пропагандировать их.</a:t>
            </a:r>
            <a:endParaRPr b="0" lang="en-US" sz="21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Актуальность исследования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Электромагнитное излучени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Рисунок 9" descr="Влияние электромагнитного излучения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0" y="588960"/>
            <a:ext cx="6553080" cy="37386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324000" y="432756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ff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e6e6ff"/>
                </a:solidFill>
                <a:latin typeface="Times New Roman"/>
              </a:rPr>
              <a:t>Все приборы, которые включаются в розетку или работают от батарей, аккумуляторов – в большей или меньшей степени распространяют электромагнитные волны. Мы не ощущаем их воздействия и поэтому не можем оценить степень опасности. Электромагнитные волны воздействуют на мозг, сердечно-сосудистую, эндокринную и половую системы человека. </a:t>
            </a:r>
            <a:endParaRPr b="0" lang="en-US" sz="2200" spc="-1" strike="noStrike">
              <a:solidFill>
                <a:srgbClr val="e6e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304920"/>
            <a:ext cx="8227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Электромагнитные излучения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округ нас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9" name="Picture 2" descr="D:\art_dir2.jpg"/>
          <p:cNvPicPr/>
          <p:nvPr/>
        </p:nvPicPr>
        <p:blipFill>
          <a:blip r:embed="rId2"/>
          <a:stretch/>
        </p:blipFill>
        <p:spPr>
          <a:xfrm>
            <a:off x="179280" y="1700280"/>
            <a:ext cx="896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0_7311d_2909e071_XL"/>
          <p:cNvPicPr/>
          <p:nvPr/>
        </p:nvPicPr>
        <p:blipFill>
          <a:blip r:embed="rId2"/>
          <a:stretch/>
        </p:blipFill>
        <p:spPr>
          <a:xfrm>
            <a:off x="179280" y="333360"/>
            <a:ext cx="5072040" cy="6192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435640" y="907920"/>
            <a:ext cx="34783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Измерения показали, что работающий и неработающий, но включенные в розетку электроприборы дают практически одинаковое излучение.</a:t>
            </a:r>
            <a:endParaRPr b="0" lang="en-US" sz="1900" spc="-1" strike="noStrike">
              <a:solidFill>
                <a:srgbClr val="e6e6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Например, провод от настольной лампы - не включенной, но со шнуром питания в розетке - излучает магнитное поле 0,7 микротеслы, а это трехкратное превышение допустимых норм.</a:t>
            </a:r>
            <a:endParaRPr b="0" lang="en-US" sz="1900" spc="-1" strike="noStrike">
              <a:solidFill>
                <a:srgbClr val="e6e6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6e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468360" y="981360"/>
            <a:ext cx="8426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З</a:t>
            </a:r>
            <a:r>
              <a:rPr b="0" lang="en-US" sz="2800" spc="-1" strike="noStrike">
                <a:solidFill>
                  <a:srgbClr val="e6e6ff"/>
                </a:solidFill>
                <a:latin typeface="Times New Roman"/>
              </a:rPr>
              <a:t>амечено, что у чувствительных людей, проживающих вблизи высоковольтных линий электропередач, чаще наблюдаются разнообразные неврологические расстройства, головная боль, быстрая утомляемость, потеря памяти, нарушение сна и работы сердца</a:t>
            </a: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Линии электропередач</a:t>
            </a:r>
            <a:endParaRPr b="0" lang="en-US" sz="3600" spc="-1" strike="noStrike">
              <a:solidFill>
                <a:srgbClr val="e6e6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0" t="0" r="0" b="6867"/>
          <a:stretch/>
        </p:blipFill>
        <p:spPr>
          <a:xfrm>
            <a:off x="3635280" y="3583080"/>
            <a:ext cx="534852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588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Воздействие ЭМИ СВЧ печи на человек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2276280"/>
            <a:ext cx="382140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6e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6e6ff"/>
                </a:solidFill>
                <a:latin typeface="Arial"/>
              </a:rPr>
              <a:t>Удобный способ приготовления  пищи – экономичный, быстрый   и простой</a:t>
            </a:r>
            <a:endParaRPr b="0" lang="en-US" sz="24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27280" y="2349360"/>
            <a:ext cx="449892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80000"/>
              </a:lnSpc>
              <a:spcBef>
                <a:spcPts val="575"/>
              </a:spcBef>
              <a:buClr>
                <a:srgbClr val="e6e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e6e6ff"/>
                </a:solidFill>
                <a:latin typeface="Arial"/>
              </a:rPr>
              <a:t>Повышается риск возникновения нарушения работы         селезенки, поджелудочной железы, изменения сосудов головного мозга</a:t>
            </a:r>
            <a:endParaRPr b="0" lang="en-US" sz="2300" spc="-1" strike="noStrike">
              <a:solidFill>
                <a:srgbClr val="e6e6ff"/>
              </a:solidFill>
              <a:latin typeface="Arial"/>
            </a:endParaRPr>
          </a:p>
          <a:p>
            <a:pPr marL="226440" indent="-226440">
              <a:lnSpc>
                <a:spcPct val="80000"/>
              </a:lnSpc>
              <a:spcBef>
                <a:spcPts val="575"/>
              </a:spcBef>
              <a:buClr>
                <a:srgbClr val="e6e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e6e6ff"/>
                </a:solidFill>
                <a:latin typeface="Arial"/>
              </a:rPr>
              <a:t>Изменяется гормональный статуса мужского организма, происходят изменения в репродуктивной системе.</a:t>
            </a:r>
            <a:endParaRPr b="0" lang="en-US" sz="2300" spc="-1" strike="noStrike">
              <a:solidFill>
                <a:srgbClr val="e6e6ff"/>
              </a:solidFill>
              <a:latin typeface="Arial"/>
            </a:endParaRPr>
          </a:p>
          <a:p>
            <a:pPr marL="226440" indent="-226440">
              <a:lnSpc>
                <a:spcPct val="80000"/>
              </a:lnSpc>
              <a:spcBef>
                <a:spcPts val="575"/>
              </a:spcBef>
              <a:buClr>
                <a:srgbClr val="e6e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e6e6ff"/>
                </a:solidFill>
                <a:latin typeface="Arial"/>
              </a:rPr>
              <a:t>Вода, подвергшаяся                     микроволновому излучению, пагубно влияет на живые организмы</a:t>
            </a:r>
            <a:endParaRPr b="0" lang="en-US" sz="2300" spc="-1" strike="noStrike">
              <a:solidFill>
                <a:srgbClr val="e6e6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576360" cy="57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6443640" y="1557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При выборе места для отдыха следует учитывать еще один важный момент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554800" y="1336680"/>
            <a:ext cx="3311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водку всегда монтируют на метровой высоте от пола, то есть на уровне головы сидящего человека. Поэтому место для дивана, кресла и кровати надо выбирать с учетом и этого факта тоже. </a:t>
            </a:r>
            <a:endParaRPr b="0" lang="en-US" sz="2800" spc="-1" strike="noStrike">
              <a:solidFill>
                <a:srgbClr val="e6e6ff"/>
              </a:solidFill>
              <a:latin typeface="Arial"/>
            </a:endParaRPr>
          </a:p>
        </p:txBody>
      </p:sp>
      <p:pic>
        <p:nvPicPr>
          <p:cNvPr id="62" name="Picture 7" descr="imgpreview (4)"/>
          <p:cNvPicPr/>
          <p:nvPr/>
        </p:nvPicPr>
        <p:blipFill>
          <a:blip r:embed="rId2"/>
          <a:stretch/>
        </p:blipFill>
        <p:spPr>
          <a:xfrm>
            <a:off x="324000" y="1268280"/>
            <a:ext cx="4968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324000" y="1197000"/>
          <a:ext cx="3259080" cy="33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97000"/>
                    <a:ext cx="325908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6"/>
          <p:cNvSpPr/>
          <p:nvPr/>
        </p:nvSpPr>
        <p:spPr>
          <a:xfrm>
            <a:off x="4284720" y="1413000"/>
            <a:ext cx="439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6e6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6e6ff"/>
                </a:solidFill>
                <a:latin typeface="Times New Roman"/>
              </a:rPr>
              <a:t>Во время работы, когда связь с абонентом установлена, мобильный телефон окружен довольно мощным электромагнитным полем. </a:t>
            </a:r>
            <a:endParaRPr b="0" lang="en-US" sz="2800" spc="-1" strike="noStrike">
              <a:solidFill>
                <a:srgbClr val="e6e6ff"/>
              </a:solidFill>
              <a:latin typeface="Arial"/>
            </a:endParaRPr>
          </a:p>
        </p:txBody>
      </p:sp>
      <p:pic>
        <p:nvPicPr>
          <p:cNvPr id="66" name="Поле 1" descr=""/>
          <p:cNvPicPr/>
          <p:nvPr/>
        </p:nvPicPr>
        <p:blipFill>
          <a:blip r:embed="rId4"/>
          <a:stretch/>
        </p:blipFill>
        <p:spPr>
          <a:xfrm>
            <a:off x="2871720" y="219240"/>
            <a:ext cx="5802480" cy="9633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611280" y="5013360"/>
            <a:ext cx="8269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Оно проникает в тело человека и поглощается прежде всего тканями головы – кожным покровом, ухом, частью головного мозга, включая зрительный анализатор. </a:t>
            </a:r>
            <a:endParaRPr b="0" lang="en-US" sz="2600" spc="-1" strike="noStrike">
              <a:solidFill>
                <a:srgbClr val="e6e6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80320" y="4653000"/>
            <a:ext cx="56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Это излучение неблагоприятной частоты.</a:t>
            </a:r>
            <a:endParaRPr b="0" lang="en-US" sz="2400" spc="-1" strike="noStrike">
              <a:solidFill>
                <a:srgbClr val="e6e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8:06:54Z</dcterms:created>
  <dc:creator>AVV</dc:creator>
  <dc:description/>
  <dc:language>en-US</dc:language>
  <cp:lastModifiedBy>Евген</cp:lastModifiedBy>
  <dcterms:modified xsi:type="dcterms:W3CDTF">2018-01-28T17:16:42Z</dcterms:modified>
  <cp:revision>44</cp:revision>
  <dc:subject/>
  <dc:title>Строение атома и атомного ядра</dc:title>
</cp:coreProperties>
</file>