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gif" ContentType="image/gif"/>
  <Override PartName="/ppt/media/image3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411-7BF1-44CA-8E56-883581BA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7E4-0FC9-4583-BBE8-433D49A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724-41CF-475B-AB44-3A3C1CEF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C30-C9C4-4F19-A3E0-B9A03F7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5B2-9A56-4F76-875F-45B5327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6C8-BD88-4100-A127-2C07D7B1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77F-254B-4355-A61F-6CF223B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BAF-30C1-42CB-BED6-B1DE4E0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8DA-AE18-4150-B30B-D7ACD24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074-4A0D-41C8-B023-D51E058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B56-936B-4D00-9985-5313F77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CE4-ABE2-4AC8-9789-A8E9081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CB6-685C-4EDF-9A18-470E08369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2;&#1072;&#1088;&#1090;&#1080;&#1085;&#1082;&#1080;%20&#1089;&#1087;&#1072;&#1089;&#1080;&#1073;&#1086;%20&#1079;&#1072;%20&#1074;&#1085;&#1080;&#1084;&#1072;&#1085;&#1080;&#1077;&amp;noreask=1&amp;pos=21&amp;rpt=simage&amp;lr=10944&amp;uinfo=sw-1007-sh-515-fw-782-fh-448-pd-1&amp;img_url=http://www.best-animation.ru/lanim/spasibo/10.gif" TargetMode="Externa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755640" y="140976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одительское собрание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о второй младшей группе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24b5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 тему: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Возрастные особенности детей 3-4 лет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 и провел воспита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Надеждина С.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ссошь -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4000" y="189000"/>
            <a:ext cx="86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КДОУ ЦРР – детский сад №18 г. Россош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24000" y="260280"/>
            <a:ext cx="8496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Я хочу вам рассказать старинную притч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 хотел озадачить мудреца, который знал ответы на все вопросы. Поймал бабочку и решил: сомкну ладони, где находится бабочка, и спрошу: " О мудрейший ! Бабочка в ладонях у меня живая или мёртвая?" Если скажет "мёртвая", разомкну руки, и она улетит, а если "живая", незаметно сомкну руки и покажу мёртвую бабочку. Пришёл, спросил. А мудрец ответил: "Всё в твоих руках человек!". Так что уважаемые родители, ваш ребёнок в ваших ру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ши дети взрослеют, становятся умнее, и нам с вами хотелось бы, чтобы проблем в общении, во взаимодействии с ними становилось мен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сновные направления образовательной деятельности                        в развитии детей 3-4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2"/>
          <a:stretch/>
        </p:blipFill>
        <p:spPr>
          <a:xfrm>
            <a:off x="974880" y="1054080"/>
            <a:ext cx="7546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201600"/>
            <a:ext cx="6253200" cy="587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DSCF7107"/>
          <p:cNvPicPr/>
          <p:nvPr/>
        </p:nvPicPr>
        <p:blipFill>
          <a:blip r:embed="rId3"/>
          <a:srcRect l="0" t="97743" r="56575" b="0"/>
          <a:stretch/>
        </p:blipFill>
        <p:spPr>
          <a:xfrm>
            <a:off x="6156360" y="6622920"/>
            <a:ext cx="120960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" descr=""/>
          <p:cNvPicPr/>
          <p:nvPr/>
        </p:nvPicPr>
        <p:blipFill>
          <a:blip r:embed="rId2"/>
          <a:stretch/>
        </p:blipFill>
        <p:spPr>
          <a:xfrm>
            <a:off x="1047600" y="401760"/>
            <a:ext cx="76266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79280" y="2602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Изодеятельность (художественное творчество)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Ребенок должен уметь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авильно держать карандаш, выполнять мазки, прямые линии, кружочки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обводить и раскрашивать картинки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знать основные цвета (желтый, красный, синий, зеленый, черный, бел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Лепка –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катывать круговыми движениями                                        и прямыми движениями пластил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Конструирование – различать виды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троительного материала –  кирпичи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кубики, пласт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DSCF7240"/>
          <p:cNvPicPr/>
          <p:nvPr/>
        </p:nvPicPr>
        <p:blipFill>
          <a:blip r:embed="rId2"/>
          <a:srcRect l="97864" t="98323" r="0" b="0"/>
          <a:stretch/>
        </p:blipFill>
        <p:spPr>
          <a:xfrm>
            <a:off x="2401920" y="66675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DSCF7096"/>
          <p:cNvPicPr/>
          <p:nvPr/>
        </p:nvPicPr>
        <p:blipFill>
          <a:blip r:embed="rId3"/>
          <a:srcRect l="0" t="0" r="97732" b="98147"/>
          <a:stretch/>
        </p:blipFill>
        <p:spPr>
          <a:xfrm>
            <a:off x="6732720" y="2565360"/>
            <a:ext cx="46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DSCF7127"/>
          <p:cNvPicPr/>
          <p:nvPr/>
        </p:nvPicPr>
        <p:blipFill>
          <a:blip r:embed="rId2"/>
          <a:srcRect l="98341" t="98056" r="0" b="0"/>
          <a:stretch/>
        </p:blipFill>
        <p:spPr>
          <a:xfrm>
            <a:off x="8702640" y="5076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324000" y="0"/>
            <a:ext cx="864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азвитие навыков самообслужи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Ребенок должен уметь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аздеваться и одеваться, расстегивать и застегивать пуговицы, правильно держать ложку, знать слова приветствия и прощания, проявлять сочувствие к сверстни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Физкультура – учим детей прыгать,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бегать, реагировать на сигн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ыполнять движения согласно тек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DSCF7118"/>
          <p:cNvPicPr/>
          <p:nvPr/>
        </p:nvPicPr>
        <p:blipFill>
          <a:blip r:embed="rId3"/>
          <a:srcRect l="97999" t="98147" r="0" b="0"/>
          <a:stretch/>
        </p:blipFill>
        <p:spPr>
          <a:xfrm>
            <a:off x="2473200" y="6622920"/>
            <a:ext cx="46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user\Desktop\08.JPG"/>
          <p:cNvPicPr/>
          <p:nvPr/>
        </p:nvPicPr>
        <p:blipFill>
          <a:blip r:embed="rId2"/>
          <a:stretch/>
        </p:blipFill>
        <p:spPr>
          <a:xfrm>
            <a:off x="395280" y="333360"/>
            <a:ext cx="8569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s40.radikal.ru/i087/1005/0c/14f8503749ea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773360"/>
            <a:ext cx="352872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79280" y="33336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Младший дошкольный возраст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– 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это важнейший период в развитии ребенка.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Именно в этом возрасте происходит переход малыша к новым отношениям со взрослыми, сверстниками и предметным ми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Объект 3" descr="38.jpg"/>
          <p:cNvPicPr/>
          <p:nvPr/>
        </p:nvPicPr>
        <p:blipFill>
          <a:blip r:embed="rId2"/>
          <a:stretch/>
        </p:blipFill>
        <p:spPr>
          <a:xfrm>
            <a:off x="2865600" y="2583000"/>
            <a:ext cx="3867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24000" y="33336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Три года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</a:rPr>
              <a:t> -  это период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</a:rPr>
              <a:t> в котором  закладываются основы будущей личности, формируются предпосылки физического, умственного, нравственного развития ребёнка, формируется характер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</a:rPr>
              <a:t> у него складывается определенное отношение к себе и чтобы это формирование было полноценным необходимо постоянное и умелое руководство со стороны взросл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SCF7233"/>
          <p:cNvPicPr/>
          <p:nvPr/>
        </p:nvPicPr>
        <p:blipFill>
          <a:blip r:embed="rId2"/>
          <a:srcRect l="98688" t="98223" r="0" b="0"/>
          <a:stretch/>
        </p:blipFill>
        <p:spPr>
          <a:xfrm>
            <a:off x="3591000" y="6516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611280" y="189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озрасте 3 -4 лет ребёнок постепенно выходит за пределы семейного воспитания. Взрослый становится для ребёнка не только членом семьи, но и носителем определённой общественной функции. Желание ребёнка выполнять такую же функцию приводит к противоречию с его реальными возможност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противоречие разрешается через развитие игры, которая становится ведущей в этом возра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DSCF7235"/>
          <p:cNvPicPr/>
          <p:nvPr/>
        </p:nvPicPr>
        <p:blipFill>
          <a:blip r:embed="rId3"/>
          <a:srcRect l="98599" t="72961" r="0" b="25288"/>
          <a:stretch/>
        </p:blipFill>
        <p:spPr>
          <a:xfrm>
            <a:off x="8845560" y="5967360"/>
            <a:ext cx="46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0" y="0"/>
            <a:ext cx="9144000" cy="72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70f"/>
                </a:solidFill>
                <a:latin typeface="Times New Roman"/>
              </a:rPr>
              <a:t>Игровая деятельнос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азывает значительное влияние на развитие ребе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гре дети учатся полноценному общению друг с другом.          В процессе сюжетно-ролевой, творческой игры дети берут на себя роли взрослых и в обобщенной форме, в игровых условиях воспроизводят деятельность взрослых и отношения между ними. Ребенок, выбирая и исполняя определенную роль, имеет соответствующий образ —мамы, доктора, водителя, пирата —и образцы его действий. Но, хотя жизнь в игре протекает в форме представлений, она эмоционально насыщена и становится для ребенка его реальной жиз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способствует становлению не только общения со сверстниками, но и произвольного поведения ребенка. Механизм управления своим поведением складывается именно в игре, а затем проявляется в други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никают новые мотивы деятельности и связанные с ними цели. Происходят качественные изменения в психике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250920" y="37620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ошкольный период очень важно, чтобы у ребёнка развивался положительный образ "я" -чувство собственного достоинства, формирование которого зависит от условий жизни и воспитания, прежде всего в семье. Наиболее правильный ответ на самый трудный вопрос всегда будет связан с осознанием родительской любви к ребёнку. Самые главные слова, которые нужно сказать своему ребёнку: "Я тебя люблю, мы рядом, мы вместе, мы всё преодолеем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ть ребёнка -это не значит обладать им или жить рядом, а скорее чувствовать, угадывать, что ему нужно, и доверять ему. Доверие же всегда связано с риском. Но воспитание на доверии принесёт гораздо больше положительных результатов и радости как детям, так и взросл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50920" y="260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ребёнка в детском саду социальная среда противоположна домашней. Дома ребёнок воздвигнут на пьедестал.                        Жизнь семьи вертится вокруг него. А в детском саду он такой же как и все. Он часть группы, и зачастую он не знает как себя вести. Поэтому дома установка должна быть следующей: ребёнок -не главный в семье, а член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DSCF7306"/>
          <p:cNvPicPr/>
          <p:nvPr/>
        </p:nvPicPr>
        <p:blipFill>
          <a:blip r:embed="rId2"/>
          <a:srcRect l="98949" t="98628" r="0" b="0"/>
          <a:stretch/>
        </p:blipFill>
        <p:spPr>
          <a:xfrm>
            <a:off x="6759720" y="6189840"/>
            <a:ext cx="4572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79280" y="19368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ремя пребывания ребёнка в детском саду мы все                           (дети, педагоги и родители) составляем треугольник, во главе треугольника конечно же стоит ребёнок. Он познавая новое, открывает самого себя (что я умею, могу, на что способен).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взросл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помочь ему в этом нелёгком деле, не следует забывать и о социуме, который играет большую роль в развити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думаете, что произойдёт с трёхногим табуретом если подломится одна ножка?( правильно, он упадё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вспомним басню И. Крылова "Лебедь, рак и щука": "Когда в товарищах согласья нет, на лад их дело не пойдёт, а выйдет из него не дело, а только мук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Детское объединение &quot;Республика ШКИД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95280" y="5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Отсюда вывод, что нам предстоит объединить наши усилия для того, чтобы детям было комфортно и интересно в детском с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987640" y="2492280"/>
            <a:ext cx="3240000" cy="180036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87280" y="1916280"/>
            <a:ext cx="741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7-06T04:39:03Z</dcterms:modified>
  <cp:revision>5</cp:revision>
  <dc:subject/>
  <dc:title>PowerPoint Presentation</dc:title>
</cp:coreProperties>
</file>