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ECE-3E49-4A63-A743-DA56C7B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968-EF94-4E89-8F9B-E62F7B5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888-10A3-4284-98D4-623044AE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1AB-373E-429A-9E6B-E3A08DE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257-3E0C-42BE-8ED5-E1D4618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59F-7BEB-415B-8A38-8511D59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C99-114D-46FC-B4C9-39096A5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AD5-8B0B-4227-9ABB-055260B5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216-E6CF-4B92-90F4-F888B838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5CE-0FA3-4A53-A1D7-80AEEB5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B2A-2A3C-4AEF-A807-C4EC7E2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BDB-0530-496E-A300-E47B804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CE9-259F-49C5-925E-6B85C8324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5172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Comic Sans MS"/>
              </a:rPr>
              <a:t>Лесные тайн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4786200"/>
            <a:ext cx="65008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Занятие-путешествие по познавательному развитию в старшей группе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31.03.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Даша\Рабочий стол\det_gigiena_zhivika.ru_.jpg"/>
          <p:cNvPicPr/>
          <p:nvPr/>
        </p:nvPicPr>
        <p:blipFill>
          <a:blip r:embed="rId1"/>
          <a:stretch/>
        </p:blipFill>
        <p:spPr>
          <a:xfrm>
            <a:off x="5786280" y="357120"/>
            <a:ext cx="3008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Дети получили неожиданное послание, письмо от сороки: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«Собирайтесь скорее в необычный поход,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ждут вас тайны лесные, в даль тропинка зов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Даша\Рабочий стол\шлшлшл\диагностика 026.jpg"/>
          <p:cNvPicPr/>
          <p:nvPr/>
        </p:nvPicPr>
        <p:blipFill>
          <a:blip r:embed="rId1"/>
          <a:stretch/>
        </p:blipFill>
        <p:spPr>
          <a:xfrm>
            <a:off x="357120" y="3571920"/>
            <a:ext cx="4143600" cy="3108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Даша\Рабочий стол\шлшлшл\диагностика 027.jpg"/>
          <p:cNvPicPr/>
          <p:nvPr/>
        </p:nvPicPr>
        <p:blipFill>
          <a:blip r:embed="rId2"/>
          <a:stretch/>
        </p:blipFill>
        <p:spPr>
          <a:xfrm>
            <a:off x="4857840" y="1428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Даша\Рабочий стол\Ворона.png"/>
          <p:cNvPicPr/>
          <p:nvPr/>
        </p:nvPicPr>
        <p:blipFill>
          <a:blip r:embed="rId3"/>
          <a:stretch/>
        </p:blipFill>
        <p:spPr>
          <a:xfrm>
            <a:off x="4572000" y="3929040"/>
            <a:ext cx="3917880" cy="30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Даша\Рабочий стол\mail.png"/>
          <p:cNvPicPr/>
          <p:nvPr/>
        </p:nvPicPr>
        <p:blipFill>
          <a:blip r:embed="rId4"/>
          <a:stretch/>
        </p:blipFill>
        <p:spPr>
          <a:xfrm rot="20808000">
            <a:off x="1130040" y="148752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Улыбки весны»</a:t>
            </a:r>
            <a:br>
              <a:rPr sz="2800"/>
            </a:b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Дети доказывают, что на картинках изображена весна, называют весенни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Даша\Рабочий стол\шлшлшл\диагностика 030.jpg"/>
          <p:cNvPicPr/>
          <p:nvPr/>
        </p:nvPicPr>
        <p:blipFill>
          <a:blip r:embed="rId1"/>
          <a:stretch/>
        </p:blipFill>
        <p:spPr>
          <a:xfrm>
            <a:off x="142920" y="1643040"/>
            <a:ext cx="4367160" cy="285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Даша\Рабочий стол\шлшлшл\диагностика 031.jpg"/>
          <p:cNvPicPr/>
          <p:nvPr/>
        </p:nvPicPr>
        <p:blipFill>
          <a:blip r:embed="rId2"/>
          <a:stretch/>
        </p:blipFill>
        <p:spPr>
          <a:xfrm>
            <a:off x="4656240" y="3571920"/>
            <a:ext cx="431172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Даша\Рабочий стол\Spring_Snowdrops_PNG_Clipart_Picture.png"/>
          <p:cNvPicPr/>
          <p:nvPr/>
        </p:nvPicPr>
        <p:blipFill>
          <a:blip r:embed="rId3"/>
          <a:stretch/>
        </p:blipFill>
        <p:spPr>
          <a:xfrm>
            <a:off x="-10501200" y="14859000"/>
            <a:ext cx="3176640" cy="18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img-fotki.yandex.ru/get/6100/106854303.7e/0_76d60_8b5383c8_L.png"/>
          <p:cNvPicPr/>
          <p:nvPr/>
        </p:nvPicPr>
        <p:blipFill>
          <a:blip r:embed="rId4"/>
          <a:stretch/>
        </p:blipFill>
        <p:spPr>
          <a:xfrm>
            <a:off x="5429160" y="1000080"/>
            <a:ext cx="3357720" cy="26859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C:\Documents and Settings\Даша\Рабочий стол\0_729fb_da7a5823_S.png"/>
          <p:cNvPicPr/>
          <p:nvPr/>
        </p:nvPicPr>
        <p:blipFill>
          <a:blip r:embed="rId5"/>
          <a:stretch/>
        </p:blipFill>
        <p:spPr>
          <a:xfrm>
            <a:off x="2286000" y="4429080"/>
            <a:ext cx="2268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Встреча с Лесовичк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5600" y="1643040"/>
            <a:ext cx="185724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ети назвали знаки и рассказали правила поведения в л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6" descr="диагностика 034.jpg"/>
          <p:cNvPicPr/>
          <p:nvPr/>
        </p:nvPicPr>
        <p:blipFill>
          <a:blip r:embed="rId1"/>
          <a:stretch/>
        </p:blipFill>
        <p:spPr>
          <a:xfrm>
            <a:off x="142920" y="3429000"/>
            <a:ext cx="4040280" cy="3252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000920" y="4714560"/>
            <a:ext cx="200016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omic Sans MS"/>
              </a:rPr>
              <a:t>Назвали птиц, которых можно встретить в лес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C:\Documents and Settings\Даша\Рабочий стол\шлшлшл\диагностика 037.jpg"/>
          <p:cNvPicPr/>
          <p:nvPr/>
        </p:nvPicPr>
        <p:blipFill>
          <a:blip r:embed="rId2"/>
          <a:stretch/>
        </p:blipFill>
        <p:spPr>
          <a:xfrm>
            <a:off x="4500720" y="1214280"/>
            <a:ext cx="4500360" cy="307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ttp://primwiki.ru/images/%D0%9B%D0%B5%D1%81%D0%BE%D0%B2%D0%B8%D1%87%D0%BE%D0%BA_%D0%90%D0%BD%D1%82%D0%BE%D1%88%D0%BA%D0%B0.png"/>
          <p:cNvPicPr/>
          <p:nvPr/>
        </p:nvPicPr>
        <p:blipFill>
          <a:blip r:embed="rId3"/>
          <a:stretch/>
        </p:blipFill>
        <p:spPr>
          <a:xfrm>
            <a:off x="3786120" y="3571920"/>
            <a:ext cx="309420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ttp://galerey-room.ru/images/090734_1385446054.png"/>
          <p:cNvPicPr/>
          <p:nvPr/>
        </p:nvPicPr>
        <p:blipFill>
          <a:blip r:embed="rId4"/>
          <a:stretch/>
        </p:blipFill>
        <p:spPr>
          <a:xfrm>
            <a:off x="142920" y="428760"/>
            <a:ext cx="1863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Подарки леса»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Дети рассмотрели шишки, веточки, семена, листья, кусочки коры -  и назвали растения, к которым они принадлежат. А затем на солнечной полянке поиграли в игру «Что я слышу?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Даша\Рабочий стол\шлшлшл\диагностика 043.jpg"/>
          <p:cNvPicPr/>
          <p:nvPr/>
        </p:nvPicPr>
        <p:blipFill>
          <a:blip r:embed="rId1"/>
          <a:stretch/>
        </p:blipFill>
        <p:spPr>
          <a:xfrm>
            <a:off x="428760" y="20718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Даша\Рабочий стол\шлшлшл\диагностика 0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4038840" cy="321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abload.de/img/pngnoelsus-114vot9.png"/>
          <p:cNvPicPr/>
          <p:nvPr/>
        </p:nvPicPr>
        <p:blipFill>
          <a:blip r:embed="rId3"/>
          <a:stretch/>
        </p:blipFill>
        <p:spPr>
          <a:xfrm rot="6352800">
            <a:off x="5324040" y="1223640"/>
            <a:ext cx="2089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Как мы медведя разбудили?</a:t>
            </a:r>
            <a:br>
              <a:rPr sz="1600"/>
            </a:b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Как в старину, закличкой разбудили медведя, который  приготовил для детей сладкий сюрприз – мёд. После прогулки по лесу дети с удовольствием пили травяной чай с душистым мё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9" descr="диагностика 047.jpg"/>
          <p:cNvPicPr/>
          <p:nvPr/>
        </p:nvPicPr>
        <p:blipFill>
          <a:blip r:embed="rId1"/>
          <a:stretch/>
        </p:blipFill>
        <p:spPr>
          <a:xfrm>
            <a:off x="357120" y="2000160"/>
            <a:ext cx="4324320" cy="324324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0" descr="диагностика 051.jpg"/>
          <p:cNvPicPr/>
          <p:nvPr/>
        </p:nvPicPr>
        <p:blipFill>
          <a:blip r:embed="rId2"/>
          <a:stretch/>
        </p:blipFill>
        <p:spPr>
          <a:xfrm>
            <a:off x="4786200" y="314316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s://ds02.infourok.ru/uploads/ex/1166/0005ddc5-8059588b/hello_html_d096460.png"/>
          <p:cNvPicPr/>
          <p:nvPr/>
        </p:nvPicPr>
        <p:blipFill>
          <a:blip r:embed="rId3"/>
          <a:stretch/>
        </p:blipFill>
        <p:spPr>
          <a:xfrm>
            <a:off x="714240" y="4853160"/>
            <a:ext cx="32864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08:32:06Z</dcterms:created>
  <dc:creator>Даша</dc:creator>
  <dc:description/>
  <dc:language>en-US</dc:language>
  <cp:lastModifiedBy>Даша</cp:lastModifiedBy>
  <dcterms:modified xsi:type="dcterms:W3CDTF">2018-01-28T08:33:56Z</dcterms:modified>
  <cp:revision>1</cp:revision>
  <dc:subject/>
  <dc:title>Лесные тайны</dc:title>
</cp:coreProperties>
</file>