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4.jpeg" ContentType="image/jpeg"/>
  <Override PartName="/ppt/media/image25.png" ContentType="image/png"/>
  <Override PartName="/ppt/media/image18.png" ContentType="image/png"/>
  <Override PartName="/ppt/media/image6.jpeg" ContentType="image/jpeg"/>
  <Override PartName="/ppt/media/image8.png" ContentType="image/png"/>
  <Override PartName="/ppt/media/image33.png" ContentType="image/png"/>
  <Override PartName="/ppt/media/image13.png" ContentType="image/png"/>
  <Override PartName="/ppt/media/image11.png" ContentType="image/png"/>
  <Override PartName="/ppt/media/image9.png" ContentType="image/png"/>
  <Override PartName="/ppt/media/image34.png" ContentType="image/png"/>
  <Override PartName="/ppt/media/image12.png" ContentType="image/png"/>
  <Override PartName="/ppt/media/image31.png" ContentType="image/png"/>
  <Override PartName="/ppt/media/image32.png" ContentType="image/png"/>
  <Override PartName="/ppt/media/image10.png" ContentType="image/png"/>
  <Override PartName="/ppt/media/image1.jpeg" ContentType="image/jpeg"/>
  <Override PartName="/ppt/media/image5.png" ContentType="image/png"/>
  <Override PartName="/ppt/media/image7.jpeg" ContentType="image/jpeg"/>
  <Override PartName="/ppt/media/image28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20.png" ContentType="image/png"/>
  <Override PartName="/ppt/media/image2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Рисунок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" name="Прямоугольник 2"/>
          <p:cNvSpPr/>
          <p:nvPr/>
        </p:nvSpPr>
        <p:spPr>
          <a:xfrm>
            <a:off x="539640" y="333360"/>
            <a:ext cx="8064720" cy="6191280"/>
          </a:xfrm>
          <a:prstGeom prst="rect">
            <a:avLst/>
          </a:prstGeom>
          <a:solidFill>
            <a:srgbClr val="dce6f2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TextBox 5"/>
          <p:cNvSpPr/>
          <p:nvPr/>
        </p:nvSpPr>
        <p:spPr>
          <a:xfrm>
            <a:off x="472680" y="6573960"/>
            <a:ext cx="2009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c6d9f1"/>
                </a:solidFill>
                <a:latin typeface="Georgia"/>
              </a:rPr>
              <a:t>Устинова Валентина Иванов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2"/>
          <p:cNvSpPr/>
          <p:nvPr/>
        </p:nvSpPr>
        <p:spPr>
          <a:xfrm>
            <a:off x="539640" y="333360"/>
            <a:ext cx="8064720" cy="6191280"/>
          </a:xfrm>
          <a:prstGeom prst="rect">
            <a:avLst/>
          </a:prstGeom>
          <a:solidFill>
            <a:srgbClr val="dce6f2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5"/>
          <p:cNvSpPr/>
          <p:nvPr/>
        </p:nvSpPr>
        <p:spPr>
          <a:xfrm>
            <a:off x="451800" y="6576840"/>
            <a:ext cx="2009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c6d9f1"/>
                </a:solidFill>
                <a:latin typeface="Georgia"/>
              </a:rPr>
              <a:t>Устинова Валентина Иванов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22.png"/><Relationship Id="rId14" Type="http://schemas.openxmlformats.org/officeDocument/2006/relationships/image" Target="../media/image23.png"/><Relationship Id="rId15" Type="http://schemas.openxmlformats.org/officeDocument/2006/relationships/image" Target="../media/image24.png"/><Relationship Id="rId16" Type="http://schemas.openxmlformats.org/officeDocument/2006/relationships/image" Target="../media/image25.png"/><Relationship Id="rId17" Type="http://schemas.openxmlformats.org/officeDocument/2006/relationships/image" Target="../media/image26.png"/><Relationship Id="rId18" Type="http://schemas.openxmlformats.org/officeDocument/2006/relationships/image" Target="../media/image27.png"/><Relationship Id="rId19" Type="http://schemas.openxmlformats.org/officeDocument/2006/relationships/image" Target="../media/image28.png"/><Relationship Id="rId20" Type="http://schemas.openxmlformats.org/officeDocument/2006/relationships/image" Target="../media/image29.png"/><Relationship Id="rId21" Type="http://schemas.openxmlformats.org/officeDocument/2006/relationships/image" Target="../media/image30.png"/><Relationship Id="rId22" Type="http://schemas.openxmlformats.org/officeDocument/2006/relationships/image" Target="../media/image31.png"/><Relationship Id="rId23" Type="http://schemas.openxmlformats.org/officeDocument/2006/relationships/image" Target="../media/image32.png"/><Relationship Id="rId24" Type="http://schemas.openxmlformats.org/officeDocument/2006/relationships/image" Target="../media/image33.png"/><Relationship Id="rId25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hyperlink" Target="http://literatura5.narod.ru/teory_rech_tabl.html" TargetMode="External"/><Relationship Id="rId3" Type="http://schemas.openxmlformats.org/officeDocument/2006/relationships/hyperlink" Target="http://literatura5.narod.ru/teory_rech_tabl.html" TargetMode="External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2"/>
          <p:cNvSpPr/>
          <p:nvPr/>
        </p:nvSpPr>
        <p:spPr>
          <a:xfrm>
            <a:off x="2386440" y="5229360"/>
            <a:ext cx="4502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7375e"/>
                </a:solidFill>
                <a:latin typeface="Georgia"/>
              </a:rPr>
              <a:t>  </a:t>
            </a:r>
            <a:r>
              <a:rPr b="1" lang="ru-RU" sz="1600" spc="-1" strike="noStrike">
                <a:solidFill>
                  <a:srgbClr val="0033cc"/>
                </a:solidFill>
                <a:latin typeface="Georgia"/>
              </a:rPr>
              <a:t>Автор: Устинова Валентина Ивановн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Georgia"/>
              </a:rPr>
              <a:t>учитель русского языка и литературы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Georgia"/>
              </a:rPr>
              <a:t>МБОУ «Школа № 12 г. Благовещенск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Georgia"/>
              </a:rPr>
              <a:t>Амурская обла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Управляющая кнопка: сведения 4">
            <a:hlinkClick r:id="" action="ppaction://hlinkshowjump?jump=lastslide"/>
          </p:cNvPr>
          <p:cNvSpPr/>
          <p:nvPr/>
        </p:nvSpPr>
        <p:spPr>
          <a:xfrm>
            <a:off x="8172360" y="5734080"/>
            <a:ext cx="395280" cy="368280"/>
          </a:xfrm>
          <a:custGeom>
            <a:avLst/>
            <a:gdLst>
              <a:gd name="textAreaLeft" fmla="*/ 23760 w 395280"/>
              <a:gd name="textAreaRight" fmla="*/ 371520 w 395280"/>
              <a:gd name="textAreaTop" fmla="*/ 23760 h 368280"/>
              <a:gd name="textAreaBottom" fmla="*/ 344520 h 368280"/>
            </a:gdLst>
            <a:ahLst/>
            <a:rect l="textAreaLeft" t="textAreaTop" r="textAreaRight" b="textAreaBottom"/>
            <a:pathLst>
              <a:path w="23182" h="21600">
                <a:moveTo>
                  <a:pt x="0" y="0"/>
                </a:moveTo>
                <a:lnTo>
                  <a:pt x="23182" y="0"/>
                </a:lnTo>
                <a:lnTo>
                  <a:pt x="23182" y="21600"/>
                </a:lnTo>
                <a:lnTo>
                  <a:pt x="0" y="21600"/>
                </a:lnTo>
                <a:close/>
              </a:path>
              <a:path fill="lightenLess" w="23182" h="21600">
                <a:moveTo>
                  <a:pt x="0" y="0"/>
                </a:moveTo>
                <a:lnTo>
                  <a:pt x="23182" y="0"/>
                </a:lnTo>
                <a:lnTo>
                  <a:pt x="21782" y="1400"/>
                </a:lnTo>
                <a:lnTo>
                  <a:pt x="1400" y="1400"/>
                </a:lnTo>
                <a:close/>
              </a:path>
              <a:path fill="darken" w="23182" h="21600">
                <a:moveTo>
                  <a:pt x="23182" y="0"/>
                </a:moveTo>
                <a:lnTo>
                  <a:pt x="23182" y="21600"/>
                </a:lnTo>
                <a:lnTo>
                  <a:pt x="21782" y="20200"/>
                </a:lnTo>
                <a:lnTo>
                  <a:pt x="21782" y="1400"/>
                </a:lnTo>
                <a:close/>
              </a:path>
              <a:path fill="darkenLess" w="23182" h="21600">
                <a:moveTo>
                  <a:pt x="23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82" y="20200"/>
                </a:lnTo>
                <a:close/>
              </a:path>
              <a:path fill="lighten" w="23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82" h="21600">
                <a:moveTo>
                  <a:pt x="11591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3182" h="21600">
                <a:moveTo>
                  <a:pt x="11591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3182" h="21600">
                <a:moveTo>
                  <a:pt x="9015" y="8224"/>
                </a:moveTo>
                <a:lnTo>
                  <a:pt x="12879" y="8224"/>
                </a:lnTo>
                <a:lnTo>
                  <a:pt x="12879" y="15221"/>
                </a:lnTo>
                <a:lnTo>
                  <a:pt x="14167" y="15221"/>
                </a:lnTo>
                <a:lnTo>
                  <a:pt x="14167" y="16144"/>
                </a:lnTo>
                <a:lnTo>
                  <a:pt x="9015" y="16144"/>
                </a:lnTo>
                <a:lnTo>
                  <a:pt x="9015" y="15221"/>
                </a:lnTo>
                <a:lnTo>
                  <a:pt x="10303" y="15221"/>
                </a:lnTo>
                <a:lnTo>
                  <a:pt x="10303" y="9129"/>
                </a:lnTo>
                <a:lnTo>
                  <a:pt x="9015" y="9129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1258920" y="981000"/>
            <a:ext cx="6553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Georgia"/>
              </a:rPr>
              <a:t>Технологический при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Georgia"/>
              </a:rPr>
              <a:t>«Анимированная сорбон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Georgia"/>
              </a:rPr>
              <a:t>в </a:t>
            </a:r>
            <a:r>
              <a:rPr b="1" lang="en-US" sz="3200" spc="-1" strike="noStrike">
                <a:solidFill>
                  <a:srgbClr val="0033cc"/>
                </a:solidFill>
                <a:latin typeface="Georgia"/>
              </a:rPr>
              <a:t>Power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WordArt 10"/>
          <p:cNvSpPr txBox="1"/>
          <p:nvPr/>
        </p:nvSpPr>
        <p:spPr>
          <a:xfrm>
            <a:off x="3203640" y="3357720"/>
            <a:ext cx="2771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cc"/>
                  </a:solidFill>
                  <a:miter/>
                </a:ln>
                <a:solidFill>
                  <a:srgbClr val="0033cc"/>
                </a:solidFill>
                <a:latin typeface="Impact"/>
              </a:rPr>
              <a:t>Мастер-класс</a:t>
            </a:r>
            <a:endParaRPr b="0" lang="en-US" sz="1800" spc="1" strike="noStrike">
              <a:ln w="9360">
                <a:solidFill>
                  <a:srgbClr val="0033cc"/>
                </a:solidFill>
                <a:miter/>
              </a:ln>
              <a:solidFill>
                <a:srgbClr val="0033cc"/>
              </a:solidFill>
              <a:latin typeface="Impact"/>
              <a:ea typeface="Impact"/>
            </a:endParaRPr>
          </a:p>
        </p:txBody>
      </p:sp>
      <p:sp>
        <p:nvSpPr>
          <p:cNvPr id="120" name="Стрелка вправо 7">
            <a:hlinkClick r:id="" action="ppaction://hlinkshowjump?jump=nextslide"/>
          </p:cNvPr>
          <p:cNvSpPr/>
          <p:nvPr/>
        </p:nvSpPr>
        <p:spPr>
          <a:xfrm>
            <a:off x="8172360" y="6381720"/>
            <a:ext cx="576360" cy="20484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dce6f2"/>
          </a:solidFill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Стрелка вправо 7">
            <a:hlinkClick r:id="" action="ppaction://hlinkshowjump?jump=nextslide"/>
          </p:cNvPr>
          <p:cNvSpPr/>
          <p:nvPr/>
        </p:nvSpPr>
        <p:spPr>
          <a:xfrm>
            <a:off x="8018640" y="6589800"/>
            <a:ext cx="576000" cy="204840"/>
          </a:xfrm>
          <a:prstGeom prst="rightArrow">
            <a:avLst>
              <a:gd name="adj1" fmla="val 50000"/>
              <a:gd name="adj2" fmla="val 49964"/>
            </a:avLst>
          </a:prstGeom>
          <a:solidFill>
            <a:srgbClr val="dce6f2"/>
          </a:solidFill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8">
            <a:hlinkClick r:id="" action="ppaction://hlinkshowjump?jump=previousslide"/>
          </p:cNvPr>
          <p:cNvSpPr/>
          <p:nvPr/>
        </p:nvSpPr>
        <p:spPr>
          <a:xfrm rot="10800000">
            <a:off x="5315040" y="6589440"/>
            <a:ext cx="576000" cy="204840"/>
          </a:xfrm>
          <a:prstGeom prst="rightArrow">
            <a:avLst>
              <a:gd name="adj1" fmla="val 50000"/>
              <a:gd name="adj2" fmla="val 49951"/>
            </a:avLst>
          </a:prstGeom>
          <a:solidFill>
            <a:srgbClr val="dce6f2"/>
          </a:solidFill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Управляющая кнопка: домой 9">
            <a:hlinkClick r:id="" action="ppaction://hlinkshowjump?jump=firstslide"/>
          </p:cNvPr>
          <p:cNvSpPr/>
          <p:nvPr/>
        </p:nvSpPr>
        <p:spPr>
          <a:xfrm>
            <a:off x="6824520" y="6362640"/>
            <a:ext cx="347760" cy="432000"/>
          </a:xfrm>
          <a:custGeom>
            <a:avLst/>
            <a:gdLst>
              <a:gd name="textAreaLeft" fmla="*/ 22320 w 347760"/>
              <a:gd name="textAreaRight" fmla="*/ 325440 w 347760"/>
              <a:gd name="textAreaTop" fmla="*/ 22320 h 432000"/>
              <a:gd name="textAreaBottom" fmla="*/ 409680 h 432000"/>
            </a:gdLst>
            <a:ahLst/>
            <a:rect l="textAreaLeft" t="textAreaTop" r="textAreaRight" b="textAreaBottom"/>
            <a:pathLst>
              <a:path w="21600" h="26827">
                <a:moveTo>
                  <a:pt x="0" y="0"/>
                </a:moveTo>
                <a:lnTo>
                  <a:pt x="21600" y="0"/>
                </a:lnTo>
                <a:lnTo>
                  <a:pt x="21600" y="26827"/>
                </a:lnTo>
                <a:lnTo>
                  <a:pt x="0" y="26827"/>
                </a:lnTo>
                <a:close/>
              </a:path>
              <a:path fill="lightenLess" w="21600" h="268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827">
                <a:moveTo>
                  <a:pt x="21600" y="0"/>
                </a:moveTo>
                <a:lnTo>
                  <a:pt x="21600" y="26827"/>
                </a:lnTo>
                <a:lnTo>
                  <a:pt x="20200" y="25427"/>
                </a:lnTo>
                <a:lnTo>
                  <a:pt x="20200" y="1400"/>
                </a:lnTo>
                <a:close/>
              </a:path>
              <a:path fill="darkenLess" w="21600" h="26827">
                <a:moveTo>
                  <a:pt x="21600" y="26827"/>
                </a:moveTo>
                <a:lnTo>
                  <a:pt x="0" y="26827"/>
                </a:lnTo>
                <a:lnTo>
                  <a:pt x="1400" y="25427"/>
                </a:lnTo>
                <a:lnTo>
                  <a:pt x="20200" y="25427"/>
                </a:lnTo>
                <a:close/>
              </a:path>
              <a:path fill="lighten" w="21600" h="26827">
                <a:moveTo>
                  <a:pt x="0" y="268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427"/>
                </a:lnTo>
                <a:close/>
              </a:path>
              <a:path fill="darken" w="21600" h="26827">
                <a:moveTo>
                  <a:pt x="10800" y="6450"/>
                </a:moveTo>
                <a:lnTo>
                  <a:pt x="13376" y="9062"/>
                </a:lnTo>
                <a:lnTo>
                  <a:pt x="13376" y="7321"/>
                </a:lnTo>
                <a:lnTo>
                  <a:pt x="15152" y="7321"/>
                </a:lnTo>
                <a:lnTo>
                  <a:pt x="15152" y="10837"/>
                </a:lnTo>
                <a:lnTo>
                  <a:pt x="17763" y="13413"/>
                </a:lnTo>
                <a:lnTo>
                  <a:pt x="16109" y="13413"/>
                </a:lnTo>
                <a:lnTo>
                  <a:pt x="16109" y="20603"/>
                </a:lnTo>
                <a:lnTo>
                  <a:pt x="5491" y="20603"/>
                </a:lnTo>
                <a:lnTo>
                  <a:pt x="5491" y="13413"/>
                </a:lnTo>
                <a:lnTo>
                  <a:pt x="3837" y="13413"/>
                </a:lnTo>
                <a:close/>
              </a:path>
              <a:path fill="darkenLess" w="21600" h="26827">
                <a:moveTo>
                  <a:pt x="13376" y="9062"/>
                </a:moveTo>
                <a:lnTo>
                  <a:pt x="13376" y="7321"/>
                </a:lnTo>
                <a:lnTo>
                  <a:pt x="15152" y="7321"/>
                </a:lnTo>
                <a:lnTo>
                  <a:pt x="15152" y="10837"/>
                </a:lnTo>
                <a:close/>
              </a:path>
              <a:path fill="darkenLess" w="21600" h="26827">
                <a:moveTo>
                  <a:pt x="9877" y="16912"/>
                </a:moveTo>
                <a:lnTo>
                  <a:pt x="11723" y="16912"/>
                </a:lnTo>
                <a:lnTo>
                  <a:pt x="11723" y="20603"/>
                </a:lnTo>
                <a:lnTo>
                  <a:pt x="16109" y="20603"/>
                </a:lnTo>
                <a:lnTo>
                  <a:pt x="16109" y="13413"/>
                </a:lnTo>
                <a:lnTo>
                  <a:pt x="5491" y="13413"/>
                </a:lnTo>
                <a:lnTo>
                  <a:pt x="5491" y="20603"/>
                </a:lnTo>
                <a:lnTo>
                  <a:pt x="9877" y="20603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611280" y="333360"/>
            <a:ext cx="7921440" cy="61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Georgia"/>
              </a:rPr>
              <a:t>ШАГ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33cc"/>
                </a:solidFill>
                <a:latin typeface="Georgia"/>
              </a:rPr>
              <a:t>Выделим первый квадрат (Ответ). Добавим на него эффект анимации</a:t>
            </a:r>
            <a:r>
              <a:rPr b="1" lang="ru-RU" sz="23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lang="ru-RU" sz="2300" spc="-1" strike="noStrike">
                <a:solidFill>
                  <a:srgbClr val="0033cc"/>
                </a:solidFill>
                <a:latin typeface="Georgia"/>
              </a:rPr>
              <a:t>входа —Вращение.</a:t>
            </a:r>
            <a:r>
              <a:rPr b="1" lang="ru-RU" sz="2300" spc="-1" strike="noStrike">
                <a:solidFill>
                  <a:srgbClr val="ff0000"/>
                </a:solidFill>
                <a:latin typeface="Georgia"/>
              </a:rPr>
              <a:t> Настройка анимации — Добавить эффект — Вход — Другие эффекты — Вращение — ОК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33cc"/>
                </a:solidFill>
                <a:latin typeface="Georgia"/>
              </a:rPr>
              <a:t>В области Настройка анимации рядом с надписью</a:t>
            </a:r>
            <a:r>
              <a:rPr b="1" lang="ru-RU" sz="2300" spc="-1" strike="noStrike">
                <a:solidFill>
                  <a:srgbClr val="ff0000"/>
                </a:solidFill>
                <a:latin typeface="Georgia"/>
              </a:rPr>
              <a:t> «Ответ» </a:t>
            </a:r>
            <a:r>
              <a:rPr b="1" lang="ru-RU" sz="2300" spc="-1" strike="noStrike">
                <a:solidFill>
                  <a:srgbClr val="0033cc"/>
                </a:solidFill>
                <a:latin typeface="Georgia"/>
              </a:rPr>
              <a:t>раскроем список и выберем в нем </a:t>
            </a:r>
            <a:r>
              <a:rPr b="1" lang="ru-RU" sz="2300" spc="-1" strike="noStrike">
                <a:solidFill>
                  <a:srgbClr val="ff0000"/>
                </a:solidFill>
                <a:latin typeface="Georgia"/>
              </a:rPr>
              <a:t>Время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33cc"/>
                </a:solidFill>
                <a:latin typeface="Georgia"/>
              </a:rPr>
              <a:t>Установим следующие параметры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33cc"/>
                </a:solidFill>
                <a:latin typeface="Georgia"/>
              </a:rPr>
              <a:t>Начало — С предыдущим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33cc"/>
                </a:solidFill>
                <a:latin typeface="Georgia"/>
              </a:rPr>
              <a:t>Скорость — Очень быстро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33cc"/>
                </a:solidFill>
                <a:latin typeface="Georgia"/>
              </a:rPr>
              <a:t>Повторение — 2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33cc"/>
                </a:solidFill>
                <a:latin typeface="Georgia"/>
              </a:rPr>
              <a:t>Переключатели — Начать выполнение эффекта при щелчке — в раскрывающемся списке выбираем Триггер и нажимаем </a:t>
            </a:r>
            <a:r>
              <a:rPr b="1" lang="ru-RU" sz="2300" spc="-1" strike="noStrike">
                <a:solidFill>
                  <a:srgbClr val="ff0000"/>
                </a:solidFill>
                <a:latin typeface="Georgia"/>
              </a:rPr>
              <a:t>ОК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Стрелка вправо 7">
            <a:hlinkClick r:id="" action="ppaction://hlinkshowjump?jump=nextslide"/>
          </p:cNvPr>
          <p:cNvSpPr/>
          <p:nvPr/>
        </p:nvSpPr>
        <p:spPr>
          <a:xfrm>
            <a:off x="8023320" y="6620040"/>
            <a:ext cx="576000" cy="204480"/>
          </a:xfrm>
          <a:prstGeom prst="rightArrow">
            <a:avLst>
              <a:gd name="adj1" fmla="val 50000"/>
              <a:gd name="adj2" fmla="val 50052"/>
            </a:avLst>
          </a:prstGeom>
          <a:solidFill>
            <a:srgbClr val="dce6f2"/>
          </a:solidFill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Стрелка вправо 8">
            <a:hlinkClick r:id="" action="ppaction://hlinkshowjump?jump=previousslide"/>
          </p:cNvPr>
          <p:cNvSpPr/>
          <p:nvPr/>
        </p:nvSpPr>
        <p:spPr>
          <a:xfrm rot="10800000">
            <a:off x="5315040" y="6589440"/>
            <a:ext cx="576000" cy="204840"/>
          </a:xfrm>
          <a:prstGeom prst="rightArrow">
            <a:avLst>
              <a:gd name="adj1" fmla="val 50000"/>
              <a:gd name="adj2" fmla="val 49951"/>
            </a:avLst>
          </a:prstGeom>
          <a:solidFill>
            <a:srgbClr val="dce6f2"/>
          </a:solidFill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Управляющая кнопка: домой 9">
            <a:hlinkClick r:id="" action="ppaction://hlinkshowjump?jump=firstslide"/>
          </p:cNvPr>
          <p:cNvSpPr/>
          <p:nvPr/>
        </p:nvSpPr>
        <p:spPr>
          <a:xfrm>
            <a:off x="6824520" y="6362640"/>
            <a:ext cx="347760" cy="432000"/>
          </a:xfrm>
          <a:custGeom>
            <a:avLst/>
            <a:gdLst>
              <a:gd name="textAreaLeft" fmla="*/ 22320 w 347760"/>
              <a:gd name="textAreaRight" fmla="*/ 325440 w 347760"/>
              <a:gd name="textAreaTop" fmla="*/ 22320 h 432000"/>
              <a:gd name="textAreaBottom" fmla="*/ 409680 h 432000"/>
            </a:gdLst>
            <a:ahLst/>
            <a:rect l="textAreaLeft" t="textAreaTop" r="textAreaRight" b="textAreaBottom"/>
            <a:pathLst>
              <a:path w="21600" h="26827">
                <a:moveTo>
                  <a:pt x="0" y="0"/>
                </a:moveTo>
                <a:lnTo>
                  <a:pt x="21600" y="0"/>
                </a:lnTo>
                <a:lnTo>
                  <a:pt x="21600" y="26827"/>
                </a:lnTo>
                <a:lnTo>
                  <a:pt x="0" y="26827"/>
                </a:lnTo>
                <a:close/>
              </a:path>
              <a:path fill="lightenLess" w="21600" h="268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827">
                <a:moveTo>
                  <a:pt x="21600" y="0"/>
                </a:moveTo>
                <a:lnTo>
                  <a:pt x="21600" y="26827"/>
                </a:lnTo>
                <a:lnTo>
                  <a:pt x="20200" y="25427"/>
                </a:lnTo>
                <a:lnTo>
                  <a:pt x="20200" y="1400"/>
                </a:lnTo>
                <a:close/>
              </a:path>
              <a:path fill="darkenLess" w="21600" h="26827">
                <a:moveTo>
                  <a:pt x="21600" y="26827"/>
                </a:moveTo>
                <a:lnTo>
                  <a:pt x="0" y="26827"/>
                </a:lnTo>
                <a:lnTo>
                  <a:pt x="1400" y="25427"/>
                </a:lnTo>
                <a:lnTo>
                  <a:pt x="20200" y="25427"/>
                </a:lnTo>
                <a:close/>
              </a:path>
              <a:path fill="lighten" w="21600" h="26827">
                <a:moveTo>
                  <a:pt x="0" y="268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427"/>
                </a:lnTo>
                <a:close/>
              </a:path>
              <a:path fill="darken" w="21600" h="26827">
                <a:moveTo>
                  <a:pt x="10800" y="6450"/>
                </a:moveTo>
                <a:lnTo>
                  <a:pt x="13376" y="9062"/>
                </a:lnTo>
                <a:lnTo>
                  <a:pt x="13376" y="7321"/>
                </a:lnTo>
                <a:lnTo>
                  <a:pt x="15152" y="7321"/>
                </a:lnTo>
                <a:lnTo>
                  <a:pt x="15152" y="10837"/>
                </a:lnTo>
                <a:lnTo>
                  <a:pt x="17763" y="13413"/>
                </a:lnTo>
                <a:lnTo>
                  <a:pt x="16109" y="13413"/>
                </a:lnTo>
                <a:lnTo>
                  <a:pt x="16109" y="20603"/>
                </a:lnTo>
                <a:lnTo>
                  <a:pt x="5491" y="20603"/>
                </a:lnTo>
                <a:lnTo>
                  <a:pt x="5491" y="13413"/>
                </a:lnTo>
                <a:lnTo>
                  <a:pt x="3837" y="13413"/>
                </a:lnTo>
                <a:close/>
              </a:path>
              <a:path fill="darkenLess" w="21600" h="26827">
                <a:moveTo>
                  <a:pt x="13376" y="9062"/>
                </a:moveTo>
                <a:lnTo>
                  <a:pt x="13376" y="7321"/>
                </a:lnTo>
                <a:lnTo>
                  <a:pt x="15152" y="7321"/>
                </a:lnTo>
                <a:lnTo>
                  <a:pt x="15152" y="10837"/>
                </a:lnTo>
                <a:close/>
              </a:path>
              <a:path fill="darkenLess" w="21600" h="26827">
                <a:moveTo>
                  <a:pt x="9877" y="16912"/>
                </a:moveTo>
                <a:lnTo>
                  <a:pt x="11723" y="16912"/>
                </a:lnTo>
                <a:lnTo>
                  <a:pt x="11723" y="20603"/>
                </a:lnTo>
                <a:lnTo>
                  <a:pt x="16109" y="20603"/>
                </a:lnTo>
                <a:lnTo>
                  <a:pt x="16109" y="13413"/>
                </a:lnTo>
                <a:lnTo>
                  <a:pt x="5491" y="13413"/>
                </a:lnTo>
                <a:lnTo>
                  <a:pt x="5491" y="20603"/>
                </a:lnTo>
                <a:lnTo>
                  <a:pt x="9877" y="20603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539640" y="330120"/>
            <a:ext cx="7489800" cy="65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Georgia"/>
              </a:rPr>
              <a:t>ШАГ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33cc"/>
                </a:solidFill>
                <a:latin typeface="Georgia"/>
              </a:rPr>
              <a:t>Выделим второй квадрат (Вопрос). Откроем область </a:t>
            </a:r>
            <a:r>
              <a:rPr b="1" lang="ru-RU" sz="2300" spc="-1" strike="noStrike">
                <a:solidFill>
                  <a:srgbClr val="ff0000"/>
                </a:solidFill>
                <a:latin typeface="Georgia"/>
              </a:rPr>
              <a:t>Настройка анимации </a:t>
            </a:r>
            <a:r>
              <a:rPr b="1" lang="ru-RU" sz="2300" spc="-1" strike="noStrike">
                <a:solidFill>
                  <a:srgbClr val="0033cc"/>
                </a:solidFill>
                <a:latin typeface="Georgia"/>
              </a:rPr>
              <a:t>и выберем</a:t>
            </a:r>
            <a:r>
              <a:rPr b="1" lang="ru-RU" sz="2300" spc="-1" strike="noStrike">
                <a:solidFill>
                  <a:srgbClr val="ff0000"/>
                </a:solidFill>
                <a:latin typeface="Georgia"/>
              </a:rPr>
              <a:t> Добавить эффект — Вход — Другие эффекты — Вращение — ОК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33cc"/>
                </a:solidFill>
                <a:latin typeface="Georgia"/>
              </a:rPr>
              <a:t>В области</a:t>
            </a:r>
            <a:r>
              <a:rPr b="1" lang="ru-RU" sz="2300" spc="-1" strike="noStrike">
                <a:solidFill>
                  <a:srgbClr val="ff0000"/>
                </a:solidFill>
                <a:latin typeface="Georgia"/>
              </a:rPr>
              <a:t> Настройка анимации </a:t>
            </a:r>
            <a:r>
              <a:rPr b="1" lang="ru-RU" sz="2300" spc="-1" strike="noStrike">
                <a:solidFill>
                  <a:srgbClr val="0033cc"/>
                </a:solidFill>
                <a:latin typeface="Georgia"/>
              </a:rPr>
              <a:t>рядом с надписью </a:t>
            </a:r>
            <a:r>
              <a:rPr b="1" lang="ru-RU" sz="2300" spc="-1" strike="noStrike">
                <a:solidFill>
                  <a:srgbClr val="ff0000"/>
                </a:solidFill>
                <a:latin typeface="Georgia"/>
              </a:rPr>
              <a:t>«Вопрос»</a:t>
            </a:r>
            <a:r>
              <a:rPr b="1" lang="ru-RU" sz="2300" spc="-1" strike="noStrike">
                <a:solidFill>
                  <a:srgbClr val="0033cc"/>
                </a:solidFill>
                <a:latin typeface="Georgia"/>
              </a:rPr>
              <a:t> раскроем список и выберем в нем </a:t>
            </a:r>
            <a:r>
              <a:rPr b="1" lang="ru-RU" sz="2300" spc="-1" strike="noStrike">
                <a:solidFill>
                  <a:srgbClr val="ff0000"/>
                </a:solidFill>
                <a:latin typeface="Georgia"/>
              </a:rPr>
              <a:t>Время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33cc"/>
                </a:solidFill>
                <a:latin typeface="Georgia"/>
              </a:rPr>
              <a:t>Установим следующие параметры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33cc"/>
                </a:solidFill>
                <a:latin typeface="Georgia"/>
              </a:rPr>
              <a:t>Начало — По щелчку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33cc"/>
                </a:solidFill>
                <a:latin typeface="Georgia"/>
              </a:rPr>
              <a:t>Скорость — Очень быстро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33cc"/>
                </a:solidFill>
                <a:latin typeface="Georgia"/>
              </a:rPr>
              <a:t>Повторение — 2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33cc"/>
                </a:solidFill>
                <a:latin typeface="Georgia"/>
              </a:rPr>
              <a:t>Переключатели — Начать выполнение эффекта при щелчке — в раскрывающемся списке выбираем Триггер и нажимаем </a:t>
            </a:r>
            <a:r>
              <a:rPr b="1" lang="ru-RU" sz="2300" spc="-1" strike="noStrike">
                <a:solidFill>
                  <a:srgbClr val="ff0000"/>
                </a:solidFill>
                <a:latin typeface="Georgia"/>
              </a:rPr>
              <a:t>ОК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Стрелка вправо 7">
            <a:hlinkClick r:id="" action="ppaction://hlinkshowjump?jump=nextslide"/>
          </p:cNvPr>
          <p:cNvSpPr/>
          <p:nvPr/>
        </p:nvSpPr>
        <p:spPr>
          <a:xfrm>
            <a:off x="8018640" y="6589800"/>
            <a:ext cx="576000" cy="204840"/>
          </a:xfrm>
          <a:prstGeom prst="rightArrow">
            <a:avLst>
              <a:gd name="adj1" fmla="val 50000"/>
              <a:gd name="adj2" fmla="val 49964"/>
            </a:avLst>
          </a:prstGeom>
          <a:solidFill>
            <a:srgbClr val="dce6f2"/>
          </a:solidFill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Стрелка вправо 8">
            <a:hlinkClick r:id="" action="ppaction://hlinkshowjump?jump=previousslide"/>
          </p:cNvPr>
          <p:cNvSpPr/>
          <p:nvPr/>
        </p:nvSpPr>
        <p:spPr>
          <a:xfrm rot="10800000">
            <a:off x="5315040" y="6589440"/>
            <a:ext cx="576000" cy="204840"/>
          </a:xfrm>
          <a:prstGeom prst="rightArrow">
            <a:avLst>
              <a:gd name="adj1" fmla="val 50000"/>
              <a:gd name="adj2" fmla="val 49951"/>
            </a:avLst>
          </a:prstGeom>
          <a:solidFill>
            <a:srgbClr val="dce6f2"/>
          </a:solidFill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Управляющая кнопка: домой 9">
            <a:hlinkClick r:id="" action="ppaction://hlinkshowjump?jump=firstslide"/>
          </p:cNvPr>
          <p:cNvSpPr/>
          <p:nvPr/>
        </p:nvSpPr>
        <p:spPr>
          <a:xfrm>
            <a:off x="6824520" y="6362640"/>
            <a:ext cx="347760" cy="432000"/>
          </a:xfrm>
          <a:custGeom>
            <a:avLst/>
            <a:gdLst>
              <a:gd name="textAreaLeft" fmla="*/ 22320 w 347760"/>
              <a:gd name="textAreaRight" fmla="*/ 325440 w 347760"/>
              <a:gd name="textAreaTop" fmla="*/ 22320 h 432000"/>
              <a:gd name="textAreaBottom" fmla="*/ 409680 h 432000"/>
            </a:gdLst>
            <a:ahLst/>
            <a:rect l="textAreaLeft" t="textAreaTop" r="textAreaRight" b="textAreaBottom"/>
            <a:pathLst>
              <a:path w="21600" h="26827">
                <a:moveTo>
                  <a:pt x="0" y="0"/>
                </a:moveTo>
                <a:lnTo>
                  <a:pt x="21600" y="0"/>
                </a:lnTo>
                <a:lnTo>
                  <a:pt x="21600" y="26827"/>
                </a:lnTo>
                <a:lnTo>
                  <a:pt x="0" y="26827"/>
                </a:lnTo>
                <a:close/>
              </a:path>
              <a:path fill="lightenLess" w="21600" h="268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827">
                <a:moveTo>
                  <a:pt x="21600" y="0"/>
                </a:moveTo>
                <a:lnTo>
                  <a:pt x="21600" y="26827"/>
                </a:lnTo>
                <a:lnTo>
                  <a:pt x="20200" y="25427"/>
                </a:lnTo>
                <a:lnTo>
                  <a:pt x="20200" y="1400"/>
                </a:lnTo>
                <a:close/>
              </a:path>
              <a:path fill="darkenLess" w="21600" h="26827">
                <a:moveTo>
                  <a:pt x="21600" y="26827"/>
                </a:moveTo>
                <a:lnTo>
                  <a:pt x="0" y="26827"/>
                </a:lnTo>
                <a:lnTo>
                  <a:pt x="1400" y="25427"/>
                </a:lnTo>
                <a:lnTo>
                  <a:pt x="20200" y="25427"/>
                </a:lnTo>
                <a:close/>
              </a:path>
              <a:path fill="lighten" w="21600" h="26827">
                <a:moveTo>
                  <a:pt x="0" y="268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427"/>
                </a:lnTo>
                <a:close/>
              </a:path>
              <a:path fill="darken" w="21600" h="26827">
                <a:moveTo>
                  <a:pt x="10800" y="6450"/>
                </a:moveTo>
                <a:lnTo>
                  <a:pt x="13376" y="9062"/>
                </a:lnTo>
                <a:lnTo>
                  <a:pt x="13376" y="7321"/>
                </a:lnTo>
                <a:lnTo>
                  <a:pt x="15152" y="7321"/>
                </a:lnTo>
                <a:lnTo>
                  <a:pt x="15152" y="10837"/>
                </a:lnTo>
                <a:lnTo>
                  <a:pt x="17763" y="13413"/>
                </a:lnTo>
                <a:lnTo>
                  <a:pt x="16109" y="13413"/>
                </a:lnTo>
                <a:lnTo>
                  <a:pt x="16109" y="20603"/>
                </a:lnTo>
                <a:lnTo>
                  <a:pt x="5491" y="20603"/>
                </a:lnTo>
                <a:lnTo>
                  <a:pt x="5491" y="13413"/>
                </a:lnTo>
                <a:lnTo>
                  <a:pt x="3837" y="13413"/>
                </a:lnTo>
                <a:close/>
              </a:path>
              <a:path fill="darkenLess" w="21600" h="26827">
                <a:moveTo>
                  <a:pt x="13376" y="9062"/>
                </a:moveTo>
                <a:lnTo>
                  <a:pt x="13376" y="7321"/>
                </a:lnTo>
                <a:lnTo>
                  <a:pt x="15152" y="7321"/>
                </a:lnTo>
                <a:lnTo>
                  <a:pt x="15152" y="10837"/>
                </a:lnTo>
                <a:close/>
              </a:path>
              <a:path fill="darkenLess" w="21600" h="26827">
                <a:moveTo>
                  <a:pt x="9877" y="16912"/>
                </a:moveTo>
                <a:lnTo>
                  <a:pt x="11723" y="16912"/>
                </a:lnTo>
                <a:lnTo>
                  <a:pt x="11723" y="20603"/>
                </a:lnTo>
                <a:lnTo>
                  <a:pt x="16109" y="20603"/>
                </a:lnTo>
                <a:lnTo>
                  <a:pt x="16109" y="13413"/>
                </a:lnTo>
                <a:lnTo>
                  <a:pt x="5491" y="13413"/>
                </a:lnTo>
                <a:lnTo>
                  <a:pt x="5491" y="20603"/>
                </a:lnTo>
                <a:lnTo>
                  <a:pt x="9877" y="20603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539640" y="404640"/>
            <a:ext cx="79930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РЕЗУЛЬТ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В области </a:t>
            </a: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Настройка анимации</a:t>
            </a: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 мы получили следующие эффек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6" descr="75850564"/>
          <p:cNvPicPr/>
          <p:nvPr/>
        </p:nvPicPr>
        <p:blipFill>
          <a:blip r:embed="rId1"/>
          <a:stretch/>
        </p:blipFill>
        <p:spPr>
          <a:xfrm>
            <a:off x="2700360" y="2060640"/>
            <a:ext cx="370512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Стрелка вправо 1">
            <a:hlinkClick r:id="" action="ppaction://hlinkshowjump?jump=previousslide"/>
          </p:cNvPr>
          <p:cNvSpPr/>
          <p:nvPr/>
        </p:nvSpPr>
        <p:spPr>
          <a:xfrm rot="10800000">
            <a:off x="6004080" y="6578280"/>
            <a:ext cx="576000" cy="204840"/>
          </a:xfrm>
          <a:prstGeom prst="rightArrow">
            <a:avLst>
              <a:gd name="adj1" fmla="val 50000"/>
              <a:gd name="adj2" fmla="val 49951"/>
            </a:avLst>
          </a:prstGeom>
          <a:solidFill>
            <a:srgbClr val="dce6f2"/>
          </a:solidFill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Управляющая кнопка: домой 2">
            <a:hlinkClick r:id="" action="ppaction://hlinkshowjump?jump=firstslide"/>
          </p:cNvPr>
          <p:cNvSpPr/>
          <p:nvPr/>
        </p:nvSpPr>
        <p:spPr>
          <a:xfrm>
            <a:off x="7132680" y="6373800"/>
            <a:ext cx="345960" cy="431640"/>
          </a:xfrm>
          <a:custGeom>
            <a:avLst/>
            <a:gdLst>
              <a:gd name="textAreaLeft" fmla="*/ 22320 w 345960"/>
              <a:gd name="textAreaRight" fmla="*/ 323640 w 345960"/>
              <a:gd name="textAreaTop" fmla="*/ 22320 h 431640"/>
              <a:gd name="textAreaBottom" fmla="*/ 409320 h 431640"/>
            </a:gdLst>
            <a:ahLst/>
            <a:rect l="textAreaLeft" t="textAreaTop" r="textAreaRight" b="textAreaBottom"/>
            <a:pathLst>
              <a:path w="21600" h="26944">
                <a:moveTo>
                  <a:pt x="0" y="0"/>
                </a:moveTo>
                <a:lnTo>
                  <a:pt x="21600" y="0"/>
                </a:lnTo>
                <a:lnTo>
                  <a:pt x="21600" y="26944"/>
                </a:lnTo>
                <a:lnTo>
                  <a:pt x="0" y="26944"/>
                </a:lnTo>
                <a:close/>
              </a:path>
              <a:path fill="lightenLess" w="21600" h="269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44">
                <a:moveTo>
                  <a:pt x="21600" y="0"/>
                </a:moveTo>
                <a:lnTo>
                  <a:pt x="21600" y="26944"/>
                </a:lnTo>
                <a:lnTo>
                  <a:pt x="20200" y="25544"/>
                </a:lnTo>
                <a:lnTo>
                  <a:pt x="20200" y="1400"/>
                </a:lnTo>
                <a:close/>
              </a:path>
              <a:path fill="darkenLess" w="21600" h="26944">
                <a:moveTo>
                  <a:pt x="21600" y="26944"/>
                </a:moveTo>
                <a:lnTo>
                  <a:pt x="0" y="26944"/>
                </a:lnTo>
                <a:lnTo>
                  <a:pt x="1400" y="25544"/>
                </a:lnTo>
                <a:lnTo>
                  <a:pt x="20200" y="25544"/>
                </a:lnTo>
                <a:close/>
              </a:path>
              <a:path fill="lighten" w="21600" h="26944">
                <a:moveTo>
                  <a:pt x="0" y="269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44"/>
                </a:lnTo>
                <a:close/>
              </a:path>
              <a:path fill="darken" w="21600" h="26944">
                <a:moveTo>
                  <a:pt x="10800" y="6509"/>
                </a:moveTo>
                <a:lnTo>
                  <a:pt x="13376" y="9120"/>
                </a:lnTo>
                <a:lnTo>
                  <a:pt x="13376" y="7379"/>
                </a:lnTo>
                <a:lnTo>
                  <a:pt x="15152" y="7379"/>
                </a:lnTo>
                <a:lnTo>
                  <a:pt x="15152" y="10896"/>
                </a:lnTo>
                <a:lnTo>
                  <a:pt x="17763" y="13472"/>
                </a:lnTo>
                <a:lnTo>
                  <a:pt x="16109" y="13472"/>
                </a:lnTo>
                <a:lnTo>
                  <a:pt x="16109" y="20661"/>
                </a:lnTo>
                <a:lnTo>
                  <a:pt x="5491" y="20661"/>
                </a:lnTo>
                <a:lnTo>
                  <a:pt x="5491" y="13472"/>
                </a:lnTo>
                <a:lnTo>
                  <a:pt x="3837" y="13472"/>
                </a:lnTo>
                <a:close/>
              </a:path>
              <a:path fill="darkenLess" w="21600" h="26944">
                <a:moveTo>
                  <a:pt x="13376" y="9120"/>
                </a:moveTo>
                <a:lnTo>
                  <a:pt x="13376" y="7379"/>
                </a:lnTo>
                <a:lnTo>
                  <a:pt x="15152" y="7379"/>
                </a:lnTo>
                <a:lnTo>
                  <a:pt x="15152" y="10896"/>
                </a:lnTo>
                <a:close/>
              </a:path>
              <a:path fill="darkenLess" w="21600" h="26944">
                <a:moveTo>
                  <a:pt x="9877" y="16971"/>
                </a:moveTo>
                <a:lnTo>
                  <a:pt x="11723" y="16971"/>
                </a:lnTo>
                <a:lnTo>
                  <a:pt x="11723" y="20661"/>
                </a:lnTo>
                <a:lnTo>
                  <a:pt x="16109" y="20661"/>
                </a:lnTo>
                <a:lnTo>
                  <a:pt x="16109" y="13472"/>
                </a:lnTo>
                <a:lnTo>
                  <a:pt x="5491" y="13472"/>
                </a:lnTo>
                <a:lnTo>
                  <a:pt x="5491" y="20661"/>
                </a:lnTo>
                <a:lnTo>
                  <a:pt x="9877" y="20661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Стрелка вправо 3">
            <a:hlinkClick r:id="" action="ppaction://hlinkshowjump?jump=nextslide"/>
          </p:cNvPr>
          <p:cNvSpPr/>
          <p:nvPr/>
        </p:nvSpPr>
        <p:spPr>
          <a:xfrm>
            <a:off x="8018640" y="6589800"/>
            <a:ext cx="576000" cy="19368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dce6f2"/>
          </a:solidFill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ответ"/>
          <p:cNvSpPr/>
          <p:nvPr/>
        </p:nvSpPr>
        <p:spPr>
          <a:xfrm>
            <a:off x="1973160" y="2708280"/>
            <a:ext cx="4989600" cy="259236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Georgia"/>
              </a:rPr>
              <a:t>Оборот речи, особое сочетание слов, синтаксическое построение, используемое для усиления выразительности высказывания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7375e"/>
                </a:solidFill>
                <a:latin typeface="Georgia"/>
              </a:rPr>
              <a:t>Толковый переводоведческий словар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вопрос" descr=""/>
          <p:cNvPicPr/>
          <p:nvPr/>
        </p:nvPicPr>
        <p:blipFill>
          <a:blip r:embed="rId1"/>
          <a:stretch/>
        </p:blipFill>
        <p:spPr>
          <a:xfrm>
            <a:off x="1944720" y="2670120"/>
            <a:ext cx="5065560" cy="2676600"/>
          </a:xfrm>
          <a:prstGeom prst="rect">
            <a:avLst/>
          </a:prstGeom>
          <a:ln w="0">
            <a:noFill/>
          </a:ln>
        </p:spPr>
      </p:pic>
      <p:sp>
        <p:nvSpPr>
          <p:cNvPr id="180" name="триггер"/>
          <p:cNvSpPr/>
          <p:nvPr/>
        </p:nvSpPr>
        <p:spPr>
          <a:xfrm>
            <a:off x="1973160" y="2708280"/>
            <a:ext cx="4989600" cy="2592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xit" presetID="4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4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Стрелка вправо 1">
            <a:hlinkClick r:id="" action="ppaction://hlinkshowjump?jump=previousslide"/>
          </p:cNvPr>
          <p:cNvSpPr/>
          <p:nvPr/>
        </p:nvSpPr>
        <p:spPr>
          <a:xfrm rot="10800000">
            <a:off x="6012000" y="6652800"/>
            <a:ext cx="576000" cy="204840"/>
          </a:xfrm>
          <a:prstGeom prst="rightArrow">
            <a:avLst>
              <a:gd name="adj1" fmla="val 50000"/>
              <a:gd name="adj2" fmla="val 49951"/>
            </a:avLst>
          </a:prstGeom>
          <a:solidFill>
            <a:srgbClr val="dce6f2"/>
          </a:solidFill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Управляющая кнопка: домой 2">
            <a:hlinkClick r:id="" action="ppaction://hlinkshowjump?jump=firstslide"/>
          </p:cNvPr>
          <p:cNvSpPr/>
          <p:nvPr/>
        </p:nvSpPr>
        <p:spPr>
          <a:xfrm>
            <a:off x="7132680" y="6373800"/>
            <a:ext cx="345960" cy="431640"/>
          </a:xfrm>
          <a:custGeom>
            <a:avLst/>
            <a:gdLst>
              <a:gd name="textAreaLeft" fmla="*/ 22320 w 345960"/>
              <a:gd name="textAreaRight" fmla="*/ 323640 w 345960"/>
              <a:gd name="textAreaTop" fmla="*/ 22320 h 431640"/>
              <a:gd name="textAreaBottom" fmla="*/ 409320 h 431640"/>
            </a:gdLst>
            <a:ahLst/>
            <a:rect l="textAreaLeft" t="textAreaTop" r="textAreaRight" b="textAreaBottom"/>
            <a:pathLst>
              <a:path w="21600" h="26944">
                <a:moveTo>
                  <a:pt x="0" y="0"/>
                </a:moveTo>
                <a:lnTo>
                  <a:pt x="21600" y="0"/>
                </a:lnTo>
                <a:lnTo>
                  <a:pt x="21600" y="26944"/>
                </a:lnTo>
                <a:lnTo>
                  <a:pt x="0" y="26944"/>
                </a:lnTo>
                <a:close/>
              </a:path>
              <a:path fill="lightenLess" w="21600" h="269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44">
                <a:moveTo>
                  <a:pt x="21600" y="0"/>
                </a:moveTo>
                <a:lnTo>
                  <a:pt x="21600" y="26944"/>
                </a:lnTo>
                <a:lnTo>
                  <a:pt x="20200" y="25544"/>
                </a:lnTo>
                <a:lnTo>
                  <a:pt x="20200" y="1400"/>
                </a:lnTo>
                <a:close/>
              </a:path>
              <a:path fill="darkenLess" w="21600" h="26944">
                <a:moveTo>
                  <a:pt x="21600" y="26944"/>
                </a:moveTo>
                <a:lnTo>
                  <a:pt x="0" y="26944"/>
                </a:lnTo>
                <a:lnTo>
                  <a:pt x="1400" y="25544"/>
                </a:lnTo>
                <a:lnTo>
                  <a:pt x="20200" y="25544"/>
                </a:lnTo>
                <a:close/>
              </a:path>
              <a:path fill="lighten" w="21600" h="26944">
                <a:moveTo>
                  <a:pt x="0" y="269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44"/>
                </a:lnTo>
                <a:close/>
              </a:path>
              <a:path fill="darken" w="21600" h="26944">
                <a:moveTo>
                  <a:pt x="10800" y="6509"/>
                </a:moveTo>
                <a:lnTo>
                  <a:pt x="13376" y="9120"/>
                </a:lnTo>
                <a:lnTo>
                  <a:pt x="13376" y="7379"/>
                </a:lnTo>
                <a:lnTo>
                  <a:pt x="15152" y="7379"/>
                </a:lnTo>
                <a:lnTo>
                  <a:pt x="15152" y="10896"/>
                </a:lnTo>
                <a:lnTo>
                  <a:pt x="17763" y="13472"/>
                </a:lnTo>
                <a:lnTo>
                  <a:pt x="16109" y="13472"/>
                </a:lnTo>
                <a:lnTo>
                  <a:pt x="16109" y="20661"/>
                </a:lnTo>
                <a:lnTo>
                  <a:pt x="5491" y="20661"/>
                </a:lnTo>
                <a:lnTo>
                  <a:pt x="5491" y="13472"/>
                </a:lnTo>
                <a:lnTo>
                  <a:pt x="3837" y="13472"/>
                </a:lnTo>
                <a:close/>
              </a:path>
              <a:path fill="darkenLess" w="21600" h="26944">
                <a:moveTo>
                  <a:pt x="13376" y="9120"/>
                </a:moveTo>
                <a:lnTo>
                  <a:pt x="13376" y="7379"/>
                </a:lnTo>
                <a:lnTo>
                  <a:pt x="15152" y="7379"/>
                </a:lnTo>
                <a:lnTo>
                  <a:pt x="15152" y="10896"/>
                </a:lnTo>
                <a:close/>
              </a:path>
              <a:path fill="darkenLess" w="21600" h="26944">
                <a:moveTo>
                  <a:pt x="9877" y="16971"/>
                </a:moveTo>
                <a:lnTo>
                  <a:pt x="11723" y="16971"/>
                </a:lnTo>
                <a:lnTo>
                  <a:pt x="11723" y="20661"/>
                </a:lnTo>
                <a:lnTo>
                  <a:pt x="16109" y="20661"/>
                </a:lnTo>
                <a:lnTo>
                  <a:pt x="16109" y="13472"/>
                </a:lnTo>
                <a:lnTo>
                  <a:pt x="5491" y="13472"/>
                </a:lnTo>
                <a:lnTo>
                  <a:pt x="5491" y="20661"/>
                </a:lnTo>
                <a:lnTo>
                  <a:pt x="9877" y="20661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трелка вправо 3">
            <a:hlinkClick r:id="" action="ppaction://hlinkshowjump?jump=nextslide"/>
          </p:cNvPr>
          <p:cNvSpPr/>
          <p:nvPr/>
        </p:nvSpPr>
        <p:spPr>
          <a:xfrm>
            <a:off x="8018640" y="6589800"/>
            <a:ext cx="576000" cy="19368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dce6f2"/>
          </a:solidFill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ответ"/>
          <p:cNvSpPr/>
          <p:nvPr/>
        </p:nvSpPr>
        <p:spPr>
          <a:xfrm>
            <a:off x="1987560" y="2565360"/>
            <a:ext cx="4989600" cy="259236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</a:rPr>
              <a:t>Одинаковое начало нескольких соседних предлож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Georgia"/>
              </a:rPr>
              <a:t>Берегите друг друга,</a:t>
            </a:r>
            <a:br>
              <a:rPr sz="1800"/>
            </a:br>
            <a:r>
              <a:rPr b="0" lang="ru-RU" sz="1800" spc="-1" strike="noStrike">
                <a:solidFill>
                  <a:srgbClr val="0033cc"/>
                </a:solidFill>
                <a:latin typeface="Georgia"/>
              </a:rPr>
              <a:t>Добротой согревайте.</a:t>
            </a:r>
            <a:br>
              <a:rPr sz="1800"/>
            </a:br>
            <a:r>
              <a:rPr b="0" lang="ru-RU" sz="1800" spc="-1" strike="noStrike">
                <a:solidFill>
                  <a:srgbClr val="0033cc"/>
                </a:solidFill>
                <a:latin typeface="Georgia"/>
              </a:rPr>
              <a:t>Берегите друг друга,</a:t>
            </a:r>
            <a:br>
              <a:rPr sz="1800"/>
            </a:br>
            <a:r>
              <a:rPr b="0" lang="ru-RU" sz="1800" spc="-1" strike="noStrike">
                <a:solidFill>
                  <a:srgbClr val="0033cc"/>
                </a:solidFill>
                <a:latin typeface="Georgia"/>
              </a:rPr>
              <a:t>Обижать не давайте. 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Georgia"/>
              </a:rPr>
              <a:t>                               </a:t>
            </a:r>
            <a:r>
              <a:rPr b="0" lang="ru-RU" sz="1800" spc="-1" strike="noStrike">
                <a:solidFill>
                  <a:srgbClr val="0033cc"/>
                </a:solidFill>
                <a:latin typeface="Georgia"/>
              </a:rPr>
              <a:t>(О. Высотска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вопрос" descr=""/>
          <p:cNvPicPr/>
          <p:nvPr/>
        </p:nvPicPr>
        <p:blipFill>
          <a:blip r:embed="rId1"/>
          <a:stretch/>
        </p:blipFill>
        <p:spPr>
          <a:xfrm>
            <a:off x="1951200" y="2530440"/>
            <a:ext cx="5065560" cy="2670120"/>
          </a:xfrm>
          <a:prstGeom prst="rect">
            <a:avLst/>
          </a:prstGeom>
          <a:ln w="0">
            <a:noFill/>
          </a:ln>
        </p:spPr>
      </p:pic>
      <p:sp>
        <p:nvSpPr>
          <p:cNvPr id="186" name="триггер"/>
          <p:cNvSpPr/>
          <p:nvPr/>
        </p:nvSpPr>
        <p:spPr>
          <a:xfrm>
            <a:off x="1987560" y="2565360"/>
            <a:ext cx="4989600" cy="2592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29" nodeType="clickEffect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4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4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Скругленный прямоугольник 2"/>
          <p:cNvGrpSpPr/>
          <p:nvPr/>
        </p:nvGrpSpPr>
        <p:grpSpPr>
          <a:xfrm>
            <a:off x="438120" y="244440"/>
            <a:ext cx="1409760" cy="1413000"/>
            <a:chOff x="438120" y="244440"/>
            <a:chExt cx="1409760" cy="1413000"/>
          </a:xfrm>
        </p:grpSpPr>
        <p:pic>
          <p:nvPicPr>
            <p:cNvPr id="188" name="Скругленный 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438120" y="244440"/>
              <a:ext cx="1409760" cy="14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563400" y="349200"/>
              <a:ext cx="115920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Скругленный прямоугольник 1"/>
          <p:cNvGrpSpPr/>
          <p:nvPr/>
        </p:nvGrpSpPr>
        <p:grpSpPr>
          <a:xfrm>
            <a:off x="244440" y="96840"/>
            <a:ext cx="1792440" cy="1987560"/>
            <a:chOff x="244440" y="96840"/>
            <a:chExt cx="1792440" cy="1987560"/>
          </a:xfrm>
        </p:grpSpPr>
        <p:pic>
          <p:nvPicPr>
            <p:cNvPr id="191" name="Скругленный прямоугольник 1" descr=""/>
            <p:cNvPicPr/>
            <p:nvPr/>
          </p:nvPicPr>
          <p:blipFill>
            <a:blip r:embed="rId2"/>
            <a:stretch/>
          </p:blipFill>
          <p:spPr>
            <a:xfrm>
              <a:off x="244440" y="96840"/>
              <a:ext cx="179244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563400" y="349200"/>
              <a:ext cx="115920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0" spc="-1" strike="noStrike">
                  <a:solidFill>
                    <a:srgbClr val="ffffff"/>
                  </a:solidFill>
                  <a:latin typeface="Bookman Old Style"/>
                </a:rPr>
                <a:t>А</a:t>
              </a:r>
              <a:endParaRPr b="0" lang="en-US" sz="7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Скругленный прямоугольник 3"/>
          <p:cNvSpPr/>
          <p:nvPr/>
        </p:nvSpPr>
        <p:spPr>
          <a:xfrm>
            <a:off x="468360" y="260280"/>
            <a:ext cx="1285920" cy="1285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Скругленный прямоугольник 4"/>
          <p:cNvGrpSpPr/>
          <p:nvPr/>
        </p:nvGrpSpPr>
        <p:grpSpPr>
          <a:xfrm>
            <a:off x="1798560" y="244440"/>
            <a:ext cx="1408320" cy="1413000"/>
            <a:chOff x="1798560" y="244440"/>
            <a:chExt cx="1408320" cy="1413000"/>
          </a:xfrm>
        </p:grpSpPr>
        <p:pic>
          <p:nvPicPr>
            <p:cNvPr id="195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1798560" y="244440"/>
              <a:ext cx="1408320" cy="14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1920960" y="349200"/>
              <a:ext cx="11588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Скругленный прямоугольник 5"/>
          <p:cNvGrpSpPr/>
          <p:nvPr/>
        </p:nvGrpSpPr>
        <p:grpSpPr>
          <a:xfrm>
            <a:off x="1579680" y="96840"/>
            <a:ext cx="1839960" cy="1987560"/>
            <a:chOff x="1579680" y="96840"/>
            <a:chExt cx="1839960" cy="1987560"/>
          </a:xfrm>
        </p:grpSpPr>
        <p:pic>
          <p:nvPicPr>
            <p:cNvPr id="198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1579680" y="96840"/>
              <a:ext cx="183996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1920960" y="349200"/>
              <a:ext cx="11588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0" spc="-1" strike="noStrike">
                  <a:solidFill>
                    <a:srgbClr val="ffffff"/>
                  </a:solidFill>
                  <a:latin typeface="Bookman Old Style"/>
                </a:rPr>
                <a:t>Б</a:t>
              </a:r>
              <a:endParaRPr b="0" lang="en-US" sz="7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Скругленный прямоугольник 6"/>
          <p:cNvSpPr/>
          <p:nvPr/>
        </p:nvSpPr>
        <p:spPr>
          <a:xfrm>
            <a:off x="1857240" y="285840"/>
            <a:ext cx="1285920" cy="1285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Скругленный прямоугольник 8"/>
          <p:cNvGrpSpPr/>
          <p:nvPr/>
        </p:nvGrpSpPr>
        <p:grpSpPr>
          <a:xfrm>
            <a:off x="3151080" y="244440"/>
            <a:ext cx="1408320" cy="1413000"/>
            <a:chOff x="3151080" y="244440"/>
            <a:chExt cx="1408320" cy="1413000"/>
          </a:xfrm>
        </p:grpSpPr>
        <p:pic>
          <p:nvPicPr>
            <p:cNvPr id="202" name="Скругленный прямоугольник 8" descr=""/>
            <p:cNvPicPr/>
            <p:nvPr/>
          </p:nvPicPr>
          <p:blipFill>
            <a:blip r:embed="rId5"/>
            <a:stretch/>
          </p:blipFill>
          <p:spPr>
            <a:xfrm>
              <a:off x="3151080" y="244440"/>
              <a:ext cx="1408320" cy="14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3278160" y="349200"/>
              <a:ext cx="11588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Скругленный прямоугольник 9"/>
          <p:cNvGrpSpPr/>
          <p:nvPr/>
        </p:nvGrpSpPr>
        <p:grpSpPr>
          <a:xfrm>
            <a:off x="2932200" y="96840"/>
            <a:ext cx="1847880" cy="1987560"/>
            <a:chOff x="2932200" y="96840"/>
            <a:chExt cx="1847880" cy="1987560"/>
          </a:xfrm>
        </p:grpSpPr>
        <p:pic>
          <p:nvPicPr>
            <p:cNvPr id="205" name="Скругленный прямоугольник 9" descr=""/>
            <p:cNvPicPr/>
            <p:nvPr/>
          </p:nvPicPr>
          <p:blipFill>
            <a:blip r:embed="rId6"/>
            <a:stretch/>
          </p:blipFill>
          <p:spPr>
            <a:xfrm>
              <a:off x="2932200" y="96840"/>
              <a:ext cx="184788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3278160" y="349200"/>
              <a:ext cx="11588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0" spc="-1" strike="noStrike">
                  <a:solidFill>
                    <a:srgbClr val="ffffff"/>
                  </a:solidFill>
                  <a:latin typeface="Bookman Old Style"/>
                </a:rPr>
                <a:t>В</a:t>
              </a:r>
              <a:endParaRPr b="0" lang="en-US" sz="7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Скругленный прямоугольник 10"/>
          <p:cNvSpPr/>
          <p:nvPr/>
        </p:nvSpPr>
        <p:spPr>
          <a:xfrm>
            <a:off x="3214800" y="285840"/>
            <a:ext cx="1285920" cy="1285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Скругленный прямоугольник 11"/>
          <p:cNvGrpSpPr/>
          <p:nvPr/>
        </p:nvGrpSpPr>
        <p:grpSpPr>
          <a:xfrm>
            <a:off x="4511520" y="244440"/>
            <a:ext cx="1408320" cy="1413000"/>
            <a:chOff x="4511520" y="244440"/>
            <a:chExt cx="1408320" cy="1413000"/>
          </a:xfrm>
        </p:grpSpPr>
        <p:pic>
          <p:nvPicPr>
            <p:cNvPr id="209" name="Скругленный прямоугольник 11" descr=""/>
            <p:cNvPicPr/>
            <p:nvPr/>
          </p:nvPicPr>
          <p:blipFill>
            <a:blip r:embed="rId7"/>
            <a:stretch/>
          </p:blipFill>
          <p:spPr>
            <a:xfrm>
              <a:off x="4511520" y="244440"/>
              <a:ext cx="1408320" cy="14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4635360" y="349200"/>
              <a:ext cx="11588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Скругленный прямоугольник 12"/>
          <p:cNvGrpSpPr/>
          <p:nvPr/>
        </p:nvGrpSpPr>
        <p:grpSpPr>
          <a:xfrm>
            <a:off x="4359240" y="96840"/>
            <a:ext cx="1706760" cy="1987560"/>
            <a:chOff x="4359240" y="96840"/>
            <a:chExt cx="1706760" cy="1987560"/>
          </a:xfrm>
        </p:grpSpPr>
        <p:pic>
          <p:nvPicPr>
            <p:cNvPr id="212" name="Скругленный прямоугольник 12" descr=""/>
            <p:cNvPicPr/>
            <p:nvPr/>
          </p:nvPicPr>
          <p:blipFill>
            <a:blip r:embed="rId8"/>
            <a:stretch/>
          </p:blipFill>
          <p:spPr>
            <a:xfrm>
              <a:off x="4359240" y="96840"/>
              <a:ext cx="170676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4635360" y="349200"/>
              <a:ext cx="11588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0" spc="-1" strike="noStrike">
                  <a:solidFill>
                    <a:srgbClr val="ffffff"/>
                  </a:solidFill>
                  <a:latin typeface="Bookman Old Style"/>
                </a:rPr>
                <a:t>Г</a:t>
              </a:r>
              <a:endParaRPr b="0" lang="en-US" sz="7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Скругленный прямоугольник 13"/>
          <p:cNvGrpSpPr/>
          <p:nvPr/>
        </p:nvGrpSpPr>
        <p:grpSpPr>
          <a:xfrm>
            <a:off x="5870520" y="244440"/>
            <a:ext cx="1408320" cy="1413000"/>
            <a:chOff x="5870520" y="244440"/>
            <a:chExt cx="1408320" cy="1413000"/>
          </a:xfrm>
        </p:grpSpPr>
        <p:pic>
          <p:nvPicPr>
            <p:cNvPr id="215" name="Скругленный прямоугольник 13" descr=""/>
            <p:cNvPicPr/>
            <p:nvPr/>
          </p:nvPicPr>
          <p:blipFill>
            <a:blip r:embed="rId9"/>
            <a:stretch/>
          </p:blipFill>
          <p:spPr>
            <a:xfrm>
              <a:off x="5870520" y="244440"/>
              <a:ext cx="1408320" cy="14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5992920" y="349200"/>
              <a:ext cx="11588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Скругленный прямоугольник 14"/>
          <p:cNvGrpSpPr/>
          <p:nvPr/>
        </p:nvGrpSpPr>
        <p:grpSpPr>
          <a:xfrm>
            <a:off x="5638680" y="96840"/>
            <a:ext cx="1859040" cy="1987560"/>
            <a:chOff x="5638680" y="96840"/>
            <a:chExt cx="1859040" cy="1987560"/>
          </a:xfrm>
        </p:grpSpPr>
        <p:pic>
          <p:nvPicPr>
            <p:cNvPr id="218" name="Скругленный прямоугольник 14" descr=""/>
            <p:cNvPicPr/>
            <p:nvPr/>
          </p:nvPicPr>
          <p:blipFill>
            <a:blip r:embed="rId10"/>
            <a:stretch/>
          </p:blipFill>
          <p:spPr>
            <a:xfrm>
              <a:off x="5638680" y="96840"/>
              <a:ext cx="185904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5992920" y="349200"/>
              <a:ext cx="11588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0" spc="-1" strike="noStrike">
                  <a:solidFill>
                    <a:srgbClr val="ffffff"/>
                  </a:solidFill>
                  <a:latin typeface="Bookman Old Style"/>
                </a:rPr>
                <a:t>Д</a:t>
              </a:r>
              <a:endParaRPr b="0" lang="en-US" sz="7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Скругленный прямоугольник 16"/>
          <p:cNvSpPr/>
          <p:nvPr/>
        </p:nvSpPr>
        <p:spPr>
          <a:xfrm>
            <a:off x="4572000" y="285840"/>
            <a:ext cx="1285920" cy="1285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Скругленный прямоугольник 17"/>
          <p:cNvSpPr/>
          <p:nvPr/>
        </p:nvSpPr>
        <p:spPr>
          <a:xfrm>
            <a:off x="5929200" y="285840"/>
            <a:ext cx="1285920" cy="1285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Скругленный прямоугольник 18"/>
          <p:cNvGrpSpPr/>
          <p:nvPr/>
        </p:nvGrpSpPr>
        <p:grpSpPr>
          <a:xfrm>
            <a:off x="7223040" y="244440"/>
            <a:ext cx="1408320" cy="1413000"/>
            <a:chOff x="7223040" y="244440"/>
            <a:chExt cx="1408320" cy="1413000"/>
          </a:xfrm>
        </p:grpSpPr>
        <p:pic>
          <p:nvPicPr>
            <p:cNvPr id="223" name="Скругленный прямоугольник 18" descr=""/>
            <p:cNvPicPr/>
            <p:nvPr/>
          </p:nvPicPr>
          <p:blipFill>
            <a:blip r:embed="rId11"/>
            <a:stretch/>
          </p:blipFill>
          <p:spPr>
            <a:xfrm>
              <a:off x="7223040" y="244440"/>
              <a:ext cx="1408320" cy="14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7350120" y="349200"/>
              <a:ext cx="11588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Скругленный прямоугольник 19"/>
          <p:cNvGrpSpPr/>
          <p:nvPr/>
        </p:nvGrpSpPr>
        <p:grpSpPr>
          <a:xfrm>
            <a:off x="7010280" y="96840"/>
            <a:ext cx="1828800" cy="1987560"/>
            <a:chOff x="7010280" y="96840"/>
            <a:chExt cx="1828800" cy="1987560"/>
          </a:xfrm>
        </p:grpSpPr>
        <p:pic>
          <p:nvPicPr>
            <p:cNvPr id="226" name="Скругленный прямоугольник 19" descr=""/>
            <p:cNvPicPr/>
            <p:nvPr/>
          </p:nvPicPr>
          <p:blipFill>
            <a:blip r:embed="rId12"/>
            <a:stretch/>
          </p:blipFill>
          <p:spPr>
            <a:xfrm>
              <a:off x="7010280" y="96840"/>
              <a:ext cx="182880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7350120" y="349200"/>
              <a:ext cx="11588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0" spc="-1" strike="noStrike">
                  <a:solidFill>
                    <a:srgbClr val="ffffff"/>
                  </a:solidFill>
                  <a:latin typeface="Bookman Old Style"/>
                </a:rPr>
                <a:t>Е</a:t>
              </a:r>
              <a:endParaRPr b="0" lang="en-US" sz="7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Скругленный прямоугольник 20"/>
          <p:cNvSpPr/>
          <p:nvPr/>
        </p:nvSpPr>
        <p:spPr>
          <a:xfrm>
            <a:off x="7286760" y="285840"/>
            <a:ext cx="1285920" cy="1285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Скругленный прямоугольник 27"/>
          <p:cNvGrpSpPr/>
          <p:nvPr/>
        </p:nvGrpSpPr>
        <p:grpSpPr>
          <a:xfrm>
            <a:off x="438120" y="2176560"/>
            <a:ext cx="1409760" cy="1407960"/>
            <a:chOff x="438120" y="2176560"/>
            <a:chExt cx="1409760" cy="1407960"/>
          </a:xfrm>
        </p:grpSpPr>
        <p:pic>
          <p:nvPicPr>
            <p:cNvPr id="230" name="Скругленный прямоугольник 27" descr=""/>
            <p:cNvPicPr/>
            <p:nvPr/>
          </p:nvPicPr>
          <p:blipFill>
            <a:blip r:embed="rId13"/>
            <a:stretch/>
          </p:blipFill>
          <p:spPr>
            <a:xfrm>
              <a:off x="438120" y="2176560"/>
              <a:ext cx="140976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561960" y="2278080"/>
              <a:ext cx="11606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Скругленный прямоугольник 28"/>
          <p:cNvGrpSpPr/>
          <p:nvPr/>
        </p:nvGrpSpPr>
        <p:grpSpPr>
          <a:xfrm>
            <a:off x="225360" y="2023920"/>
            <a:ext cx="1828800" cy="1987560"/>
            <a:chOff x="225360" y="2023920"/>
            <a:chExt cx="1828800" cy="1987560"/>
          </a:xfrm>
        </p:grpSpPr>
        <p:pic>
          <p:nvPicPr>
            <p:cNvPr id="233" name="Скругленный прямоугольник 28" descr=""/>
            <p:cNvPicPr/>
            <p:nvPr/>
          </p:nvPicPr>
          <p:blipFill>
            <a:blip r:embed="rId14"/>
            <a:stretch/>
          </p:blipFill>
          <p:spPr>
            <a:xfrm>
              <a:off x="225360" y="2023920"/>
              <a:ext cx="182880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563400" y="2278080"/>
              <a:ext cx="115920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0" spc="-1" strike="noStrike">
                  <a:solidFill>
                    <a:srgbClr val="ffffff"/>
                  </a:solidFill>
                  <a:latin typeface="Bookman Old Style"/>
                </a:rPr>
                <a:t>Ё</a:t>
              </a:r>
              <a:endParaRPr b="0" lang="en-US" sz="7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Скругленный прямоугольник 29"/>
          <p:cNvSpPr/>
          <p:nvPr/>
        </p:nvSpPr>
        <p:spPr>
          <a:xfrm>
            <a:off x="500040" y="2214720"/>
            <a:ext cx="1285920" cy="1285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Скругленный прямоугольник 30"/>
          <p:cNvGrpSpPr/>
          <p:nvPr/>
        </p:nvGrpSpPr>
        <p:grpSpPr>
          <a:xfrm>
            <a:off x="1798560" y="2176560"/>
            <a:ext cx="1408320" cy="1407960"/>
            <a:chOff x="1798560" y="2176560"/>
            <a:chExt cx="1408320" cy="1407960"/>
          </a:xfrm>
        </p:grpSpPr>
        <p:pic>
          <p:nvPicPr>
            <p:cNvPr id="237" name="Скругленный прямоугольник 30" descr=""/>
            <p:cNvPicPr/>
            <p:nvPr/>
          </p:nvPicPr>
          <p:blipFill>
            <a:blip r:embed="rId15"/>
            <a:stretch/>
          </p:blipFill>
          <p:spPr>
            <a:xfrm>
              <a:off x="1798560" y="2176560"/>
              <a:ext cx="140832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1920960" y="2278080"/>
              <a:ext cx="11588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Скругленный прямоугольник 31"/>
          <p:cNvGrpSpPr/>
          <p:nvPr/>
        </p:nvGrpSpPr>
        <p:grpSpPr>
          <a:xfrm>
            <a:off x="1450800" y="2023920"/>
            <a:ext cx="2097360" cy="1987560"/>
            <a:chOff x="1450800" y="2023920"/>
            <a:chExt cx="2097360" cy="1987560"/>
          </a:xfrm>
        </p:grpSpPr>
        <p:pic>
          <p:nvPicPr>
            <p:cNvPr id="240" name="Скругленный прямоугольник 31" descr=""/>
            <p:cNvPicPr/>
            <p:nvPr/>
          </p:nvPicPr>
          <p:blipFill>
            <a:blip r:embed="rId16"/>
            <a:stretch/>
          </p:blipFill>
          <p:spPr>
            <a:xfrm>
              <a:off x="1450800" y="2023920"/>
              <a:ext cx="209736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1920960" y="2278080"/>
              <a:ext cx="11588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0" spc="-1" strike="noStrike">
                  <a:solidFill>
                    <a:srgbClr val="ffffff"/>
                  </a:solidFill>
                  <a:latin typeface="Bookman Old Style"/>
                </a:rPr>
                <a:t>Ж</a:t>
              </a:r>
              <a:endParaRPr b="0" lang="en-US" sz="7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Скругленный прямоугольник 32"/>
          <p:cNvSpPr/>
          <p:nvPr/>
        </p:nvSpPr>
        <p:spPr>
          <a:xfrm>
            <a:off x="1857240" y="2214720"/>
            <a:ext cx="1285920" cy="1285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Скругленный прямоугольник 33"/>
          <p:cNvGrpSpPr/>
          <p:nvPr/>
        </p:nvGrpSpPr>
        <p:grpSpPr>
          <a:xfrm>
            <a:off x="3151080" y="2176560"/>
            <a:ext cx="1408320" cy="1407960"/>
            <a:chOff x="3151080" y="2176560"/>
            <a:chExt cx="1408320" cy="1407960"/>
          </a:xfrm>
        </p:grpSpPr>
        <p:pic>
          <p:nvPicPr>
            <p:cNvPr id="244" name="Скругленный прямоугольник 33" descr=""/>
            <p:cNvPicPr/>
            <p:nvPr/>
          </p:nvPicPr>
          <p:blipFill>
            <a:blip r:embed="rId17"/>
            <a:stretch/>
          </p:blipFill>
          <p:spPr>
            <a:xfrm>
              <a:off x="3151080" y="2176560"/>
              <a:ext cx="140832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3278160" y="2278080"/>
              <a:ext cx="11588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Скругленный прямоугольник 34"/>
          <p:cNvGrpSpPr/>
          <p:nvPr/>
        </p:nvGrpSpPr>
        <p:grpSpPr>
          <a:xfrm>
            <a:off x="2968560" y="2023920"/>
            <a:ext cx="1774800" cy="1987560"/>
            <a:chOff x="2968560" y="2023920"/>
            <a:chExt cx="1774800" cy="1987560"/>
          </a:xfrm>
        </p:grpSpPr>
        <p:pic>
          <p:nvPicPr>
            <p:cNvPr id="247" name="Скругленный прямоугольник 34" descr=""/>
            <p:cNvPicPr/>
            <p:nvPr/>
          </p:nvPicPr>
          <p:blipFill>
            <a:blip r:embed="rId18"/>
            <a:stretch/>
          </p:blipFill>
          <p:spPr>
            <a:xfrm>
              <a:off x="2968560" y="2023920"/>
              <a:ext cx="177480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3278160" y="2278080"/>
              <a:ext cx="11588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0" spc="-1" strike="noStrike">
                  <a:solidFill>
                    <a:srgbClr val="ffffff"/>
                  </a:solidFill>
                  <a:latin typeface="Bookman Old Style"/>
                </a:rPr>
                <a:t>З</a:t>
              </a:r>
              <a:endParaRPr b="0" lang="en-US" sz="7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Скругленный прямоугольник 35"/>
          <p:cNvSpPr/>
          <p:nvPr/>
        </p:nvSpPr>
        <p:spPr>
          <a:xfrm>
            <a:off x="3214800" y="2214720"/>
            <a:ext cx="1285920" cy="1285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Скругленный прямоугольник 36"/>
          <p:cNvGrpSpPr/>
          <p:nvPr/>
        </p:nvGrpSpPr>
        <p:grpSpPr>
          <a:xfrm>
            <a:off x="4511520" y="2176560"/>
            <a:ext cx="1408320" cy="1407960"/>
            <a:chOff x="4511520" y="2176560"/>
            <a:chExt cx="1408320" cy="1407960"/>
          </a:xfrm>
        </p:grpSpPr>
        <p:pic>
          <p:nvPicPr>
            <p:cNvPr id="251" name="Скругленный прямоугольник 36" descr=""/>
            <p:cNvPicPr/>
            <p:nvPr/>
          </p:nvPicPr>
          <p:blipFill>
            <a:blip r:embed="rId19"/>
            <a:stretch/>
          </p:blipFill>
          <p:spPr>
            <a:xfrm>
              <a:off x="4511520" y="2176560"/>
              <a:ext cx="140832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4635360" y="2278080"/>
              <a:ext cx="11588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Скругленный прямоугольник 37"/>
          <p:cNvGrpSpPr/>
          <p:nvPr/>
        </p:nvGrpSpPr>
        <p:grpSpPr>
          <a:xfrm>
            <a:off x="4260960" y="2023920"/>
            <a:ext cx="1901880" cy="1987560"/>
            <a:chOff x="4260960" y="2023920"/>
            <a:chExt cx="1901880" cy="1987560"/>
          </a:xfrm>
        </p:grpSpPr>
        <p:pic>
          <p:nvPicPr>
            <p:cNvPr id="254" name="Скругленный прямоугольник 37" descr=""/>
            <p:cNvPicPr/>
            <p:nvPr/>
          </p:nvPicPr>
          <p:blipFill>
            <a:blip r:embed="rId20"/>
            <a:stretch/>
          </p:blipFill>
          <p:spPr>
            <a:xfrm>
              <a:off x="4260960" y="2023920"/>
              <a:ext cx="190188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4635360" y="2278080"/>
              <a:ext cx="11588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0" spc="-1" strike="noStrike">
                  <a:solidFill>
                    <a:srgbClr val="ffffff"/>
                  </a:solidFill>
                  <a:latin typeface="Bookman Old Style"/>
                </a:rPr>
                <a:t>И</a:t>
              </a:r>
              <a:endParaRPr b="0" lang="en-US" sz="7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Скругленный прямоугольник 38"/>
          <p:cNvSpPr/>
          <p:nvPr/>
        </p:nvSpPr>
        <p:spPr>
          <a:xfrm>
            <a:off x="4572000" y="2214720"/>
            <a:ext cx="1285920" cy="1285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Скругленный прямоугольник 39"/>
          <p:cNvGrpSpPr/>
          <p:nvPr/>
        </p:nvGrpSpPr>
        <p:grpSpPr>
          <a:xfrm>
            <a:off x="5870520" y="2176560"/>
            <a:ext cx="1401840" cy="1407960"/>
            <a:chOff x="5870520" y="2176560"/>
            <a:chExt cx="1401840" cy="1407960"/>
          </a:xfrm>
        </p:grpSpPr>
        <p:pic>
          <p:nvPicPr>
            <p:cNvPr id="258" name="Скругленный прямоугольник 39" descr=""/>
            <p:cNvPicPr/>
            <p:nvPr/>
          </p:nvPicPr>
          <p:blipFill>
            <a:blip r:embed="rId21"/>
            <a:stretch/>
          </p:blipFill>
          <p:spPr>
            <a:xfrm>
              <a:off x="5870520" y="2176560"/>
              <a:ext cx="140184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5992920" y="2278080"/>
              <a:ext cx="11588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Скругленный прямоугольник 40"/>
          <p:cNvGrpSpPr/>
          <p:nvPr/>
        </p:nvGrpSpPr>
        <p:grpSpPr>
          <a:xfrm>
            <a:off x="5657760" y="2023920"/>
            <a:ext cx="1822680" cy="1987560"/>
            <a:chOff x="5657760" y="2023920"/>
            <a:chExt cx="1822680" cy="1987560"/>
          </a:xfrm>
        </p:grpSpPr>
        <p:pic>
          <p:nvPicPr>
            <p:cNvPr id="261" name="Скругленный прямоугольник 40" descr=""/>
            <p:cNvPicPr/>
            <p:nvPr/>
          </p:nvPicPr>
          <p:blipFill>
            <a:blip r:embed="rId22"/>
            <a:stretch/>
          </p:blipFill>
          <p:spPr>
            <a:xfrm>
              <a:off x="5657760" y="2023920"/>
              <a:ext cx="182268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5992920" y="2278080"/>
              <a:ext cx="11588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0" spc="-1" strike="noStrike">
                  <a:solidFill>
                    <a:srgbClr val="ffffff"/>
                  </a:solidFill>
                  <a:latin typeface="Bookman Old Style"/>
                </a:rPr>
                <a:t>К</a:t>
              </a:r>
              <a:endParaRPr b="0" lang="en-US" sz="7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Скругленный прямоугольник 41"/>
          <p:cNvSpPr/>
          <p:nvPr/>
        </p:nvSpPr>
        <p:spPr>
          <a:xfrm>
            <a:off x="5929200" y="2214720"/>
            <a:ext cx="1285920" cy="1285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Скругленный прямоугольник 42"/>
          <p:cNvGrpSpPr/>
          <p:nvPr/>
        </p:nvGrpSpPr>
        <p:grpSpPr>
          <a:xfrm>
            <a:off x="7223040" y="2176560"/>
            <a:ext cx="1408320" cy="1407960"/>
            <a:chOff x="7223040" y="2176560"/>
            <a:chExt cx="1408320" cy="1407960"/>
          </a:xfrm>
        </p:grpSpPr>
        <p:pic>
          <p:nvPicPr>
            <p:cNvPr id="265" name="Скругленный прямоугольник 42" descr=""/>
            <p:cNvPicPr/>
            <p:nvPr/>
          </p:nvPicPr>
          <p:blipFill>
            <a:blip r:embed="rId23"/>
            <a:stretch/>
          </p:blipFill>
          <p:spPr>
            <a:xfrm>
              <a:off x="7223040" y="2176560"/>
              <a:ext cx="140832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7348680" y="2278080"/>
              <a:ext cx="11602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Скругленный прямоугольник 43"/>
          <p:cNvGrpSpPr/>
          <p:nvPr/>
        </p:nvGrpSpPr>
        <p:grpSpPr>
          <a:xfrm>
            <a:off x="7029360" y="2023920"/>
            <a:ext cx="1790640" cy="1987560"/>
            <a:chOff x="7029360" y="2023920"/>
            <a:chExt cx="1790640" cy="1987560"/>
          </a:xfrm>
        </p:grpSpPr>
        <p:pic>
          <p:nvPicPr>
            <p:cNvPr id="268" name="Скругленный прямоугольник 43" descr=""/>
            <p:cNvPicPr/>
            <p:nvPr/>
          </p:nvPicPr>
          <p:blipFill>
            <a:blip r:embed="rId24"/>
            <a:stretch/>
          </p:blipFill>
          <p:spPr>
            <a:xfrm>
              <a:off x="7029360" y="2023920"/>
              <a:ext cx="179064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7350120" y="2278080"/>
              <a:ext cx="11588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0" spc="-1" strike="noStrike">
                  <a:solidFill>
                    <a:srgbClr val="ffffff"/>
                  </a:solidFill>
                  <a:latin typeface="Bookman Old Style"/>
                </a:rPr>
                <a:t>Л</a:t>
              </a:r>
              <a:endParaRPr b="0" lang="en-US" sz="7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Скругленный прямоугольник 44"/>
          <p:cNvSpPr/>
          <p:nvPr/>
        </p:nvSpPr>
        <p:spPr>
          <a:xfrm>
            <a:off x="7286760" y="2214720"/>
            <a:ext cx="1285920" cy="1285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45"/>
          <p:cNvSpPr/>
          <p:nvPr/>
        </p:nvSpPr>
        <p:spPr>
          <a:xfrm>
            <a:off x="1214280" y="4500720"/>
            <a:ext cx="731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Фрагмент анимированной азбу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оугольник 46">
            <a:hlinkClick r:id="" action="ppaction://hlinkshowjump?jump=endshow"/>
          </p:cNvPr>
          <p:cNvSpPr/>
          <p:nvPr/>
        </p:nvSpPr>
        <p:spPr>
          <a:xfrm>
            <a:off x="7164360" y="6000840"/>
            <a:ext cx="1622520" cy="571320"/>
          </a:xfrm>
          <a:prstGeom prst="rect">
            <a:avLst/>
          </a:prstGeom>
          <a:solidFill>
            <a:srgbClr val="eeece1"/>
          </a:solidFill>
          <a:ln w="507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Georgia"/>
              </a:rPr>
              <a:t>Завершить пок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Стрелка вправо 1">
            <a:hlinkClick r:id="" action="ppaction://hlinkshowjump?jump=previousslide"/>
          </p:cNvPr>
          <p:cNvSpPr/>
          <p:nvPr/>
        </p:nvSpPr>
        <p:spPr>
          <a:xfrm rot="10800000">
            <a:off x="6372360" y="6237000"/>
            <a:ext cx="576000" cy="204840"/>
          </a:xfrm>
          <a:prstGeom prst="rightArrow">
            <a:avLst>
              <a:gd name="adj1" fmla="val 50000"/>
              <a:gd name="adj2" fmla="val 49951"/>
            </a:avLst>
          </a:prstGeom>
          <a:solidFill>
            <a:srgbClr val="dce6f2"/>
          </a:solidFill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55" nodeType="clickEffect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76" nodeType="clickEffect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97" nodeType="clickEffect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118" nodeType="clickEffect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139" nodeType="clickEffect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160" nodeType="clickEffect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181" nodeType="clickEffect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4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202" nodeType="clickEffect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5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5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223" nodeType="clickEffect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6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6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3" restart="whenNotActive" nodeType="interactiveSeq" fill="hold">
                <p:stCondLst>
                  <p:cond evt="onClick">
                    <p:tgtEl>
                      <p:spTgt spid="256"/>
                    </p:tgtEl>
                  </p:cond>
                </p:stCondLst>
                <p:childTnLst>
                  <p:par>
                    <p:cTn id="244" nodeType="clickEffect" fill="hold">
                      <p:stCondLst>
                        <p:cond evt="onClick">
                          <p:tgtEl>
                            <p:spTgt spid="256"/>
                          </p:tgtEl>
                        </p:cond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7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evt="onClick">
                          <p:tgtEl>
                            <p:spTgt spid="256"/>
                          </p:tgtEl>
                        </p:cond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4" restart="whenNotActive" nodeType="interactiveSeq" fill="hold">
                <p:stCondLst>
                  <p:cond evt="onClick">
                    <p:tgtEl>
                      <p:spTgt spid="263"/>
                    </p:tgtEl>
                  </p:cond>
                </p:stCondLst>
                <p:childTnLst>
                  <p:par>
                    <p:cTn id="265" nodeType="clickEffect" fill="hold">
                      <p:stCondLst>
                        <p:cond evt="onClick">
                          <p:tgtEl>
                            <p:spTgt spid="263"/>
                          </p:tgtEl>
                        </p:cond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8" dur="5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evt="onClick">
                          <p:tgtEl>
                            <p:spTgt spid="263"/>
                          </p:tgtEl>
                        </p:cond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8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5" restart="whenNotActive" nodeType="interactiveSeq" fill="hold">
                <p:stCondLst>
                  <p:cond evt="onClick">
                    <p:tgtEl>
                      <p:spTgt spid="270"/>
                    </p:tgtEl>
                  </p:cond>
                </p:stCondLst>
                <p:childTnLst>
                  <p:par>
                    <p:cTn id="286" nodeType="clickEffect" fill="hold">
                      <p:stCondLst>
                        <p:cond evt="onClick">
                          <p:tgtEl>
                            <p:spTgt spid="270"/>
                          </p:tgtEl>
                        </p:cond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9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evt="onClick">
                          <p:tgtEl>
                            <p:spTgt spid="270"/>
                          </p:tgtEl>
                        </p:cond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9" dur="5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TextBox 1" descr=""/>
          <p:cNvPicPr/>
          <p:nvPr/>
        </p:nvPicPr>
        <p:blipFill>
          <a:blip r:embed="rId1"/>
          <a:stretch/>
        </p:blipFill>
        <p:spPr>
          <a:xfrm>
            <a:off x="835200" y="212760"/>
            <a:ext cx="7589520" cy="1305000"/>
          </a:xfrm>
          <a:prstGeom prst="rect">
            <a:avLst/>
          </a:prstGeom>
          <a:ln w="0">
            <a:noFill/>
          </a:ln>
        </p:spPr>
      </p:pic>
      <p:sp>
        <p:nvSpPr>
          <p:cNvPr id="275" name="Стрелка вправо 8">
            <a:hlinkClick r:id="" action="ppaction://hlinkshowjump?jump=previousslide"/>
          </p:cNvPr>
          <p:cNvSpPr/>
          <p:nvPr/>
        </p:nvSpPr>
        <p:spPr>
          <a:xfrm rot="10800000">
            <a:off x="5315040" y="6589440"/>
            <a:ext cx="576000" cy="204840"/>
          </a:xfrm>
          <a:prstGeom prst="rightArrow">
            <a:avLst>
              <a:gd name="adj1" fmla="val 50000"/>
              <a:gd name="adj2" fmla="val 49951"/>
            </a:avLst>
          </a:prstGeom>
          <a:solidFill>
            <a:srgbClr val="dce6f2"/>
          </a:solidFill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Управляющая кнопка: домой 9">
            <a:hlinkClick r:id="" action="ppaction://hlinkshowjump?jump=firstslide"/>
          </p:cNvPr>
          <p:cNvSpPr/>
          <p:nvPr/>
        </p:nvSpPr>
        <p:spPr>
          <a:xfrm>
            <a:off x="6824520" y="6362640"/>
            <a:ext cx="347760" cy="432000"/>
          </a:xfrm>
          <a:custGeom>
            <a:avLst/>
            <a:gdLst>
              <a:gd name="textAreaLeft" fmla="*/ 22320 w 347760"/>
              <a:gd name="textAreaRight" fmla="*/ 325440 w 347760"/>
              <a:gd name="textAreaTop" fmla="*/ 22320 h 432000"/>
              <a:gd name="textAreaBottom" fmla="*/ 409680 h 432000"/>
            </a:gdLst>
            <a:ahLst/>
            <a:rect l="textAreaLeft" t="textAreaTop" r="textAreaRight" b="textAreaBottom"/>
            <a:pathLst>
              <a:path w="21600" h="26827">
                <a:moveTo>
                  <a:pt x="0" y="0"/>
                </a:moveTo>
                <a:lnTo>
                  <a:pt x="21600" y="0"/>
                </a:lnTo>
                <a:lnTo>
                  <a:pt x="21600" y="26827"/>
                </a:lnTo>
                <a:lnTo>
                  <a:pt x="0" y="26827"/>
                </a:lnTo>
                <a:close/>
              </a:path>
              <a:path fill="lightenLess" w="21600" h="268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827">
                <a:moveTo>
                  <a:pt x="21600" y="0"/>
                </a:moveTo>
                <a:lnTo>
                  <a:pt x="21600" y="26827"/>
                </a:lnTo>
                <a:lnTo>
                  <a:pt x="20200" y="25427"/>
                </a:lnTo>
                <a:lnTo>
                  <a:pt x="20200" y="1400"/>
                </a:lnTo>
                <a:close/>
              </a:path>
              <a:path fill="darkenLess" w="21600" h="26827">
                <a:moveTo>
                  <a:pt x="21600" y="26827"/>
                </a:moveTo>
                <a:lnTo>
                  <a:pt x="0" y="26827"/>
                </a:lnTo>
                <a:lnTo>
                  <a:pt x="1400" y="25427"/>
                </a:lnTo>
                <a:lnTo>
                  <a:pt x="20200" y="25427"/>
                </a:lnTo>
                <a:close/>
              </a:path>
              <a:path fill="lighten" w="21600" h="26827">
                <a:moveTo>
                  <a:pt x="0" y="268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427"/>
                </a:lnTo>
                <a:close/>
              </a:path>
              <a:path fill="darken" w="21600" h="26827">
                <a:moveTo>
                  <a:pt x="10800" y="6450"/>
                </a:moveTo>
                <a:lnTo>
                  <a:pt x="13376" y="9062"/>
                </a:lnTo>
                <a:lnTo>
                  <a:pt x="13376" y="7321"/>
                </a:lnTo>
                <a:lnTo>
                  <a:pt x="15152" y="7321"/>
                </a:lnTo>
                <a:lnTo>
                  <a:pt x="15152" y="10837"/>
                </a:lnTo>
                <a:lnTo>
                  <a:pt x="17763" y="13413"/>
                </a:lnTo>
                <a:lnTo>
                  <a:pt x="16109" y="13413"/>
                </a:lnTo>
                <a:lnTo>
                  <a:pt x="16109" y="20603"/>
                </a:lnTo>
                <a:lnTo>
                  <a:pt x="5491" y="20603"/>
                </a:lnTo>
                <a:lnTo>
                  <a:pt x="5491" y="13413"/>
                </a:lnTo>
                <a:lnTo>
                  <a:pt x="3837" y="13413"/>
                </a:lnTo>
                <a:close/>
              </a:path>
              <a:path fill="darkenLess" w="21600" h="26827">
                <a:moveTo>
                  <a:pt x="13376" y="9062"/>
                </a:moveTo>
                <a:lnTo>
                  <a:pt x="13376" y="7321"/>
                </a:lnTo>
                <a:lnTo>
                  <a:pt x="15152" y="7321"/>
                </a:lnTo>
                <a:lnTo>
                  <a:pt x="15152" y="10837"/>
                </a:lnTo>
                <a:close/>
              </a:path>
              <a:path fill="darkenLess" w="21600" h="26827">
                <a:moveTo>
                  <a:pt x="9877" y="16912"/>
                </a:moveTo>
                <a:lnTo>
                  <a:pt x="11723" y="16912"/>
                </a:lnTo>
                <a:lnTo>
                  <a:pt x="11723" y="20603"/>
                </a:lnTo>
                <a:lnTo>
                  <a:pt x="16109" y="20603"/>
                </a:lnTo>
                <a:lnTo>
                  <a:pt x="16109" y="13413"/>
                </a:lnTo>
                <a:lnTo>
                  <a:pt x="5491" y="13413"/>
                </a:lnTo>
                <a:lnTo>
                  <a:pt x="5491" y="20603"/>
                </a:lnTo>
                <a:lnTo>
                  <a:pt x="9877" y="20603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2"/>
          <p:cNvSpPr/>
          <p:nvPr/>
        </p:nvSpPr>
        <p:spPr>
          <a:xfrm>
            <a:off x="539640" y="1557360"/>
            <a:ext cx="806472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0070c0"/>
                </a:solidFill>
                <a:uFillTx/>
                <a:latin typeface="Georgia"/>
              </a:rPr>
              <a:t>http</a:t>
            </a:r>
            <a:r>
              <a:rPr b="0" lang="ru-RU" sz="1900" spc="-1" strike="noStrike" u="sng">
                <a:solidFill>
                  <a:srgbClr val="0070c0"/>
                </a:solidFill>
                <a:uFillTx/>
                <a:latin typeface="Georgia"/>
              </a:rPr>
              <a:t>://</a:t>
            </a:r>
            <a:r>
              <a:rPr b="0" lang="ru-RU" sz="1900" spc="-1" strike="noStrike" u="sng">
                <a:solidFill>
                  <a:srgbClr val="0070c0"/>
                </a:solidFill>
                <a:uFillTx/>
                <a:latin typeface="Georgia"/>
                <a:hlinkClick r:id="rId2"/>
              </a:rPr>
              <a:t>literatura5.narod.ru/</a:t>
            </a:r>
            <a:r>
              <a:rPr b="0" lang="ru-RU" sz="1900" spc="-1" strike="noStrike" u="sng">
                <a:solidFill>
                  <a:srgbClr val="0070c0"/>
                </a:solidFill>
                <a:uFillTx/>
                <a:latin typeface="Georgia"/>
                <a:hlinkClick r:id="rId3"/>
              </a:rPr>
              <a:t>teory_rech_tabl.htm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70c0"/>
                </a:solidFill>
                <a:latin typeface="Georgia"/>
              </a:rPr>
              <a:t>http://xn--80aff1fya.xn--p1ai/news/b8/2012-04-28-108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70c0"/>
                </a:solidFill>
                <a:latin typeface="Georgia"/>
              </a:rPr>
              <a:t>http://russkiy-na-5.ru/articles/999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0000"/>
                </a:solidFill>
                <a:latin typeface="Georgia"/>
              </a:rPr>
              <a:t>Аствацатуров Г.О. Технологический прием «Анимированная сорбонка»</a:t>
            </a:r>
            <a:r>
              <a:rPr b="1" lang="ru-RU" sz="19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900" spc="-1" strike="noStrike">
                <a:solidFill>
                  <a:srgbClr val="ff0000"/>
                </a:solidFill>
                <a:latin typeface="Georgia"/>
              </a:rPr>
              <a:t>(фрагмент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70c0"/>
                </a:solidFill>
                <a:latin typeface="Georgia"/>
              </a:rPr>
              <a:t>http://www.it-n.ru/communities.aspx?cat_no=13748&amp;d_no=222265&amp;ext=Attachment.aspx?Id=9700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0000"/>
                </a:solidFill>
                <a:latin typeface="Georgia"/>
              </a:rPr>
              <a:t>Шамарина Т.Н. Интерактивный прием "Анимированная сорбонка" в PowerPoint. Подробная инструкция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70c0"/>
                </a:solidFill>
                <a:latin typeface="Georgia"/>
              </a:rPr>
              <a:t>http://pedsovet.su/powerpoint/5677_kak_sdelat_animirovannuyu_sorbonku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0000"/>
                </a:solidFill>
                <a:latin typeface="Georgia"/>
              </a:rPr>
              <a:t>фон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70c0"/>
                </a:solidFill>
                <a:latin typeface="Georgia"/>
              </a:rPr>
              <a:t>http://www.atribytikavityaz.ru/pages/imgs/5631bcfecf778.jp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Стрелка вправо 7">
            <a:hlinkClick r:id="" action="ppaction://hlinkshowjump?jump=nextslide"/>
          </p:cNvPr>
          <p:cNvSpPr/>
          <p:nvPr/>
        </p:nvSpPr>
        <p:spPr>
          <a:xfrm>
            <a:off x="8018640" y="6589800"/>
            <a:ext cx="576000" cy="204840"/>
          </a:xfrm>
          <a:prstGeom prst="rightArrow">
            <a:avLst>
              <a:gd name="adj1" fmla="val 50000"/>
              <a:gd name="adj2" fmla="val 49964"/>
            </a:avLst>
          </a:prstGeom>
          <a:solidFill>
            <a:srgbClr val="dce6f2"/>
          </a:solidFill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Стрелка вправо 8">
            <a:hlinkClick r:id="" action="ppaction://hlinkshowjump?jump=previousslide"/>
          </p:cNvPr>
          <p:cNvSpPr/>
          <p:nvPr/>
        </p:nvSpPr>
        <p:spPr>
          <a:xfrm rot="10800000">
            <a:off x="5315040" y="6589440"/>
            <a:ext cx="576000" cy="204840"/>
          </a:xfrm>
          <a:prstGeom prst="rightArrow">
            <a:avLst>
              <a:gd name="adj1" fmla="val 50000"/>
              <a:gd name="adj2" fmla="val 49951"/>
            </a:avLst>
          </a:prstGeom>
          <a:solidFill>
            <a:srgbClr val="dce6f2"/>
          </a:solidFill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Управляющая кнопка: домой 9">
            <a:hlinkClick r:id="" action="ppaction://hlinkshowjump?jump=firstslide"/>
          </p:cNvPr>
          <p:cNvSpPr/>
          <p:nvPr/>
        </p:nvSpPr>
        <p:spPr>
          <a:xfrm>
            <a:off x="6824520" y="6362640"/>
            <a:ext cx="347760" cy="432000"/>
          </a:xfrm>
          <a:custGeom>
            <a:avLst/>
            <a:gdLst>
              <a:gd name="textAreaLeft" fmla="*/ 22320 w 347760"/>
              <a:gd name="textAreaRight" fmla="*/ 325440 w 347760"/>
              <a:gd name="textAreaTop" fmla="*/ 22320 h 432000"/>
              <a:gd name="textAreaBottom" fmla="*/ 409680 h 432000"/>
            </a:gdLst>
            <a:ahLst/>
            <a:rect l="textAreaLeft" t="textAreaTop" r="textAreaRight" b="textAreaBottom"/>
            <a:pathLst>
              <a:path w="21600" h="26827">
                <a:moveTo>
                  <a:pt x="0" y="0"/>
                </a:moveTo>
                <a:lnTo>
                  <a:pt x="21600" y="0"/>
                </a:lnTo>
                <a:lnTo>
                  <a:pt x="21600" y="26827"/>
                </a:lnTo>
                <a:lnTo>
                  <a:pt x="0" y="26827"/>
                </a:lnTo>
                <a:close/>
              </a:path>
              <a:path fill="lightenLess" w="21600" h="268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827">
                <a:moveTo>
                  <a:pt x="21600" y="0"/>
                </a:moveTo>
                <a:lnTo>
                  <a:pt x="21600" y="26827"/>
                </a:lnTo>
                <a:lnTo>
                  <a:pt x="20200" y="25427"/>
                </a:lnTo>
                <a:lnTo>
                  <a:pt x="20200" y="1400"/>
                </a:lnTo>
                <a:close/>
              </a:path>
              <a:path fill="darkenLess" w="21600" h="26827">
                <a:moveTo>
                  <a:pt x="21600" y="26827"/>
                </a:moveTo>
                <a:lnTo>
                  <a:pt x="0" y="26827"/>
                </a:lnTo>
                <a:lnTo>
                  <a:pt x="1400" y="25427"/>
                </a:lnTo>
                <a:lnTo>
                  <a:pt x="20200" y="25427"/>
                </a:lnTo>
                <a:close/>
              </a:path>
              <a:path fill="lighten" w="21600" h="26827">
                <a:moveTo>
                  <a:pt x="0" y="268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427"/>
                </a:lnTo>
                <a:close/>
              </a:path>
              <a:path fill="darken" w="21600" h="26827">
                <a:moveTo>
                  <a:pt x="10800" y="6450"/>
                </a:moveTo>
                <a:lnTo>
                  <a:pt x="13376" y="9062"/>
                </a:lnTo>
                <a:lnTo>
                  <a:pt x="13376" y="7321"/>
                </a:lnTo>
                <a:lnTo>
                  <a:pt x="15152" y="7321"/>
                </a:lnTo>
                <a:lnTo>
                  <a:pt x="15152" y="10837"/>
                </a:lnTo>
                <a:lnTo>
                  <a:pt x="17763" y="13413"/>
                </a:lnTo>
                <a:lnTo>
                  <a:pt x="16109" y="13413"/>
                </a:lnTo>
                <a:lnTo>
                  <a:pt x="16109" y="20603"/>
                </a:lnTo>
                <a:lnTo>
                  <a:pt x="5491" y="20603"/>
                </a:lnTo>
                <a:lnTo>
                  <a:pt x="5491" y="13413"/>
                </a:lnTo>
                <a:lnTo>
                  <a:pt x="3837" y="13413"/>
                </a:lnTo>
                <a:close/>
              </a:path>
              <a:path fill="darkenLess" w="21600" h="26827">
                <a:moveTo>
                  <a:pt x="13376" y="9062"/>
                </a:moveTo>
                <a:lnTo>
                  <a:pt x="13376" y="7321"/>
                </a:lnTo>
                <a:lnTo>
                  <a:pt x="15152" y="7321"/>
                </a:lnTo>
                <a:lnTo>
                  <a:pt x="15152" y="10837"/>
                </a:lnTo>
                <a:close/>
              </a:path>
              <a:path fill="darkenLess" w="21600" h="26827">
                <a:moveTo>
                  <a:pt x="9877" y="16912"/>
                </a:moveTo>
                <a:lnTo>
                  <a:pt x="11723" y="16912"/>
                </a:lnTo>
                <a:lnTo>
                  <a:pt x="11723" y="20603"/>
                </a:lnTo>
                <a:lnTo>
                  <a:pt x="16109" y="20603"/>
                </a:lnTo>
                <a:lnTo>
                  <a:pt x="16109" y="13413"/>
                </a:lnTo>
                <a:lnTo>
                  <a:pt x="5491" y="13413"/>
                </a:lnTo>
                <a:lnTo>
                  <a:pt x="5491" y="20603"/>
                </a:lnTo>
                <a:lnTo>
                  <a:pt x="9877" y="20603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684360" y="1341360"/>
            <a:ext cx="799308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Сорбонка - это двусторонняя карточ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С одной стороны карточки записывается вопрос, а с другой  - от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Таким образом ученик отвечает на вопрос и тут же проверяет себ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Анимированную сорбонку можно использовать для заучивания определений, понятий, падежей, д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Стрелка вправо 7">
            <a:hlinkClick r:id="" action="ppaction://hlinkshowjump?jump=nextslide"/>
          </p:cNvPr>
          <p:cNvSpPr/>
          <p:nvPr/>
        </p:nvSpPr>
        <p:spPr>
          <a:xfrm>
            <a:off x="8018640" y="6589800"/>
            <a:ext cx="576000" cy="204840"/>
          </a:xfrm>
          <a:prstGeom prst="rightArrow">
            <a:avLst>
              <a:gd name="adj1" fmla="val 50000"/>
              <a:gd name="adj2" fmla="val 49964"/>
            </a:avLst>
          </a:prstGeom>
          <a:solidFill>
            <a:srgbClr val="dce6f2"/>
          </a:solidFill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Стрелка вправо 8">
            <a:hlinkClick r:id="" action="ppaction://hlinkshowjump?jump=previousslide"/>
          </p:cNvPr>
          <p:cNvSpPr/>
          <p:nvPr/>
        </p:nvSpPr>
        <p:spPr>
          <a:xfrm rot="10800000">
            <a:off x="5315040" y="6589440"/>
            <a:ext cx="576000" cy="204840"/>
          </a:xfrm>
          <a:prstGeom prst="rightArrow">
            <a:avLst>
              <a:gd name="adj1" fmla="val 50000"/>
              <a:gd name="adj2" fmla="val 49964"/>
            </a:avLst>
          </a:prstGeom>
          <a:solidFill>
            <a:srgbClr val="dce6f2"/>
          </a:solidFill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Управляющая кнопка: домой 9">
            <a:hlinkClick r:id="" action="ppaction://hlinkshowjump?jump=firstslide"/>
          </p:cNvPr>
          <p:cNvSpPr/>
          <p:nvPr/>
        </p:nvSpPr>
        <p:spPr>
          <a:xfrm>
            <a:off x="6824520" y="6362640"/>
            <a:ext cx="347760" cy="432000"/>
          </a:xfrm>
          <a:custGeom>
            <a:avLst/>
            <a:gdLst>
              <a:gd name="textAreaLeft" fmla="*/ 22320 w 347760"/>
              <a:gd name="textAreaRight" fmla="*/ 325440 w 347760"/>
              <a:gd name="textAreaTop" fmla="*/ 22320 h 432000"/>
              <a:gd name="textAreaBottom" fmla="*/ 409680 h 432000"/>
            </a:gdLst>
            <a:ahLst/>
            <a:rect l="textAreaLeft" t="textAreaTop" r="textAreaRight" b="textAreaBottom"/>
            <a:pathLst>
              <a:path w="21600" h="26827">
                <a:moveTo>
                  <a:pt x="0" y="0"/>
                </a:moveTo>
                <a:lnTo>
                  <a:pt x="21600" y="0"/>
                </a:lnTo>
                <a:lnTo>
                  <a:pt x="21600" y="26827"/>
                </a:lnTo>
                <a:lnTo>
                  <a:pt x="0" y="26827"/>
                </a:lnTo>
                <a:close/>
              </a:path>
              <a:path fill="lightenLess" w="21600" h="268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827">
                <a:moveTo>
                  <a:pt x="21600" y="0"/>
                </a:moveTo>
                <a:lnTo>
                  <a:pt x="21600" y="26827"/>
                </a:lnTo>
                <a:lnTo>
                  <a:pt x="20200" y="25427"/>
                </a:lnTo>
                <a:lnTo>
                  <a:pt x="20200" y="1400"/>
                </a:lnTo>
                <a:close/>
              </a:path>
              <a:path fill="darkenLess" w="21600" h="26827">
                <a:moveTo>
                  <a:pt x="21600" y="26827"/>
                </a:moveTo>
                <a:lnTo>
                  <a:pt x="0" y="26827"/>
                </a:lnTo>
                <a:lnTo>
                  <a:pt x="1400" y="25427"/>
                </a:lnTo>
                <a:lnTo>
                  <a:pt x="20200" y="25427"/>
                </a:lnTo>
                <a:close/>
              </a:path>
              <a:path fill="lighten" w="21600" h="26827">
                <a:moveTo>
                  <a:pt x="0" y="268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427"/>
                </a:lnTo>
                <a:close/>
              </a:path>
              <a:path fill="darken" w="21600" h="26827">
                <a:moveTo>
                  <a:pt x="10800" y="6450"/>
                </a:moveTo>
                <a:lnTo>
                  <a:pt x="13376" y="9062"/>
                </a:lnTo>
                <a:lnTo>
                  <a:pt x="13376" y="7321"/>
                </a:lnTo>
                <a:lnTo>
                  <a:pt x="15152" y="7321"/>
                </a:lnTo>
                <a:lnTo>
                  <a:pt x="15152" y="10837"/>
                </a:lnTo>
                <a:lnTo>
                  <a:pt x="17763" y="13413"/>
                </a:lnTo>
                <a:lnTo>
                  <a:pt x="16109" y="13413"/>
                </a:lnTo>
                <a:lnTo>
                  <a:pt x="16109" y="20603"/>
                </a:lnTo>
                <a:lnTo>
                  <a:pt x="5491" y="20603"/>
                </a:lnTo>
                <a:lnTo>
                  <a:pt x="5491" y="13413"/>
                </a:lnTo>
                <a:lnTo>
                  <a:pt x="3837" y="13413"/>
                </a:lnTo>
                <a:close/>
              </a:path>
              <a:path fill="darkenLess" w="21600" h="26827">
                <a:moveTo>
                  <a:pt x="13376" y="9062"/>
                </a:moveTo>
                <a:lnTo>
                  <a:pt x="13376" y="7321"/>
                </a:lnTo>
                <a:lnTo>
                  <a:pt x="15152" y="7321"/>
                </a:lnTo>
                <a:lnTo>
                  <a:pt x="15152" y="10837"/>
                </a:lnTo>
                <a:close/>
              </a:path>
              <a:path fill="darkenLess" w="21600" h="26827">
                <a:moveTo>
                  <a:pt x="9877" y="16912"/>
                </a:moveTo>
                <a:lnTo>
                  <a:pt x="11723" y="16912"/>
                </a:lnTo>
                <a:lnTo>
                  <a:pt x="11723" y="20603"/>
                </a:lnTo>
                <a:lnTo>
                  <a:pt x="16109" y="20603"/>
                </a:lnTo>
                <a:lnTo>
                  <a:pt x="16109" y="13413"/>
                </a:lnTo>
                <a:lnTo>
                  <a:pt x="5491" y="13413"/>
                </a:lnTo>
                <a:lnTo>
                  <a:pt x="5491" y="20603"/>
                </a:lnTo>
                <a:lnTo>
                  <a:pt x="9877" y="20603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84360" y="476280"/>
            <a:ext cx="792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Этап 1. Подготовительная ра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Создадим на слайде скругленный прямоугольник — сорбонку. Для этого откроем вкладку</a:t>
            </a:r>
            <a:r>
              <a:rPr b="0" lang="ru-RU" sz="2400" spc="-1" strike="noStrike">
                <a:solidFill>
                  <a:srgbClr val="0033cc"/>
                </a:solidFill>
                <a:latin typeface="Georgia"/>
              </a:rPr>
              <a:t> </a:t>
            </a: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Вставка </a:t>
            </a:r>
            <a:r>
              <a:rPr b="0" lang="ru-RU" sz="2400" spc="-1" strike="noStrike">
                <a:solidFill>
                  <a:srgbClr val="ff0000"/>
                </a:solidFill>
                <a:latin typeface="Georgia"/>
              </a:rPr>
              <a:t>—</a:t>
            </a: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 Фигуры </a:t>
            </a:r>
            <a:r>
              <a:rPr b="0" lang="ru-RU" sz="2400" spc="-1" strike="noStrike">
                <a:solidFill>
                  <a:srgbClr val="ff0000"/>
                </a:solidFill>
                <a:latin typeface="Georgia"/>
              </a:rPr>
              <a:t>—</a:t>
            </a: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Прямоугольники </a:t>
            </a:r>
            <a:r>
              <a:rPr b="0" lang="ru-RU" sz="2400" spc="-1" strike="noStrike">
                <a:solidFill>
                  <a:srgbClr val="ff0000"/>
                </a:solidFill>
                <a:latin typeface="Georgia"/>
              </a:rPr>
              <a:t>—</a:t>
            </a: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 Скругленный прямоугольник</a:t>
            </a:r>
            <a:r>
              <a:rPr b="0" lang="ru-RU" sz="2400" spc="-1" strike="noStrike">
                <a:solidFill>
                  <a:srgbClr val="ff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03857172"/>
          <p:cNvPicPr/>
          <p:nvPr/>
        </p:nvPicPr>
        <p:blipFill>
          <a:blip r:embed="rId1"/>
          <a:stretch/>
        </p:blipFill>
        <p:spPr>
          <a:xfrm>
            <a:off x="1908000" y="2789280"/>
            <a:ext cx="5472360" cy="341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Стрелка вправо 7">
            <a:hlinkClick r:id="" action="ppaction://hlinkshowjump?jump=nextslide"/>
          </p:cNvPr>
          <p:cNvSpPr/>
          <p:nvPr/>
        </p:nvSpPr>
        <p:spPr>
          <a:xfrm>
            <a:off x="8018640" y="6589800"/>
            <a:ext cx="576000" cy="204840"/>
          </a:xfrm>
          <a:prstGeom prst="rightArrow">
            <a:avLst>
              <a:gd name="adj1" fmla="val 50000"/>
              <a:gd name="adj2" fmla="val 49964"/>
            </a:avLst>
          </a:prstGeom>
          <a:solidFill>
            <a:srgbClr val="dce6f2"/>
          </a:solidFill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Стрелка вправо 8">
            <a:hlinkClick r:id="" action="ppaction://hlinkshowjump?jump=previousslide"/>
          </p:cNvPr>
          <p:cNvSpPr/>
          <p:nvPr/>
        </p:nvSpPr>
        <p:spPr>
          <a:xfrm rot="10800000">
            <a:off x="5315040" y="6589440"/>
            <a:ext cx="576000" cy="204840"/>
          </a:xfrm>
          <a:prstGeom prst="rightArrow">
            <a:avLst>
              <a:gd name="adj1" fmla="val 50000"/>
              <a:gd name="adj2" fmla="val 49951"/>
            </a:avLst>
          </a:prstGeom>
          <a:solidFill>
            <a:srgbClr val="dce6f2"/>
          </a:solidFill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Управляющая кнопка: домой 9">
            <a:hlinkClick r:id="" action="ppaction://hlinkshowjump?jump=firstslide"/>
          </p:cNvPr>
          <p:cNvSpPr/>
          <p:nvPr/>
        </p:nvSpPr>
        <p:spPr>
          <a:xfrm>
            <a:off x="6824520" y="6362640"/>
            <a:ext cx="347760" cy="432000"/>
          </a:xfrm>
          <a:custGeom>
            <a:avLst/>
            <a:gdLst>
              <a:gd name="textAreaLeft" fmla="*/ 22320 w 347760"/>
              <a:gd name="textAreaRight" fmla="*/ 325440 w 347760"/>
              <a:gd name="textAreaTop" fmla="*/ 22320 h 432000"/>
              <a:gd name="textAreaBottom" fmla="*/ 409680 h 432000"/>
            </a:gdLst>
            <a:ahLst/>
            <a:rect l="textAreaLeft" t="textAreaTop" r="textAreaRight" b="textAreaBottom"/>
            <a:pathLst>
              <a:path w="21600" h="26827">
                <a:moveTo>
                  <a:pt x="0" y="0"/>
                </a:moveTo>
                <a:lnTo>
                  <a:pt x="21600" y="0"/>
                </a:lnTo>
                <a:lnTo>
                  <a:pt x="21600" y="26827"/>
                </a:lnTo>
                <a:lnTo>
                  <a:pt x="0" y="26827"/>
                </a:lnTo>
                <a:close/>
              </a:path>
              <a:path fill="lightenLess" w="21600" h="268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827">
                <a:moveTo>
                  <a:pt x="21600" y="0"/>
                </a:moveTo>
                <a:lnTo>
                  <a:pt x="21600" y="26827"/>
                </a:lnTo>
                <a:lnTo>
                  <a:pt x="20200" y="25427"/>
                </a:lnTo>
                <a:lnTo>
                  <a:pt x="20200" y="1400"/>
                </a:lnTo>
                <a:close/>
              </a:path>
              <a:path fill="darkenLess" w="21600" h="26827">
                <a:moveTo>
                  <a:pt x="21600" y="26827"/>
                </a:moveTo>
                <a:lnTo>
                  <a:pt x="0" y="26827"/>
                </a:lnTo>
                <a:lnTo>
                  <a:pt x="1400" y="25427"/>
                </a:lnTo>
                <a:lnTo>
                  <a:pt x="20200" y="25427"/>
                </a:lnTo>
                <a:close/>
              </a:path>
              <a:path fill="lighten" w="21600" h="26827">
                <a:moveTo>
                  <a:pt x="0" y="268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427"/>
                </a:lnTo>
                <a:close/>
              </a:path>
              <a:path fill="darken" w="21600" h="26827">
                <a:moveTo>
                  <a:pt x="10800" y="6450"/>
                </a:moveTo>
                <a:lnTo>
                  <a:pt x="13376" y="9062"/>
                </a:lnTo>
                <a:lnTo>
                  <a:pt x="13376" y="7321"/>
                </a:lnTo>
                <a:lnTo>
                  <a:pt x="15152" y="7321"/>
                </a:lnTo>
                <a:lnTo>
                  <a:pt x="15152" y="10837"/>
                </a:lnTo>
                <a:lnTo>
                  <a:pt x="17763" y="13413"/>
                </a:lnTo>
                <a:lnTo>
                  <a:pt x="16109" y="13413"/>
                </a:lnTo>
                <a:lnTo>
                  <a:pt x="16109" y="20603"/>
                </a:lnTo>
                <a:lnTo>
                  <a:pt x="5491" y="20603"/>
                </a:lnTo>
                <a:lnTo>
                  <a:pt x="5491" y="13413"/>
                </a:lnTo>
                <a:lnTo>
                  <a:pt x="3837" y="13413"/>
                </a:lnTo>
                <a:close/>
              </a:path>
              <a:path fill="darkenLess" w="21600" h="26827">
                <a:moveTo>
                  <a:pt x="13376" y="9062"/>
                </a:moveTo>
                <a:lnTo>
                  <a:pt x="13376" y="7321"/>
                </a:lnTo>
                <a:lnTo>
                  <a:pt x="15152" y="7321"/>
                </a:lnTo>
                <a:lnTo>
                  <a:pt x="15152" y="10837"/>
                </a:lnTo>
                <a:close/>
              </a:path>
              <a:path fill="darkenLess" w="21600" h="26827">
                <a:moveTo>
                  <a:pt x="9877" y="16912"/>
                </a:moveTo>
                <a:lnTo>
                  <a:pt x="11723" y="16912"/>
                </a:lnTo>
                <a:lnTo>
                  <a:pt x="11723" y="20603"/>
                </a:lnTo>
                <a:lnTo>
                  <a:pt x="16109" y="20603"/>
                </a:lnTo>
                <a:lnTo>
                  <a:pt x="16109" y="13413"/>
                </a:lnTo>
                <a:lnTo>
                  <a:pt x="5491" y="13413"/>
                </a:lnTo>
                <a:lnTo>
                  <a:pt x="5491" y="20603"/>
                </a:lnTo>
                <a:lnTo>
                  <a:pt x="9877" y="20603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611280" y="404640"/>
            <a:ext cx="799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Скопируем этот квадрат и вставим его 2 раза. Всего получится три квадра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33c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первый квадрат — ответ (обратная сторона сорбон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33c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второй квадрат — вопрос (первая сторона сорбонки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33c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третий квадрат — тригг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Важно помнить последовательность, в которой мы создали объек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" descr="04946219"/>
          <p:cNvPicPr/>
          <p:nvPr/>
        </p:nvPicPr>
        <p:blipFill>
          <a:blip r:embed="rId1"/>
          <a:stretch/>
        </p:blipFill>
        <p:spPr>
          <a:xfrm>
            <a:off x="2050920" y="4221000"/>
            <a:ext cx="523872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трелка вправо 7">
            <a:hlinkClick r:id="" action="ppaction://hlinkshowjump?jump=nextslide"/>
          </p:cNvPr>
          <p:cNvSpPr/>
          <p:nvPr/>
        </p:nvSpPr>
        <p:spPr>
          <a:xfrm>
            <a:off x="8018640" y="6589800"/>
            <a:ext cx="576000" cy="204840"/>
          </a:xfrm>
          <a:prstGeom prst="rightArrow">
            <a:avLst>
              <a:gd name="adj1" fmla="val 50000"/>
              <a:gd name="adj2" fmla="val 49964"/>
            </a:avLst>
          </a:prstGeom>
          <a:solidFill>
            <a:srgbClr val="dce6f2"/>
          </a:solidFill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Стрелка вправо 8">
            <a:hlinkClick r:id="" action="ppaction://hlinkshowjump?jump=previousslide"/>
          </p:cNvPr>
          <p:cNvSpPr/>
          <p:nvPr/>
        </p:nvSpPr>
        <p:spPr>
          <a:xfrm rot="10800000">
            <a:off x="5315040" y="6589440"/>
            <a:ext cx="576000" cy="204840"/>
          </a:xfrm>
          <a:prstGeom prst="rightArrow">
            <a:avLst>
              <a:gd name="adj1" fmla="val 50000"/>
              <a:gd name="adj2" fmla="val 49964"/>
            </a:avLst>
          </a:prstGeom>
          <a:solidFill>
            <a:srgbClr val="dce6f2"/>
          </a:solidFill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Управляющая кнопка: домой 9">
            <a:hlinkClick r:id="" action="ppaction://hlinkshowjump?jump=firstslide"/>
          </p:cNvPr>
          <p:cNvSpPr/>
          <p:nvPr/>
        </p:nvSpPr>
        <p:spPr>
          <a:xfrm>
            <a:off x="6824520" y="6362640"/>
            <a:ext cx="347760" cy="432000"/>
          </a:xfrm>
          <a:custGeom>
            <a:avLst/>
            <a:gdLst>
              <a:gd name="textAreaLeft" fmla="*/ 22320 w 347760"/>
              <a:gd name="textAreaRight" fmla="*/ 325440 w 347760"/>
              <a:gd name="textAreaTop" fmla="*/ 22320 h 432000"/>
              <a:gd name="textAreaBottom" fmla="*/ 409680 h 432000"/>
            </a:gdLst>
            <a:ahLst/>
            <a:rect l="textAreaLeft" t="textAreaTop" r="textAreaRight" b="textAreaBottom"/>
            <a:pathLst>
              <a:path w="21600" h="26827">
                <a:moveTo>
                  <a:pt x="0" y="0"/>
                </a:moveTo>
                <a:lnTo>
                  <a:pt x="21600" y="0"/>
                </a:lnTo>
                <a:lnTo>
                  <a:pt x="21600" y="26827"/>
                </a:lnTo>
                <a:lnTo>
                  <a:pt x="0" y="26827"/>
                </a:lnTo>
                <a:close/>
              </a:path>
              <a:path fill="lightenLess" w="21600" h="268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827">
                <a:moveTo>
                  <a:pt x="21600" y="0"/>
                </a:moveTo>
                <a:lnTo>
                  <a:pt x="21600" y="26827"/>
                </a:lnTo>
                <a:lnTo>
                  <a:pt x="20200" y="25427"/>
                </a:lnTo>
                <a:lnTo>
                  <a:pt x="20200" y="1400"/>
                </a:lnTo>
                <a:close/>
              </a:path>
              <a:path fill="darkenLess" w="21600" h="26827">
                <a:moveTo>
                  <a:pt x="21600" y="26827"/>
                </a:moveTo>
                <a:lnTo>
                  <a:pt x="0" y="26827"/>
                </a:lnTo>
                <a:lnTo>
                  <a:pt x="1400" y="25427"/>
                </a:lnTo>
                <a:lnTo>
                  <a:pt x="20200" y="25427"/>
                </a:lnTo>
                <a:close/>
              </a:path>
              <a:path fill="lighten" w="21600" h="26827">
                <a:moveTo>
                  <a:pt x="0" y="268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427"/>
                </a:lnTo>
                <a:close/>
              </a:path>
              <a:path fill="darken" w="21600" h="26827">
                <a:moveTo>
                  <a:pt x="10800" y="6450"/>
                </a:moveTo>
                <a:lnTo>
                  <a:pt x="13376" y="9062"/>
                </a:lnTo>
                <a:lnTo>
                  <a:pt x="13376" y="7321"/>
                </a:lnTo>
                <a:lnTo>
                  <a:pt x="15152" y="7321"/>
                </a:lnTo>
                <a:lnTo>
                  <a:pt x="15152" y="10837"/>
                </a:lnTo>
                <a:lnTo>
                  <a:pt x="17763" y="13413"/>
                </a:lnTo>
                <a:lnTo>
                  <a:pt x="16109" y="13413"/>
                </a:lnTo>
                <a:lnTo>
                  <a:pt x="16109" y="20603"/>
                </a:lnTo>
                <a:lnTo>
                  <a:pt x="5491" y="20603"/>
                </a:lnTo>
                <a:lnTo>
                  <a:pt x="5491" y="13413"/>
                </a:lnTo>
                <a:lnTo>
                  <a:pt x="3837" y="13413"/>
                </a:lnTo>
                <a:close/>
              </a:path>
              <a:path fill="darkenLess" w="21600" h="26827">
                <a:moveTo>
                  <a:pt x="13376" y="9062"/>
                </a:moveTo>
                <a:lnTo>
                  <a:pt x="13376" y="7321"/>
                </a:lnTo>
                <a:lnTo>
                  <a:pt x="15152" y="7321"/>
                </a:lnTo>
                <a:lnTo>
                  <a:pt x="15152" y="10837"/>
                </a:lnTo>
                <a:close/>
              </a:path>
              <a:path fill="darkenLess" w="21600" h="26827">
                <a:moveTo>
                  <a:pt x="9877" y="16912"/>
                </a:moveTo>
                <a:lnTo>
                  <a:pt x="11723" y="16912"/>
                </a:lnTo>
                <a:lnTo>
                  <a:pt x="11723" y="20603"/>
                </a:lnTo>
                <a:lnTo>
                  <a:pt x="16109" y="20603"/>
                </a:lnTo>
                <a:lnTo>
                  <a:pt x="16109" y="13413"/>
                </a:lnTo>
                <a:lnTo>
                  <a:pt x="5491" y="13413"/>
                </a:lnTo>
                <a:lnTo>
                  <a:pt x="5491" y="20603"/>
                </a:lnTo>
                <a:lnTo>
                  <a:pt x="9877" y="20603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611280" y="620640"/>
            <a:ext cx="799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Georgia"/>
              </a:rPr>
              <a:t>Триггер –</a:t>
            </a:r>
            <a:r>
              <a:rPr b="0" lang="ru-RU" sz="2400" spc="-1" strike="noStrike">
                <a:solidFill>
                  <a:srgbClr val="404040"/>
                </a:solidFill>
                <a:latin typeface="Georgia"/>
              </a:rPr>
              <a:t> </a:t>
            </a: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управляющая кнопка</a:t>
            </a:r>
            <a:r>
              <a:rPr b="0" lang="ru-RU" sz="2400" spc="-1" strike="noStrike">
                <a:solidFill>
                  <a:srgbClr val="404040"/>
                </a:solidFill>
                <a:latin typeface="Georg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Georgia"/>
              </a:rPr>
              <a:t>Щелкая по кнопке, мы будем запускать вращение объектов. Обратите внимание, что эта кнопка –</a:t>
            </a:r>
            <a:r>
              <a:rPr b="0" lang="ru-RU" sz="2400" spc="-1" strike="noStrike">
                <a:solidFill>
                  <a:srgbClr val="404040"/>
                </a:solidFill>
                <a:latin typeface="Georgia"/>
              </a:rPr>
              <a:t> </a:t>
            </a: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прозрачная</a:t>
            </a:r>
            <a:r>
              <a:rPr b="0" lang="ru-RU" sz="2400" spc="-1" strike="noStrike">
                <a:solidFill>
                  <a:srgbClr val="404040"/>
                </a:solidFill>
                <a:latin typeface="Georgia"/>
              </a:rPr>
              <a:t>. </a:t>
            </a: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В</a:t>
            </a:r>
            <a:r>
              <a:rPr b="1" lang="ru-RU" sz="2400" spc="-1" strike="noStrike">
                <a:solidFill>
                  <a:srgbClr val="0000ff"/>
                </a:solidFill>
                <a:latin typeface="Georgia"/>
              </a:rPr>
              <a:t>о время демонстрации её не видно. Она находится на переднем плане и задаёт движение другим объектам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3"/>
          <p:cNvSpPr/>
          <p:nvPr/>
        </p:nvSpPr>
        <p:spPr>
          <a:xfrm>
            <a:off x="3635280" y="4149720"/>
            <a:ext cx="2016360" cy="9349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Тригг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324000" y="404640"/>
            <a:ext cx="8569080" cy="18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ff"/>
                </a:solidFill>
                <a:latin typeface="Georgia"/>
              </a:rPr>
              <a:t>Кнопку «Триггер» нельзя делать прозрачной командой </a:t>
            </a:r>
            <a:r>
              <a:rPr b="1" lang="ru-RU" sz="2300" spc="-1" strike="noStrike">
                <a:solidFill>
                  <a:srgbClr val="ff0000"/>
                </a:solidFill>
                <a:latin typeface="Georgia"/>
              </a:rPr>
              <a:t>“нет заливки”</a:t>
            </a:r>
            <a:r>
              <a:rPr b="1" lang="ru-RU" sz="2300" spc="-1" strike="noStrike">
                <a:solidFill>
                  <a:srgbClr val="0000ff"/>
                </a:solidFill>
                <a:latin typeface="Georgia"/>
              </a:rPr>
              <a:t>. В таком случае триггер будет работать только по контуру. В формате рисунка устанавливаем</a:t>
            </a:r>
            <a:r>
              <a:rPr b="1" i="1" lang="ru-RU" sz="2300" spc="-1" strike="noStrike">
                <a:solidFill>
                  <a:srgbClr val="0000ff"/>
                </a:solidFill>
                <a:latin typeface="Georgia"/>
              </a:rPr>
              <a:t> </a:t>
            </a:r>
            <a:r>
              <a:rPr b="1" lang="ru-RU" sz="2300" spc="-1" strike="noStrike">
                <a:solidFill>
                  <a:srgbClr val="ff0000"/>
                </a:solidFill>
                <a:latin typeface="Georgia"/>
              </a:rPr>
              <a:t>“движок”</a:t>
            </a:r>
            <a:r>
              <a:rPr b="1" lang="ru-RU" sz="2300" spc="-1" strike="noStrike">
                <a:solidFill>
                  <a:srgbClr val="0000ff"/>
                </a:solidFill>
                <a:latin typeface="Georgia"/>
              </a:rPr>
              <a:t> в  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1" lang="ru-RU" sz="2300" spc="-1" strike="noStrike">
                <a:solidFill>
                  <a:srgbClr val="0000ff"/>
                </a:solidFill>
                <a:latin typeface="Georgia"/>
              </a:rPr>
              <a:t>и кнопка будет срабатывать по всей поверхност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Рисунок 2" descr="00ad8172.jpg"/>
          <p:cNvPicPr/>
          <p:nvPr/>
        </p:nvPicPr>
        <p:blipFill>
          <a:blip r:embed="rId1"/>
          <a:stretch/>
        </p:blipFill>
        <p:spPr>
          <a:xfrm>
            <a:off x="2195640" y="2421000"/>
            <a:ext cx="4824360" cy="40449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4"/>
          <p:cNvSpPr/>
          <p:nvPr/>
        </p:nvSpPr>
        <p:spPr>
          <a:xfrm flipH="1" rot="19481400">
            <a:off x="5219640" y="3357720"/>
            <a:ext cx="1944720" cy="195120"/>
          </a:xfrm>
          <a:prstGeom prst="rightArrow">
            <a:avLst>
              <a:gd name="adj1" fmla="val 50000"/>
              <a:gd name="adj2" fmla="val 24917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Стрелка вправо 8">
            <a:hlinkClick r:id="" action="ppaction://hlinkshowjump?jump=previousslide"/>
          </p:cNvPr>
          <p:cNvSpPr/>
          <p:nvPr/>
        </p:nvSpPr>
        <p:spPr>
          <a:xfrm rot="10800000">
            <a:off x="5315040" y="6589440"/>
            <a:ext cx="576000" cy="204840"/>
          </a:xfrm>
          <a:prstGeom prst="rightArrow">
            <a:avLst>
              <a:gd name="adj1" fmla="val 50000"/>
              <a:gd name="adj2" fmla="val 49951"/>
            </a:avLst>
          </a:prstGeom>
          <a:solidFill>
            <a:srgbClr val="dce6f2"/>
          </a:solidFill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Управляющая кнопка: домой 9">
            <a:hlinkClick r:id="" action="ppaction://hlinkshowjump?jump=firstslide"/>
          </p:cNvPr>
          <p:cNvSpPr/>
          <p:nvPr/>
        </p:nvSpPr>
        <p:spPr>
          <a:xfrm>
            <a:off x="6824520" y="6362640"/>
            <a:ext cx="347760" cy="432000"/>
          </a:xfrm>
          <a:custGeom>
            <a:avLst/>
            <a:gdLst>
              <a:gd name="textAreaLeft" fmla="*/ 22320 w 347760"/>
              <a:gd name="textAreaRight" fmla="*/ 325440 w 347760"/>
              <a:gd name="textAreaTop" fmla="*/ 22320 h 432000"/>
              <a:gd name="textAreaBottom" fmla="*/ 409680 h 432000"/>
            </a:gdLst>
            <a:ahLst/>
            <a:rect l="textAreaLeft" t="textAreaTop" r="textAreaRight" b="textAreaBottom"/>
            <a:pathLst>
              <a:path w="21600" h="26827">
                <a:moveTo>
                  <a:pt x="0" y="0"/>
                </a:moveTo>
                <a:lnTo>
                  <a:pt x="21600" y="0"/>
                </a:lnTo>
                <a:lnTo>
                  <a:pt x="21600" y="26827"/>
                </a:lnTo>
                <a:lnTo>
                  <a:pt x="0" y="26827"/>
                </a:lnTo>
                <a:close/>
              </a:path>
              <a:path fill="lightenLess" w="21600" h="268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827">
                <a:moveTo>
                  <a:pt x="21600" y="0"/>
                </a:moveTo>
                <a:lnTo>
                  <a:pt x="21600" y="26827"/>
                </a:lnTo>
                <a:lnTo>
                  <a:pt x="20200" y="25427"/>
                </a:lnTo>
                <a:lnTo>
                  <a:pt x="20200" y="1400"/>
                </a:lnTo>
                <a:close/>
              </a:path>
              <a:path fill="darkenLess" w="21600" h="26827">
                <a:moveTo>
                  <a:pt x="21600" y="26827"/>
                </a:moveTo>
                <a:lnTo>
                  <a:pt x="0" y="26827"/>
                </a:lnTo>
                <a:lnTo>
                  <a:pt x="1400" y="25427"/>
                </a:lnTo>
                <a:lnTo>
                  <a:pt x="20200" y="25427"/>
                </a:lnTo>
                <a:close/>
              </a:path>
              <a:path fill="lighten" w="21600" h="26827">
                <a:moveTo>
                  <a:pt x="0" y="268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427"/>
                </a:lnTo>
                <a:close/>
              </a:path>
              <a:path fill="darken" w="21600" h="26827">
                <a:moveTo>
                  <a:pt x="10800" y="6450"/>
                </a:moveTo>
                <a:lnTo>
                  <a:pt x="13376" y="9062"/>
                </a:lnTo>
                <a:lnTo>
                  <a:pt x="13376" y="7321"/>
                </a:lnTo>
                <a:lnTo>
                  <a:pt x="15152" y="7321"/>
                </a:lnTo>
                <a:lnTo>
                  <a:pt x="15152" y="10837"/>
                </a:lnTo>
                <a:lnTo>
                  <a:pt x="17763" y="13413"/>
                </a:lnTo>
                <a:lnTo>
                  <a:pt x="16109" y="13413"/>
                </a:lnTo>
                <a:lnTo>
                  <a:pt x="16109" y="20603"/>
                </a:lnTo>
                <a:lnTo>
                  <a:pt x="5491" y="20603"/>
                </a:lnTo>
                <a:lnTo>
                  <a:pt x="5491" y="13413"/>
                </a:lnTo>
                <a:lnTo>
                  <a:pt x="3837" y="13413"/>
                </a:lnTo>
                <a:close/>
              </a:path>
              <a:path fill="darkenLess" w="21600" h="26827">
                <a:moveTo>
                  <a:pt x="13376" y="9062"/>
                </a:moveTo>
                <a:lnTo>
                  <a:pt x="13376" y="7321"/>
                </a:lnTo>
                <a:lnTo>
                  <a:pt x="15152" y="7321"/>
                </a:lnTo>
                <a:lnTo>
                  <a:pt x="15152" y="10837"/>
                </a:lnTo>
                <a:close/>
              </a:path>
              <a:path fill="darkenLess" w="21600" h="26827">
                <a:moveTo>
                  <a:pt x="9877" y="16912"/>
                </a:moveTo>
                <a:lnTo>
                  <a:pt x="11723" y="16912"/>
                </a:lnTo>
                <a:lnTo>
                  <a:pt x="11723" y="20603"/>
                </a:lnTo>
                <a:lnTo>
                  <a:pt x="16109" y="20603"/>
                </a:lnTo>
                <a:lnTo>
                  <a:pt x="16109" y="13413"/>
                </a:lnTo>
                <a:lnTo>
                  <a:pt x="5491" y="13413"/>
                </a:lnTo>
                <a:lnTo>
                  <a:pt x="5491" y="20603"/>
                </a:lnTo>
                <a:lnTo>
                  <a:pt x="9877" y="20603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Стрелка вправо 7">
            <a:hlinkClick r:id="" action="ppaction://hlinkshowjump?jump=nextslide"/>
          </p:cNvPr>
          <p:cNvSpPr/>
          <p:nvPr/>
        </p:nvSpPr>
        <p:spPr>
          <a:xfrm>
            <a:off x="8018640" y="6589800"/>
            <a:ext cx="576000" cy="204840"/>
          </a:xfrm>
          <a:prstGeom prst="rightArrow">
            <a:avLst>
              <a:gd name="adj1" fmla="val 50000"/>
              <a:gd name="adj2" fmla="val 49964"/>
            </a:avLst>
          </a:prstGeom>
          <a:solidFill>
            <a:srgbClr val="dce6f2"/>
          </a:solidFill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Стрелка вправо 1">
            <a:hlinkClick r:id="" action="ppaction://hlinkshowjump?jump=previousslide"/>
          </p:cNvPr>
          <p:cNvSpPr/>
          <p:nvPr/>
        </p:nvSpPr>
        <p:spPr>
          <a:xfrm rot="10800000">
            <a:off x="6004080" y="6578280"/>
            <a:ext cx="576000" cy="204840"/>
          </a:xfrm>
          <a:prstGeom prst="rightArrow">
            <a:avLst>
              <a:gd name="adj1" fmla="val 50000"/>
              <a:gd name="adj2" fmla="val 49951"/>
            </a:avLst>
          </a:prstGeom>
          <a:solidFill>
            <a:srgbClr val="dce6f2"/>
          </a:solidFill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Управляющая кнопка: домой 2">
            <a:hlinkClick r:id="" action="ppaction://hlinkshowjump?jump=firstslide"/>
          </p:cNvPr>
          <p:cNvSpPr/>
          <p:nvPr/>
        </p:nvSpPr>
        <p:spPr>
          <a:xfrm>
            <a:off x="7132680" y="6373800"/>
            <a:ext cx="345960" cy="431640"/>
          </a:xfrm>
          <a:custGeom>
            <a:avLst/>
            <a:gdLst>
              <a:gd name="textAreaLeft" fmla="*/ 22320 w 345960"/>
              <a:gd name="textAreaRight" fmla="*/ 323640 w 345960"/>
              <a:gd name="textAreaTop" fmla="*/ 22320 h 431640"/>
              <a:gd name="textAreaBottom" fmla="*/ 409320 h 431640"/>
            </a:gdLst>
            <a:ahLst/>
            <a:rect l="textAreaLeft" t="textAreaTop" r="textAreaRight" b="textAreaBottom"/>
            <a:pathLst>
              <a:path w="21600" h="26944">
                <a:moveTo>
                  <a:pt x="0" y="0"/>
                </a:moveTo>
                <a:lnTo>
                  <a:pt x="21600" y="0"/>
                </a:lnTo>
                <a:lnTo>
                  <a:pt x="21600" y="26944"/>
                </a:lnTo>
                <a:lnTo>
                  <a:pt x="0" y="26944"/>
                </a:lnTo>
                <a:close/>
              </a:path>
              <a:path fill="lightenLess" w="21600" h="269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44">
                <a:moveTo>
                  <a:pt x="21600" y="0"/>
                </a:moveTo>
                <a:lnTo>
                  <a:pt x="21600" y="26944"/>
                </a:lnTo>
                <a:lnTo>
                  <a:pt x="20200" y="25544"/>
                </a:lnTo>
                <a:lnTo>
                  <a:pt x="20200" y="1400"/>
                </a:lnTo>
                <a:close/>
              </a:path>
              <a:path fill="darkenLess" w="21600" h="26944">
                <a:moveTo>
                  <a:pt x="21600" y="26944"/>
                </a:moveTo>
                <a:lnTo>
                  <a:pt x="0" y="26944"/>
                </a:lnTo>
                <a:lnTo>
                  <a:pt x="1400" y="25544"/>
                </a:lnTo>
                <a:lnTo>
                  <a:pt x="20200" y="25544"/>
                </a:lnTo>
                <a:close/>
              </a:path>
              <a:path fill="lighten" w="21600" h="26944">
                <a:moveTo>
                  <a:pt x="0" y="269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44"/>
                </a:lnTo>
                <a:close/>
              </a:path>
              <a:path fill="darken" w="21600" h="26944">
                <a:moveTo>
                  <a:pt x="10800" y="6509"/>
                </a:moveTo>
                <a:lnTo>
                  <a:pt x="13376" y="9120"/>
                </a:lnTo>
                <a:lnTo>
                  <a:pt x="13376" y="7379"/>
                </a:lnTo>
                <a:lnTo>
                  <a:pt x="15152" y="7379"/>
                </a:lnTo>
                <a:lnTo>
                  <a:pt x="15152" y="10896"/>
                </a:lnTo>
                <a:lnTo>
                  <a:pt x="17763" y="13472"/>
                </a:lnTo>
                <a:lnTo>
                  <a:pt x="16109" y="13472"/>
                </a:lnTo>
                <a:lnTo>
                  <a:pt x="16109" y="20661"/>
                </a:lnTo>
                <a:lnTo>
                  <a:pt x="5491" y="20661"/>
                </a:lnTo>
                <a:lnTo>
                  <a:pt x="5491" y="13472"/>
                </a:lnTo>
                <a:lnTo>
                  <a:pt x="3837" y="13472"/>
                </a:lnTo>
                <a:close/>
              </a:path>
              <a:path fill="darkenLess" w="21600" h="26944">
                <a:moveTo>
                  <a:pt x="13376" y="9120"/>
                </a:moveTo>
                <a:lnTo>
                  <a:pt x="13376" y="7379"/>
                </a:lnTo>
                <a:lnTo>
                  <a:pt x="15152" y="7379"/>
                </a:lnTo>
                <a:lnTo>
                  <a:pt x="15152" y="10896"/>
                </a:lnTo>
                <a:close/>
              </a:path>
              <a:path fill="darkenLess" w="21600" h="26944">
                <a:moveTo>
                  <a:pt x="9877" y="16971"/>
                </a:moveTo>
                <a:lnTo>
                  <a:pt x="11723" y="16971"/>
                </a:lnTo>
                <a:lnTo>
                  <a:pt x="11723" y="20661"/>
                </a:lnTo>
                <a:lnTo>
                  <a:pt x="16109" y="20661"/>
                </a:lnTo>
                <a:lnTo>
                  <a:pt x="16109" y="13472"/>
                </a:lnTo>
                <a:lnTo>
                  <a:pt x="5491" y="13472"/>
                </a:lnTo>
                <a:lnTo>
                  <a:pt x="5491" y="20661"/>
                </a:lnTo>
                <a:lnTo>
                  <a:pt x="9877" y="20661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Стрелка вправо 3">
            <a:hlinkClick r:id="" action="ppaction://hlinkshowjump?jump=nextslide"/>
          </p:cNvPr>
          <p:cNvSpPr/>
          <p:nvPr/>
        </p:nvSpPr>
        <p:spPr>
          <a:xfrm>
            <a:off x="8018640" y="6589800"/>
            <a:ext cx="576000" cy="19368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dce6f2"/>
          </a:solidFill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ответ"/>
          <p:cNvSpPr/>
          <p:nvPr/>
        </p:nvSpPr>
        <p:spPr>
          <a:xfrm>
            <a:off x="539640" y="1268280"/>
            <a:ext cx="3889440" cy="194472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Georgia"/>
              </a:rPr>
              <a:t>Оборот речи, особое сочетание слов, синтаксическое построение, используемое для усиления выразительности высказывания …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7375e"/>
                </a:solidFill>
                <a:latin typeface="Georgia"/>
              </a:rPr>
              <a:t>Толковый переводоведческий словар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вопрос" descr=""/>
          <p:cNvPicPr/>
          <p:nvPr/>
        </p:nvPicPr>
        <p:blipFill>
          <a:blip r:embed="rId1"/>
          <a:stretch/>
        </p:blipFill>
        <p:spPr>
          <a:xfrm>
            <a:off x="4638600" y="1195560"/>
            <a:ext cx="3969000" cy="2054160"/>
          </a:xfrm>
          <a:prstGeom prst="rect">
            <a:avLst/>
          </a:prstGeom>
          <a:ln w="0">
            <a:noFill/>
          </a:ln>
        </p:spPr>
      </p:pic>
      <p:sp>
        <p:nvSpPr>
          <p:cNvPr id="151" name="триггер"/>
          <p:cNvSpPr/>
          <p:nvPr/>
        </p:nvSpPr>
        <p:spPr>
          <a:xfrm>
            <a:off x="2556000" y="3500280"/>
            <a:ext cx="4033800" cy="216072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826920" y="47628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У нас получилось 3 квадр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Стрелка вправо 7">
            <a:hlinkClick r:id="" action="ppaction://hlinkshowjump?jump=nextslide"/>
          </p:cNvPr>
          <p:cNvSpPr/>
          <p:nvPr/>
        </p:nvSpPr>
        <p:spPr>
          <a:xfrm>
            <a:off x="8018640" y="6589800"/>
            <a:ext cx="576000" cy="204840"/>
          </a:xfrm>
          <a:prstGeom prst="rightArrow">
            <a:avLst>
              <a:gd name="adj1" fmla="val 50000"/>
              <a:gd name="adj2" fmla="val 49964"/>
            </a:avLst>
          </a:prstGeom>
          <a:solidFill>
            <a:srgbClr val="dce6f2"/>
          </a:solidFill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8">
            <a:hlinkClick r:id="" action="ppaction://hlinkshowjump?jump=previousslide"/>
          </p:cNvPr>
          <p:cNvSpPr/>
          <p:nvPr/>
        </p:nvSpPr>
        <p:spPr>
          <a:xfrm rot="10800000">
            <a:off x="5315040" y="6589440"/>
            <a:ext cx="576000" cy="204840"/>
          </a:xfrm>
          <a:prstGeom prst="rightArrow">
            <a:avLst>
              <a:gd name="adj1" fmla="val 50000"/>
              <a:gd name="adj2" fmla="val 49951"/>
            </a:avLst>
          </a:prstGeom>
          <a:solidFill>
            <a:srgbClr val="dce6f2"/>
          </a:solidFill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Управляющая кнопка: домой 9">
            <a:hlinkClick r:id="" action="ppaction://hlinkshowjump?jump=firstslide"/>
          </p:cNvPr>
          <p:cNvSpPr/>
          <p:nvPr/>
        </p:nvSpPr>
        <p:spPr>
          <a:xfrm>
            <a:off x="6824520" y="6362640"/>
            <a:ext cx="347760" cy="432000"/>
          </a:xfrm>
          <a:custGeom>
            <a:avLst/>
            <a:gdLst>
              <a:gd name="textAreaLeft" fmla="*/ 22320 w 347760"/>
              <a:gd name="textAreaRight" fmla="*/ 325440 w 347760"/>
              <a:gd name="textAreaTop" fmla="*/ 22320 h 432000"/>
              <a:gd name="textAreaBottom" fmla="*/ 409680 h 432000"/>
            </a:gdLst>
            <a:ahLst/>
            <a:rect l="textAreaLeft" t="textAreaTop" r="textAreaRight" b="textAreaBottom"/>
            <a:pathLst>
              <a:path w="21600" h="26827">
                <a:moveTo>
                  <a:pt x="0" y="0"/>
                </a:moveTo>
                <a:lnTo>
                  <a:pt x="21600" y="0"/>
                </a:lnTo>
                <a:lnTo>
                  <a:pt x="21600" y="26827"/>
                </a:lnTo>
                <a:lnTo>
                  <a:pt x="0" y="26827"/>
                </a:lnTo>
                <a:close/>
              </a:path>
              <a:path fill="lightenLess" w="21600" h="268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827">
                <a:moveTo>
                  <a:pt x="21600" y="0"/>
                </a:moveTo>
                <a:lnTo>
                  <a:pt x="21600" y="26827"/>
                </a:lnTo>
                <a:lnTo>
                  <a:pt x="20200" y="25427"/>
                </a:lnTo>
                <a:lnTo>
                  <a:pt x="20200" y="1400"/>
                </a:lnTo>
                <a:close/>
              </a:path>
              <a:path fill="darkenLess" w="21600" h="26827">
                <a:moveTo>
                  <a:pt x="21600" y="26827"/>
                </a:moveTo>
                <a:lnTo>
                  <a:pt x="0" y="26827"/>
                </a:lnTo>
                <a:lnTo>
                  <a:pt x="1400" y="25427"/>
                </a:lnTo>
                <a:lnTo>
                  <a:pt x="20200" y="25427"/>
                </a:lnTo>
                <a:close/>
              </a:path>
              <a:path fill="lighten" w="21600" h="26827">
                <a:moveTo>
                  <a:pt x="0" y="268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427"/>
                </a:lnTo>
                <a:close/>
              </a:path>
              <a:path fill="darken" w="21600" h="26827">
                <a:moveTo>
                  <a:pt x="10800" y="6450"/>
                </a:moveTo>
                <a:lnTo>
                  <a:pt x="13376" y="9062"/>
                </a:lnTo>
                <a:lnTo>
                  <a:pt x="13376" y="7321"/>
                </a:lnTo>
                <a:lnTo>
                  <a:pt x="15152" y="7321"/>
                </a:lnTo>
                <a:lnTo>
                  <a:pt x="15152" y="10837"/>
                </a:lnTo>
                <a:lnTo>
                  <a:pt x="17763" y="13413"/>
                </a:lnTo>
                <a:lnTo>
                  <a:pt x="16109" y="13413"/>
                </a:lnTo>
                <a:lnTo>
                  <a:pt x="16109" y="20603"/>
                </a:lnTo>
                <a:lnTo>
                  <a:pt x="5491" y="20603"/>
                </a:lnTo>
                <a:lnTo>
                  <a:pt x="5491" y="13413"/>
                </a:lnTo>
                <a:lnTo>
                  <a:pt x="3837" y="13413"/>
                </a:lnTo>
                <a:close/>
              </a:path>
              <a:path fill="darkenLess" w="21600" h="26827">
                <a:moveTo>
                  <a:pt x="13376" y="9062"/>
                </a:moveTo>
                <a:lnTo>
                  <a:pt x="13376" y="7321"/>
                </a:lnTo>
                <a:lnTo>
                  <a:pt x="15152" y="7321"/>
                </a:lnTo>
                <a:lnTo>
                  <a:pt x="15152" y="10837"/>
                </a:lnTo>
                <a:close/>
              </a:path>
              <a:path fill="darkenLess" w="21600" h="26827">
                <a:moveTo>
                  <a:pt x="9877" y="16912"/>
                </a:moveTo>
                <a:lnTo>
                  <a:pt x="11723" y="16912"/>
                </a:lnTo>
                <a:lnTo>
                  <a:pt x="11723" y="20603"/>
                </a:lnTo>
                <a:lnTo>
                  <a:pt x="16109" y="20603"/>
                </a:lnTo>
                <a:lnTo>
                  <a:pt x="16109" y="13413"/>
                </a:lnTo>
                <a:lnTo>
                  <a:pt x="5491" y="13413"/>
                </a:lnTo>
                <a:lnTo>
                  <a:pt x="5491" y="20603"/>
                </a:lnTo>
                <a:lnTo>
                  <a:pt x="9877" y="20603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971640" y="333360"/>
            <a:ext cx="7272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Этап 2. Добавляем анимацию к объект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Georgia"/>
              </a:rPr>
              <a:t>ШАГ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Выделим второй квадрат (Вопрос).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Откроем область </a:t>
            </a: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Настройка анимаци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выберем </a:t>
            </a: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Добавить эффект — Выход — Другие эффекты — Вращение — 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6" descr="18526322"/>
          <p:cNvPicPr/>
          <p:nvPr/>
        </p:nvPicPr>
        <p:blipFill>
          <a:blip r:embed="rId1"/>
          <a:stretch/>
        </p:blipFill>
        <p:spPr>
          <a:xfrm>
            <a:off x="2771640" y="3141720"/>
            <a:ext cx="3961080" cy="309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Стрелка вправо 7">
            <a:hlinkClick r:id="" action="ppaction://hlinkshowjump?jump=nextslide"/>
          </p:cNvPr>
          <p:cNvSpPr/>
          <p:nvPr/>
        </p:nvSpPr>
        <p:spPr>
          <a:xfrm>
            <a:off x="8018640" y="6589800"/>
            <a:ext cx="576000" cy="204840"/>
          </a:xfrm>
          <a:prstGeom prst="rightArrow">
            <a:avLst>
              <a:gd name="adj1" fmla="val 50000"/>
              <a:gd name="adj2" fmla="val 49964"/>
            </a:avLst>
          </a:prstGeom>
          <a:solidFill>
            <a:srgbClr val="dce6f2"/>
          </a:solidFill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Стрелка вправо 8">
            <a:hlinkClick r:id="" action="ppaction://hlinkshowjump?jump=previousslide"/>
          </p:cNvPr>
          <p:cNvSpPr/>
          <p:nvPr/>
        </p:nvSpPr>
        <p:spPr>
          <a:xfrm rot="10800000">
            <a:off x="5315040" y="6589440"/>
            <a:ext cx="576000" cy="204840"/>
          </a:xfrm>
          <a:prstGeom prst="rightArrow">
            <a:avLst>
              <a:gd name="adj1" fmla="val 50000"/>
              <a:gd name="adj2" fmla="val 49951"/>
            </a:avLst>
          </a:prstGeom>
          <a:solidFill>
            <a:srgbClr val="dce6f2"/>
          </a:solidFill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Управляющая кнопка: домой 9">
            <a:hlinkClick r:id="" action="ppaction://hlinkshowjump?jump=firstslide"/>
          </p:cNvPr>
          <p:cNvSpPr/>
          <p:nvPr/>
        </p:nvSpPr>
        <p:spPr>
          <a:xfrm>
            <a:off x="6824520" y="6362640"/>
            <a:ext cx="347760" cy="432000"/>
          </a:xfrm>
          <a:custGeom>
            <a:avLst/>
            <a:gdLst>
              <a:gd name="textAreaLeft" fmla="*/ 22320 w 347760"/>
              <a:gd name="textAreaRight" fmla="*/ 325440 w 347760"/>
              <a:gd name="textAreaTop" fmla="*/ 22320 h 432000"/>
              <a:gd name="textAreaBottom" fmla="*/ 409680 h 432000"/>
            </a:gdLst>
            <a:ahLst/>
            <a:rect l="textAreaLeft" t="textAreaTop" r="textAreaRight" b="textAreaBottom"/>
            <a:pathLst>
              <a:path w="21600" h="26827">
                <a:moveTo>
                  <a:pt x="0" y="0"/>
                </a:moveTo>
                <a:lnTo>
                  <a:pt x="21600" y="0"/>
                </a:lnTo>
                <a:lnTo>
                  <a:pt x="21600" y="26827"/>
                </a:lnTo>
                <a:lnTo>
                  <a:pt x="0" y="26827"/>
                </a:lnTo>
                <a:close/>
              </a:path>
              <a:path fill="lightenLess" w="21600" h="268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827">
                <a:moveTo>
                  <a:pt x="21600" y="0"/>
                </a:moveTo>
                <a:lnTo>
                  <a:pt x="21600" y="26827"/>
                </a:lnTo>
                <a:lnTo>
                  <a:pt x="20200" y="25427"/>
                </a:lnTo>
                <a:lnTo>
                  <a:pt x="20200" y="1400"/>
                </a:lnTo>
                <a:close/>
              </a:path>
              <a:path fill="darkenLess" w="21600" h="26827">
                <a:moveTo>
                  <a:pt x="21600" y="26827"/>
                </a:moveTo>
                <a:lnTo>
                  <a:pt x="0" y="26827"/>
                </a:lnTo>
                <a:lnTo>
                  <a:pt x="1400" y="25427"/>
                </a:lnTo>
                <a:lnTo>
                  <a:pt x="20200" y="25427"/>
                </a:lnTo>
                <a:close/>
              </a:path>
              <a:path fill="lighten" w="21600" h="26827">
                <a:moveTo>
                  <a:pt x="0" y="268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427"/>
                </a:lnTo>
                <a:close/>
              </a:path>
              <a:path fill="darken" w="21600" h="26827">
                <a:moveTo>
                  <a:pt x="10800" y="6450"/>
                </a:moveTo>
                <a:lnTo>
                  <a:pt x="13376" y="9062"/>
                </a:lnTo>
                <a:lnTo>
                  <a:pt x="13376" y="7321"/>
                </a:lnTo>
                <a:lnTo>
                  <a:pt x="15152" y="7321"/>
                </a:lnTo>
                <a:lnTo>
                  <a:pt x="15152" y="10837"/>
                </a:lnTo>
                <a:lnTo>
                  <a:pt x="17763" y="13413"/>
                </a:lnTo>
                <a:lnTo>
                  <a:pt x="16109" y="13413"/>
                </a:lnTo>
                <a:lnTo>
                  <a:pt x="16109" y="20603"/>
                </a:lnTo>
                <a:lnTo>
                  <a:pt x="5491" y="20603"/>
                </a:lnTo>
                <a:lnTo>
                  <a:pt x="5491" y="13413"/>
                </a:lnTo>
                <a:lnTo>
                  <a:pt x="3837" y="13413"/>
                </a:lnTo>
                <a:close/>
              </a:path>
              <a:path fill="darkenLess" w="21600" h="26827">
                <a:moveTo>
                  <a:pt x="13376" y="9062"/>
                </a:moveTo>
                <a:lnTo>
                  <a:pt x="13376" y="7321"/>
                </a:lnTo>
                <a:lnTo>
                  <a:pt x="15152" y="7321"/>
                </a:lnTo>
                <a:lnTo>
                  <a:pt x="15152" y="10837"/>
                </a:lnTo>
                <a:close/>
              </a:path>
              <a:path fill="darkenLess" w="21600" h="26827">
                <a:moveTo>
                  <a:pt x="9877" y="16912"/>
                </a:moveTo>
                <a:lnTo>
                  <a:pt x="11723" y="16912"/>
                </a:lnTo>
                <a:lnTo>
                  <a:pt x="11723" y="20603"/>
                </a:lnTo>
                <a:lnTo>
                  <a:pt x="16109" y="20603"/>
                </a:lnTo>
                <a:lnTo>
                  <a:pt x="16109" y="13413"/>
                </a:lnTo>
                <a:lnTo>
                  <a:pt x="5491" y="13413"/>
                </a:lnTo>
                <a:lnTo>
                  <a:pt x="5491" y="20603"/>
                </a:lnTo>
                <a:lnTo>
                  <a:pt x="9877" y="20603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539640" y="1125360"/>
            <a:ext cx="799308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В диалоговом окне</a:t>
            </a: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 Вращение </a:t>
            </a: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на вкладке</a:t>
            </a: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 Время </a:t>
            </a: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установим следующие парамет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Начало — По щелч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Скорость — Очень быстр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Повторение — 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Переключатели — Начать выполнение эффекта при щелчке — в раскрывающемся списке выбираем Триггер и нажимаем </a:t>
            </a: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28T05:34:25Z</dcterms:created>
  <dc:creator>Устинова В.И.</dc:creator>
  <dc:description/>
  <cp:keywords>создание сорбонки</cp:keywords>
  <dc:language>en-US</dc:language>
  <cp:lastModifiedBy>Admin</cp:lastModifiedBy>
  <dcterms:modified xsi:type="dcterms:W3CDTF">2018-01-28T03:03:37Z</dcterms:modified>
  <cp:revision>30</cp:revision>
  <dc:subject>Мастер-класс "Анимированная сорбонка"</dc:subject>
  <dc:title>Презентация PowerPoint</dc:title>
</cp:coreProperties>
</file>