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C0A-BEF7-473E-912A-AFC99539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E37-DA39-4B54-B471-1168994F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DCE-B4D8-4CD9-A1FD-04D87FA8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3D3-4154-4215-B628-C37D5C81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2FC-575E-4169-A5EA-15A6FD44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A23-7177-44DC-B224-53AB5F1D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9B1-6182-4A3B-B3ED-FB1B9D81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895-1653-467D-B985-AF06A4A0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F31-23BB-4043-A2EA-79E53173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9BD-78DB-4130-8634-7083A804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641-4AEE-4B66-85FE-9906702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956-7759-4150-81E0-DD748C3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F258-FDF2-435D-9CAC-C3EF06640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232466_(w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35989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Мир и Россия в начале эпохи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еликих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географических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откр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usskaya_narodnaya_-_Uralskaya_plyasovaya_(iPleer.fm)" descr=""/>
          <p:cNvPicPr/>
          <p:nvPr/>
        </p:nvPicPr>
        <p:blipFill>
          <a:blip r:embed="rId2"/>
          <a:stretch/>
        </p:blipFill>
        <p:spPr>
          <a:xfrm>
            <a:off x="8172360" y="609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 repeatCount="1000">
                                  <p:stCondLst>
                                    <p:cond delay="2000"/>
                                  </p:stCondLst>
                                  <p:childTnLst>
                                    <p:cmd type="call" cmd="playFrom(8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4424785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music-104606_960_720"/>
          <p:cNvPicPr/>
          <p:nvPr/>
        </p:nvPicPr>
        <p:blipFill>
          <a:blip r:embed="rId2"/>
          <a:stretch/>
        </p:blipFill>
        <p:spPr>
          <a:xfrm>
            <a:off x="5364000" y="404640"/>
            <a:ext cx="3348360" cy="2364120"/>
          </a:xfrm>
          <a:prstGeom prst="rect">
            <a:avLst/>
          </a:prstGeom>
          <a:ln w="0">
            <a:noFill/>
          </a:ln>
        </p:spPr>
      </p:pic>
      <p:pic>
        <p:nvPicPr>
          <p:cNvPr id="72" name="Russkaya_narodnaya_-_Uralskaya_plyasovaya_(iPleer.fm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Russkaya_narodnaya_-_Uralskaya_plyasovaya_(iPleer.fm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5451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fon-dlya-prezentacii-12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чины неактивного участия России в Великих географических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крытиях в XVI в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Неразвитость товарно-денежных отношений  по сравнению с Европ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Недостаточно денежных сред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снаряжения экспеди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Отсутствие выхода к незамерзающим мор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Отсутствие фл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Незавершено форм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дино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f0cbe089cd347a3302598fa2739fb4e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457200" y="1600200"/>
          <a:ext cx="8229600" cy="2692440"/>
        </p:xfrm>
        <a:graphic>
          <a:graphicData uri="http://schemas.openxmlformats.org/drawingml/2006/table">
            <a:tbl>
              <a:tblPr/>
              <a:tblGrid>
                <a:gridCol w="2168640"/>
                <a:gridCol w="3227400"/>
                <a:gridCol w="2833560"/>
              </a:tblGrid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ы/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открыватели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диц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кры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wp22442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730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Я научил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Мне было интересно, потому чт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Я оцениваю свою работу на уроке отметкой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Мне понравилась на уроке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та (назвать имя ученик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Wa11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\з:§1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иси в тетради; написать прилагательные ассоциации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 изученной на уроке тем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umaga_verevka_staryy_91698_2560x1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апы накопления знаний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 Земл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Финикийские мореплаватели 600 г. до н э – вокруг Афр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Древние гре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Древние китайцы – моря Дальнего  Востока,  Ю-В Азии, Инд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авия, Африка, Амер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Викинги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X-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– Исландия, Гренланд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еографические открытия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6419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Посещение новых терри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Хозяйственное осво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ем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Установление конта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местным насе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epositphotos14461467origin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ardboard_texture9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ello_html_26af7536"/>
          <p:cNvPicPr/>
          <p:nvPr/>
        </p:nvPicPr>
        <p:blipFill>
          <a:blip r:embed="rId2"/>
          <a:stretch/>
        </p:blipFill>
        <p:spPr>
          <a:xfrm>
            <a:off x="5435640" y="4076640"/>
            <a:ext cx="341928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колумб  4.44.mp4" descr=""/>
          <p:cNvPicPr/>
          <p:nvPr/>
        </p:nvPicPr>
        <p:blipFill>
          <a:blip r:embed="rId3"/>
          <a:stretch/>
        </p:blipFill>
        <p:spPr>
          <a:xfrm>
            <a:off x="2928960" y="2143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aper"/>
          <p:cNvPicPr/>
          <p:nvPr/>
        </p:nvPicPr>
        <p:blipFill>
          <a:blip r:embed="rId1"/>
          <a:stretch/>
        </p:blipFill>
        <p:spPr>
          <a:xfrm>
            <a:off x="-181080" y="-334800"/>
            <a:ext cx="9577440" cy="744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769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aper"/>
          <p:cNvPicPr/>
          <p:nvPr/>
        </p:nvPicPr>
        <p:blipFill>
          <a:blip r:embed="rId1"/>
          <a:stretch/>
        </p:blipFill>
        <p:spPr>
          <a:xfrm>
            <a:off x="-504720" y="-387360"/>
            <a:ext cx="9648720" cy="7499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72723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aper"/>
          <p:cNvPicPr/>
          <p:nvPr/>
        </p:nvPicPr>
        <p:blipFill>
          <a:blip r:embed="rId1"/>
          <a:stretch/>
        </p:blipFill>
        <p:spPr>
          <a:xfrm>
            <a:off x="-252360" y="-603360"/>
            <a:ext cx="9577440" cy="7615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1258920" y="2421000"/>
            <a:ext cx="67690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aper"/>
          <p:cNvPicPr/>
          <p:nvPr/>
        </p:nvPicPr>
        <p:blipFill>
          <a:blip r:embed="rId1"/>
          <a:stretch/>
        </p:blipFill>
        <p:spPr>
          <a:xfrm>
            <a:off x="-181080" y="-316080"/>
            <a:ext cx="9577440" cy="7444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476360" y="2421000"/>
            <a:ext cx="6696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7:43:41Z</dcterms:created>
  <dc:creator>777</dc:creator>
  <dc:description/>
  <dc:language>en-US</dc:language>
  <cp:lastModifiedBy>777</cp:lastModifiedBy>
  <dcterms:modified xsi:type="dcterms:W3CDTF">2018-01-26T06:22:32Z</dcterms:modified>
  <cp:revision>18</cp:revision>
  <dc:subject/>
  <dc:title>Мир и Россия в начале эпохи Великих географических открытий</dc:title>
</cp:coreProperties>
</file>