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6C2F-2A67-42DD-9CA6-04FA1EE7B7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9383-8EAC-48F9-AA69-7EC0368E98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A895-4FBB-4168-8605-ACA6338A6C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C706-FFD5-4E9D-8C0E-2E311C5399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0022-48F2-494B-893C-0109FE7089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9B85-D643-4FF7-9FE0-82BF966BB6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9660-BAD5-4279-AFAF-77524B3930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CCF-0056-47DA-B161-3552994E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ECF-AAD7-48F7-BC93-92C1C413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6F6-BBAC-4C95-A6F7-70C7D07C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ED8-9231-4966-909E-776CF9A3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7BCF-7089-4812-8969-D481AEB2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3C92-5282-4160-B62C-8C7C93E9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F64E-F03B-4008-BB72-69348531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09EA-1D84-4C12-8D17-45E0B667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694-C3C6-445D-AFF9-4C159B94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C5D5-DFD7-44BF-BA12-B75F6151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AA5F-C464-41D2-93F4-9B83CF86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1C6-4F68-4D46-8585-96A5E936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DCDF-31CF-4F7E-9C93-BBB680BE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7623-2BD6-4E53-B355-BFFC4AF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B805-091A-41D0-A625-CBC11F9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C5B6-3760-4990-9D5A-3F45EF4D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E5FF-DA6F-4937-A904-B21D0F3E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1C4-75B6-4694-A4E7-D91257F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D8C-6D96-4AFB-AC8D-651ABAA8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808-BE10-485C-9CE6-7B28C5AB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5A6-47A8-4ED6-93AC-D0E0E57D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971-D1EC-43FD-867A-1ACDF538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56B-4457-4B2A-9C86-58FD6C1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702-F0D9-4E55-83D8-BC05659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553F-4681-4CE9-8399-075956F190C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A7F5-CAD3-4408-B011-EDD0A546330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14360" y="396720"/>
            <a:ext cx="8242200" cy="30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c1b6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12d1c"/>
                </a:solidFill>
                <a:latin typeface="Times New Roman"/>
              </a:rPr>
              <a:t>В природе существует два стабильных изотоп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12d1c"/>
                </a:solidFill>
                <a:latin typeface="Times New Roman"/>
              </a:rPr>
              <a:t>1 вариант </a:t>
            </a:r>
            <a:r>
              <a:rPr b="1" lang="ru-RU" sz="4400" spc="-1" strike="noStrike" baseline="-25000">
                <a:solidFill>
                  <a:srgbClr val="712d1c"/>
                </a:solidFill>
                <a:latin typeface="Times New Roman"/>
              </a:rPr>
              <a:t>14</a:t>
            </a:r>
            <a:r>
              <a:rPr b="1" lang="ru-RU" sz="4400" spc="-1" strike="noStrike">
                <a:solidFill>
                  <a:srgbClr val="712d1c"/>
                </a:solidFill>
                <a:latin typeface="Times New Roman"/>
              </a:rPr>
              <a:t>N и </a:t>
            </a:r>
            <a:r>
              <a:rPr b="1" lang="ru-RU" sz="4400" spc="-1" strike="noStrike" baseline="-25000">
                <a:solidFill>
                  <a:srgbClr val="712d1c"/>
                </a:solidFill>
                <a:latin typeface="Times New Roman"/>
              </a:rPr>
              <a:t>15</a:t>
            </a:r>
            <a:r>
              <a:rPr b="1" lang="ru-RU" sz="4400" spc="-1" strike="noStrike">
                <a:solidFill>
                  <a:srgbClr val="712d1c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12d1c"/>
                </a:solidFill>
                <a:latin typeface="Times New Roman"/>
              </a:rPr>
              <a:t>2 вариант</a:t>
            </a:r>
            <a:r>
              <a:rPr b="0" lang="ru-RU" sz="4400" spc="-1" strike="noStrike" baseline="-25000">
                <a:solidFill>
                  <a:srgbClr val="712d1c"/>
                </a:solidFill>
                <a:latin typeface="Times New Roman"/>
              </a:rPr>
              <a:t>12</a:t>
            </a:r>
            <a:r>
              <a:rPr b="0" lang="ru-RU" sz="4400" spc="-1" strike="noStrike">
                <a:solidFill>
                  <a:srgbClr val="712d1c"/>
                </a:solidFill>
                <a:latin typeface="Times New Roman"/>
              </a:rPr>
              <a:t>С и </a:t>
            </a:r>
            <a:r>
              <a:rPr b="0" lang="ru-RU" sz="4400" spc="-1" strike="noStrike" baseline="-25000">
                <a:solidFill>
                  <a:srgbClr val="712d1c"/>
                </a:solidFill>
                <a:latin typeface="Times New Roman"/>
              </a:rPr>
              <a:t>13</a:t>
            </a:r>
            <a:r>
              <a:rPr b="0" lang="ru-RU" sz="4400" spc="-1" strike="noStrike">
                <a:solidFill>
                  <a:srgbClr val="712d1c"/>
                </a:solidFill>
                <a:latin typeface="Times New Roman"/>
              </a:rPr>
              <a:t>С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12d1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712d1c"/>
                </a:solidFill>
                <a:latin typeface="Times New Roman"/>
              </a:rPr>
              <a:t>Рассчитайте число нейтронов в ядрах атомов этих изотоп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240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712d1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12d1c"/>
                </a:solidFill>
                <a:latin typeface="Times New Roman"/>
              </a:rPr>
              <a:t>Изобразите модель вашего атома (по Резерфорду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9432b"/>
                </a:solidFill>
                <a:latin typeface="Times New Roman"/>
              </a:rPr>
              <a:t>Вопрос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Times New Roman"/>
              </a:rPr>
              <a:t>Запишите электронно-графическую формулу для вашего атома с использованием квантовых ячеек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12d1c"/>
                </a:solidFill>
                <a:latin typeface="Times New Roman"/>
              </a:rPr>
              <a:t>Укажите максимально возможную валентность вашего атома. Ответ подтвердите написанием электронной и структурной формул частицы (иона, молекулы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-360" y="1196640"/>
            <a:ext cx="8893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Times New Roman"/>
              </a:rPr>
              <a:t>Запишите формулы предложенных веществ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Times New Roman"/>
              </a:rPr>
              <a:t>a) летучее водородное соединение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Times New Roman"/>
              </a:rPr>
              <a:t>b) азот (газ) или углерод (кокс)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Times New Roman"/>
              </a:rPr>
              <a:t>c) высший оксид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Times New Roman"/>
              </a:rPr>
              <a:t>d) азотная или угольная кислот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0" y="112536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712d1c"/>
                </a:solidFill>
                <a:latin typeface="Times New Roman"/>
              </a:rPr>
              <a:t>ыберите из списка формулы таких веществ, в которых атом вашего элемента проявля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</a:rPr>
              <a:t>a) максимальную степень окис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</a:rPr>
              <a:t>b) минимальную степень окис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</a:rPr>
              <a:t>c) промежуточную степень окисления ( между max и min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</a:rPr>
              <a:t>ВЕЩЕСТВА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 – NH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3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, HNO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3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, Mg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3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N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, Ca(NO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3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)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 , NO, NO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</a:rPr>
              <a:t>ВЕЩЕСТВА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 - CO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, CH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4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, H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CO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3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, CO, K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 CO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3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, Al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4</a:t>
            </a:r>
            <a:r>
              <a:rPr b="1" lang="en-US" sz="2800" spc="-1" strike="noStrike">
                <a:solidFill>
                  <a:srgbClr val="712d1c"/>
                </a:solidFill>
                <a:latin typeface="Book Antiqua"/>
              </a:rPr>
              <a:t>C</a:t>
            </a:r>
            <a:r>
              <a:rPr b="1" lang="en-US" sz="2800" spc="-1" strike="noStrike" baseline="-25000">
                <a:solidFill>
                  <a:srgbClr val="712d1c"/>
                </a:solidFill>
                <a:latin typeface="Book Antiqu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6:31:30Z</dcterms:created>
  <dc:creator>Пользователь Windows</dc:creator>
  <dc:description/>
  <dc:language>en-US</dc:language>
  <cp:lastModifiedBy>Пользователь Windows</cp:lastModifiedBy>
  <dcterms:modified xsi:type="dcterms:W3CDTF">2011-10-12T16:54:55Z</dcterms:modified>
  <cp:revision>7</cp:revision>
  <dc:subject/>
  <dc:title>Периодический закон и периодическая система химических элементов</dc:title>
</cp:coreProperties>
</file>