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Text Box 7"/>
          <p:cNvSpPr/>
          <p:nvPr/>
        </p:nvSpPr>
        <p:spPr>
          <a:xfrm>
            <a:off x="0" y="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9" name="Text Box 8"/>
          <p:cNvSpPr/>
          <p:nvPr/>
        </p:nvSpPr>
        <p:spPr>
          <a:xfrm>
            <a:off x="4278240" y="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0" name="Text Box 9"/>
          <p:cNvSpPr/>
          <p:nvPr/>
        </p:nvSpPr>
        <p:spPr>
          <a:xfrm>
            <a:off x="0" y="1015524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1" name="PlaceHolder 3"/>
          <p:cNvSpPr>
            <a:spLocks noGrp="1"/>
          </p:cNvSpPr>
          <p:nvPr>
            <p:ph type="sldNum" idx="64"/>
          </p:nvPr>
        </p:nvSpPr>
        <p:spPr>
          <a:xfrm>
            <a:off x="427788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C8129-6EF6-4D75-B3FA-5E855DECF1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4947E-09FC-47C9-9AE3-0369975707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7" name="Text Box 1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0547D-0C78-49E5-BBC2-37CADE443C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Arial Unicode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CC629-C6B4-4072-AC42-F993E532FF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Text Box 1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4AD7CE-1B74-430C-9E0F-AEAF817F1C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2BFBC-C809-4DBC-AEEE-880C9B90A9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06248-65E8-44E5-B928-E9C092AD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1DCCBE-1B00-46B3-BA91-59EB6605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B006C7-B20B-4310-80FF-8FC5AD2B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A207B9-1227-4453-9CFF-FE9E3FF42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AD2A45-F747-44B6-8A5B-827AD050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2F84B0-724D-4F11-ABAB-BFE436E5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ACF7B1-2F8F-42CC-BE7B-329A69E1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26EE99-039E-4380-9323-E3E24EE0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ABD506-7C6D-4B07-AE54-4FF99416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956083-0D45-403B-BDB6-D043F803DB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E72B5-9568-4350-AA3E-FA2FA1A4EA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F9A31-AED5-44E8-97B9-B1E1654B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36726-46B2-479E-ACB8-1004DB4C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280E6-A817-4F72-9214-C469803E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2C290-FDEC-49BB-B5A4-92867A96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184AE-BE2F-47B0-A1B6-396153DE5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78D23-3B91-41A7-A999-968ADAEDF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C64C0-3BC9-4E41-899A-5869348B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9C2D6-E4D2-4CAD-B8E4-B829CAD7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E2322-B562-4D86-AFE7-A5B99176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9FDB2-3440-45B4-B2EE-3D320C44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86AAA-8C0A-413A-B720-1E9E7062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84476-285E-44B3-A96A-B42DBB14FB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13EFE-6C60-406F-B866-98319F4EB0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785AD3-CD91-4F67-9B36-BEB8EE5509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8B369A-15CF-4A6A-80F9-CD4419F2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D26C31-3745-4A65-A5E2-347B7E63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9E2870-63EF-45DA-B578-2FBACEE7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6266DA-845F-4446-80DE-28EF78DC4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A938B6-45DA-44F5-B302-A6CBA1910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072934-CCD8-4627-8178-98370229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97C260-95DB-4773-BE4B-E988F625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0D9EA4-0C50-4322-BA01-06FAFD9E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5E9D1-D3C5-499F-A77B-934E9AD93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D32248-196E-49ED-B453-3EDEA586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095A14-D055-4CCE-BF7B-FB952C9B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34A3EC-A6FC-417C-8582-83D215FD1C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89AFA2-7561-4C0C-AAF1-BFE8FE0603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7C785F-B296-4272-91A2-E2125F07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A94A0A-6EDF-45EF-8206-20D5AB61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2DE017-9043-4752-B6E6-E1FFD48C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C0B9E1-5D4F-4186-A062-B3D0F717D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4EDE11-1A37-461D-9CB6-BDBF1B50F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F0DFF4-3EFC-4F63-B1B1-F753DC86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2FAE2-4BF9-4E70-B3E0-F16279CF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D14D4A-AA16-4E1A-9F91-638085A0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D3AE42-69EE-48E3-8AAD-3E4A6380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21A5A1-8CD4-4A32-A3CD-FD50C87A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C6C236-8121-4B39-9875-B74FB42A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F784A9-8BFD-4AD6-AF24-AA316B467F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F3E15-BEC5-4430-996E-38FD263DD6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C63EB-8653-467F-8437-EE441435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FA4DF-EDAA-4EB4-97C8-1CFFD597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9C7C2-0116-4072-AEE7-309AD697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EEDEE8-4002-480B-B59E-A78E74513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C5413-92F4-4B2D-9B54-81541CBA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C0D23-B9F6-4B16-86FD-78A2A6550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A15B1-07F9-4E21-A7BE-645020E3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84861-1EB1-47BD-8D57-40E72B5C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E74C2-69CB-41FE-B580-F3C1DD50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DA408A-7E97-404A-A2D5-1CB52094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04CAA-9881-4A7C-B580-11BF3B62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A7EB5-5658-44F9-AB68-6BAA53C1CD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FB3BB-67AD-4CE9-881A-59DB87E84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63D47D-00CB-4527-B6FE-C054F18D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8C6DB3-D1C1-49D3-9CD0-6D06FCAB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15647-D4A4-4EA9-B17C-6524539A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B79292-011E-4A35-9280-4EE7AC4F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B5903E-F264-44CC-9C78-61E7DFF8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DA54CE-331B-499F-BB24-AD7D1C3D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395F2-95A0-4A16-AC09-18251214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9339D1-972C-4339-80E7-143BA5CF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DD82A9-F766-4FF4-9EB3-7079B3FC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DF123B-CE4C-456A-99DE-47A9B127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B37486-5393-4CC8-8F21-196520AF4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B010E-DCBA-4D91-B2D0-E5C4656E6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B95C7-4577-4B0B-9ECE-D18665871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45298-BD70-4845-94DA-0AAFD4B7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BA58A-9CEF-454D-BAC0-15C74018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7DDC9-7A06-43FE-B512-925D1D03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7AF26-10D7-4DAE-ABA6-0B1900EF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A4E1E-D41E-4642-9EFB-62B90E87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865C0-4F3C-4414-A589-B0AD3852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C284B-D7D8-4231-B82A-71E6CBA6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89DB8-296D-4C30-9AFB-E27DE50B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23952-43E0-4434-B5AB-9B06615A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2913B-27CF-4575-B5F2-33CF4E3F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7D66A-C81D-4D22-B7AB-093863C91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ADB63-241F-4E25-9A43-8B383220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89203-A2CC-4A2F-A808-FE78FC948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7CD2B6-48E9-4078-9D58-58DCC010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7FD8FE-D8AF-4AE6-B10D-2E9253AC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E731A0-6176-48C5-83E7-48CE1547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200D4B-717A-4763-96ED-16DB1130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299C8A-27AC-4149-BA77-7D8AFC19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A8CB3-93A7-474C-83AD-AA62384B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098175-58BD-4D06-A143-7F66668E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A7D537-A2C8-4417-B0CD-CF4AA1B4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9D1735-625E-4350-A19F-FAC0C4D9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D5D97-E083-44DB-9DE6-F5860782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F127F3-7A1B-4256-BFE5-509E88B4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250809-97D6-41D5-BFF2-FB7AD9406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B256FD-3120-45B3-ACD7-E86E6B9FC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216DFD-3E94-4A20-BC9D-6F8B5ACA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266CF0-4540-40B8-9882-A0304D06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7E4CDC-1DF8-4BBF-BF06-B5614455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B2D61A-2BA3-44FF-A8F9-9226A7D3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4B9287-FAE7-4044-A42E-CC04106C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A1C4D6-724E-46C9-AF6C-7A015148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496675-E80A-4BAE-95F8-C2CD5818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79AF3-A9C7-459A-B023-FDDC1A7D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9528F-F385-4711-A031-85F80E4B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9D2928-F8CB-4B70-B5C1-3CB017F8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BBF95E-7749-4FDC-8213-46186A2B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E03567-09FB-41EA-AAD5-A86DAE3F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F61B41-615F-4C03-AE05-F40D1F6A6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BB0866-6CCB-4A51-A849-F7CF2DF76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94736A-32D1-4BD1-BF63-6280E952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9E30F1-6757-4ECF-949A-E64AE295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CDE4ED-0221-4756-90BC-E01C790E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CD6DAF-E6E4-4559-96C7-58FA790D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3FF9D9-2313-4512-A319-894F1132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1F35B-93C7-49E0-ADFC-E65551E2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1600C7-9481-48FE-8E5D-DCDEDC65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5F20D5-20D3-4464-852A-005D0408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584D43-2501-47F8-9DDD-A38F3F88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6D808C-638D-48DB-BD89-2757F209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6D41AA-4313-44E4-A586-CAC896B9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F4C8BA-B700-4FF3-9D1B-70F6394A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6E89A3-FAA0-4292-B86C-E712BECAC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E185DC-C2A8-4290-8598-9ED234789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6C0B54-9947-42A6-AC46-687872C8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41D6C2-40C6-4E44-9C67-DB0D48F5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21D99-C298-4ABA-8AA6-21E92039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271680-C629-46DC-B404-9130AD19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0925A1-4455-48A5-85C0-B19A966F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002B06-A930-4DE3-B70D-76543AB2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6D87E9-8BC1-4552-8A7F-5A823106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CFECB6-AC9F-45DE-8583-6B5DAB17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85132F-3A37-4660-A8BB-4487966B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0E4268-FE89-462D-8374-A61EC0D2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6F73D6-81FD-4F94-ABA7-0861A145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4947FE-57E2-4807-9F9F-4F56FF5B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6046EE-26C2-4397-A3F3-14CE8AFC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47F30-D5F5-4148-A379-000C5545D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5D8467-5E55-483E-8187-C10256EE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CC3276-E235-4BEC-8898-081A61F0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3B741F-D64B-4C8A-844E-F17ABE00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389A4E-CEBA-4B8A-8018-0A4E11BA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79ED25-E5F1-46D0-B04A-721B18FB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C03DFF-428E-461D-8744-0334D3BA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50CDBF-4730-4C09-9D7D-59A79841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FFA9BE-E551-46A9-86B3-0609874E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512648-2EA5-4745-AC56-4696C8C2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C57222-56BD-4BE5-8A1A-66F81D47A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26EF0-AC23-4A25-AFF4-F6288EB81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5E92F0-F5AA-4B51-B66F-922AF9D8D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4072F2-5A08-4E1E-A6BA-EAED8A5E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0CD890-5AF8-48BF-B9BD-03FEF491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DA65DB-C73B-441E-B0D8-2B3348BC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651F25-B362-48D7-96B5-1194F549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5A634B-3992-4E41-A5D1-90B79579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E0198D-6054-4ACA-A728-96FFCA9B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879C5B-F6D7-4E59-9C96-6212AA82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E12579-5057-425D-BA7D-7E00310B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192A9B-D0FB-413E-AFA8-8C039818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F1F6B3-E428-4815-8903-470594D002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D1A789-46AC-426E-8BEF-609E0C5B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B2CEBF-FEC5-4227-889F-268D7DCB0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CF196D-513B-49F8-B122-17FED30F4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A46D9C-5A20-4AC6-AD73-3110C524A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9D7DFC-26ED-4EB4-B2A9-7B333EE9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49ACA7-0C99-4630-B470-6FB88BFA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31CA66-CB3D-4B17-976D-6175225C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821FC1-56A2-405B-A815-30C30766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CEC5EC-1DE4-4C89-9328-D51B19CD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B494F6-4144-411B-8C28-8F774AED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709E26-E6BE-42CD-9F53-D36039EA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077CE5-D51E-482E-A86A-3D1C3730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AE581C-38F9-48A5-9117-C445EA2A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28F587-965B-46A7-B896-373BCF02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FD5D45-559B-441B-BE00-42F262262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A57B51-951A-494E-8085-47EB2DC1C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30072A-3E74-453B-91DF-B32DD015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D7C354-D281-41F1-AD82-11BC141F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7B86CE-73C5-47A5-8210-618CFD67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318EA9-0F97-4C3A-847E-9716E550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B79D12-A2C8-4727-9EF2-9D006845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8E5C17-852D-4C96-82E9-DC490424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614736-B3A3-4519-AE88-E892928D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F4C611-C541-441D-B3A2-59A168AA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0F3A07-F1DF-4EB3-8330-A589840E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66FEC8-26DF-41F2-B61E-3BFBE1CC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1C439E-6A98-4276-9053-2597D4DF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378946-98A8-4A77-8B1B-56DD48A68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C9112E-4D6B-42E0-A450-CCC07F569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F9FF86-BB6D-4761-92B1-3E635C336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E6C775-CE1D-4BBC-8BB7-077A1B3E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08873C-300C-4B9E-87AB-15DCA016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20C210-B13B-4C80-8BDF-0CF21A5C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60C2AE-C589-4506-AE21-B453E9DA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B12FB6-A6A6-4CA8-A447-25DDACF8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7632F5-D146-4BD5-A7DD-AA0C221D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7247DA-FC94-4A8B-BC48-CED89398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C8C28A-593B-4BC3-B9BB-175AF2A3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9B4D68-CBF5-40B0-B749-0FE831BE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98F643-F908-4E3D-B28E-3CD9B6CC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25A075-D699-4AE3-A5F0-FFB6AB8F5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96A009-DF9D-420D-9F1E-453999AC2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3825E3-304C-4DDB-9BBA-1FA7744F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822691-4944-4665-B2B8-166C13A77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054569-B9F6-48FF-97AE-D7E95455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CA82C7-A844-4F38-B390-41519B12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2F42BD-9C94-4A36-A4A2-FF89BBAE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BB5E6F-B52A-4940-828F-F899EB6A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C461A9-91C7-45DA-A9C9-7A9804E0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D5A630-72F6-4510-932C-E62647EE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D3FA4F-DC31-4445-B92D-3679A7CE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6F5D83-C4A2-471B-AAA9-2EA38551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CAA349-A9C6-4F72-BCAA-291DC147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329DA8-EC08-46AC-B5CF-A0F5D53A8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7ABBF-2729-4EB2-A0D3-AE5CD53B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5CDB2D-8FF7-416F-BC66-87D9BB11F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08B9ED-4E92-45C0-B414-9AAEECA62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D7FF64-ECC3-4FEE-8BDF-7D050C83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FD031B-F4B9-4FCD-9F84-36F6B262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B20306-9F77-40E8-BF8C-F354FE35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AA096C-0D54-456E-BF61-9F6D3D9C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3EA639-0529-40A6-85EB-2170BF06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0DF043-5817-443B-AC26-52E7FDC366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333FC-534F-4941-9D99-2CD0100164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ED234-FC48-4C8B-B8DB-2A9238F0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EA3C5-41C2-47F3-A9C5-FE081B15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24F5A-3295-4417-B48F-B3C5A7C8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C47E3-C303-4E67-89B4-47803873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FBD43-1AB1-4A7E-B623-79E55B6F4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66442-DE30-4D36-813E-52FB2C14E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AD3E2-43BD-485A-89DC-89E747B4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99082-EF37-4A69-84A1-47EB1AAD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8D077-FA71-4FDB-8E00-946D4EF8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D4DBD-685E-42D1-8325-6A5C38DA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6D0FE-6E14-4E79-8B5B-1802E78E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879E1-C06F-4E8E-97AF-012338A73F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DCE170-5721-4733-87F5-3C2E178651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004BA-B8ED-4491-AB63-DFD77FBBA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419617-FA77-44D3-B872-57D82950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6F05BA-1074-461D-84AC-EDE613AD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51DCF7-DF1F-43D7-955B-C8F7A7E0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DA4C67-C457-4DCF-B924-50194311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A9572A-A3A9-4808-84EA-875C67F9F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08A681-FFDB-4FF7-97D1-B0CBE0C5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DE401F-ADF8-4A86-8ADC-BED5F086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2738E3-B000-43D7-96B9-7C29E10D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0988AD-2C61-4AA7-9DBE-1C660C22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DC1FB2-04F0-4D47-8C99-F4AAB914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A7D0A-E7A8-45A6-9767-DFE7E8B37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796267-69F5-403D-AA67-7E2E771592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B3A7F9-51B3-4FFD-8EEF-D4B250BA49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E2A098-16EF-4E56-8328-7F84FD0B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ECDF9B-E06F-4012-ADFC-DC8BFE0C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83366C-E58C-464D-A2FD-4A08A498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D47FD7-5FE2-4846-B4B4-A4BA775DB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D5A383-0284-4DCC-8033-0E6F373E8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2D879F-C930-47F1-A1DD-0A0BAA12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274B94-5C15-4ECE-B46A-04FBC0FC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7A7724-DDA9-471A-AE46-88D9002D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68D08-8857-4C65-AECD-2F8DF07F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F2FF7F-CC93-4FDF-872C-A1B049CC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A88DCB-1738-4187-A317-26F04BAB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93058C-7077-49BE-B5A2-BF4FBD4647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90496-894F-40CC-BDD2-47130AC7C6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C7879-273A-4B8F-9A49-9AFACA95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22528-F1E2-4E94-8566-8AAAD1C4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6BDAA-105A-4A9C-B79B-948432E1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4463F-379F-4D27-9864-717AEBFC5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5A424-411B-49BF-A9DF-7BC607C6B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11615-D75A-414D-88C1-E6074C3E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21DCD-DC77-42AE-BCB8-02C6CEAC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285B8-6871-406F-9CD2-6C8E62A6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094FF-ABBE-4DAA-8A00-28862C2A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6008B-64FC-4016-A9C9-AB574477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9D0C4-8DDD-4816-997C-1145EA18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A3D31-E45E-43BF-99C6-1685316656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95AD63-08A8-43F2-88F7-01366FDDD4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33C453-20B3-47FB-9B11-4FCAFF8C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270EBC-52DB-4548-B8E7-ACFBEB07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859DC8-ADA7-44EC-A903-9BF086B6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68E108-B9D5-4A01-B2D9-185CA4F6A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C2316-1546-4132-90E8-D798984E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7F8175-D076-4157-9D26-8F63E2D95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A69D78-3A0B-4322-9C46-9F897F19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793A28-EF6F-4375-ACEE-FC2F3DA9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1EA90B-0FC7-4C04-A6F5-02CAFF43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2D1A54-B4B3-45D1-A1FC-ED65823D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DE9ECB-FC4E-48A4-A0F0-11A2D0CD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5D7665-5F34-4999-93FE-6896CC5A87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D4BF8F-4F6A-41AE-BF00-F500D39403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599925-EF3A-41A0-8F09-8150B46A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554A62-795C-4EF5-B8BF-2B97823F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4716360" y="5345280"/>
            <a:ext cx="4424400" cy="1509480"/>
            <a:chOff x="4716360" y="5345280"/>
            <a:chExt cx="4424400" cy="1509480"/>
          </a:xfrm>
        </p:grpSpPr>
        <p:sp>
          <p:nvSpPr>
            <p:cNvPr id="1" name="Freeform 2"/>
            <p:cNvSpPr/>
            <p:nvPr/>
          </p:nvSpPr>
          <p:spPr>
            <a:xfrm>
              <a:off x="4716360" y="5345280"/>
              <a:ext cx="4424400" cy="150948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7305840" y="6372360"/>
              <a:ext cx="15840" cy="252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7296120" y="6343560"/>
              <a:ext cx="6480" cy="2556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8223120" y="5678640"/>
              <a:ext cx="479520" cy="117288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7807320" y="5640480"/>
              <a:ext cx="495360" cy="121428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7461360" y="5869080"/>
              <a:ext cx="433440" cy="98568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7178760" y="5888160"/>
              <a:ext cx="334800" cy="96660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6813720" y="6248520"/>
              <a:ext cx="261720" cy="60624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6508800" y="6381720"/>
              <a:ext cx="260280" cy="47304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6207120" y="6410160"/>
              <a:ext cx="372960" cy="44460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5832360" y="6486480"/>
              <a:ext cx="308160" cy="36828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5518080" y="6458040"/>
              <a:ext cx="298440" cy="39672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5032440" y="6648480"/>
              <a:ext cx="361800" cy="20628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4832280" y="6696000"/>
              <a:ext cx="138240" cy="15876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8702640" y="5345280"/>
              <a:ext cx="438120" cy="150948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Text Box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sldNum" idx="2"/>
          </p:nvPr>
        </p:nvSpPr>
        <p:spPr>
          <a:xfrm>
            <a:off x="655308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9B755C2-546F-4B1D-92F3-AD7BDD6DCF91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1"/>
          <p:cNvGrpSpPr/>
          <p:nvPr/>
        </p:nvGrpSpPr>
        <p:grpSpPr>
          <a:xfrm>
            <a:off x="4716360" y="5345280"/>
            <a:ext cx="4424400" cy="1509480"/>
            <a:chOff x="4716360" y="5345280"/>
            <a:chExt cx="4424400" cy="1509480"/>
          </a:xfrm>
        </p:grpSpPr>
        <p:sp>
          <p:nvSpPr>
            <p:cNvPr id="563" name="Freeform 2"/>
            <p:cNvSpPr/>
            <p:nvPr/>
          </p:nvSpPr>
          <p:spPr>
            <a:xfrm>
              <a:off x="4716360" y="5345280"/>
              <a:ext cx="4424400" cy="150948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Freeform 3"/>
            <p:cNvSpPr/>
            <p:nvPr/>
          </p:nvSpPr>
          <p:spPr>
            <a:xfrm>
              <a:off x="7305840" y="6372360"/>
              <a:ext cx="15840" cy="252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Freeform 4"/>
            <p:cNvSpPr/>
            <p:nvPr/>
          </p:nvSpPr>
          <p:spPr>
            <a:xfrm>
              <a:off x="7296120" y="6343560"/>
              <a:ext cx="6480" cy="2556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Freeform 5"/>
            <p:cNvSpPr/>
            <p:nvPr/>
          </p:nvSpPr>
          <p:spPr>
            <a:xfrm>
              <a:off x="8223120" y="5678640"/>
              <a:ext cx="479520" cy="117288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Freeform 6"/>
            <p:cNvSpPr/>
            <p:nvPr/>
          </p:nvSpPr>
          <p:spPr>
            <a:xfrm>
              <a:off x="7807320" y="5640480"/>
              <a:ext cx="495360" cy="121428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Freeform 7"/>
            <p:cNvSpPr/>
            <p:nvPr/>
          </p:nvSpPr>
          <p:spPr>
            <a:xfrm>
              <a:off x="7461360" y="5869080"/>
              <a:ext cx="433440" cy="98568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Freeform 8"/>
            <p:cNvSpPr/>
            <p:nvPr/>
          </p:nvSpPr>
          <p:spPr>
            <a:xfrm>
              <a:off x="7178760" y="5888160"/>
              <a:ext cx="334800" cy="96660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Freeform 9"/>
            <p:cNvSpPr/>
            <p:nvPr/>
          </p:nvSpPr>
          <p:spPr>
            <a:xfrm>
              <a:off x="6813720" y="6248520"/>
              <a:ext cx="261720" cy="60624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Freeform 10"/>
            <p:cNvSpPr/>
            <p:nvPr/>
          </p:nvSpPr>
          <p:spPr>
            <a:xfrm>
              <a:off x="6508800" y="6381720"/>
              <a:ext cx="260280" cy="47304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Freeform 11"/>
            <p:cNvSpPr/>
            <p:nvPr/>
          </p:nvSpPr>
          <p:spPr>
            <a:xfrm>
              <a:off x="6207120" y="6410160"/>
              <a:ext cx="372960" cy="44460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Freeform 12"/>
            <p:cNvSpPr/>
            <p:nvPr/>
          </p:nvSpPr>
          <p:spPr>
            <a:xfrm>
              <a:off x="5832360" y="6486480"/>
              <a:ext cx="308160" cy="36828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Freeform 13"/>
            <p:cNvSpPr/>
            <p:nvPr/>
          </p:nvSpPr>
          <p:spPr>
            <a:xfrm>
              <a:off x="5518080" y="6458040"/>
              <a:ext cx="298440" cy="39672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Freeform 14"/>
            <p:cNvSpPr/>
            <p:nvPr/>
          </p:nvSpPr>
          <p:spPr>
            <a:xfrm>
              <a:off x="5032440" y="6648480"/>
              <a:ext cx="361800" cy="20628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Freeform 15"/>
            <p:cNvSpPr/>
            <p:nvPr/>
          </p:nvSpPr>
          <p:spPr>
            <a:xfrm>
              <a:off x="4832280" y="6696000"/>
              <a:ext cx="138240" cy="15876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Freeform 16"/>
            <p:cNvSpPr/>
            <p:nvPr/>
          </p:nvSpPr>
          <p:spPr>
            <a:xfrm>
              <a:off x="8702640" y="5345280"/>
              <a:ext cx="438120" cy="150948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8" name="Text Box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0"/>
          </p:nvPr>
        </p:nvSpPr>
        <p:spPr>
          <a:xfrm>
            <a:off x="45720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DDAAE91-CB1F-45FB-9F9D-18118E2AA3A2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1"/>
          <p:cNvGrpSpPr/>
          <p:nvPr/>
        </p:nvGrpSpPr>
        <p:grpSpPr>
          <a:xfrm>
            <a:off x="4716360" y="5345280"/>
            <a:ext cx="4424400" cy="1509480"/>
            <a:chOff x="4716360" y="5345280"/>
            <a:chExt cx="4424400" cy="1509480"/>
          </a:xfrm>
        </p:grpSpPr>
        <p:sp>
          <p:nvSpPr>
            <p:cNvPr id="620" name="Freeform 2"/>
            <p:cNvSpPr/>
            <p:nvPr/>
          </p:nvSpPr>
          <p:spPr>
            <a:xfrm>
              <a:off x="4716360" y="5345280"/>
              <a:ext cx="4424400" cy="150948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Freeform 3"/>
            <p:cNvSpPr/>
            <p:nvPr/>
          </p:nvSpPr>
          <p:spPr>
            <a:xfrm>
              <a:off x="7305840" y="6372360"/>
              <a:ext cx="15840" cy="252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Freeform 4"/>
            <p:cNvSpPr/>
            <p:nvPr/>
          </p:nvSpPr>
          <p:spPr>
            <a:xfrm>
              <a:off x="7296120" y="6343560"/>
              <a:ext cx="6480" cy="2556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Freeform 5"/>
            <p:cNvSpPr/>
            <p:nvPr/>
          </p:nvSpPr>
          <p:spPr>
            <a:xfrm>
              <a:off x="8223120" y="5678640"/>
              <a:ext cx="479520" cy="117288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Freeform 6"/>
            <p:cNvSpPr/>
            <p:nvPr/>
          </p:nvSpPr>
          <p:spPr>
            <a:xfrm>
              <a:off x="7807320" y="5640480"/>
              <a:ext cx="495360" cy="121428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Freeform 7"/>
            <p:cNvSpPr/>
            <p:nvPr/>
          </p:nvSpPr>
          <p:spPr>
            <a:xfrm>
              <a:off x="7461360" y="5869080"/>
              <a:ext cx="433440" cy="98568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Freeform 8"/>
            <p:cNvSpPr/>
            <p:nvPr/>
          </p:nvSpPr>
          <p:spPr>
            <a:xfrm>
              <a:off x="7178760" y="5888160"/>
              <a:ext cx="334800" cy="96660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9"/>
            <p:cNvSpPr/>
            <p:nvPr/>
          </p:nvSpPr>
          <p:spPr>
            <a:xfrm>
              <a:off x="6813720" y="6248520"/>
              <a:ext cx="261720" cy="60624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10"/>
            <p:cNvSpPr/>
            <p:nvPr/>
          </p:nvSpPr>
          <p:spPr>
            <a:xfrm>
              <a:off x="6508800" y="6381720"/>
              <a:ext cx="260280" cy="47304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Freeform 11"/>
            <p:cNvSpPr/>
            <p:nvPr/>
          </p:nvSpPr>
          <p:spPr>
            <a:xfrm>
              <a:off x="6207120" y="6410160"/>
              <a:ext cx="372960" cy="44460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Freeform 12"/>
            <p:cNvSpPr/>
            <p:nvPr/>
          </p:nvSpPr>
          <p:spPr>
            <a:xfrm>
              <a:off x="5832360" y="6486480"/>
              <a:ext cx="308160" cy="36828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Freeform 13"/>
            <p:cNvSpPr/>
            <p:nvPr/>
          </p:nvSpPr>
          <p:spPr>
            <a:xfrm>
              <a:off x="5518080" y="6458040"/>
              <a:ext cx="298440" cy="39672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Freeform 14"/>
            <p:cNvSpPr/>
            <p:nvPr/>
          </p:nvSpPr>
          <p:spPr>
            <a:xfrm>
              <a:off x="5032440" y="6648480"/>
              <a:ext cx="361800" cy="20628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Freeform 15"/>
            <p:cNvSpPr/>
            <p:nvPr/>
          </p:nvSpPr>
          <p:spPr>
            <a:xfrm>
              <a:off x="4832280" y="6696000"/>
              <a:ext cx="138240" cy="15876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Freeform 16"/>
            <p:cNvSpPr/>
            <p:nvPr/>
          </p:nvSpPr>
          <p:spPr>
            <a:xfrm>
              <a:off x="8702640" y="5345280"/>
              <a:ext cx="438120" cy="150948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5" name="Text Box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22"/>
          </p:nvPr>
        </p:nvSpPr>
        <p:spPr>
          <a:xfrm>
            <a:off x="45720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sldNum" idx="23"/>
          </p:nvPr>
        </p:nvSpPr>
        <p:spPr>
          <a:xfrm>
            <a:off x="655308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6C9C4DF-D732-4AFD-9C45-F6E900D08DCF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6" name="Group 1"/>
          <p:cNvGrpSpPr/>
          <p:nvPr/>
        </p:nvGrpSpPr>
        <p:grpSpPr>
          <a:xfrm>
            <a:off x="4716360" y="5345280"/>
            <a:ext cx="4424400" cy="1509480"/>
            <a:chOff x="4716360" y="5345280"/>
            <a:chExt cx="4424400" cy="1509480"/>
          </a:xfrm>
        </p:grpSpPr>
        <p:sp>
          <p:nvSpPr>
            <p:cNvPr id="677" name="Freeform 2"/>
            <p:cNvSpPr/>
            <p:nvPr/>
          </p:nvSpPr>
          <p:spPr>
            <a:xfrm>
              <a:off x="4716360" y="5345280"/>
              <a:ext cx="4424400" cy="150948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Freeform 3"/>
            <p:cNvSpPr/>
            <p:nvPr/>
          </p:nvSpPr>
          <p:spPr>
            <a:xfrm>
              <a:off x="7305840" y="6372360"/>
              <a:ext cx="15840" cy="252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Freeform 4"/>
            <p:cNvSpPr/>
            <p:nvPr/>
          </p:nvSpPr>
          <p:spPr>
            <a:xfrm>
              <a:off x="7296120" y="6343560"/>
              <a:ext cx="6480" cy="2556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Freeform 5"/>
            <p:cNvSpPr/>
            <p:nvPr/>
          </p:nvSpPr>
          <p:spPr>
            <a:xfrm>
              <a:off x="8223120" y="5678640"/>
              <a:ext cx="479520" cy="117288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Freeform 6"/>
            <p:cNvSpPr/>
            <p:nvPr/>
          </p:nvSpPr>
          <p:spPr>
            <a:xfrm>
              <a:off x="7807320" y="5640480"/>
              <a:ext cx="495360" cy="121428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Freeform 7"/>
            <p:cNvSpPr/>
            <p:nvPr/>
          </p:nvSpPr>
          <p:spPr>
            <a:xfrm>
              <a:off x="7461360" y="5869080"/>
              <a:ext cx="433440" cy="98568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Freeform 8"/>
            <p:cNvSpPr/>
            <p:nvPr/>
          </p:nvSpPr>
          <p:spPr>
            <a:xfrm>
              <a:off x="7178760" y="5888160"/>
              <a:ext cx="334800" cy="96660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Freeform 9"/>
            <p:cNvSpPr/>
            <p:nvPr/>
          </p:nvSpPr>
          <p:spPr>
            <a:xfrm>
              <a:off x="6813720" y="6248520"/>
              <a:ext cx="261720" cy="60624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Freeform 10"/>
            <p:cNvSpPr/>
            <p:nvPr/>
          </p:nvSpPr>
          <p:spPr>
            <a:xfrm>
              <a:off x="6508800" y="6381720"/>
              <a:ext cx="260280" cy="47304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Freeform 11"/>
            <p:cNvSpPr/>
            <p:nvPr/>
          </p:nvSpPr>
          <p:spPr>
            <a:xfrm>
              <a:off x="6207120" y="6410160"/>
              <a:ext cx="372960" cy="44460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Freeform 12"/>
            <p:cNvSpPr/>
            <p:nvPr/>
          </p:nvSpPr>
          <p:spPr>
            <a:xfrm>
              <a:off x="5832360" y="6486480"/>
              <a:ext cx="308160" cy="36828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Freeform 13"/>
            <p:cNvSpPr/>
            <p:nvPr/>
          </p:nvSpPr>
          <p:spPr>
            <a:xfrm>
              <a:off x="5518080" y="6458040"/>
              <a:ext cx="298440" cy="39672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Freeform 14"/>
            <p:cNvSpPr/>
            <p:nvPr/>
          </p:nvSpPr>
          <p:spPr>
            <a:xfrm>
              <a:off x="5032440" y="6648480"/>
              <a:ext cx="361800" cy="20628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Freeform 15"/>
            <p:cNvSpPr/>
            <p:nvPr/>
          </p:nvSpPr>
          <p:spPr>
            <a:xfrm>
              <a:off x="4832280" y="6696000"/>
              <a:ext cx="138240" cy="15876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Freeform 16"/>
            <p:cNvSpPr/>
            <p:nvPr/>
          </p:nvSpPr>
          <p:spPr>
            <a:xfrm>
              <a:off x="8702640" y="5345280"/>
              <a:ext cx="438120" cy="150948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2" name="Text Box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24"/>
          </p:nvPr>
        </p:nvSpPr>
        <p:spPr>
          <a:xfrm>
            <a:off x="45720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sldNum" idx="25"/>
          </p:nvPr>
        </p:nvSpPr>
        <p:spPr>
          <a:xfrm>
            <a:off x="655308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AA13122-868B-4143-A6F4-171A2C70E58A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3" name="Group 1"/>
          <p:cNvGrpSpPr/>
          <p:nvPr/>
        </p:nvGrpSpPr>
        <p:grpSpPr>
          <a:xfrm>
            <a:off x="4716360" y="5345280"/>
            <a:ext cx="4424400" cy="1509480"/>
            <a:chOff x="4716360" y="5345280"/>
            <a:chExt cx="4424400" cy="1509480"/>
          </a:xfrm>
        </p:grpSpPr>
        <p:sp>
          <p:nvSpPr>
            <p:cNvPr id="734" name="Freeform 2"/>
            <p:cNvSpPr/>
            <p:nvPr/>
          </p:nvSpPr>
          <p:spPr>
            <a:xfrm>
              <a:off x="4716360" y="5345280"/>
              <a:ext cx="4424400" cy="150948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Freeform 3"/>
            <p:cNvSpPr/>
            <p:nvPr/>
          </p:nvSpPr>
          <p:spPr>
            <a:xfrm>
              <a:off x="7305840" y="6372360"/>
              <a:ext cx="15840" cy="252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Freeform 4"/>
            <p:cNvSpPr/>
            <p:nvPr/>
          </p:nvSpPr>
          <p:spPr>
            <a:xfrm>
              <a:off x="7296120" y="6343560"/>
              <a:ext cx="6480" cy="2556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Freeform 5"/>
            <p:cNvSpPr/>
            <p:nvPr/>
          </p:nvSpPr>
          <p:spPr>
            <a:xfrm>
              <a:off x="8223120" y="5678640"/>
              <a:ext cx="479520" cy="117288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Freeform 6"/>
            <p:cNvSpPr/>
            <p:nvPr/>
          </p:nvSpPr>
          <p:spPr>
            <a:xfrm>
              <a:off x="7807320" y="5640480"/>
              <a:ext cx="495360" cy="121428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Freeform 7"/>
            <p:cNvSpPr/>
            <p:nvPr/>
          </p:nvSpPr>
          <p:spPr>
            <a:xfrm>
              <a:off x="7461360" y="5869080"/>
              <a:ext cx="433440" cy="98568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Freeform 8"/>
            <p:cNvSpPr/>
            <p:nvPr/>
          </p:nvSpPr>
          <p:spPr>
            <a:xfrm>
              <a:off x="7178760" y="5888160"/>
              <a:ext cx="334800" cy="96660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Freeform 9"/>
            <p:cNvSpPr/>
            <p:nvPr/>
          </p:nvSpPr>
          <p:spPr>
            <a:xfrm>
              <a:off x="6813720" y="6248520"/>
              <a:ext cx="261720" cy="60624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Freeform 10"/>
            <p:cNvSpPr/>
            <p:nvPr/>
          </p:nvSpPr>
          <p:spPr>
            <a:xfrm>
              <a:off x="6508800" y="6381720"/>
              <a:ext cx="260280" cy="47304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Freeform 11"/>
            <p:cNvSpPr/>
            <p:nvPr/>
          </p:nvSpPr>
          <p:spPr>
            <a:xfrm>
              <a:off x="6207120" y="6410160"/>
              <a:ext cx="372960" cy="44460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Freeform 12"/>
            <p:cNvSpPr/>
            <p:nvPr/>
          </p:nvSpPr>
          <p:spPr>
            <a:xfrm>
              <a:off x="5832360" y="6486480"/>
              <a:ext cx="308160" cy="36828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Freeform 13"/>
            <p:cNvSpPr/>
            <p:nvPr/>
          </p:nvSpPr>
          <p:spPr>
            <a:xfrm>
              <a:off x="5518080" y="6458040"/>
              <a:ext cx="298440" cy="39672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Freeform 14"/>
            <p:cNvSpPr/>
            <p:nvPr/>
          </p:nvSpPr>
          <p:spPr>
            <a:xfrm>
              <a:off x="5032440" y="6648480"/>
              <a:ext cx="361800" cy="20628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Freeform 15"/>
            <p:cNvSpPr/>
            <p:nvPr/>
          </p:nvSpPr>
          <p:spPr>
            <a:xfrm>
              <a:off x="4832280" y="6696000"/>
              <a:ext cx="138240" cy="15876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Freeform 16"/>
            <p:cNvSpPr/>
            <p:nvPr/>
          </p:nvSpPr>
          <p:spPr>
            <a:xfrm>
              <a:off x="8702640" y="5345280"/>
              <a:ext cx="438120" cy="150948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9" name="Text Box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26"/>
          </p:nvPr>
        </p:nvSpPr>
        <p:spPr>
          <a:xfrm>
            <a:off x="45720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0F3722B-62A6-4FEB-9D71-62811C608384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791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2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793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4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805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3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824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1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842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49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850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6B462CC-76B9-4146-9CB2-C1D29DD4738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6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97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8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99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0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11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9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930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47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8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55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956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8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9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9C27485-67D1-441A-88AB-F1680486F8D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0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0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01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03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05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6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6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9160CC2-D7B3-4305-903C-71D6FBBA133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10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11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12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14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5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16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6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16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3584458-611A-4DF2-992D-6F77DFC9827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4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215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16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217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28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29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248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65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266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3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274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5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6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7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F742C36-726B-4BB2-9F61-8E954AB1A1C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321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2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32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3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33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5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35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7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7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7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38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D5C6714-9CEA-4069-A05D-20468F1B0CE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9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1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1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9B6FACD-29B1-408B-8AF4-197135F5064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6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27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28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429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40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441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59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60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77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478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85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86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7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8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9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91E2D91-4782-4044-A125-663EBC28FBD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53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3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3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4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54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6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56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9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59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2813951-73CC-4539-B586-5CD0790A004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63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4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64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5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7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67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69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9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9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65C74B7-C760-459D-AE1A-ADD2C77C256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4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745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6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747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58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759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2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3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4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5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6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7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778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9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0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1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2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3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4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5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6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5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796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2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03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804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5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6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7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0385FBD-51A3-4C53-B409-877F5E2DD28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851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5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85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6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86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8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8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0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0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0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91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D88E775-7131-4B95-814A-CF59BB22400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6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957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58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959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0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1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2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3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4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5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6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7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8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9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70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971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2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3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4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5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6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7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8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9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0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1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2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3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4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5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6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7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8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89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990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1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2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3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4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5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6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7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8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9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0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1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2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3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4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5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6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07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008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9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0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1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2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3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4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15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16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7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8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9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709E13B-614C-4B0E-81CB-E573FCF22C2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1"/>
          <p:cNvGrpSpPr/>
          <p:nvPr/>
        </p:nvGrpSpPr>
        <p:grpSpPr>
          <a:xfrm>
            <a:off x="4716360" y="5345280"/>
            <a:ext cx="4424400" cy="1509480"/>
            <a:chOff x="4716360" y="5345280"/>
            <a:chExt cx="4424400" cy="1509480"/>
          </a:xfrm>
        </p:grpSpPr>
        <p:sp>
          <p:nvSpPr>
            <p:cNvPr id="164" name="Freeform 2"/>
            <p:cNvSpPr/>
            <p:nvPr/>
          </p:nvSpPr>
          <p:spPr>
            <a:xfrm>
              <a:off x="4716360" y="5345280"/>
              <a:ext cx="4424400" cy="150948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3"/>
            <p:cNvSpPr/>
            <p:nvPr/>
          </p:nvSpPr>
          <p:spPr>
            <a:xfrm>
              <a:off x="7305840" y="6372360"/>
              <a:ext cx="15840" cy="252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4"/>
            <p:cNvSpPr/>
            <p:nvPr/>
          </p:nvSpPr>
          <p:spPr>
            <a:xfrm>
              <a:off x="7296120" y="6343560"/>
              <a:ext cx="6480" cy="2556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5"/>
            <p:cNvSpPr/>
            <p:nvPr/>
          </p:nvSpPr>
          <p:spPr>
            <a:xfrm>
              <a:off x="8223120" y="5678640"/>
              <a:ext cx="479520" cy="117288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6"/>
            <p:cNvSpPr/>
            <p:nvPr/>
          </p:nvSpPr>
          <p:spPr>
            <a:xfrm>
              <a:off x="7807320" y="5640480"/>
              <a:ext cx="495360" cy="121428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7"/>
            <p:cNvSpPr/>
            <p:nvPr/>
          </p:nvSpPr>
          <p:spPr>
            <a:xfrm>
              <a:off x="7461360" y="5869080"/>
              <a:ext cx="433440" cy="98568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8"/>
            <p:cNvSpPr/>
            <p:nvPr/>
          </p:nvSpPr>
          <p:spPr>
            <a:xfrm>
              <a:off x="7178760" y="5888160"/>
              <a:ext cx="334800" cy="96660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9"/>
            <p:cNvSpPr/>
            <p:nvPr/>
          </p:nvSpPr>
          <p:spPr>
            <a:xfrm>
              <a:off x="6813720" y="6248520"/>
              <a:ext cx="261720" cy="60624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>
              <a:off x="6508800" y="6381720"/>
              <a:ext cx="260280" cy="47304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6207120" y="6410160"/>
              <a:ext cx="372960" cy="44460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2"/>
            <p:cNvSpPr/>
            <p:nvPr/>
          </p:nvSpPr>
          <p:spPr>
            <a:xfrm>
              <a:off x="5832360" y="6486480"/>
              <a:ext cx="308160" cy="36828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3"/>
            <p:cNvSpPr/>
            <p:nvPr/>
          </p:nvSpPr>
          <p:spPr>
            <a:xfrm>
              <a:off x="5518080" y="6458040"/>
              <a:ext cx="298440" cy="39672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4"/>
            <p:cNvSpPr/>
            <p:nvPr/>
          </p:nvSpPr>
          <p:spPr>
            <a:xfrm>
              <a:off x="5032440" y="6648480"/>
              <a:ext cx="361800" cy="20628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5"/>
            <p:cNvSpPr/>
            <p:nvPr/>
          </p:nvSpPr>
          <p:spPr>
            <a:xfrm>
              <a:off x="4832280" y="6696000"/>
              <a:ext cx="138240" cy="15876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6"/>
            <p:cNvSpPr/>
            <p:nvPr/>
          </p:nvSpPr>
          <p:spPr>
            <a:xfrm>
              <a:off x="8702640" y="5345280"/>
              <a:ext cx="438120" cy="150948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Text Box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6"/>
          </p:nvPr>
        </p:nvSpPr>
        <p:spPr>
          <a:xfrm>
            <a:off x="45720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sldNum" idx="7"/>
          </p:nvPr>
        </p:nvSpPr>
        <p:spPr>
          <a:xfrm>
            <a:off x="655308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E2395AC-9FEB-43CE-8205-07C4534FD4C0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1"/>
          <p:cNvGrpSpPr/>
          <p:nvPr/>
        </p:nvGrpSpPr>
        <p:grpSpPr>
          <a:xfrm>
            <a:off x="4716360" y="5345280"/>
            <a:ext cx="4424400" cy="1509480"/>
            <a:chOff x="4716360" y="5345280"/>
            <a:chExt cx="4424400" cy="1509480"/>
          </a:xfrm>
        </p:grpSpPr>
        <p:sp>
          <p:nvSpPr>
            <p:cNvPr id="221" name="Freeform 2"/>
            <p:cNvSpPr/>
            <p:nvPr/>
          </p:nvSpPr>
          <p:spPr>
            <a:xfrm>
              <a:off x="4716360" y="5345280"/>
              <a:ext cx="4424400" cy="150948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3"/>
            <p:cNvSpPr/>
            <p:nvPr/>
          </p:nvSpPr>
          <p:spPr>
            <a:xfrm>
              <a:off x="7305840" y="6372360"/>
              <a:ext cx="15840" cy="252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4"/>
            <p:cNvSpPr/>
            <p:nvPr/>
          </p:nvSpPr>
          <p:spPr>
            <a:xfrm>
              <a:off x="7296120" y="6343560"/>
              <a:ext cx="6480" cy="2556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5"/>
            <p:cNvSpPr/>
            <p:nvPr/>
          </p:nvSpPr>
          <p:spPr>
            <a:xfrm>
              <a:off x="8223120" y="5678640"/>
              <a:ext cx="479520" cy="117288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6"/>
            <p:cNvSpPr/>
            <p:nvPr/>
          </p:nvSpPr>
          <p:spPr>
            <a:xfrm>
              <a:off x="7807320" y="5640480"/>
              <a:ext cx="495360" cy="121428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7"/>
            <p:cNvSpPr/>
            <p:nvPr/>
          </p:nvSpPr>
          <p:spPr>
            <a:xfrm>
              <a:off x="7461360" y="5869080"/>
              <a:ext cx="433440" cy="98568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8"/>
            <p:cNvSpPr/>
            <p:nvPr/>
          </p:nvSpPr>
          <p:spPr>
            <a:xfrm>
              <a:off x="7178760" y="5888160"/>
              <a:ext cx="334800" cy="96660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9"/>
            <p:cNvSpPr/>
            <p:nvPr/>
          </p:nvSpPr>
          <p:spPr>
            <a:xfrm>
              <a:off x="6813720" y="6248520"/>
              <a:ext cx="261720" cy="60624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10"/>
            <p:cNvSpPr/>
            <p:nvPr/>
          </p:nvSpPr>
          <p:spPr>
            <a:xfrm>
              <a:off x="6508800" y="6381720"/>
              <a:ext cx="260280" cy="47304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11"/>
            <p:cNvSpPr/>
            <p:nvPr/>
          </p:nvSpPr>
          <p:spPr>
            <a:xfrm>
              <a:off x="6207120" y="6410160"/>
              <a:ext cx="372960" cy="44460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12"/>
            <p:cNvSpPr/>
            <p:nvPr/>
          </p:nvSpPr>
          <p:spPr>
            <a:xfrm>
              <a:off x="5832360" y="6486480"/>
              <a:ext cx="308160" cy="36828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13"/>
            <p:cNvSpPr/>
            <p:nvPr/>
          </p:nvSpPr>
          <p:spPr>
            <a:xfrm>
              <a:off x="5518080" y="6458040"/>
              <a:ext cx="298440" cy="39672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14"/>
            <p:cNvSpPr/>
            <p:nvPr/>
          </p:nvSpPr>
          <p:spPr>
            <a:xfrm>
              <a:off x="5032440" y="6648480"/>
              <a:ext cx="361800" cy="20628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15"/>
            <p:cNvSpPr/>
            <p:nvPr/>
          </p:nvSpPr>
          <p:spPr>
            <a:xfrm>
              <a:off x="4832280" y="6696000"/>
              <a:ext cx="138240" cy="15876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16"/>
            <p:cNvSpPr/>
            <p:nvPr/>
          </p:nvSpPr>
          <p:spPr>
            <a:xfrm>
              <a:off x="8702640" y="5345280"/>
              <a:ext cx="438120" cy="150948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Text Box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8"/>
          </p:nvPr>
        </p:nvSpPr>
        <p:spPr>
          <a:xfrm>
            <a:off x="45720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sldNum" idx="9"/>
          </p:nvPr>
        </p:nvSpPr>
        <p:spPr>
          <a:xfrm>
            <a:off x="655308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9420738-9B24-49F1-B468-D79831010C54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1"/>
          <p:cNvGrpSpPr/>
          <p:nvPr/>
        </p:nvGrpSpPr>
        <p:grpSpPr>
          <a:xfrm>
            <a:off x="4716360" y="5345280"/>
            <a:ext cx="4424400" cy="1509480"/>
            <a:chOff x="4716360" y="5345280"/>
            <a:chExt cx="4424400" cy="1509480"/>
          </a:xfrm>
        </p:grpSpPr>
        <p:sp>
          <p:nvSpPr>
            <p:cNvPr id="278" name="Freeform 2"/>
            <p:cNvSpPr/>
            <p:nvPr/>
          </p:nvSpPr>
          <p:spPr>
            <a:xfrm>
              <a:off x="4716360" y="5345280"/>
              <a:ext cx="4424400" cy="150948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3"/>
            <p:cNvSpPr/>
            <p:nvPr/>
          </p:nvSpPr>
          <p:spPr>
            <a:xfrm>
              <a:off x="7305840" y="6372360"/>
              <a:ext cx="15840" cy="252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4"/>
            <p:cNvSpPr/>
            <p:nvPr/>
          </p:nvSpPr>
          <p:spPr>
            <a:xfrm>
              <a:off x="7296120" y="6343560"/>
              <a:ext cx="6480" cy="2556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5"/>
            <p:cNvSpPr/>
            <p:nvPr/>
          </p:nvSpPr>
          <p:spPr>
            <a:xfrm>
              <a:off x="8223120" y="5678640"/>
              <a:ext cx="479520" cy="117288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6"/>
            <p:cNvSpPr/>
            <p:nvPr/>
          </p:nvSpPr>
          <p:spPr>
            <a:xfrm>
              <a:off x="7807320" y="5640480"/>
              <a:ext cx="495360" cy="121428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7"/>
            <p:cNvSpPr/>
            <p:nvPr/>
          </p:nvSpPr>
          <p:spPr>
            <a:xfrm>
              <a:off x="7461360" y="5869080"/>
              <a:ext cx="433440" cy="98568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8"/>
            <p:cNvSpPr/>
            <p:nvPr/>
          </p:nvSpPr>
          <p:spPr>
            <a:xfrm>
              <a:off x="7178760" y="5888160"/>
              <a:ext cx="334800" cy="96660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9"/>
            <p:cNvSpPr/>
            <p:nvPr/>
          </p:nvSpPr>
          <p:spPr>
            <a:xfrm>
              <a:off x="6813720" y="6248520"/>
              <a:ext cx="261720" cy="60624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10"/>
            <p:cNvSpPr/>
            <p:nvPr/>
          </p:nvSpPr>
          <p:spPr>
            <a:xfrm>
              <a:off x="6508800" y="6381720"/>
              <a:ext cx="260280" cy="47304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11"/>
            <p:cNvSpPr/>
            <p:nvPr/>
          </p:nvSpPr>
          <p:spPr>
            <a:xfrm>
              <a:off x="6207120" y="6410160"/>
              <a:ext cx="372960" cy="44460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12"/>
            <p:cNvSpPr/>
            <p:nvPr/>
          </p:nvSpPr>
          <p:spPr>
            <a:xfrm>
              <a:off x="5832360" y="6486480"/>
              <a:ext cx="308160" cy="36828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13"/>
            <p:cNvSpPr/>
            <p:nvPr/>
          </p:nvSpPr>
          <p:spPr>
            <a:xfrm>
              <a:off x="5518080" y="6458040"/>
              <a:ext cx="298440" cy="39672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14"/>
            <p:cNvSpPr/>
            <p:nvPr/>
          </p:nvSpPr>
          <p:spPr>
            <a:xfrm>
              <a:off x="5032440" y="6648480"/>
              <a:ext cx="361800" cy="20628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15"/>
            <p:cNvSpPr/>
            <p:nvPr/>
          </p:nvSpPr>
          <p:spPr>
            <a:xfrm>
              <a:off x="4832280" y="6696000"/>
              <a:ext cx="138240" cy="15876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16"/>
            <p:cNvSpPr/>
            <p:nvPr/>
          </p:nvSpPr>
          <p:spPr>
            <a:xfrm>
              <a:off x="8702640" y="5345280"/>
              <a:ext cx="438120" cy="150948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Text Box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45720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sldNum" idx="11"/>
          </p:nvPr>
        </p:nvSpPr>
        <p:spPr>
          <a:xfrm>
            <a:off x="655308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5EAA2F6-517C-4174-B215-932459E1E1F7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Group 1"/>
          <p:cNvGrpSpPr/>
          <p:nvPr/>
        </p:nvGrpSpPr>
        <p:grpSpPr>
          <a:xfrm>
            <a:off x="4716360" y="5345280"/>
            <a:ext cx="4424400" cy="1509480"/>
            <a:chOff x="4716360" y="5345280"/>
            <a:chExt cx="4424400" cy="1509480"/>
          </a:xfrm>
        </p:grpSpPr>
        <p:sp>
          <p:nvSpPr>
            <p:cNvPr id="335" name="Freeform 2"/>
            <p:cNvSpPr/>
            <p:nvPr/>
          </p:nvSpPr>
          <p:spPr>
            <a:xfrm>
              <a:off x="4716360" y="5345280"/>
              <a:ext cx="4424400" cy="150948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3"/>
            <p:cNvSpPr/>
            <p:nvPr/>
          </p:nvSpPr>
          <p:spPr>
            <a:xfrm>
              <a:off x="7305840" y="6372360"/>
              <a:ext cx="15840" cy="252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4"/>
            <p:cNvSpPr/>
            <p:nvPr/>
          </p:nvSpPr>
          <p:spPr>
            <a:xfrm>
              <a:off x="7296120" y="6343560"/>
              <a:ext cx="6480" cy="2556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5"/>
            <p:cNvSpPr/>
            <p:nvPr/>
          </p:nvSpPr>
          <p:spPr>
            <a:xfrm>
              <a:off x="8223120" y="5678640"/>
              <a:ext cx="479520" cy="117288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6"/>
            <p:cNvSpPr/>
            <p:nvPr/>
          </p:nvSpPr>
          <p:spPr>
            <a:xfrm>
              <a:off x="7807320" y="5640480"/>
              <a:ext cx="495360" cy="121428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7"/>
            <p:cNvSpPr/>
            <p:nvPr/>
          </p:nvSpPr>
          <p:spPr>
            <a:xfrm>
              <a:off x="7461360" y="5869080"/>
              <a:ext cx="433440" cy="98568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8"/>
            <p:cNvSpPr/>
            <p:nvPr/>
          </p:nvSpPr>
          <p:spPr>
            <a:xfrm>
              <a:off x="7178760" y="5888160"/>
              <a:ext cx="334800" cy="96660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9"/>
            <p:cNvSpPr/>
            <p:nvPr/>
          </p:nvSpPr>
          <p:spPr>
            <a:xfrm>
              <a:off x="6813720" y="6248520"/>
              <a:ext cx="261720" cy="60624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10"/>
            <p:cNvSpPr/>
            <p:nvPr/>
          </p:nvSpPr>
          <p:spPr>
            <a:xfrm>
              <a:off x="6508800" y="6381720"/>
              <a:ext cx="260280" cy="47304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11"/>
            <p:cNvSpPr/>
            <p:nvPr/>
          </p:nvSpPr>
          <p:spPr>
            <a:xfrm>
              <a:off x="6207120" y="6410160"/>
              <a:ext cx="372960" cy="44460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12"/>
            <p:cNvSpPr/>
            <p:nvPr/>
          </p:nvSpPr>
          <p:spPr>
            <a:xfrm>
              <a:off x="5832360" y="6486480"/>
              <a:ext cx="308160" cy="36828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13"/>
            <p:cNvSpPr/>
            <p:nvPr/>
          </p:nvSpPr>
          <p:spPr>
            <a:xfrm>
              <a:off x="5518080" y="6458040"/>
              <a:ext cx="298440" cy="39672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14"/>
            <p:cNvSpPr/>
            <p:nvPr/>
          </p:nvSpPr>
          <p:spPr>
            <a:xfrm>
              <a:off x="5032440" y="6648480"/>
              <a:ext cx="361800" cy="20628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15"/>
            <p:cNvSpPr/>
            <p:nvPr/>
          </p:nvSpPr>
          <p:spPr>
            <a:xfrm>
              <a:off x="4832280" y="6696000"/>
              <a:ext cx="138240" cy="15876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16"/>
            <p:cNvSpPr/>
            <p:nvPr/>
          </p:nvSpPr>
          <p:spPr>
            <a:xfrm>
              <a:off x="8702640" y="5345280"/>
              <a:ext cx="438120" cy="150948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0" name="Text Box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12"/>
          </p:nvPr>
        </p:nvSpPr>
        <p:spPr>
          <a:xfrm>
            <a:off x="45720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13"/>
          </p:nvPr>
        </p:nvSpPr>
        <p:spPr>
          <a:xfrm>
            <a:off x="655308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AE8CAE4-B83B-44CE-ABF2-0C90E65D6C68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1"/>
          <p:cNvGrpSpPr/>
          <p:nvPr/>
        </p:nvGrpSpPr>
        <p:grpSpPr>
          <a:xfrm>
            <a:off x="4716360" y="5345280"/>
            <a:ext cx="4424400" cy="1509480"/>
            <a:chOff x="4716360" y="5345280"/>
            <a:chExt cx="4424400" cy="1509480"/>
          </a:xfrm>
        </p:grpSpPr>
        <p:sp>
          <p:nvSpPr>
            <p:cNvPr id="392" name="Freeform 2"/>
            <p:cNvSpPr/>
            <p:nvPr/>
          </p:nvSpPr>
          <p:spPr>
            <a:xfrm>
              <a:off x="4716360" y="5345280"/>
              <a:ext cx="4424400" cy="150948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3"/>
            <p:cNvSpPr/>
            <p:nvPr/>
          </p:nvSpPr>
          <p:spPr>
            <a:xfrm>
              <a:off x="7305840" y="6372360"/>
              <a:ext cx="15840" cy="252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Freeform 4"/>
            <p:cNvSpPr/>
            <p:nvPr/>
          </p:nvSpPr>
          <p:spPr>
            <a:xfrm>
              <a:off x="7296120" y="6343560"/>
              <a:ext cx="6480" cy="2556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5"/>
            <p:cNvSpPr/>
            <p:nvPr/>
          </p:nvSpPr>
          <p:spPr>
            <a:xfrm>
              <a:off x="8223120" y="5678640"/>
              <a:ext cx="479520" cy="117288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6"/>
            <p:cNvSpPr/>
            <p:nvPr/>
          </p:nvSpPr>
          <p:spPr>
            <a:xfrm>
              <a:off x="7807320" y="5640480"/>
              <a:ext cx="495360" cy="121428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Freeform 7"/>
            <p:cNvSpPr/>
            <p:nvPr/>
          </p:nvSpPr>
          <p:spPr>
            <a:xfrm>
              <a:off x="7461360" y="5869080"/>
              <a:ext cx="433440" cy="98568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Freeform 8"/>
            <p:cNvSpPr/>
            <p:nvPr/>
          </p:nvSpPr>
          <p:spPr>
            <a:xfrm>
              <a:off x="7178760" y="5888160"/>
              <a:ext cx="334800" cy="96660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Freeform 9"/>
            <p:cNvSpPr/>
            <p:nvPr/>
          </p:nvSpPr>
          <p:spPr>
            <a:xfrm>
              <a:off x="6813720" y="6248520"/>
              <a:ext cx="261720" cy="60624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Freeform 10"/>
            <p:cNvSpPr/>
            <p:nvPr/>
          </p:nvSpPr>
          <p:spPr>
            <a:xfrm>
              <a:off x="6508800" y="6381720"/>
              <a:ext cx="260280" cy="47304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11"/>
            <p:cNvSpPr/>
            <p:nvPr/>
          </p:nvSpPr>
          <p:spPr>
            <a:xfrm>
              <a:off x="6207120" y="6410160"/>
              <a:ext cx="372960" cy="44460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12"/>
            <p:cNvSpPr/>
            <p:nvPr/>
          </p:nvSpPr>
          <p:spPr>
            <a:xfrm>
              <a:off x="5832360" y="6486480"/>
              <a:ext cx="308160" cy="36828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13"/>
            <p:cNvSpPr/>
            <p:nvPr/>
          </p:nvSpPr>
          <p:spPr>
            <a:xfrm>
              <a:off x="5518080" y="6458040"/>
              <a:ext cx="298440" cy="39672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Freeform 14"/>
            <p:cNvSpPr/>
            <p:nvPr/>
          </p:nvSpPr>
          <p:spPr>
            <a:xfrm>
              <a:off x="5032440" y="6648480"/>
              <a:ext cx="361800" cy="20628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Freeform 15"/>
            <p:cNvSpPr/>
            <p:nvPr/>
          </p:nvSpPr>
          <p:spPr>
            <a:xfrm>
              <a:off x="4832280" y="6696000"/>
              <a:ext cx="138240" cy="15876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8702640" y="5345280"/>
              <a:ext cx="438120" cy="150948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Text Box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14"/>
          </p:nvPr>
        </p:nvSpPr>
        <p:spPr>
          <a:xfrm>
            <a:off x="45720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25E6B1E-C240-4A5E-9CF7-E851D4293309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Group 1"/>
          <p:cNvGrpSpPr/>
          <p:nvPr/>
        </p:nvGrpSpPr>
        <p:grpSpPr>
          <a:xfrm>
            <a:off x="4716360" y="5345280"/>
            <a:ext cx="4424400" cy="1509480"/>
            <a:chOff x="4716360" y="5345280"/>
            <a:chExt cx="4424400" cy="1509480"/>
          </a:xfrm>
        </p:grpSpPr>
        <p:sp>
          <p:nvSpPr>
            <p:cNvPr id="449" name="Freeform 2"/>
            <p:cNvSpPr/>
            <p:nvPr/>
          </p:nvSpPr>
          <p:spPr>
            <a:xfrm>
              <a:off x="4716360" y="5345280"/>
              <a:ext cx="4424400" cy="150948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3"/>
            <p:cNvSpPr/>
            <p:nvPr/>
          </p:nvSpPr>
          <p:spPr>
            <a:xfrm>
              <a:off x="7305840" y="6372360"/>
              <a:ext cx="15840" cy="252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4"/>
            <p:cNvSpPr/>
            <p:nvPr/>
          </p:nvSpPr>
          <p:spPr>
            <a:xfrm>
              <a:off x="7296120" y="6343560"/>
              <a:ext cx="6480" cy="2556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5"/>
            <p:cNvSpPr/>
            <p:nvPr/>
          </p:nvSpPr>
          <p:spPr>
            <a:xfrm>
              <a:off x="8223120" y="5678640"/>
              <a:ext cx="479520" cy="117288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6"/>
            <p:cNvSpPr/>
            <p:nvPr/>
          </p:nvSpPr>
          <p:spPr>
            <a:xfrm>
              <a:off x="7807320" y="5640480"/>
              <a:ext cx="495360" cy="121428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7"/>
            <p:cNvSpPr/>
            <p:nvPr/>
          </p:nvSpPr>
          <p:spPr>
            <a:xfrm>
              <a:off x="7461360" y="5869080"/>
              <a:ext cx="433440" cy="98568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8"/>
            <p:cNvSpPr/>
            <p:nvPr/>
          </p:nvSpPr>
          <p:spPr>
            <a:xfrm>
              <a:off x="7178760" y="5888160"/>
              <a:ext cx="334800" cy="96660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9"/>
            <p:cNvSpPr/>
            <p:nvPr/>
          </p:nvSpPr>
          <p:spPr>
            <a:xfrm>
              <a:off x="6813720" y="6248520"/>
              <a:ext cx="261720" cy="60624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10"/>
            <p:cNvSpPr/>
            <p:nvPr/>
          </p:nvSpPr>
          <p:spPr>
            <a:xfrm>
              <a:off x="6508800" y="6381720"/>
              <a:ext cx="260280" cy="47304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Freeform 11"/>
            <p:cNvSpPr/>
            <p:nvPr/>
          </p:nvSpPr>
          <p:spPr>
            <a:xfrm>
              <a:off x="6207120" y="6410160"/>
              <a:ext cx="372960" cy="44460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Freeform 12"/>
            <p:cNvSpPr/>
            <p:nvPr/>
          </p:nvSpPr>
          <p:spPr>
            <a:xfrm>
              <a:off x="5832360" y="6486480"/>
              <a:ext cx="308160" cy="36828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13"/>
            <p:cNvSpPr/>
            <p:nvPr/>
          </p:nvSpPr>
          <p:spPr>
            <a:xfrm>
              <a:off x="5518080" y="6458040"/>
              <a:ext cx="298440" cy="39672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14"/>
            <p:cNvSpPr/>
            <p:nvPr/>
          </p:nvSpPr>
          <p:spPr>
            <a:xfrm>
              <a:off x="5032440" y="6648480"/>
              <a:ext cx="361800" cy="20628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15"/>
            <p:cNvSpPr/>
            <p:nvPr/>
          </p:nvSpPr>
          <p:spPr>
            <a:xfrm>
              <a:off x="4832280" y="6696000"/>
              <a:ext cx="138240" cy="15876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Freeform 16"/>
            <p:cNvSpPr/>
            <p:nvPr/>
          </p:nvSpPr>
          <p:spPr>
            <a:xfrm>
              <a:off x="8702640" y="5345280"/>
              <a:ext cx="438120" cy="150948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4" name="Text Box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6"/>
          </p:nvPr>
        </p:nvSpPr>
        <p:spPr>
          <a:xfrm>
            <a:off x="45720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sldNum" idx="17"/>
          </p:nvPr>
        </p:nvSpPr>
        <p:spPr>
          <a:xfrm>
            <a:off x="655308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089584D-69A2-4A66-80AA-B3A893E4FA3C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1"/>
          <p:cNvGrpSpPr/>
          <p:nvPr/>
        </p:nvGrpSpPr>
        <p:grpSpPr>
          <a:xfrm>
            <a:off x="4716360" y="5345280"/>
            <a:ext cx="4424400" cy="1509480"/>
            <a:chOff x="4716360" y="5345280"/>
            <a:chExt cx="4424400" cy="1509480"/>
          </a:xfrm>
        </p:grpSpPr>
        <p:sp>
          <p:nvSpPr>
            <p:cNvPr id="506" name="Freeform 2"/>
            <p:cNvSpPr/>
            <p:nvPr/>
          </p:nvSpPr>
          <p:spPr>
            <a:xfrm>
              <a:off x="4716360" y="5345280"/>
              <a:ext cx="4424400" cy="150948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Freeform 3"/>
            <p:cNvSpPr/>
            <p:nvPr/>
          </p:nvSpPr>
          <p:spPr>
            <a:xfrm>
              <a:off x="7305840" y="6372360"/>
              <a:ext cx="15840" cy="252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Freeform 4"/>
            <p:cNvSpPr/>
            <p:nvPr/>
          </p:nvSpPr>
          <p:spPr>
            <a:xfrm>
              <a:off x="7296120" y="6343560"/>
              <a:ext cx="6480" cy="2556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Freeform 5"/>
            <p:cNvSpPr/>
            <p:nvPr/>
          </p:nvSpPr>
          <p:spPr>
            <a:xfrm>
              <a:off x="8223120" y="5678640"/>
              <a:ext cx="479520" cy="117288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Freeform 6"/>
            <p:cNvSpPr/>
            <p:nvPr/>
          </p:nvSpPr>
          <p:spPr>
            <a:xfrm>
              <a:off x="7807320" y="5640480"/>
              <a:ext cx="495360" cy="121428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Freeform 7"/>
            <p:cNvSpPr/>
            <p:nvPr/>
          </p:nvSpPr>
          <p:spPr>
            <a:xfrm>
              <a:off x="7461360" y="5869080"/>
              <a:ext cx="433440" cy="98568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Freeform 8"/>
            <p:cNvSpPr/>
            <p:nvPr/>
          </p:nvSpPr>
          <p:spPr>
            <a:xfrm>
              <a:off x="7178760" y="5888160"/>
              <a:ext cx="334800" cy="96660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Freeform 9"/>
            <p:cNvSpPr/>
            <p:nvPr/>
          </p:nvSpPr>
          <p:spPr>
            <a:xfrm>
              <a:off x="6813720" y="6248520"/>
              <a:ext cx="261720" cy="60624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Freeform 10"/>
            <p:cNvSpPr/>
            <p:nvPr/>
          </p:nvSpPr>
          <p:spPr>
            <a:xfrm>
              <a:off x="6508800" y="6381720"/>
              <a:ext cx="260280" cy="47304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Freeform 11"/>
            <p:cNvSpPr/>
            <p:nvPr/>
          </p:nvSpPr>
          <p:spPr>
            <a:xfrm>
              <a:off x="6207120" y="6410160"/>
              <a:ext cx="372960" cy="44460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Freeform 12"/>
            <p:cNvSpPr/>
            <p:nvPr/>
          </p:nvSpPr>
          <p:spPr>
            <a:xfrm>
              <a:off x="5832360" y="6486480"/>
              <a:ext cx="308160" cy="36828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Freeform 13"/>
            <p:cNvSpPr/>
            <p:nvPr/>
          </p:nvSpPr>
          <p:spPr>
            <a:xfrm>
              <a:off x="5518080" y="6458040"/>
              <a:ext cx="298440" cy="39672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Freeform 14"/>
            <p:cNvSpPr/>
            <p:nvPr/>
          </p:nvSpPr>
          <p:spPr>
            <a:xfrm>
              <a:off x="5032440" y="6648480"/>
              <a:ext cx="361800" cy="20628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Freeform 15"/>
            <p:cNvSpPr/>
            <p:nvPr/>
          </p:nvSpPr>
          <p:spPr>
            <a:xfrm>
              <a:off x="4832280" y="6696000"/>
              <a:ext cx="138240" cy="15876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Freeform 16"/>
            <p:cNvSpPr/>
            <p:nvPr/>
          </p:nvSpPr>
          <p:spPr>
            <a:xfrm>
              <a:off x="8702640" y="5345280"/>
              <a:ext cx="438120" cy="150948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1" name="Text Box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18"/>
          </p:nvPr>
        </p:nvSpPr>
        <p:spPr>
          <a:xfrm>
            <a:off x="45720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sldNum" idx="19"/>
          </p:nvPr>
        </p:nvSpPr>
        <p:spPr>
          <a:xfrm>
            <a:off x="655308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5E078B8-3A1E-453D-8EF3-451700A88002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8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8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2280"/>
          </a:xfrm>
          <a:prstGeom prst="rect">
            <a:avLst/>
          </a:prstGeom>
          <a:ln w="0">
            <a:noFill/>
          </a:ln>
        </p:spPr>
      </p:pic>
      <p:sp>
        <p:nvSpPr>
          <p:cNvPr id="2073" name="Text Box 2"/>
          <p:cNvSpPr/>
          <p:nvPr/>
        </p:nvSpPr>
        <p:spPr>
          <a:xfrm>
            <a:off x="457200" y="277920"/>
            <a:ext cx="823428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Загадки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Черного моря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4" name="Text Box 3"/>
          <p:cNvSpPr/>
          <p:nvPr/>
        </p:nvSpPr>
        <p:spPr>
          <a:xfrm>
            <a:off x="1440000" y="4257720"/>
            <a:ext cx="7346880" cy="34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3660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Мухин Андр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5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МБОУ СОШ №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. Шевченковск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"/>
          <p:cNvSpPr txBox="1"/>
          <p:nvPr/>
        </p:nvSpPr>
        <p:spPr>
          <a:xfrm>
            <a:off x="457200" y="27756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ffffff"/>
                </a:solidFill>
                <a:latin typeface="Arial"/>
              </a:rPr>
              <a:t>Интересные факты 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ffffff"/>
                </a:solidFill>
                <a:latin typeface="Arial"/>
              </a:rPr>
              <a:t>о Черном море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0" name="Picture 2" descr="C:\Users\Пользователь\Desktop\5915.jpg"/>
          <p:cNvPicPr/>
          <p:nvPr/>
        </p:nvPicPr>
        <p:blipFill>
          <a:blip r:embed="rId1"/>
          <a:stretch/>
        </p:blipFill>
        <p:spPr>
          <a:xfrm>
            <a:off x="0" y="0"/>
            <a:ext cx="3544920" cy="2637000"/>
          </a:xfrm>
          <a:prstGeom prst="rect">
            <a:avLst/>
          </a:prstGeom>
          <a:ln w="0">
            <a:noFill/>
          </a:ln>
        </p:spPr>
      </p:pic>
      <p:pic>
        <p:nvPicPr>
          <p:cNvPr id="2101" name="Picture 2" descr="C:\Users\Пользователь\Desktop\samaya_opasnaya_ryba_chernogo_morya_eto_morskoy_drakonchik_kolyuchki_ego_spinnogo_plavnika_i_zhabern.jpg"/>
          <p:cNvPicPr/>
          <p:nvPr/>
        </p:nvPicPr>
        <p:blipFill>
          <a:blip r:embed="rId2"/>
          <a:stretch/>
        </p:blipFill>
        <p:spPr>
          <a:xfrm>
            <a:off x="5661000" y="60480"/>
            <a:ext cx="3479760" cy="2609640"/>
          </a:xfrm>
          <a:prstGeom prst="rect">
            <a:avLst/>
          </a:prstGeom>
          <a:ln w="0">
            <a:noFill/>
          </a:ln>
        </p:spPr>
      </p:pic>
      <p:pic>
        <p:nvPicPr>
          <p:cNvPr id="2102" name="Picture 2" descr="C:\Users\Пользователь\Desktop\IMG_62.jpg"/>
          <p:cNvPicPr/>
          <p:nvPr/>
        </p:nvPicPr>
        <p:blipFill>
          <a:blip r:embed="rId3"/>
          <a:stretch/>
        </p:blipFill>
        <p:spPr>
          <a:xfrm>
            <a:off x="179280" y="4456080"/>
            <a:ext cx="3265560" cy="2401920"/>
          </a:xfrm>
          <a:prstGeom prst="rect">
            <a:avLst/>
          </a:prstGeom>
          <a:ln w="0">
            <a:noFill/>
          </a:ln>
        </p:spPr>
      </p:pic>
      <p:pic>
        <p:nvPicPr>
          <p:cNvPr id="2103" name="Picture 2" descr="C:\Users\Пользователь\Desktop\nochesvetka02.jpg"/>
          <p:cNvPicPr/>
          <p:nvPr/>
        </p:nvPicPr>
        <p:blipFill>
          <a:blip r:embed="rId4"/>
          <a:stretch/>
        </p:blipFill>
        <p:spPr>
          <a:xfrm>
            <a:off x="6002280" y="4359240"/>
            <a:ext cx="3138480" cy="2498760"/>
          </a:xfrm>
          <a:prstGeom prst="rect">
            <a:avLst/>
          </a:prstGeom>
          <a:ln w="0">
            <a:noFill/>
          </a:ln>
        </p:spPr>
      </p:pic>
      <p:pic>
        <p:nvPicPr>
          <p:cNvPr id="2104" name="Picture 3" descr="C:\Users\Пользователь\Desktop\ekologiya-25-9-990x660.jpg"/>
          <p:cNvPicPr/>
          <p:nvPr/>
        </p:nvPicPr>
        <p:blipFill>
          <a:blip r:embed="rId5"/>
          <a:stretch/>
        </p:blipFill>
        <p:spPr>
          <a:xfrm>
            <a:off x="2340000" y="1844640"/>
            <a:ext cx="4465440" cy="3108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"/>
          <p:cNvSpPr txBox="1"/>
          <p:nvPr/>
        </p:nvSpPr>
        <p:spPr>
          <a:xfrm>
            <a:off x="457200" y="277560"/>
            <a:ext cx="8400960" cy="58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зумно экономить вод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меть дома исправную сантехник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е оставлять мус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хранять существующие и высаживать новые раст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кращать количество выбрасываемых пластиковых отход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5" name="Picture 5" descr="07"/>
          <p:cNvPicPr/>
          <p:nvPr/>
        </p:nvPicPr>
        <p:blipFill>
          <a:blip r:embed="rId1"/>
          <a:stretch/>
        </p:blipFill>
        <p:spPr>
          <a:xfrm>
            <a:off x="-1224000" y="-988920"/>
            <a:ext cx="10476000" cy="7835760"/>
          </a:xfrm>
          <a:prstGeom prst="rect">
            <a:avLst/>
          </a:prstGeom>
          <a:ln w="0">
            <a:noFill/>
          </a:ln>
        </p:spPr>
      </p:pic>
      <p:sp>
        <p:nvSpPr>
          <p:cNvPr id="2076" name="Text Box 6"/>
          <p:cNvSpPr/>
          <p:nvPr/>
        </p:nvSpPr>
        <p:spPr>
          <a:xfrm>
            <a:off x="324000" y="1143000"/>
            <a:ext cx="882000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-  Исследовать географию Черного мор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-  Выяснить, какие факты влияли на историю Черного мор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Text Box 7"/>
          <p:cNvSpPr/>
          <p:nvPr/>
        </p:nvSpPr>
        <p:spPr>
          <a:xfrm>
            <a:off x="324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Цель работы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8" name="Picture 2" descr="C:\Users\Пользователь\Desktop\9d22592935b5d3a59f1fcf01deaf26e7.jpg"/>
          <p:cNvPicPr/>
          <p:nvPr/>
        </p:nvPicPr>
        <p:blipFill>
          <a:blip r:embed="rId1"/>
          <a:stretch/>
        </p:blipFill>
        <p:spPr>
          <a:xfrm>
            <a:off x="214200" y="270000"/>
            <a:ext cx="8715600" cy="6373800"/>
          </a:xfrm>
          <a:prstGeom prst="rect">
            <a:avLst/>
          </a:prstGeom>
          <a:ln w="0">
            <a:noFill/>
          </a:ln>
        </p:spPr>
      </p:pic>
      <p:pic>
        <p:nvPicPr>
          <p:cNvPr id="2079" name="Picture 2" descr="C:\Users\Пользователь\Desktop\9d22592935b5d3a59f1fcf01deaf26e7.jpg"/>
          <p:cNvPicPr/>
          <p:nvPr/>
        </p:nvPicPr>
        <p:blipFill>
          <a:blip r:embed="rId2"/>
          <a:stretch/>
        </p:blipFill>
        <p:spPr>
          <a:xfrm>
            <a:off x="214200" y="285840"/>
            <a:ext cx="8715600" cy="6373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"/>
          <p:cNvSpPr txBox="1"/>
          <p:nvPr/>
        </p:nvSpPr>
        <p:spPr>
          <a:xfrm>
            <a:off x="357120" y="357120"/>
            <a:ext cx="8229600" cy="58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ffffff"/>
                </a:solidFill>
                <a:latin typeface="Arial"/>
              </a:rPr>
              <a:t>Всегда ли море называлось </a:t>
            </a:r>
            <a:r>
              <a:rPr b="1" lang="ru-RU" sz="7000" spc="-1" strike="noStrike">
                <a:solidFill>
                  <a:srgbClr val="ffffff"/>
                </a:solidFill>
                <a:latin typeface="Arial"/>
              </a:rPr>
              <a:t>Черным?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1" name="Picture 1" descr=""/>
          <p:cNvPicPr/>
          <p:nvPr/>
        </p:nvPicPr>
        <p:blipFill>
          <a:blip r:embed="rId1"/>
          <a:stretch/>
        </p:blipFill>
        <p:spPr>
          <a:xfrm>
            <a:off x="-95400" y="0"/>
            <a:ext cx="9239400" cy="6929280"/>
          </a:xfrm>
          <a:prstGeom prst="rect">
            <a:avLst/>
          </a:prstGeom>
          <a:ln w="0">
            <a:noFill/>
          </a:ln>
        </p:spPr>
      </p:pic>
      <p:sp>
        <p:nvSpPr>
          <p:cNvPr id="2082" name="Text Box 2"/>
          <p:cNvSpPr/>
          <p:nvPr/>
        </p:nvSpPr>
        <p:spPr>
          <a:xfrm>
            <a:off x="5508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3" name="Rectangle 3"/>
          <p:cNvSpPr/>
          <p:nvPr/>
        </p:nvSpPr>
        <p:spPr>
          <a:xfrm>
            <a:off x="0" y="500040"/>
            <a:ext cx="8028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Arial"/>
              </a:rPr>
              <a:t>Понт Эвксинский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4" name="Rectangle 4"/>
          <p:cNvSpPr/>
          <p:nvPr/>
        </p:nvSpPr>
        <p:spPr>
          <a:xfrm>
            <a:off x="4572000" y="1628640"/>
            <a:ext cx="43419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33ccff"/>
                </a:solidFill>
                <a:latin typeface="Arial"/>
              </a:rPr>
              <a:t>Сугдеско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5" name="Rectangle 5"/>
          <p:cNvSpPr/>
          <p:nvPr/>
        </p:nvSpPr>
        <p:spPr>
          <a:xfrm>
            <a:off x="3924360" y="3860640"/>
            <a:ext cx="49179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affff"/>
                </a:solidFill>
                <a:latin typeface="Arial"/>
              </a:rPr>
              <a:t>Русско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6" name="Rectangle 6"/>
          <p:cNvSpPr/>
          <p:nvPr/>
        </p:nvSpPr>
        <p:spPr>
          <a:xfrm>
            <a:off x="324000" y="2708280"/>
            <a:ext cx="4341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Хазарско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7" name="Rectangle 7"/>
          <p:cNvSpPr/>
          <p:nvPr/>
        </p:nvSpPr>
        <p:spPr>
          <a:xfrm>
            <a:off x="684360" y="4797360"/>
            <a:ext cx="4679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99ff99"/>
                </a:solidFill>
                <a:latin typeface="Arial"/>
              </a:rPr>
              <a:t>Понтско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Прямоугольник 8"/>
          <p:cNvSpPr/>
          <p:nvPr/>
        </p:nvSpPr>
        <p:spPr>
          <a:xfrm>
            <a:off x="500040" y="1643040"/>
            <a:ext cx="51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онт  Аксин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"/>
          <p:cNvSpPr txBox="1"/>
          <p:nvPr/>
        </p:nvSpPr>
        <p:spPr>
          <a:xfrm>
            <a:off x="457200" y="27756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ffffff"/>
                </a:solidFill>
                <a:latin typeface="Arial"/>
              </a:rPr>
              <a:t>Кто раньше хозяйничал 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ffffff"/>
                </a:solidFill>
                <a:latin typeface="Arial"/>
              </a:rPr>
              <a:t>на берегах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7000" spc="-1" strike="noStrike">
                <a:solidFill>
                  <a:srgbClr val="ffffff"/>
                </a:solidFill>
                <a:latin typeface="Arial"/>
              </a:rPr>
              <a:t>Чёрного моря?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0" name="Rectangle 1"/>
          <p:cNvSpPr/>
          <p:nvPr/>
        </p:nvSpPr>
        <p:spPr>
          <a:xfrm>
            <a:off x="2088720" y="82440"/>
            <a:ext cx="4966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68ae"/>
                </a:solidFill>
                <a:latin typeface="Arial"/>
                <a:ea typeface="Times New Roman"/>
              </a:rPr>
              <a:t>Кто же раньше хозяйничал на берегах Чёрного моря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000320" y="1000080"/>
            <a:ext cx="4686120" cy="417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Ялта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Алупк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3" name="Picture 4" descr="i"/>
          <p:cNvPicPr/>
          <p:nvPr/>
        </p:nvPicPr>
        <p:blipFill>
          <a:blip r:embed="rId1"/>
          <a:stretch/>
        </p:blipFill>
        <p:spPr>
          <a:xfrm>
            <a:off x="468360" y="189000"/>
            <a:ext cx="3240000" cy="3193920"/>
          </a:xfrm>
          <a:prstGeom prst="rect">
            <a:avLst/>
          </a:prstGeom>
          <a:ln w="0">
            <a:noFill/>
          </a:ln>
        </p:spPr>
      </p:pic>
      <p:pic>
        <p:nvPicPr>
          <p:cNvPr id="2094" name="Picture 5" descr="i (1)"/>
          <p:cNvPicPr/>
          <p:nvPr/>
        </p:nvPicPr>
        <p:blipFill>
          <a:blip r:embed="rId2"/>
          <a:stretch/>
        </p:blipFill>
        <p:spPr>
          <a:xfrm>
            <a:off x="3276720" y="3500280"/>
            <a:ext cx="568800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2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2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2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"/>
          <p:cNvSpPr txBox="1"/>
          <p:nvPr/>
        </p:nvSpPr>
        <p:spPr>
          <a:xfrm>
            <a:off x="457200" y="27756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ffffff"/>
                </a:solidFill>
                <a:latin typeface="Arial"/>
              </a:rPr>
              <a:t>Почему одни моря замерзают, а</a:t>
            </a:r>
            <a:r>
              <a:rPr b="0" lang="ru-RU" sz="7000" spc="-1" strike="noStrike">
                <a:solidFill>
                  <a:srgbClr val="ffffff"/>
                </a:solidFill>
                <a:latin typeface="Arial"/>
              </a:rPr>
              <a:t> Черное море – нет?</a:t>
            </a:r>
            <a:r>
              <a:rPr b="1" lang="ru-RU" sz="7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8" name="Picture 6" descr="img0"/>
          <p:cNvPicPr/>
          <p:nvPr/>
        </p:nvPicPr>
        <p:blipFill>
          <a:blip r:embed="rId1"/>
          <a:stretch/>
        </p:blipFill>
        <p:spPr>
          <a:xfrm>
            <a:off x="250920" y="260280"/>
            <a:ext cx="8497800" cy="6318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1</cp:lastModifiedBy>
  <dcterms:modified xsi:type="dcterms:W3CDTF">2018-01-27T19:24:35Z</dcterms:modified>
  <cp:revision>90</cp:revision>
  <dc:subject/>
  <dc:title>Самое синее в мире Черное море мое</dc:title>
</cp:coreProperties>
</file>