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686-2B05-471D-8D55-4A6B7BAB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71B-5D32-4152-9EF0-0742AFB5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CF8-F4B7-43D5-9886-B690F1FB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EC5-1947-496A-B881-6966B303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18AA-0848-4883-9D76-4EC79C0A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1C27-F5CA-497D-83F1-486CB86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4827-E333-4940-9921-D99FF294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C454-37CE-4EF9-B35D-D78D9B6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44AB-B3E0-450D-96E2-4DDFEA13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48DE-C80B-4EEC-BCFD-C40ABD16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696F-6E42-4D30-98BF-DDAE346A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DCD-2DB2-4215-B0FD-EB98944F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E8EC-B620-4179-B18A-68DD471F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635F-435B-451C-9638-C211CC4B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A7BC-3493-4CB4-A103-F998857E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28B0-DAFD-4737-BE7B-D2311680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5D4C-0600-43E5-9D6C-A7F856CB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4C0-0963-4FE0-BC49-F6985733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7A1-5A12-4076-A0D2-30BA8D52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880-3611-4696-9A40-162B952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425-4293-4A4B-AEA5-E792B0DF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952-AE26-4A9D-BDD7-C4F5F53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2D3-2D47-451C-8EEF-CC5A995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2AC-1BEB-46E5-88F6-8EA5ACC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2512-F12B-4BB8-AAAF-15FE6A8DDB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866-6E8E-428E-B2FF-C67FA9A467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4.xml"/><Relationship Id="rId15" Type="http://schemas.openxmlformats.org/officeDocument/2006/relationships/slide" Target="slide25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1.xml"/><Relationship Id="rId19" Type="http://schemas.openxmlformats.org/officeDocument/2006/relationships/slide" Target="slide33.xml"/><Relationship Id="rId20" Type="http://schemas.openxmlformats.org/officeDocument/2006/relationships/slide" Target="slide35.xml"/><Relationship Id="rId21" Type="http://schemas.openxmlformats.org/officeDocument/2006/relationships/slide" Target="slide37.xml"/><Relationship Id="rId22" Type="http://schemas.openxmlformats.org/officeDocument/2006/relationships/slide" Target="slide39.xml"/><Relationship Id="rId23" Type="http://schemas.openxmlformats.org/officeDocument/2006/relationships/slide" Target="slide41.xml"/><Relationship Id="rId24" Type="http://schemas.openxmlformats.org/officeDocument/2006/relationships/slide" Target="slide43.xml"/><Relationship Id="rId25" Type="http://schemas.openxmlformats.org/officeDocument/2006/relationships/image" Target="../media/image1.gif"/><Relationship Id="rId26" Type="http://schemas.openxmlformats.org/officeDocument/2006/relationships/image" Target="../media/image1.gif"/><Relationship Id="rId27" Type="http://schemas.openxmlformats.org/officeDocument/2006/relationships/image" Target="../media/image1.gif"/><Relationship Id="rId28" Type="http://schemas.openxmlformats.org/officeDocument/2006/relationships/image" Target="../media/image1.gif"/><Relationship Id="rId29" Type="http://schemas.openxmlformats.org/officeDocument/2006/relationships/slide" Target="slide45.xml"/><Relationship Id="rId3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00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9640" y="2205000"/>
          <a:ext cx="8064720" cy="3666960"/>
        </p:xfrm>
        <a:graphic>
          <a:graphicData uri="http://schemas.openxmlformats.org/drawingml/2006/table">
            <a:tbl>
              <a:tblPr/>
              <a:tblGrid>
                <a:gridCol w="2952720"/>
                <a:gridCol w="863640"/>
                <a:gridCol w="1079640"/>
                <a:gridCol w="1081080"/>
                <a:gridCol w="1079640"/>
                <a:gridCol w="1008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Что означают знак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стория пожарной службы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00"/>
                          </a:solidFill>
                          <a:latin typeface="Arial Rounded MT Bold"/>
                        </a:rPr>
                        <a:t>Логи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жарный-эрудит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800000"/>
                          </a:solidFill>
                          <a:latin typeface="Arial Rounded MT Bold"/>
                        </a:rPr>
                        <a:t>Загадк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82560" y="260280"/>
            <a:ext cx="8080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00000" y="260280"/>
            <a:ext cx="7775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GothicI"/>
              </a:rPr>
              <a:t>СВОЯ ИГРА</a:t>
            </a:r>
            <a:endParaRPr b="1" i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6"/>
                <a:srcRect/>
                <a:stretch/>
              </a:blipFill>
              <a:latin typeface="GothicI"/>
              <a:ea typeface="Gothic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7"/>
                  <a:srcRect/>
                  <a:stretch/>
                </a:blipFill>
                <a:latin typeface="GothicI"/>
              </a:rPr>
              <a:t>"Пожарный эрудит"</a:t>
            </a:r>
            <a:endParaRPr b="1" i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8"/>
                <a:srcRect/>
                <a:stretch/>
              </a:blipFill>
              <a:latin typeface="GothicI"/>
              <a:ea typeface="GothicI"/>
            </a:endParaRPr>
          </a:p>
        </p:txBody>
      </p:sp>
      <p:sp>
        <p:nvSpPr>
          <p:cNvPr id="88" name="">
            <a:hlinkClick r:id="rId29" action="ppaction://hlinksldjump"/>
          </p:cNvPr>
          <p:cNvSpPr/>
          <p:nvPr/>
        </p:nvSpPr>
        <p:spPr>
          <a:xfrm>
            <a:off x="7596360" y="609300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19719" y="10800"/>
                </a:moveTo>
                <a:lnTo>
                  <a:pt x="9214" y="17806"/>
                </a:lnTo>
                <a:lnTo>
                  <a:pt x="9214" y="3794"/>
                </a:lnTo>
                <a:close/>
              </a:path>
              <a:path fill="darken" w="32441" h="21600">
                <a:moveTo>
                  <a:pt x="21564" y="3794"/>
                </a:moveTo>
                <a:lnTo>
                  <a:pt x="21564" y="17806"/>
                </a:lnTo>
                <a:lnTo>
                  <a:pt x="23227" y="17806"/>
                </a:lnTo>
                <a:lnTo>
                  <a:pt x="23227" y="3794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?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5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388360" y="4365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58920" y="1916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Где изображается  и что обозначает данный знак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прещается курить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ображается на наружной стороне дверей помещений, где нельзя пользоваться открытым огнём и находятся ядовитые ве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?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5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8459640" y="5229360"/>
            <a:ext cx="287640" cy="28872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681">
                <a:moveTo>
                  <a:pt x="0" y="0"/>
                </a:moveTo>
                <a:lnTo>
                  <a:pt x="21600" y="0"/>
                </a:lnTo>
                <a:lnTo>
                  <a:pt x="21600" y="21681"/>
                </a:lnTo>
                <a:lnTo>
                  <a:pt x="0" y="21681"/>
                </a:lnTo>
                <a:close/>
              </a:path>
              <a:path fill="lightenLess" w="21600" h="216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1">
                <a:moveTo>
                  <a:pt x="21600" y="0"/>
                </a:moveTo>
                <a:lnTo>
                  <a:pt x="21600" y="21681"/>
                </a:lnTo>
                <a:lnTo>
                  <a:pt x="20200" y="20281"/>
                </a:lnTo>
                <a:lnTo>
                  <a:pt x="20200" y="1400"/>
                </a:lnTo>
                <a:close/>
              </a:path>
              <a:path fill="darkenLess" w="21600" h="21681">
                <a:moveTo>
                  <a:pt x="21600" y="21681"/>
                </a:moveTo>
                <a:lnTo>
                  <a:pt x="0" y="21681"/>
                </a:lnTo>
                <a:lnTo>
                  <a:pt x="1400" y="20281"/>
                </a:lnTo>
                <a:lnTo>
                  <a:pt x="20200" y="20281"/>
                </a:lnTo>
                <a:close/>
              </a:path>
              <a:path fill="lighten" w="21600" h="21681">
                <a:moveTo>
                  <a:pt x="0" y="216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1"/>
                </a:lnTo>
                <a:close/>
              </a:path>
              <a:path fill="darken" w="21600" h="21681">
                <a:moveTo>
                  <a:pt x="14299" y="10841"/>
                </a:moveTo>
                <a:lnTo>
                  <a:pt x="3794" y="17847"/>
                </a:lnTo>
                <a:lnTo>
                  <a:pt x="3794" y="3834"/>
                </a:lnTo>
                <a:close/>
              </a:path>
              <a:path fill="darken" w="21600" h="21681">
                <a:moveTo>
                  <a:pt x="16144" y="3834"/>
                </a:moveTo>
                <a:lnTo>
                  <a:pt x="16144" y="17847"/>
                </a:lnTo>
                <a:lnTo>
                  <a:pt x="17806" y="17847"/>
                </a:lnTo>
                <a:lnTo>
                  <a:pt x="17806" y="3834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360" y="414972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ой царь в 1549 году издал указ о пожарной безопасности, который обязывал обывателей иметь средства пожаротуш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 каждом доме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 Unicode MS"/>
              </a:rPr>
              <a:t>История пожарной службы  10 баллов</a:t>
            </a:r>
            <a:endParaRPr b="1" lang="en-US" sz="3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388360" y="5229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 Unicode MS"/>
              </a:rPr>
              <a:t>История пожарной службы  10 баллов</a:t>
            </a:r>
            <a:endParaRPr b="1" lang="en-US" sz="3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388360" y="472428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4299" y="10868"/>
                </a:moveTo>
                <a:lnTo>
                  <a:pt x="3794" y="17874"/>
                </a:lnTo>
                <a:lnTo>
                  <a:pt x="3794" y="3861"/>
                </a:lnTo>
                <a:close/>
              </a:path>
              <a:path fill="darken" w="21600" h="21735">
                <a:moveTo>
                  <a:pt x="16144" y="3861"/>
                </a:moveTo>
                <a:lnTo>
                  <a:pt x="16144" y="17874"/>
                </a:lnTo>
                <a:lnTo>
                  <a:pt x="17806" y="17874"/>
                </a:lnTo>
                <a:lnTo>
                  <a:pt x="17806" y="3861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319640" cy="326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0" y="2708280"/>
            <a:ext cx="43084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ван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озны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ff33"/>
                </a:solidFill>
                <a:latin typeface="Arial"/>
              </a:rPr>
              <a:t>Какого числа  отмечается  День работников пожарной</a:t>
            </a: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99ff33"/>
                </a:solidFill>
                <a:latin typeface="Arial"/>
              </a:rPr>
              <a:t>охраны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388360" y="501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549360"/>
            <a:ext cx="820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История пожарной службы  20 баллов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8459640" y="5229360"/>
            <a:ext cx="287640" cy="28872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681">
                <a:moveTo>
                  <a:pt x="0" y="0"/>
                </a:moveTo>
                <a:lnTo>
                  <a:pt x="21600" y="0"/>
                </a:lnTo>
                <a:lnTo>
                  <a:pt x="21600" y="21681"/>
                </a:lnTo>
                <a:lnTo>
                  <a:pt x="0" y="21681"/>
                </a:lnTo>
                <a:close/>
              </a:path>
              <a:path fill="lightenLess" w="21600" h="216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1">
                <a:moveTo>
                  <a:pt x="21600" y="0"/>
                </a:moveTo>
                <a:lnTo>
                  <a:pt x="21600" y="21681"/>
                </a:lnTo>
                <a:lnTo>
                  <a:pt x="20200" y="20281"/>
                </a:lnTo>
                <a:lnTo>
                  <a:pt x="20200" y="1400"/>
                </a:lnTo>
                <a:close/>
              </a:path>
              <a:path fill="darkenLess" w="21600" h="21681">
                <a:moveTo>
                  <a:pt x="21600" y="21681"/>
                </a:moveTo>
                <a:lnTo>
                  <a:pt x="0" y="21681"/>
                </a:lnTo>
                <a:lnTo>
                  <a:pt x="1400" y="20281"/>
                </a:lnTo>
                <a:lnTo>
                  <a:pt x="20200" y="20281"/>
                </a:lnTo>
                <a:close/>
              </a:path>
              <a:path fill="lighten" w="21600" h="21681">
                <a:moveTo>
                  <a:pt x="0" y="216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1"/>
                </a:lnTo>
                <a:close/>
              </a:path>
              <a:path fill="darken" w="21600" h="21681">
                <a:moveTo>
                  <a:pt x="14299" y="10841"/>
                </a:moveTo>
                <a:lnTo>
                  <a:pt x="3794" y="17847"/>
                </a:lnTo>
                <a:lnTo>
                  <a:pt x="3794" y="3834"/>
                </a:lnTo>
                <a:close/>
              </a:path>
              <a:path fill="darken" w="21600" h="21681">
                <a:moveTo>
                  <a:pt x="16144" y="3834"/>
                </a:moveTo>
                <a:lnTo>
                  <a:pt x="16144" y="17847"/>
                </a:lnTo>
                <a:lnTo>
                  <a:pt x="17806" y="17847"/>
                </a:lnTo>
                <a:lnTo>
                  <a:pt x="17806" y="3834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54936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История пожарной службы  20 баллов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92360" y="2637000"/>
            <a:ext cx="518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 апреля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 каком городе  в 1624 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ихаил Федорович Роман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организовал первую специализированную пожарную команд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История пожарной службы  30 баллов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459640" y="4941720"/>
            <a:ext cx="287640" cy="2890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0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0"/>
                </a:lnTo>
                <a:lnTo>
                  <a:pt x="17806" y="17860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История пожарной службы 30 баллов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388360" y="472428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4299" y="10868"/>
                </a:moveTo>
                <a:lnTo>
                  <a:pt x="3794" y="17874"/>
                </a:lnTo>
                <a:lnTo>
                  <a:pt x="3794" y="3861"/>
                </a:lnTo>
                <a:close/>
              </a:path>
              <a:path fill="darken" w="21600" h="21735">
                <a:moveTo>
                  <a:pt x="16144" y="3861"/>
                </a:moveTo>
                <a:lnTo>
                  <a:pt x="16144" y="17874"/>
                </a:lnTo>
                <a:lnTo>
                  <a:pt x="17806" y="17874"/>
                </a:lnTo>
                <a:lnTo>
                  <a:pt x="17806" y="3861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844640"/>
            <a:ext cx="40323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Москв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4896000" cy="2865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История пожарной службы 40 баллов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8317080" y="602136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4299" y="10868"/>
                </a:moveTo>
                <a:lnTo>
                  <a:pt x="3794" y="17874"/>
                </a:lnTo>
                <a:lnTo>
                  <a:pt x="3794" y="3861"/>
                </a:lnTo>
                <a:close/>
              </a:path>
              <a:path fill="darken" w="21600" h="21735">
                <a:moveTo>
                  <a:pt x="16144" y="3861"/>
                </a:moveTo>
                <a:lnTo>
                  <a:pt x="16144" y="17874"/>
                </a:lnTo>
                <a:lnTo>
                  <a:pt x="17806" y="17874"/>
                </a:lnTo>
                <a:lnTo>
                  <a:pt x="17806" y="3861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79640" y="1773360"/>
            <a:ext cx="6404040" cy="17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othicI"/>
              </a:rPr>
              <a:t>Сектор</a:t>
            </a:r>
            <a:endParaRPr b="1" i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othicI"/>
              <a:ea typeface="GothicI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Какая мера наказания была установлена на Руси  в 15 веке за поджог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История пожарной службы 50 баллов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388360" y="5300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4299" y="10868"/>
                </a:moveTo>
                <a:lnTo>
                  <a:pt x="3794" y="17874"/>
                </a:lnTo>
                <a:lnTo>
                  <a:pt x="3794" y="3861"/>
                </a:lnTo>
                <a:close/>
              </a:path>
              <a:path fill="darken" w="21600" h="21735">
                <a:moveTo>
                  <a:pt x="16144" y="3861"/>
                </a:moveTo>
                <a:lnTo>
                  <a:pt x="16144" y="17874"/>
                </a:lnTo>
                <a:lnTo>
                  <a:pt x="17806" y="17874"/>
                </a:lnTo>
                <a:lnTo>
                  <a:pt x="17806" y="3861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3250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 ?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1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808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де изображается  и что обозначает данный зна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35280" y="371628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388360" y="458136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9194" y="17806"/>
                </a:lnTo>
                <a:lnTo>
                  <a:pt x="9194" y="3794"/>
                </a:lnTo>
                <a:close/>
              </a:path>
              <a:path fill="darken" w="32400" h="21600">
                <a:moveTo>
                  <a:pt x="21544" y="3794"/>
                </a:moveTo>
                <a:lnTo>
                  <a:pt x="21544" y="17806"/>
                </a:lnTo>
                <a:lnTo>
                  <a:pt x="23206" y="17806"/>
                </a:lnTo>
                <a:lnTo>
                  <a:pt x="23206" y="3794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"Зажигальщику" грозила смертная казн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История пожарной службы 50 баллов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532720" y="5229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Решите анаграммы и исключите лишнее слов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"/>
              </a:rPr>
              <a:t>ОЬОГН -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"/>
              </a:rPr>
              <a:t>СКИПИЧ -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"/>
              </a:rPr>
              <a:t>ОДАВ -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"/>
              </a:rPr>
              <a:t>ВЕСАЧ -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4000" y="0"/>
            <a:ext cx="80802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ЛОГИКА – 10  баллов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284720" y="2637000"/>
            <a:ext cx="367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гонь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427640" y="3357720"/>
            <a:ext cx="3384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ичк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4076640"/>
            <a:ext cx="388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д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427640" y="4653000"/>
            <a:ext cx="33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веч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8388360" y="573408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6487" y="10800"/>
                </a:moveTo>
                <a:lnTo>
                  <a:pt x="5982" y="17806"/>
                </a:lnTo>
                <a:lnTo>
                  <a:pt x="5982" y="3794"/>
                </a:lnTo>
                <a:close/>
              </a:path>
              <a:path fill="darken" w="25976" h="21600">
                <a:moveTo>
                  <a:pt x="18332" y="3794"/>
                </a:moveTo>
                <a:lnTo>
                  <a:pt x="18332" y="17806"/>
                </a:lnTo>
                <a:lnTo>
                  <a:pt x="19995" y="17806"/>
                </a:lnTo>
                <a:lnTo>
                  <a:pt x="19995" y="3794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Вставьте слово, которое служило бы окончанием первого слова и началом второго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ПО   (…)   К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971640" y="6091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ЛОГИКА – 2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76720" y="4365720"/>
            <a:ext cx="287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ар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8244000" y="443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22409" y="10800"/>
                </a:moveTo>
                <a:lnTo>
                  <a:pt x="11904" y="17806"/>
                </a:lnTo>
                <a:lnTo>
                  <a:pt x="11904" y="3794"/>
                </a:lnTo>
                <a:close/>
              </a:path>
              <a:path fill="darken" w="37820" h="21600">
                <a:moveTo>
                  <a:pt x="24254" y="3794"/>
                </a:moveTo>
                <a:lnTo>
                  <a:pt x="24254" y="17806"/>
                </a:lnTo>
                <a:lnTo>
                  <a:pt x="25917" y="17806"/>
                </a:lnTo>
                <a:lnTo>
                  <a:pt x="25917" y="3794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Разгадайте ребус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ЛОГИКА – 3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8388360" y="458136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4299" y="10868"/>
                </a:moveTo>
                <a:lnTo>
                  <a:pt x="3794" y="17874"/>
                </a:lnTo>
                <a:lnTo>
                  <a:pt x="3794" y="3861"/>
                </a:lnTo>
                <a:close/>
              </a:path>
              <a:path fill="darken" w="21600" h="21735">
                <a:moveTo>
                  <a:pt x="16144" y="3861"/>
                </a:moveTo>
                <a:lnTo>
                  <a:pt x="16144" y="17874"/>
                </a:lnTo>
                <a:lnTo>
                  <a:pt x="17806" y="17874"/>
                </a:lnTo>
                <a:lnTo>
                  <a:pt x="17806" y="3861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979640" y="2924280"/>
            <a:ext cx="5386320" cy="25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948360" y="4508640"/>
            <a:ext cx="144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43640" y="3141720"/>
            <a:ext cx="144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24360" y="4437000"/>
            <a:ext cx="1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51280" y="3213000"/>
            <a:ext cx="14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987640" y="3500280"/>
            <a:ext cx="14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4000" y="4724280"/>
            <a:ext cx="14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84360" y="4869000"/>
            <a:ext cx="144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00720" y="4724280"/>
            <a:ext cx="14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0" y="3500280"/>
            <a:ext cx="14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708360" y="4005360"/>
            <a:ext cx="144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32360" y="5516640"/>
            <a:ext cx="38876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: ПОЖАР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Разгадайте реб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ЛОГИКА – 4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172360" y="465300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627280" y="2781360"/>
            <a:ext cx="3816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24360" y="3573360"/>
            <a:ext cx="107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32360" y="5516640"/>
            <a:ext cx="38876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: ВОДА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Разгадайте реб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ЛОГИКА – 5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532720" y="458136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4299" y="10868"/>
                </a:moveTo>
                <a:lnTo>
                  <a:pt x="3794" y="17874"/>
                </a:lnTo>
                <a:lnTo>
                  <a:pt x="3794" y="3861"/>
                </a:lnTo>
                <a:close/>
              </a:path>
              <a:path fill="darken" w="21600" h="21735">
                <a:moveTo>
                  <a:pt x="16144" y="3861"/>
                </a:moveTo>
                <a:lnTo>
                  <a:pt x="16144" y="17874"/>
                </a:lnTo>
                <a:lnTo>
                  <a:pt x="17806" y="17874"/>
                </a:lnTo>
                <a:lnTo>
                  <a:pt x="17806" y="3861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40000" y="2879640"/>
            <a:ext cx="4392720" cy="1989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763640" y="3429000"/>
            <a:ext cx="36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,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04000" y="3429000"/>
            <a:ext cx="36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,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308720" y="3573360"/>
            <a:ext cx="4921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932360" y="5516640"/>
            <a:ext cx="38876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: ОГОН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Arial"/>
              </a:rPr>
              <a:t>Чем пожарные рукава отличаются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ff33"/>
                </a:solidFill>
                <a:latin typeface="Arial"/>
              </a:rPr>
              <a:t>от обычных  рукавов?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Пожарный – эрудит   1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317080" y="573408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жарные рукава – это трубы, по которым пожарные качают вод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Пожарный – эрудит   1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8317080" y="501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 rot="20853600">
            <a:off x="1187280" y="2997000"/>
            <a:ext cx="2394000" cy="3590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284720" y="3141720"/>
            <a:ext cx="3417840" cy="3387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Пожарный и пожарни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это одно и то же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Пожарный – эрудит   2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8172360" y="494172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4299" y="10868"/>
                </a:moveTo>
                <a:lnTo>
                  <a:pt x="3794" y="17874"/>
                </a:lnTo>
                <a:lnTo>
                  <a:pt x="3794" y="3861"/>
                </a:lnTo>
                <a:close/>
              </a:path>
              <a:path fill="darken" w="21600" h="21735">
                <a:moveTo>
                  <a:pt x="16144" y="3861"/>
                </a:moveTo>
                <a:lnTo>
                  <a:pt x="16144" y="17874"/>
                </a:lnTo>
                <a:lnTo>
                  <a:pt x="17806" y="17874"/>
                </a:lnTo>
                <a:lnTo>
                  <a:pt x="17806" y="3861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жарный – это работник пожарной команды, борющийся с огн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 пожарниками раньше  называли погорельц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Пожарный – эрудит   2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00000" y="4941360"/>
            <a:ext cx="7988400" cy="14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нак «Огнетушител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казывает на местонахождение огнетуш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 ?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1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388360" y="458136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9194" y="17806"/>
                </a:lnTo>
                <a:lnTo>
                  <a:pt x="9194" y="3794"/>
                </a:lnTo>
                <a:close/>
              </a:path>
              <a:path fill="darken" w="32400" h="21600">
                <a:moveTo>
                  <a:pt x="21544" y="3794"/>
                </a:moveTo>
                <a:lnTo>
                  <a:pt x="21544" y="17806"/>
                </a:lnTo>
                <a:lnTo>
                  <a:pt x="23206" y="17806"/>
                </a:lnTo>
                <a:lnTo>
                  <a:pt x="23206" y="3794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Пожарный – эрудит   3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31708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258920" y="2276640"/>
            <a:ext cx="6337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кто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Несчастный случай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Старая женщина принялась тушить  загоревшуюся дома проводку водой 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а ее внук-подросток закричал: «Так делать нельзя!». Кто прав?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6920" y="1557360"/>
            <a:ext cx="712980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othicI"/>
              </a:rPr>
              <a:t>Своя игра</a:t>
            </a:r>
            <a:endParaRPr b="1" i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othicI"/>
              <a:ea typeface="GothicI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нук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лектропроводку тушить водой нельз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ак как вода хороший проводник электрического т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Arial"/>
              </a:rPr>
              <a:t>В комнате начался пожа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ff33"/>
                </a:solidFill>
                <a:latin typeface="Arial"/>
              </a:rPr>
              <a:t>Подросток сразу же открыл окн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Arial"/>
              </a:rPr>
              <a:t>Правильно ли он поступил?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Пожарный – эрудит   5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т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 пожаре не следует открывать окна,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к как приток кислоро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лько усиливает ого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Пожарный – эрудит   5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Это темный-темный дом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Сто сестричек жмутся в нем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И любая из сес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Может вспыхнуть как костер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1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Спич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 1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8172360" y="494172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4299" y="10868"/>
                </a:moveTo>
                <a:lnTo>
                  <a:pt x="3794" y="17874"/>
                </a:lnTo>
                <a:lnTo>
                  <a:pt x="3794" y="3861"/>
                </a:lnTo>
                <a:close/>
              </a:path>
              <a:path fill="darken" w="21600" h="21735">
                <a:moveTo>
                  <a:pt x="16144" y="3861"/>
                </a:moveTo>
                <a:lnTo>
                  <a:pt x="16144" y="17874"/>
                </a:lnTo>
                <a:lnTo>
                  <a:pt x="17806" y="17874"/>
                </a:lnTo>
                <a:lnTo>
                  <a:pt x="17806" y="3861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 rot="977400">
            <a:off x="395280" y="2565000"/>
            <a:ext cx="4680000" cy="3525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788000" y="4508640"/>
            <a:ext cx="3155760" cy="21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Arial"/>
              </a:rPr>
              <a:t>Шипит и злится, воды бои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Arial"/>
              </a:rPr>
              <a:t>С языком, а не лае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Arial"/>
              </a:rPr>
              <a:t>Без зубов, а кусает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2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2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26920" y="2060640"/>
            <a:ext cx="36943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ГОНЬ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4105080" cy="3063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Arial"/>
              </a:rPr>
              <a:t>В брезентовой куртке и каск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ff33"/>
                </a:solidFill>
                <a:latin typeface="Arial"/>
              </a:rPr>
              <a:t>Забыв про кольчужную брон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Arial"/>
              </a:rPr>
              <a:t>Решительно и без опас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Arial"/>
              </a:rPr>
              <a:t>Бросается рыцарь в огон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3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64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де изображается  и что обозначает данный зна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? 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2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64000" y="3429000"/>
            <a:ext cx="2735280" cy="271152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388360" y="458136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9194" y="17806"/>
                </a:lnTo>
                <a:lnTo>
                  <a:pt x="9194" y="3794"/>
                </a:lnTo>
                <a:close/>
              </a:path>
              <a:path fill="darken" w="32400" h="21600">
                <a:moveTo>
                  <a:pt x="21544" y="3794"/>
                </a:moveTo>
                <a:lnTo>
                  <a:pt x="21544" y="17806"/>
                </a:lnTo>
                <a:lnTo>
                  <a:pt x="23206" y="17806"/>
                </a:lnTo>
                <a:lnTo>
                  <a:pt x="23206" y="3794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3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4608360" cy="3564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684360" y="1916280"/>
            <a:ext cx="5400360" cy="14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жар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Красный бык стоит, дрожит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черный – на небо бежи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4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4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709720" cy="4108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547640" y="1844640"/>
            <a:ext cx="532800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гонь и ды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3382920" cy="2119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 столе, в колпак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а в стеклянном пузырьк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селился дружок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веселый огоне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5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Narrow"/>
              </a:rPr>
              <a:t>Загадки   -  50</a:t>
            </a:r>
            <a:r>
              <a:rPr b="0" lang="en-US" sz="4800" spc="-1" strike="noStrike">
                <a:solidFill>
                  <a:srgbClr val="ffff66"/>
                </a:solidFill>
                <a:latin typeface="Arial Narrow"/>
              </a:rPr>
              <a:t>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00000" y="1773360"/>
            <a:ext cx="4240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мпоч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100000">
                    <a:srgbClr val="ff6600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771640" y="3430440"/>
            <a:ext cx="4097520" cy="3059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…………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сегодня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…………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показать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…………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пожарным                               ……………..создавать.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…………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аленький                                …………….маленький                           ……………..уголек                              ……………..заволок.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692360" y="260280"/>
            <a:ext cx="66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othicI"/>
              </a:rPr>
              <a:t>Конкурс 2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othicI"/>
              <a:ea typeface="Gothic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GothicI"/>
              </a:rPr>
              <a:t>"Буриме"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GothicI"/>
              <a:ea typeface="GothicI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словицы для команды «Уголек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Нет дыму без 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Вор после себя хоть стены оставляет, а огонь ……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Будь осторожен с утюгом, чтоб  он не стал ……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словицы для команды «Искра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суши бельё над газом -всё сгорит …….   …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гда без присмотра оставлена печь, один уголёк целый  дом….   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стёр вы бросили в лесу   и  вот несчастье на …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824400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11280" y="260280"/>
            <a:ext cx="813744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othicI"/>
              </a:rPr>
              <a:t>Конкурс 3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othicI"/>
              <a:ea typeface="Gothic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GothicI"/>
              </a:rPr>
              <a:t>Закончите пословицу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GothicI"/>
              <a:ea typeface="Gothic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419640" y="2349360"/>
            <a:ext cx="933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гн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87280" y="3141720"/>
            <a:ext cx="1295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е уноси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848720" y="3573360"/>
            <a:ext cx="1295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воим враго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59640" y="4724280"/>
            <a:ext cx="172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диным разо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419640" y="5445000"/>
            <a:ext cx="172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жет сжеч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352000" y="5877000"/>
            <a:ext cx="79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осу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ложить из спичек на скорость окончание лозунга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«В спичках огонь, спички…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692360" y="260280"/>
            <a:ext cx="66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othicI"/>
              </a:rPr>
              <a:t>Конкурс 4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othicI"/>
              <a:ea typeface="Gothic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GothicI"/>
              </a:rPr>
              <a:t>"Игровой"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GothicI"/>
              <a:ea typeface="GothicI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403280" y="1989000"/>
            <a:ext cx="6624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othicI"/>
              </a:rPr>
              <a:t>Конкурс 5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othicI"/>
              <a:ea typeface="Gothic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GothicI"/>
              </a:rPr>
              <a:t>Кроссворд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GothicI"/>
              <a:ea typeface="GothicI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282a3"/>
            </a:gs>
            <a:gs pos="50000">
              <a:srgbClr val="99ccff"/>
            </a:gs>
            <a:gs pos="100000">
              <a:srgbClr val="6282a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468360" y="1628640"/>
          <a:ext cx="8447040" cy="2664000"/>
        </p:xfrm>
        <a:graphic>
          <a:graphicData uri="http://schemas.openxmlformats.org/drawingml/2006/table">
            <a:tbl>
              <a:tblPr/>
              <a:tblGrid>
                <a:gridCol w="844560"/>
                <a:gridCol w="844560"/>
                <a:gridCol w="844560"/>
                <a:gridCol w="777960"/>
                <a:gridCol w="912600"/>
                <a:gridCol w="887400"/>
                <a:gridCol w="801720"/>
                <a:gridCol w="844560"/>
                <a:gridCol w="844560"/>
                <a:gridCol w="844560"/>
              </a:tblGrid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@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∆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Ё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&amp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♣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♫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۞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Щ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₤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Ъ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&amp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Э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 txBox="1"/>
          <p:nvPr/>
        </p:nvSpPr>
        <p:spPr>
          <a:xfrm>
            <a:off x="900000" y="33336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othicI"/>
              </a:rPr>
              <a:t>Конкурс 6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othicI"/>
              <a:ea typeface="Gothic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GothicI"/>
              </a:rPr>
              <a:t> 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GothicI"/>
              </a:rPr>
              <a:t>" Школа разведчиков"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GothicI"/>
              <a:ea typeface="GothicI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458136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۩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Ọ☻     ☺@ Ẁ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∩      &amp;       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 ≈ Ω ₪ ∩ @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♫ ♥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≈∩ 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☻∂ ☺         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∆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æ ♦ Ω ₪ ∩ @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26920" y="1790280"/>
            <a:ext cx="808848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прещается пользоваться открытым огнём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ображается на наружной стороне дверей помещений и складов с пожароопасными материалами, а также на таре с ним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 ?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2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596360" y="5300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19618" y="10800"/>
                </a:moveTo>
                <a:lnTo>
                  <a:pt x="9113" y="17806"/>
                </a:lnTo>
                <a:lnTo>
                  <a:pt x="9113" y="3794"/>
                </a:lnTo>
                <a:close/>
              </a:path>
              <a:path fill="darken" w="32239" h="21600">
                <a:moveTo>
                  <a:pt x="21463" y="3794"/>
                </a:moveTo>
                <a:lnTo>
                  <a:pt x="21463" y="17806"/>
                </a:lnTo>
                <a:lnTo>
                  <a:pt x="23126" y="17806"/>
                </a:lnTo>
                <a:lnTo>
                  <a:pt x="23126" y="3794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80000" y="4581360"/>
            <a:ext cx="2016000" cy="199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десь зашифрована фра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«Знают мальчик и девчушка – спички детям не игруш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817236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03280" y="1989000"/>
            <a:ext cx="6624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othicI"/>
              </a:rPr>
              <a:t>Спасибо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othicI"/>
              <a:ea typeface="Gothic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GothicI"/>
              </a:rPr>
              <a:t>за игру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GothicI"/>
              <a:ea typeface="GothicI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30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де изображается  и что обозначает данный знак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8375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?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3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519280" cy="248436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388360" y="458136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9194" y="17806"/>
                </a:lnTo>
                <a:lnTo>
                  <a:pt x="9194" y="3794"/>
                </a:lnTo>
                <a:close/>
              </a:path>
              <a:path fill="darken" w="32400" h="21600">
                <a:moveTo>
                  <a:pt x="21544" y="3794"/>
                </a:moveTo>
                <a:lnTo>
                  <a:pt x="21544" y="17806"/>
                </a:lnTo>
                <a:lnTo>
                  <a:pt x="23206" y="17806"/>
                </a:lnTo>
                <a:lnTo>
                  <a:pt x="23206" y="3794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348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прещается тушить водой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ображается на таре со щелочными металл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 также на дверях помещений, где эти вещества храня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?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3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01080" y="5300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4299" y="10868"/>
                </a:moveTo>
                <a:lnTo>
                  <a:pt x="3794" y="17874"/>
                </a:lnTo>
                <a:lnTo>
                  <a:pt x="3794" y="3861"/>
                </a:lnTo>
                <a:close/>
              </a:path>
              <a:path fill="darken" w="21600" h="21735">
                <a:moveTo>
                  <a:pt x="16144" y="3861"/>
                </a:moveTo>
                <a:lnTo>
                  <a:pt x="16144" y="17874"/>
                </a:lnTo>
                <a:lnTo>
                  <a:pt x="17806" y="17874"/>
                </a:lnTo>
                <a:lnTo>
                  <a:pt x="17806" y="3861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80000" y="4508640"/>
            <a:ext cx="2016000" cy="1987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6148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де изображается  и что обозначает данный знак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?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4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812000" y="501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2592360" cy="256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41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132760" cy="46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торожно! Легковоспламеняющиеся веществ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ображается на таре,  где хранятся легковоспламеняющиеся жидкост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Что означают знаки?  </a:t>
            </a:r>
            <a:r>
              <a:rPr b="0" lang="en-US" sz="4800" spc="-1" strike="noStrike">
                <a:solidFill>
                  <a:srgbClr val="ffff00"/>
                </a:solidFill>
                <a:latin typeface="Arial Narrow"/>
              </a:rPr>
              <a:t>40 баллов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028000" y="537372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4299" y="10854"/>
                </a:moveTo>
                <a:lnTo>
                  <a:pt x="3794" y="17861"/>
                </a:lnTo>
                <a:lnTo>
                  <a:pt x="3794" y="3848"/>
                </a:lnTo>
                <a:close/>
              </a:path>
              <a:path fill="darken" w="21600" h="21708">
                <a:moveTo>
                  <a:pt x="16144" y="3848"/>
                </a:moveTo>
                <a:lnTo>
                  <a:pt x="16144" y="17861"/>
                </a:lnTo>
                <a:lnTo>
                  <a:pt x="17806" y="17861"/>
                </a:lnTo>
                <a:lnTo>
                  <a:pt x="17806" y="3848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592360" cy="2567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7:47:42Z</dcterms:created>
  <dc:creator>777</dc:creator>
  <dc:description/>
  <dc:language>en-US</dc:language>
  <cp:lastModifiedBy>Admin</cp:lastModifiedBy>
  <dcterms:modified xsi:type="dcterms:W3CDTF">2010-02-28T16:10:25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