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F64-04ED-4D25-8CBD-AD1D69F7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99F-0281-41E8-83EF-8833B82B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6B6-45BE-4619-8660-D49EBE41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2D6-F742-45AF-92A4-D9908014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71D-1145-4399-8CC0-82F9C6A9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97E-7EF8-43BA-AE15-EF9211F4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565-4A21-48DC-BA80-87A1F4FA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95A-89C9-4C85-8516-4BD7343B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981-0405-4EA3-A159-5CB8F064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FF0-5556-48FA-AF55-79477DAC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0FC-FD1E-4D54-BC02-8000C8E6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609-50DB-4E71-B555-9E73CA75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A782-4A34-40DE-A5F5-19E0848A7B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Урок  математики</a:t>
            </a:r>
            <a:br>
              <a:rPr sz="5400"/>
            </a:br>
            <a:r>
              <a:rPr b="1" lang="ru-RU" sz="5400" spc="-1" strike="noStrike">
                <a:solidFill>
                  <a:srgbClr val="cc0099"/>
                </a:solidFill>
                <a:latin typeface="Arial"/>
              </a:rPr>
              <a:t>2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6564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ла презент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читель начальных клас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Шепель Окса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Задания ре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2"/>
          <p:cNvPicPr/>
          <p:nvPr/>
        </p:nvPicPr>
        <p:blipFill>
          <a:blip r:embed="rId1"/>
          <a:stretch/>
        </p:blipFill>
        <p:spPr>
          <a:xfrm>
            <a:off x="826920" y="981000"/>
            <a:ext cx="7561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Решение при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7 + 38            40 –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3 + 17            42 –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f53acbe883dcc21619d9fa92c9dda76d"/>
          <p:cNvPicPr/>
          <p:nvPr/>
        </p:nvPicPr>
        <p:blipFill>
          <a:blip r:embed="rId1"/>
          <a:stretch/>
        </p:blipFill>
        <p:spPr>
          <a:xfrm>
            <a:off x="973080" y="115920"/>
            <a:ext cx="712800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70c0"/>
                </a:solidFill>
                <a:latin typeface="Arial"/>
              </a:rPr>
              <a:t>Отдохнём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8920" y="162864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м встал гусак на лап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ился к заряд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нулся влево, вправо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еданье сделал справн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виком почистил пу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корей за парту плю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500880" y="4133880"/>
            <a:ext cx="23922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Буквенные 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а+8,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 а=14, а=8, а=6, а=4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gusi_lebedi_12"/>
          <p:cNvPicPr/>
          <p:nvPr/>
        </p:nvPicPr>
        <p:blipFill>
          <a:blip r:embed="rId1"/>
          <a:stretch/>
        </p:blipFill>
        <p:spPr>
          <a:xfrm>
            <a:off x="4124160" y="1522440"/>
            <a:ext cx="4413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Сравните числовые 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4+7     54+5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3+8     63+3+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6+0     46-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0027"/>
          <p:cNvPicPr/>
          <p:nvPr/>
        </p:nvPicPr>
        <p:blipFill>
          <a:blip r:embed="rId1"/>
          <a:stretch/>
        </p:blipFill>
        <p:spPr>
          <a:xfrm>
            <a:off x="4427640" y="692280"/>
            <a:ext cx="4446360" cy="56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Решение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+ 40 =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6df901b16372d215be0"/>
          <p:cNvPicPr/>
          <p:nvPr/>
        </p:nvPicPr>
        <p:blipFill>
          <a:blip r:embed="rId1"/>
          <a:stretch/>
        </p:blipFill>
        <p:spPr>
          <a:xfrm>
            <a:off x="900000" y="1916280"/>
            <a:ext cx="689292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rcRect l="14548" t="0" r="14619" b="0"/>
          <a:stretch/>
        </p:blipFill>
        <p:spPr>
          <a:xfrm>
            <a:off x="971640" y="1052640"/>
            <a:ext cx="68770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1116000" y="1989000"/>
            <a:ext cx="62658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урок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ГУСИ-ЛЕБ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+40        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8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4 + 5        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7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+9            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+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 - 2         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+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-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189"/>
          <p:cNvGraphicFramePr/>
          <p:nvPr/>
        </p:nvGraphicFramePr>
        <p:xfrm>
          <a:off x="8686800" y="3487680"/>
          <a:ext cx="69840" cy="9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18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6800" y="3487680"/>
                    <a:ext cx="69840" cy="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55640" y="4797360"/>
          <a:ext cx="7931160" cy="1174680"/>
        </p:xfrm>
        <a:graphic>
          <a:graphicData uri="http://schemas.openxmlformats.org/drawingml/2006/table">
            <a:tbl>
              <a:tblPr/>
              <a:tblGrid>
                <a:gridCol w="720720"/>
                <a:gridCol w="722160"/>
                <a:gridCol w="720720"/>
                <a:gridCol w="720720"/>
                <a:gridCol w="719280"/>
                <a:gridCol w="723960"/>
                <a:gridCol w="719280"/>
                <a:gridCol w="720720"/>
                <a:gridCol w="720720"/>
                <a:gridCol w="722160"/>
                <a:gridCol w="72072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9_30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Задания пе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d34fcb5a67c0d0bb57a73631b160803cd070fa7d6bcd394b4400b312"/>
          <p:cNvPicPr/>
          <p:nvPr/>
        </p:nvPicPr>
        <p:blipFill>
          <a:blip r:embed="rId1"/>
          <a:stretch/>
        </p:blipFill>
        <p:spPr>
          <a:xfrm>
            <a:off x="1042920" y="1341360"/>
            <a:ext cx="7129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3, 3, 30, 39, 27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, 13, 27, 30, 3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7" dur="indefinite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Геометрические фиг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971640" y="1015920"/>
            <a:ext cx="237816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903240" y="2752560"/>
            <a:ext cx="1635120" cy="187344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6227640" y="1808280"/>
            <a:ext cx="2005200" cy="18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5940360" y="4282920"/>
            <a:ext cx="158436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4130640" y="1281240"/>
            <a:ext cx="1714680" cy="1716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2771640" y="2997360"/>
            <a:ext cx="1513080" cy="1511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1908000" y="4869000"/>
            <a:ext cx="3240360" cy="104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Задания ябл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gusi-lebedi"/>
          <p:cNvPicPr/>
          <p:nvPr/>
        </p:nvPicPr>
        <p:blipFill>
          <a:blip r:embed="rId1"/>
          <a:stretch/>
        </p:blipFill>
        <p:spPr>
          <a:xfrm>
            <a:off x="900000" y="855720"/>
            <a:ext cx="748836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ыло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– 90 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дал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- ? 40 г. и 28 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сталос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- ? 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0 + 28 = 68 (г.) – прода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90 – 68 = 22 (г.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 гвоздики осталось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Физкульт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024-024-Fizminutka"/>
          <p:cNvPicPr/>
          <p:nvPr/>
        </p:nvPicPr>
        <p:blipFill>
          <a:blip r:embed="rId1"/>
          <a:stretch/>
        </p:blipFill>
        <p:spPr>
          <a:xfrm>
            <a:off x="324000" y="189000"/>
            <a:ext cx="852948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9:31:40Z</dcterms:created>
  <dc:creator>www.PHILka.RU</dc:creator>
  <dc:description/>
  <dc:language>en-US</dc:language>
  <cp:lastModifiedBy>Оксана</cp:lastModifiedBy>
  <dcterms:modified xsi:type="dcterms:W3CDTF">2018-01-28T16:22:02Z</dcterms:modified>
  <cp:revision>34</cp:revision>
  <dc:subject/>
  <dc:title>Слайд 1</dc:title>
</cp:coreProperties>
</file>