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6.wmf" ContentType="image/x-wmf"/>
  <Override PartName="/ppt/media/image15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825D-18A9-4034-B53C-90F8869F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00D-7682-478D-B4D0-437E70C5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4BF-7036-4650-A731-108C126B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258D-D377-43A1-8445-CC381D13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786-878A-4193-8F0D-7ADA9646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C8A-B35D-44EF-A61E-96332058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5E4B-528E-4FD7-9350-3DF76E12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4B7-90A4-4415-BAAE-47F32AD9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114-4D53-4627-8640-933F9F20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F3F-84EB-4ED5-AE3A-07366AAD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B28-FE5F-46FF-9742-B850CF3D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28A-1DAF-494E-A35F-6DBCAB61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9907-E62D-480C-A906-FB6778B72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9360" y="1440"/>
            <a:ext cx="9075960" cy="6861240"/>
            <a:chOff x="9360" y="1440"/>
            <a:chExt cx="9075960" cy="6861240"/>
          </a:xfrm>
        </p:grpSpPr>
        <p:sp>
          <p:nvSpPr>
            <p:cNvPr id="42" name="Rectangle 3"/>
            <p:cNvSpPr/>
            <p:nvPr/>
          </p:nvSpPr>
          <p:spPr>
            <a:xfrm>
              <a:off x="9360" y="1440"/>
              <a:ext cx="907596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281160" y="289080"/>
              <a:ext cx="853272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Text Box 8"/>
          <p:cNvSpPr/>
          <p:nvPr/>
        </p:nvSpPr>
        <p:spPr>
          <a:xfrm>
            <a:off x="357120" y="6000840"/>
            <a:ext cx="8425080" cy="396720"/>
          </a:xfrm>
          <a:prstGeom prst="rect">
            <a:avLst/>
          </a:prstGeom>
          <a:gradFill rotWithShape="0">
            <a:gsLst>
              <a:gs pos="0">
                <a:srgbClr val="fecf8a"/>
              </a:gs>
              <a:gs pos="50000">
                <a:srgbClr val="ffffff"/>
              </a:gs>
              <a:gs pos="100000">
                <a:srgbClr val="fecf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sun1"/>
          <p:cNvPicPr/>
          <p:nvPr/>
        </p:nvPicPr>
        <p:blipFill>
          <a:blip r:embed="rId1"/>
          <a:stretch/>
        </p:blipFill>
        <p:spPr>
          <a:xfrm>
            <a:off x="7748640" y="139680"/>
            <a:ext cx="1065240" cy="106524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11"/>
          <p:cNvGrpSpPr/>
          <p:nvPr/>
        </p:nvGrpSpPr>
        <p:grpSpPr>
          <a:xfrm>
            <a:off x="1285920" y="500040"/>
            <a:ext cx="6500520" cy="4263840"/>
            <a:chOff x="1285920" y="500040"/>
            <a:chExt cx="6500520" cy="4263840"/>
          </a:xfrm>
        </p:grpSpPr>
        <p:pic>
          <p:nvPicPr>
            <p:cNvPr id="47" name="Picture 12" descr="урок 23_Заставка"/>
            <p:cNvPicPr/>
            <p:nvPr/>
          </p:nvPicPr>
          <p:blipFill>
            <a:blip r:embed="rId2"/>
            <a:stretch/>
          </p:blipFill>
          <p:spPr>
            <a:xfrm>
              <a:off x="1285920" y="500040"/>
              <a:ext cx="6500520" cy="4263840"/>
            </a:xfrm>
            <a:prstGeom prst="rect">
              <a:avLst/>
            </a:prstGeom>
            <a:ln w="0">
              <a:noFill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48" name="WordArt 13"/>
            <p:cNvSpPr txBox="1"/>
            <p:nvPr/>
          </p:nvSpPr>
          <p:spPr>
            <a:xfrm>
              <a:off x="3227040" y="1812960"/>
              <a:ext cx="3236040" cy="744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"/>
                </a:rPr>
                <a:t>МИР 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"/>
                </a:rPr>
                <a:t>ДЕЯТЕЛЬНОСТИ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  <a:ea typeface="Arial"/>
              </a:endParaRPr>
            </a:p>
          </p:txBody>
        </p:sp>
        <p:pic>
          <p:nvPicPr>
            <p:cNvPr id="49" name="Picture 2" descr="Смайлик весёлый"/>
            <p:cNvPicPr/>
            <p:nvPr/>
          </p:nvPicPr>
          <p:blipFill>
            <a:blip r:embed="rId3"/>
            <a:stretch/>
          </p:blipFill>
          <p:spPr>
            <a:xfrm>
              <a:off x="3751200" y="2877480"/>
              <a:ext cx="1928160" cy="1646280"/>
            </a:xfrm>
            <a:prstGeom prst="rect">
              <a:avLst/>
            </a:prstGeom>
            <a:ln w="0">
              <a:noFill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</p:grpSp>
      <p:sp>
        <p:nvSpPr>
          <p:cNvPr id="50" name="Text Box 9"/>
          <p:cNvSpPr/>
          <p:nvPr/>
        </p:nvSpPr>
        <p:spPr>
          <a:xfrm>
            <a:off x="285840" y="492912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Надпредметный курс «Мир деятельности»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недостающее ключевое звено при формировании УУ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9360" y="1440"/>
            <a:ext cx="9075960" cy="6861240"/>
            <a:chOff x="9360" y="1440"/>
            <a:chExt cx="9075960" cy="6861240"/>
          </a:xfrm>
        </p:grpSpPr>
        <p:sp>
          <p:nvSpPr>
            <p:cNvPr id="112" name="Rectangle 3"/>
            <p:cNvSpPr/>
            <p:nvPr/>
          </p:nvSpPr>
          <p:spPr>
            <a:xfrm>
              <a:off x="9360" y="1440"/>
              <a:ext cx="907596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281160" y="289080"/>
              <a:ext cx="853272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888840" y="692280"/>
            <a:ext cx="7393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"/>
          <p:cNvGrpSpPr/>
          <p:nvPr/>
        </p:nvGrpSpPr>
        <p:grpSpPr>
          <a:xfrm>
            <a:off x="9360" y="1440"/>
            <a:ext cx="9075960" cy="6861240"/>
            <a:chOff x="9360" y="1440"/>
            <a:chExt cx="9075960" cy="6861240"/>
          </a:xfrm>
        </p:grpSpPr>
        <p:sp>
          <p:nvSpPr>
            <p:cNvPr id="116" name="Rectangle 3"/>
            <p:cNvSpPr/>
            <p:nvPr/>
          </p:nvSpPr>
          <p:spPr>
            <a:xfrm>
              <a:off x="9360" y="1440"/>
              <a:ext cx="907596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281160" y="289080"/>
              <a:ext cx="853272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8" name="Object 2"/>
          <p:cNvGraphicFramePr/>
          <p:nvPr/>
        </p:nvGraphicFramePr>
        <p:xfrm>
          <a:off x="2340000" y="620640"/>
          <a:ext cx="4751280" cy="3567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20640"/>
                    <a:ext cx="475128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042920" y="4365720"/>
            <a:ext cx="734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арта заполняется детьми после прохождения каждой темы по программе «Мир деятельности», начиная со следующего дня. Самодиагностика проходит ежедневно на протяжении всей последующей недели(5-ти) дней 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на любом предметном уроке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, проводимом в технологии деятельностного метода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9360" y="1440"/>
            <a:ext cx="9075960" cy="6861240"/>
            <a:chOff x="9360" y="1440"/>
            <a:chExt cx="9075960" cy="6861240"/>
          </a:xfrm>
        </p:grpSpPr>
        <p:sp>
          <p:nvSpPr>
            <p:cNvPr id="122" name="Rectangle 3"/>
            <p:cNvSpPr/>
            <p:nvPr/>
          </p:nvSpPr>
          <p:spPr>
            <a:xfrm>
              <a:off x="9360" y="1440"/>
              <a:ext cx="907596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"/>
            <p:cNvSpPr/>
            <p:nvPr/>
          </p:nvSpPr>
          <p:spPr>
            <a:xfrm>
              <a:off x="281160" y="289080"/>
              <a:ext cx="853272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334600" y="403920"/>
            <a:ext cx="33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АТИЧЕСКОЕ ПЛАНИРОВ АНИЕ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«МИР ДЕЯТЕЛЬ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05080" y="960480"/>
          <a:ext cx="6202080" cy="5394240"/>
        </p:xfrm>
        <a:graphic>
          <a:graphicData uri="http://schemas.openxmlformats.org/drawingml/2006/table">
            <a:tbl>
              <a:tblPr/>
              <a:tblGrid>
                <a:gridCol w="715680"/>
                <a:gridCol w="548640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, цел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четверть (8 часо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читься... А что это значит?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читель и ученик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Я ученик. Правила поведения на уроке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ичностные качества ученика: активность в учебной деятельно­ст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чимся дружно. Работа в парах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Я ученик: что я уже знаю и умею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 (2 урока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четверть (7 часо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 научиться быть внимательным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атруднение - мой помощник в учени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Ценности нашей жизни. Здоровье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чимся дружно. Работа в группах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ичностные качества ученика: терпение в учебной деятельно­ст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Я ученик: что я уже знаю и умею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 (1 урок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9360" y="1440"/>
            <a:ext cx="9075960" cy="6861240"/>
            <a:chOff x="9360" y="1440"/>
            <a:chExt cx="9075960" cy="6861240"/>
          </a:xfrm>
        </p:grpSpPr>
        <p:sp>
          <p:nvSpPr>
            <p:cNvPr id="127" name="Rectangle 3"/>
            <p:cNvSpPr/>
            <p:nvPr/>
          </p:nvSpPr>
          <p:spPr>
            <a:xfrm>
              <a:off x="9360" y="1440"/>
              <a:ext cx="907596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"/>
            <p:cNvSpPr/>
            <p:nvPr/>
          </p:nvSpPr>
          <p:spPr>
            <a:xfrm>
              <a:off x="281160" y="289080"/>
              <a:ext cx="853272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9" name=""/>
          <p:cNvGraphicFramePr/>
          <p:nvPr/>
        </p:nvGraphicFramePr>
        <p:xfrm>
          <a:off x="1366920" y="307800"/>
          <a:ext cx="6950160" cy="6046920"/>
        </p:xfrm>
        <a:graphic>
          <a:graphicData uri="http://schemas.openxmlformats.org/drawingml/2006/table">
            <a:tbl>
              <a:tblPr/>
              <a:tblGrid>
                <a:gridCol w="972360"/>
                <a:gridCol w="5762160"/>
                <a:gridCol w="216000"/>
              </a:tblGrid>
              <a:tr h="291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четверть (10 часо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 диагностики №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 выяснить, что я не знаю?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ачем ученику домашнее задание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емья - мой помощник в учени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обное учебное действие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е могу? - Остановлюсь, чтобы подумать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ичина затруднения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евероятные приключения первоклассников в тридевя­том царстве, или История о том, что значит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ся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Я ученик: что я уже знаю и умею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 (1 урок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четверть (7 часо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 проверить свою работу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ичностные качества ученика: честность в учебной деятельно­ст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 диагностики №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ичностные качества ученика: доброжелательность в учеб­ной деятельност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Я ученик: что я уже знаю и умею» (Творческая гостиная для де­тей и родителей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6948360" y="4221000"/>
            <a:ext cx="1694160" cy="2237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2"/>
          <a:stretch/>
        </p:blipFill>
        <p:spPr>
          <a:xfrm>
            <a:off x="3193920" y="4913280"/>
            <a:ext cx="1573200" cy="157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124000" y="1844640"/>
            <a:ext cx="2148120" cy="28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4"/>
          <a:stretch/>
        </p:blipFill>
        <p:spPr>
          <a:xfrm>
            <a:off x="357120" y="3571920"/>
            <a:ext cx="2238480" cy="292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5"/>
          <a:srcRect l="52989" t="0" r="0" b="0"/>
          <a:stretch/>
        </p:blipFill>
        <p:spPr>
          <a:xfrm>
            <a:off x="324000" y="260280"/>
            <a:ext cx="2268360" cy="2005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3059280" y="439560"/>
            <a:ext cx="5616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03200"/>
                </a:solidFill>
                <a:latin typeface="Arial"/>
                <a:ea typeface="Arial"/>
              </a:rPr>
              <a:t>Надпредметный ку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«Мир деятельнос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82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58" name="Rectangle 83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4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Picture 5" descr=""/>
          <p:cNvPicPr/>
          <p:nvPr/>
        </p:nvPicPr>
        <p:blipFill>
          <a:blip r:embed="rId6"/>
          <a:srcRect l="2252" t="65308" r="2160" b="0"/>
          <a:stretch/>
        </p:blipFill>
        <p:spPr>
          <a:xfrm>
            <a:off x="5572080" y="1714680"/>
            <a:ext cx="2232000" cy="1682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7"/>
          <a:srcRect l="55362" t="14673" r="1810" b="16242"/>
          <a:stretch/>
        </p:blipFill>
        <p:spPr>
          <a:xfrm>
            <a:off x="5000760" y="3571920"/>
            <a:ext cx="183168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87280" y="897120"/>
            <a:ext cx="68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УУД  формируются тем же способом, что и любые ум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"/>
          <p:cNvGrpSpPr/>
          <p:nvPr/>
        </p:nvGrpSpPr>
        <p:grpSpPr>
          <a:xfrm>
            <a:off x="9360" y="1440"/>
            <a:ext cx="9075960" cy="6861240"/>
            <a:chOff x="9360" y="1440"/>
            <a:chExt cx="9075960" cy="6861240"/>
          </a:xfrm>
        </p:grpSpPr>
        <p:sp>
          <p:nvSpPr>
            <p:cNvPr id="64" name="Rectangle 3"/>
            <p:cNvSpPr/>
            <p:nvPr/>
          </p:nvSpPr>
          <p:spPr>
            <a:xfrm>
              <a:off x="9360" y="1440"/>
              <a:ext cx="907596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281160" y="289080"/>
              <a:ext cx="853272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69960" y="3643920"/>
            <a:ext cx="797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9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Представление о действии, первичный опыт и мотив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Приобретение знаний о способе выполнения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Тренинг в применении знаний, самоконтроль и коррек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Контроль умения выполнять дей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32000" y="2349360"/>
            <a:ext cx="684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апы формирова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юбого уме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539640" y="5373720"/>
            <a:ext cx="974880" cy="1004760"/>
          </a:xfrm>
          <a:prstGeom prst="rect">
            <a:avLst/>
          </a:prstGeom>
          <a:ln w="28440">
            <a:solidFill>
              <a:srgbClr val="d67c0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1625400"/>
            <a:ext cx="79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1)  сформировать опыт целеполаг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)  что такое цель и почему важно самому уметь ее став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3) научиться сознательно применять алгоритм целе-полаг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4) проконтролировать это умение ребенк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"/>
          <p:cNvGrpSpPr/>
          <p:nvPr/>
        </p:nvGrpSpPr>
        <p:grpSpPr>
          <a:xfrm>
            <a:off x="9360" y="1440"/>
            <a:ext cx="9075960" cy="6861240"/>
            <a:chOff x="9360" y="1440"/>
            <a:chExt cx="9075960" cy="6861240"/>
          </a:xfrm>
        </p:grpSpPr>
        <p:sp>
          <p:nvSpPr>
            <p:cNvPr id="71" name="Rectangle 3"/>
            <p:cNvSpPr/>
            <p:nvPr/>
          </p:nvSpPr>
          <p:spPr>
            <a:xfrm>
              <a:off x="9360" y="1440"/>
              <a:ext cx="907596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"/>
            <p:cNvSpPr/>
            <p:nvPr/>
          </p:nvSpPr>
          <p:spPr>
            <a:xfrm>
              <a:off x="281160" y="289080"/>
              <a:ext cx="853272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6443640" y="5084640"/>
            <a:ext cx="1184400" cy="1220760"/>
          </a:xfrm>
          <a:prstGeom prst="rect">
            <a:avLst/>
          </a:prstGeom>
          <a:ln w="28440">
            <a:solidFill>
              <a:srgbClr val="d67c0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9360" y="1440"/>
            <a:ext cx="9075960" cy="6861240"/>
            <a:chOff x="9360" y="1440"/>
            <a:chExt cx="9075960" cy="6861240"/>
          </a:xfrm>
        </p:grpSpPr>
        <p:sp>
          <p:nvSpPr>
            <p:cNvPr id="75" name="Rectangle 3"/>
            <p:cNvSpPr/>
            <p:nvPr/>
          </p:nvSpPr>
          <p:spPr>
            <a:xfrm>
              <a:off x="9360" y="1440"/>
              <a:ext cx="907596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4"/>
            <p:cNvSpPr/>
            <p:nvPr/>
          </p:nvSpPr>
          <p:spPr>
            <a:xfrm>
              <a:off x="281160" y="289080"/>
              <a:ext cx="853272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 txBox="1"/>
          <p:nvPr/>
        </p:nvSpPr>
        <p:spPr>
          <a:xfrm>
            <a:off x="1116000" y="836640"/>
            <a:ext cx="352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Цел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5840" y="2276640"/>
            <a:ext cx="742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здание теоретического фунд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ля формирования общеучеб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 деятельностных умений и связанных с н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пособностей и личностных кач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4284720" y="4869000"/>
            <a:ext cx="1299960" cy="1339560"/>
          </a:xfrm>
          <a:prstGeom prst="rect">
            <a:avLst/>
          </a:prstGeom>
          <a:ln w="28440">
            <a:solidFill>
              <a:srgbClr val="d67c0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9360" y="1440"/>
            <a:ext cx="9075960" cy="6861240"/>
            <a:chOff x="9360" y="1440"/>
            <a:chExt cx="9075960" cy="6861240"/>
          </a:xfrm>
        </p:grpSpPr>
        <p:sp>
          <p:nvSpPr>
            <p:cNvPr id="81" name="Rectangle 3"/>
            <p:cNvSpPr/>
            <p:nvPr/>
          </p:nvSpPr>
          <p:spPr>
            <a:xfrm>
              <a:off x="9360" y="1440"/>
              <a:ext cx="907596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4"/>
            <p:cNvSpPr/>
            <p:nvPr/>
          </p:nvSpPr>
          <p:spPr>
            <a:xfrm>
              <a:off x="281160" y="289080"/>
              <a:ext cx="853272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2592360" cy="2485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Смайлик 2"/>
          <p:cNvPicPr/>
          <p:nvPr/>
        </p:nvPicPr>
        <p:blipFill>
          <a:blip r:embed="rId2"/>
          <a:stretch/>
        </p:blipFill>
        <p:spPr>
          <a:xfrm>
            <a:off x="4932360" y="836640"/>
            <a:ext cx="2798640" cy="2365200"/>
          </a:xfrm>
          <a:prstGeom prst="rect">
            <a:avLst/>
          </a:prstGeom>
          <a:ln w="28440">
            <a:solidFill>
              <a:srgbClr val="d67c02"/>
            </a:solidFill>
            <a:miter/>
          </a:ln>
        </p:spPr>
      </p:pic>
      <p:pic>
        <p:nvPicPr>
          <p:cNvPr id="85" name="Picture 5" descr="Смайлик 1"/>
          <p:cNvPicPr/>
          <p:nvPr/>
        </p:nvPicPr>
        <p:blipFill>
          <a:blip r:embed="rId3"/>
          <a:stretch/>
        </p:blipFill>
        <p:spPr>
          <a:xfrm>
            <a:off x="1042920" y="4005360"/>
            <a:ext cx="2059200" cy="2031840"/>
          </a:xfrm>
          <a:prstGeom prst="rect">
            <a:avLst/>
          </a:prstGeom>
          <a:ln w="28440">
            <a:solidFill>
              <a:srgbClr val="d67c02"/>
            </a:solidFill>
            <a:miter/>
          </a:ln>
        </p:spPr>
      </p:pic>
      <p:pic>
        <p:nvPicPr>
          <p:cNvPr id="86" name="Рисунок 2" descr="C:\Users\Эля\Desktop\Все рисунки для презентаций\без фона\Урок 3_Правила работы-2.png"/>
          <p:cNvPicPr/>
          <p:nvPr/>
        </p:nvPicPr>
        <p:blipFill>
          <a:blip r:embed="rId4"/>
          <a:stretch/>
        </p:blipFill>
        <p:spPr>
          <a:xfrm>
            <a:off x="3635280" y="4005360"/>
            <a:ext cx="2046240" cy="1927080"/>
          </a:xfrm>
          <a:prstGeom prst="rect">
            <a:avLst/>
          </a:prstGeom>
          <a:ln w="28440">
            <a:solidFill>
              <a:srgbClr val="e46c0a"/>
            </a:solidFill>
            <a:miter/>
          </a:ln>
        </p:spPr>
      </p:pic>
      <p:pic>
        <p:nvPicPr>
          <p:cNvPr id="87" name="Picture 7" descr=""/>
          <p:cNvPicPr/>
          <p:nvPr/>
        </p:nvPicPr>
        <p:blipFill>
          <a:blip r:embed="rId5"/>
          <a:stretch/>
        </p:blipFill>
        <p:spPr>
          <a:xfrm>
            <a:off x="6156360" y="4005360"/>
            <a:ext cx="1859040" cy="1915920"/>
          </a:xfrm>
          <a:prstGeom prst="rect">
            <a:avLst/>
          </a:prstGeom>
          <a:ln w="28440">
            <a:solidFill>
              <a:srgbClr val="d67c0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Рисунок1"/>
          <p:cNvPicPr/>
          <p:nvPr/>
        </p:nvPicPr>
        <p:blipFill>
          <a:blip r:embed="rId1"/>
          <a:stretch/>
        </p:blipFill>
        <p:spPr>
          <a:xfrm>
            <a:off x="539640" y="620640"/>
            <a:ext cx="7691400" cy="5729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Смайлик весёлый"/>
          <p:cNvPicPr/>
          <p:nvPr/>
        </p:nvPicPr>
        <p:blipFill>
          <a:blip r:embed="rId2"/>
          <a:stretch/>
        </p:blipFill>
        <p:spPr>
          <a:xfrm>
            <a:off x="3635280" y="3678120"/>
            <a:ext cx="2232000" cy="2349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сканирование0007"/>
          <p:cNvPicPr/>
          <p:nvPr/>
        </p:nvPicPr>
        <p:blipFill>
          <a:blip r:embed="rId3"/>
          <a:stretch/>
        </p:blipFill>
        <p:spPr>
          <a:xfrm>
            <a:off x="884160" y="3914640"/>
            <a:ext cx="2751120" cy="2113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сканирование0009"/>
          <p:cNvPicPr/>
          <p:nvPr/>
        </p:nvPicPr>
        <p:blipFill>
          <a:blip r:embed="rId4"/>
          <a:stretch/>
        </p:blipFill>
        <p:spPr>
          <a:xfrm>
            <a:off x="5724360" y="2924280"/>
            <a:ext cx="2597400" cy="203832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2"/>
          <p:cNvGrpSpPr/>
          <p:nvPr/>
        </p:nvGrpSpPr>
        <p:grpSpPr>
          <a:xfrm>
            <a:off x="9360" y="1440"/>
            <a:ext cx="9075960" cy="6861240"/>
            <a:chOff x="9360" y="1440"/>
            <a:chExt cx="9075960" cy="6861240"/>
          </a:xfrm>
        </p:grpSpPr>
        <p:sp>
          <p:nvSpPr>
            <p:cNvPr id="93" name="Rectangle 3"/>
            <p:cNvSpPr/>
            <p:nvPr/>
          </p:nvSpPr>
          <p:spPr>
            <a:xfrm>
              <a:off x="9360" y="1440"/>
              <a:ext cx="907596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281160" y="289080"/>
              <a:ext cx="853272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9360" y="1440"/>
            <a:ext cx="9075960" cy="6861240"/>
            <a:chOff x="9360" y="1440"/>
            <a:chExt cx="9075960" cy="6861240"/>
          </a:xfrm>
        </p:grpSpPr>
        <p:sp>
          <p:nvSpPr>
            <p:cNvPr id="96" name="Rectangle 3"/>
            <p:cNvSpPr/>
            <p:nvPr/>
          </p:nvSpPr>
          <p:spPr>
            <a:xfrm>
              <a:off x="9360" y="1440"/>
              <a:ext cx="907596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4"/>
            <p:cNvSpPr/>
            <p:nvPr/>
          </p:nvSpPr>
          <p:spPr>
            <a:xfrm>
              <a:off x="281160" y="289080"/>
              <a:ext cx="853272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858960" y="712800"/>
            <a:ext cx="7399080" cy="5548320"/>
          </a:xfrm>
          <a:prstGeom prst="rect">
            <a:avLst/>
          </a:prstGeom>
          <a:ln w="0">
            <a:noFill/>
          </a:ln>
        </p:spPr>
      </p:pic>
      <p:sp>
        <p:nvSpPr>
          <p:cNvPr id="99" name="Овал 1"/>
          <p:cNvSpPr/>
          <p:nvPr/>
        </p:nvSpPr>
        <p:spPr>
          <a:xfrm>
            <a:off x="6291360" y="5084640"/>
            <a:ext cx="720720" cy="720720"/>
          </a:xfrm>
          <a:prstGeom prst="ellipse">
            <a:avLst/>
          </a:prstGeom>
          <a:solidFill>
            <a:srgbClr val="bbe0e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7164360" y="50846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500880" y="2428920"/>
            <a:ext cx="2209680" cy="145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02" name="Group 4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4"/>
          <p:cNvSpPr/>
          <p:nvPr/>
        </p:nvSpPr>
        <p:spPr>
          <a:xfrm>
            <a:off x="785880" y="178596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Эталоны и «Копилка достиже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785880" y="35712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К каждому занятию кур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3144960" y="107172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Arial"/>
              </a:rPr>
              <a:t>ДЛЯ УЧЕ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785880" y="2714760"/>
            <a:ext cx="2714400" cy="204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5286240" y="3571920"/>
            <a:ext cx="2221200" cy="1452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Picture 2" descr=""/>
          <p:cNvPicPr/>
          <p:nvPr/>
        </p:nvPicPr>
        <p:blipFill>
          <a:blip r:embed="rId4"/>
          <a:stretch/>
        </p:blipFill>
        <p:spPr>
          <a:xfrm>
            <a:off x="3643200" y="4857840"/>
            <a:ext cx="2303640" cy="150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7:40:29Z</dcterms:created>
  <dc:creator>UserXP</dc:creator>
  <dc:description/>
  <dc:language>en-US</dc:language>
  <cp:lastModifiedBy>Microsoft Office</cp:lastModifiedBy>
  <dcterms:modified xsi:type="dcterms:W3CDTF">2018-01-28T19:23:48Z</dcterms:modified>
  <cp:revision>3</cp:revision>
  <dc:subject/>
  <dc:title>Слайд 1</dc:title>
</cp:coreProperties>
</file>