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44D-2ECC-4672-B83F-F04EA5F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074-C4A8-42E2-B4EE-1589623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EF4-CA0B-4E1E-ABF4-6EEAAFB5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A81-08DE-44FC-9980-F5035103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4A3-3B58-42EA-997B-8D1B8FCF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B31-3D68-4481-8024-C2BDB85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8BD-0372-43A9-BC0B-600D03C0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615D-87F5-4A51-9F27-E2BA1449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252B-917E-437A-B3E3-F4FD207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6263-C3CB-42CB-9397-1ED36A3E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C0C-00B7-4ECD-A793-03B2449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FCB-8AC9-449F-86C0-7CAC347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1BC1-5B84-458B-A523-9D19A10A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5C0-1D85-4208-9CBD-07FAAA7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74D2-E1A4-47A3-BD17-676AD11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DF59-7578-4E41-82BC-53AF712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D0BC-BF80-4EFD-B78E-18EB130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AC-45ED-4B67-AEA3-F2D0FA9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71F-80FA-4A49-AE54-69148CA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159-72EC-477C-87F0-19D005EF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AB8-69C5-4436-8476-BC83A39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587-26F8-421C-9CA1-052763F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E72-4723-4227-9C09-A630C7C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D1D-B127-437A-8651-B4CA9EA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CC75-6430-424D-A5F7-36B321888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8F4-7C2C-4A63-AA07-36F16B7EC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ект по теме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896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"Узоры и орнаменты на посуде"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857840" y="6237360"/>
            <a:ext cx="47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готовил: Федькина 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орнамен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8920" y="4581000"/>
            <a:ext cx="715644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намен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– узор из одинаковых повторяющихся фигур. Однако в древности орнамент имел не столько функцию украшения, сколько служил оберегом, защитой человека от злых сил.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23" descr="74775ab4922c644a5c20853f7d01d947"/>
          <p:cNvPicPr/>
          <p:nvPr/>
        </p:nvPicPr>
        <p:blipFill>
          <a:blip r:embed="rId1"/>
          <a:stretch/>
        </p:blipFill>
        <p:spPr>
          <a:xfrm>
            <a:off x="971640" y="1484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alsunna"/>
          <p:cNvPicPr/>
          <p:nvPr/>
        </p:nvPicPr>
        <p:blipFill>
          <a:blip r:embed="rId2"/>
          <a:stretch/>
        </p:blipFill>
        <p:spPr>
          <a:xfrm>
            <a:off x="4716360" y="1484280"/>
            <a:ext cx="2800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узор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3909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зор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рисунок, представляющий собою сочетание линий, красок, теней и т. п. Сложное переплетение, живописное расположение чего-либо, образующее или напоминающее такой рисуно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8" descr="thumb1_648"/>
          <p:cNvPicPr/>
          <p:nvPr/>
        </p:nvPicPr>
        <p:blipFill>
          <a:blip r:embed="rId1"/>
          <a:stretch/>
        </p:blipFill>
        <p:spPr>
          <a:xfrm>
            <a:off x="395280" y="1413000"/>
            <a:ext cx="4060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80876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дна из разновидностей   украшения посу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1" descr="hello_html_65f6bf47"/>
          <p:cNvPicPr/>
          <p:nvPr/>
        </p:nvPicPr>
        <p:blipFill>
          <a:blip r:embed="rId1"/>
          <a:stretch/>
        </p:blipFill>
        <p:spPr>
          <a:xfrm>
            <a:off x="468360" y="1916280"/>
            <a:ext cx="3887640" cy="2589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6360" y="4797000"/>
            <a:ext cx="7454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же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является народным керамическим промыслом. Всем знаком знаменитый сине-белый узор, запечатленный на необыкновенной фарфоровой посуд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6" descr="0_e4db5_cc1868a0_XL"/>
          <p:cNvPicPr/>
          <p:nvPr/>
        </p:nvPicPr>
        <p:blipFill>
          <a:blip r:embed="rId2"/>
          <a:stretch/>
        </p:blipFill>
        <p:spPr>
          <a:xfrm>
            <a:off x="4572000" y="1916280"/>
            <a:ext cx="38307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81440" y="476280"/>
            <a:ext cx="853308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кже существуют другие различные способы украшения посуды и мы можем увидеть их в данных изображен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7" descr="gesi33ebwo1"/>
          <p:cNvPicPr/>
          <p:nvPr/>
        </p:nvPicPr>
        <p:blipFill>
          <a:blip r:embed="rId1"/>
          <a:stretch/>
        </p:blipFill>
        <p:spPr>
          <a:xfrm>
            <a:off x="4788000" y="3068640"/>
            <a:ext cx="377172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mg9"/>
          <p:cNvPicPr/>
          <p:nvPr/>
        </p:nvPicPr>
        <p:blipFill>
          <a:blip r:embed="rId2"/>
          <a:stretch/>
        </p:blipFill>
        <p:spPr>
          <a:xfrm>
            <a:off x="826920" y="2492280"/>
            <a:ext cx="38163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7"/>
          <p:cNvSpPr/>
          <p:nvPr/>
        </p:nvSpPr>
        <p:spPr>
          <a:xfrm>
            <a:off x="324000" y="5493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ы можем только восхищаться красотой и разнообразием узор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9" descr="hello_html_69b4f88e"/>
          <p:cNvPicPr/>
          <p:nvPr/>
        </p:nvPicPr>
        <p:blipFill>
          <a:blip r:embed="rId1"/>
          <a:stretch/>
        </p:blipFill>
        <p:spPr>
          <a:xfrm>
            <a:off x="250920" y="191628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hello_html_m2f2c2412"/>
          <p:cNvPicPr/>
          <p:nvPr/>
        </p:nvPicPr>
        <p:blipFill>
          <a:blip r:embed="rId2"/>
          <a:stretch/>
        </p:blipFill>
        <p:spPr>
          <a:xfrm>
            <a:off x="4211640" y="4076640"/>
            <a:ext cx="4103640" cy="2522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119846636_zwdf0vQjo0A"/>
          <p:cNvPicPr/>
          <p:nvPr/>
        </p:nvPicPr>
        <p:blipFill>
          <a:blip r:embed="rId3"/>
          <a:stretch/>
        </p:blipFill>
        <p:spPr>
          <a:xfrm>
            <a:off x="4284720" y="1700280"/>
            <a:ext cx="2016000" cy="19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JFPlV0m0VKo"/>
          <p:cNvPicPr/>
          <p:nvPr/>
        </p:nvPicPr>
        <p:blipFill>
          <a:blip r:embed="rId4"/>
          <a:stretch/>
        </p:blipFill>
        <p:spPr>
          <a:xfrm>
            <a:off x="6516720" y="1052640"/>
            <a:ext cx="14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485928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зоры и орнаменты бывают разные. Бывают и геометрические узоры, поэтому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атематика вокруг нас всегда и везд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9" descr="file"/>
          <p:cNvPicPr/>
          <p:nvPr/>
        </p:nvPicPr>
        <p:blipFill>
          <a:blip r:embed="rId1"/>
          <a:stretch/>
        </p:blipFill>
        <p:spPr>
          <a:xfrm>
            <a:off x="4716360" y="1773360"/>
            <a:ext cx="3408480" cy="3600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042920" y="404640"/>
            <a:ext cx="340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2" descr="31693_html_d7d55a2"/>
          <p:cNvPicPr/>
          <p:nvPr/>
        </p:nvPicPr>
        <p:blipFill>
          <a:blip r:embed="rId2"/>
          <a:stretch/>
        </p:blipFill>
        <p:spPr>
          <a:xfrm>
            <a:off x="1835280" y="5518080"/>
            <a:ext cx="6518160" cy="133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image050"/>
          <p:cNvPicPr/>
          <p:nvPr/>
        </p:nvPicPr>
        <p:blipFill>
          <a:blip r:embed="rId3"/>
          <a:stretch/>
        </p:blipFill>
        <p:spPr>
          <a:xfrm>
            <a:off x="6372360" y="260280"/>
            <a:ext cx="1276200" cy="141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4" descr="22241AL"/>
          <p:cNvPicPr/>
          <p:nvPr/>
        </p:nvPicPr>
        <p:blipFill>
          <a:blip r:embed="rId4"/>
          <a:stretch/>
        </p:blipFill>
        <p:spPr>
          <a:xfrm>
            <a:off x="4427640" y="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17:02:10Z</dcterms:created>
  <dc:creator>Admin</dc:creator>
  <dc:description/>
  <dc:language>en-US</dc:language>
  <cp:lastModifiedBy>Admin</cp:lastModifiedBy>
  <dcterms:modified xsi:type="dcterms:W3CDTF">2018-01-17T11:00:05Z</dcterms:modified>
  <cp:revision>3</cp:revision>
  <dc:subject/>
  <dc:title>Проект по теме:  </dc:title>
</cp:coreProperties>
</file>