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CADE-BF23-409F-B303-0450759E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2085-F0C1-4F20-ADFF-24188652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9BBA-AEB6-493D-BE1E-9BD2394C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44C7-A3B0-413F-BE13-F700C5A7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E8B3-A76E-4950-A05B-4C91D07D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C364-1C86-4943-B7CA-C3694F4B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EA1-FFF4-430F-BEB1-230F2633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3D5F-51C1-4F80-A4F0-478F0F8C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3613-BE35-4F39-9D6F-38295790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6675-3EAC-4FF1-B4E1-E2AAD3B1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E1BC-9CCC-40AC-95EE-3DD8BDF3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51EE-9500-4BC2-B337-ADC9C4A4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9678-6200-4FAF-A061-6C147EAF7B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9280" y="3785760"/>
            <a:ext cx="7772400" cy="1474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i="1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velling by plane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928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vocabul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4928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stop flight 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посадочный по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arding card –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адочны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л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a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l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язные рем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ing room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мната ожид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ard  a  plane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сть на само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 sea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то у ок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r hostess (flight attendant) –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юардес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428480" y="428760"/>
            <a:ext cx="72579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ight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ё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й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take off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лет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land- приземли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way- взлётная поло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- проход на посад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heck in- регистрирова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 luggage- ручной бага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arture lounge- зал ожидания полё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y at the hotel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остановиться в гостин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85840" y="1290240"/>
            <a:ext cx="840096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ve on time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тправляться по расписа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off a plane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йт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самол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vel  ligh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шествовать налег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 ticket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билет в один конец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 ticket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билет в оба конц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 luggage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чной багаж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one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luggage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дат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щ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гаж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rive a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быть в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69680" y="527040"/>
            <a:ext cx="701676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Expres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7120" y="1290240"/>
            <a:ext cx="8329680" cy="52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 I get to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by air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 – Могу ли я купить билет на самолет до …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 like to book a single ticke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– Я хотел бы запланировать билет в один коне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rry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 are all booked up for today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– К сожалению, все билеты проданы на сегод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-bye! I wish you a pleasant journey. –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дани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ятного путешестви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85840" y="1290240"/>
            <a:ext cx="840096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you help 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How can I get t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should tak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 can I buy a ticket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booking office over there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 will you go on holidays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long will you be staying t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`m on my way. Don`t worry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57120" y="1290240"/>
            <a:ext cx="832968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'm sorry to bother you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much is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 can I buy the ticket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 is the booking off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far i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I pay by credit-ca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lain arrives to London a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much do your bags weigh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7120" y="527040"/>
            <a:ext cx="832968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               </a:t>
            </a: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Dialogue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“At the airport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5840" y="1143000"/>
            <a:ext cx="84009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Excuse me ,Are you Mr. Smith? __________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How was the flight? ________________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How do you like our city? ________________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And how do you like our weather? _________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___________ In Britain the weather is rainy!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What is the weather like in Russia? ____________.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How long are you going to stay here? __________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__________ I am going to stay in the Hotel.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What are you going to visit? __________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What are your plans? ________________ 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When are you going to leave ? ______________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 Was it your first visit to Moscow?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7Z</dcterms:created>
  <dc:creator>Julian</dc:creator>
  <dc:description/>
  <dc:language>en-US</dc:language>
  <cp:lastModifiedBy>Admin</cp:lastModifiedBy>
  <dcterms:modified xsi:type="dcterms:W3CDTF">2014-12-05T12:05:24Z</dcterms:modified>
  <cp:revision>34</cp:revision>
  <dc:subject/>
  <dc:title>PowerPoint Presentation</dc:title>
</cp:coreProperties>
</file>