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BED-08AE-4FAB-83CB-ECC81CB4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9B3-BD59-4719-8C1B-21DF5BBE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A00-2647-4681-A6E4-8480B3FB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FF09-C8DF-4D58-A36F-51247F9E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BF9B-EBAA-4407-858A-D12C4E46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6A9A-111B-425B-895F-8C2E2D40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A4F4-24CA-4518-885D-801D918C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5954-7CFD-4235-8F32-5ADDC0CA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51E2-5177-4EE9-A086-0CCFBF76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74EB-08AD-437E-920E-8C6FD869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3940-A910-45D0-A1D7-CF08A718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727-4B19-478F-8E74-DEE16C42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0681-CDE4-4038-BDAF-E83E7826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B6CE-E4BC-4AF4-99FF-837F0DE6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C8D6-6E0B-46FF-875C-72C2EA7C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B7B1-04AD-4641-90F4-09EE386F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EB52-AC4E-4207-850F-2BDAD227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326C5-97C9-4249-8B00-757E8EE5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8AAFA-EBAC-46AB-A6B4-50C78FDA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0CF5D-3F40-460F-AE18-9C45FAA1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7A556-9124-43B2-B2D2-DB868CB2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22BAE-8BDF-4476-9371-8C5E7198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FEE-760C-4005-8A79-422C35C7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E0BB0-A766-4BDC-8D20-7A228997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DDF7B-51B0-4747-930B-969BB81D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764A7-DB2D-4051-BBD2-10CC136B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FAAA1-2F69-4E33-ADFA-4C78A545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E6440-22B8-4120-987F-C99843A7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2676F-9685-4282-9D92-912054D0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AEC1B-4CCD-4BD6-831E-B5DEDB93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3231F-3DC2-4BF4-A613-5ED6F42F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937AD-8298-4B29-9ED1-98099389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0552F-A7AB-44ED-A0D5-4E806E24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E3B-47FC-4313-99E9-581AC363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FB2E4-595F-44B7-BA46-3BE59E6B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E6B4A-EE7C-416C-81E5-5C2132BE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76353-B705-4752-93A0-F19568FB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009E1-1C6A-4CE6-B954-EC61BCD1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9EFAA-1D4D-4C45-9D68-1A07230D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F5E48-9C2B-4668-8E0B-FB1DD735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B0A51-DEA0-4469-886B-85278D1E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1C407-C5FC-4236-98C6-A224F2F9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2AC8F-1B3E-4488-82D6-3D63F259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6A508-4403-4917-88E4-584265DC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DEA-B15C-41A3-B88F-E50F2893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59172-6D28-4B46-A526-606BDEC6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904D80-4D6B-4FA7-88FA-F93FE891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05B440-EEBB-4783-8CB7-C347F934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8CB49-761D-4CE6-A73F-2F7537D2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A0120-AF99-4EB2-BFBF-04A2094D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67882A-3D06-4D67-A8BC-77F63C8F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42F67-382E-4B78-92CE-1B65E9BD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A5EE6C-36EE-433C-9887-419716C4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0D03F1-7DA5-4114-9A20-7DB589FE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058BFA-FFA2-4F91-B885-C20885CC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119-F8D8-4F82-9310-933963EA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BD67A-6718-4866-AA67-5B84A607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8D4486-174C-43C5-87E1-07EBC535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7E69E-B373-479B-B36A-99742257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10684-47ED-4ACA-AA53-E6D093F6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F8CF33-28F6-488F-8A21-AF3E15B2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59345-6F26-47E2-B5EB-DE39803A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6E7BA4-6421-4F96-A8CF-1C5C7F7B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0CCB20-13BA-421E-9C31-8760AB24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A4E26-7D9E-4ED0-92FB-DBE32456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953CC2-3B0F-4AFD-B9A5-4A91FC77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E55-2654-40C5-A0B9-FBBF57A6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8D32A-E8F3-415D-AA87-BAE728B1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6493B1-918D-425A-989D-E3803CF6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D8F9F9-6AEC-419D-87C7-05177284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1B4ED-862A-4C7B-9680-1497E07A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0905BF-7856-43C9-A292-07116260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472E5-188D-4FFB-A528-AE0B7B3C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37FEA4-ABAF-418E-A2F9-9F50B98A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07EF72-5166-4068-9F02-D62275E4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2D3178-C2FA-4CD8-8DD9-AC65334F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0E196-A8B4-4102-8293-01E146FC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359-32C9-4A4F-ADC9-3054C971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C0C931-2718-4341-BED6-0CDA91AF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ED6822-B056-44AC-96D6-273E38DE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9FFEEB-CF9B-481D-91A9-E3BD1908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6D2CB7-AD17-4AB2-A4B7-8D64721A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273F05-FB2C-4905-B248-51600345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3F9-DB2D-4D49-8B6B-9CC5498D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d3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5a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387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b3875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b3875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f306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5a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5b387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5b387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b38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38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5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b3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5a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b3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b3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1B88-0B2E-4BFE-A1DD-A19AD99A2EF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d3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5a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2ce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2ce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ae8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5a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ae8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5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5a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5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5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5a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5b3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5b3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5b3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5b3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5b3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387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b3875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b3875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f306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5a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5b387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5b387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b38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38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569D-2A40-44C5-8E32-B803B73EE25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d3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5a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5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b3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5a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b3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b3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387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b3875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b3875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f306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5a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5b387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5b387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b38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38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4E4F-C07E-48D2-B9CC-C293CE464E8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38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5a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2ce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2ce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ae8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5a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ae8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5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5a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5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5a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5b3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5b3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5b3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5b3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5b3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5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0bdd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0bdd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b3875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d3e9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e0d3e9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b3875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d3e9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e0d3e9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f306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d3e9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e0d3e9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5a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d3e9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e0d3e9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d3e9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e0d3e9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e0d3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d3e9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e0d3e9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e0d3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d3e9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e0d3e9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0bd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0bd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240D-03D0-40A0-AA67-F0AB00147F7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d3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5a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5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b3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5a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b3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b3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387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b3875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b3875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f306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5a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5b387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5b387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b38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38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0CCC-34A0-41DD-A7C3-9ADF9D6D2CB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d3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5a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5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5b3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b3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5a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b3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b3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387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b3875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b3875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f306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5a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5b387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5b387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b38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38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6704-E0B4-477C-8687-E91D7500E83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d3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5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b38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5b3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5a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b3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5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5b3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387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b3875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b3875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f306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5aeb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5b387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5b387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3875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b38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38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70DA-C565-4463-AD14-D01B77BEEF9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23640" y="263700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3875"/>
                </a:solidFill>
                <a:latin typeface="Century Schoolbook"/>
              </a:rPr>
              <a:t>РАЗВИТИЕ ЭМОЦИОНАЛЬНОЙ СФЕРЫ ДЕТЕЙ ДОШКОЛЬНОГО ВОЗРАСТА СРЕДСТВАМИ ТЕАТРАЛИЗОВАННОЙ ДЕЯТЕЛЬНОСТИ</a:t>
            </a:r>
            <a:br>
              <a:rPr sz="3200"/>
            </a:br>
            <a:endParaRPr b="0" lang="en-US" sz="32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05092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3875"/>
                </a:solidFill>
                <a:latin typeface="Century Schoolbook"/>
              </a:rPr>
              <a:t>Педагог-психолог 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3875"/>
                </a:solidFill>
                <a:latin typeface="Century Schoolbook"/>
              </a:rPr>
              <a:t>МАДОУ ЦРР д/с 133 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3875"/>
                </a:solidFill>
                <a:latin typeface="Century Schoolbook"/>
              </a:rPr>
              <a:t>Молькова М.В</a:t>
            </a:r>
            <a:r>
              <a:rPr b="1" lang="ru-RU" sz="1800" spc="-1" strike="noStrike">
                <a:solidFill>
                  <a:srgbClr val="5b3875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5b387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оугольник 1"/>
          <p:cNvSpPr/>
          <p:nvPr/>
        </p:nvSpPr>
        <p:spPr>
          <a:xfrm>
            <a:off x="539640" y="404640"/>
            <a:ext cx="777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3875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5b3875"/>
                </a:solidFill>
                <a:latin typeface="Century Schoolbook"/>
              </a:rPr>
              <a:t>Театрализованная деятельность 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</a:rPr>
              <a:t>в детском саду организационно может пронизывать все режимные моменты: включаться во все занятия, в совместную деятельность детей и взрослых в свободное время, осуществляться в самостоятельной деятельности детей. </a:t>
            </a:r>
            <a:r>
              <a:rPr b="1" lang="ru-RU" sz="2000" spc="-1" strike="noStrike">
                <a:solidFill>
                  <a:srgbClr val="5b3875"/>
                </a:solidFill>
                <a:latin typeface="Century Schoolbook"/>
              </a:rPr>
              <a:t>Театрализованная деятельность 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</a:rPr>
              <a:t>может быть органично включена в работу различных студий и кружков; продукты театрализованной деятельности (инсценировки, драматизации, спектакли, концерты и др.) могут вноситься в содержание праздников и развлечений. 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</p:txBody>
      </p:sp>
      <p:pic>
        <p:nvPicPr>
          <p:cNvPr id="376" name="Picture 2" descr="C:\Users\Администратор\Desktop\Картинки театральная деятельность эмоции\p1000447.jpg"/>
          <p:cNvPicPr/>
          <p:nvPr/>
        </p:nvPicPr>
        <p:blipFill>
          <a:blip r:embed="rId1"/>
          <a:stretch/>
        </p:blipFill>
        <p:spPr>
          <a:xfrm>
            <a:off x="324000" y="3716280"/>
            <a:ext cx="3384360" cy="253836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77" name="Picture 3" descr=""/>
          <p:cNvPicPr/>
          <p:nvPr/>
        </p:nvPicPr>
        <p:blipFill>
          <a:blip r:embed="rId2"/>
          <a:stretch/>
        </p:blipFill>
        <p:spPr>
          <a:xfrm>
            <a:off x="4187880" y="3701880"/>
            <a:ext cx="3624120" cy="251964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1"/>
          <p:cNvSpPr/>
          <p:nvPr/>
        </p:nvSpPr>
        <p:spPr>
          <a:xfrm>
            <a:off x="611280" y="26028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  <a:ea typeface="Arial"/>
              </a:rPr>
              <a:t>Большое и разнообразное влияние театрализованной деятельности на личность ребенка позволяет использовать их в качестве сильного, но ненавязчивого педагогического средства, так как сам ребенок испытывает при этом удовольствие, радость.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  <a:ea typeface="Arial"/>
              </a:rPr>
              <a:t>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  <a:ea typeface="Arial"/>
              </a:rPr>
              <a:t>Воспитательные возможности театрализованной деятельности усиливаются тем, что их тематика практически не ограничена. Она может удовлетворять разносторонние интересы детей.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pic>
        <p:nvPicPr>
          <p:cNvPr id="379" name="Picture 2" descr="C:\Users\Администратор\Desktop\Картинки театральная деятельность эмоции\skazki_ygolki_45_2.jpg"/>
          <p:cNvPicPr/>
          <p:nvPr/>
        </p:nvPicPr>
        <p:blipFill>
          <a:blip r:embed="rId1"/>
          <a:stretch/>
        </p:blipFill>
        <p:spPr>
          <a:xfrm>
            <a:off x="1214280" y="3860640"/>
            <a:ext cx="6382080" cy="240984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2"/>
          <p:cNvSpPr/>
          <p:nvPr/>
        </p:nvSpPr>
        <p:spPr>
          <a:xfrm>
            <a:off x="468360" y="62064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3875"/>
                </a:solidFill>
                <a:latin typeface="Century Schoolbook"/>
              </a:rPr>
              <a:t>Функции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совместной театрализованной деятельности</a:t>
            </a:r>
            <a:r>
              <a:rPr b="1" lang="ru-RU" sz="2400" spc="-1" strike="noStrike">
                <a:solidFill>
                  <a:srgbClr val="5b3875"/>
                </a:solidFill>
                <a:latin typeface="Century Schoolbook"/>
              </a:rPr>
              <a:t>: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познавательная, 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воспитательная 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развивающая. 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pic>
        <p:nvPicPr>
          <p:cNvPr id="381" name="Picture 2" descr="C:\Users\Администратор\Desktop\Картинки театральная деятельность эмоции\imgh512919.png"/>
          <p:cNvPicPr/>
          <p:nvPr/>
        </p:nvPicPr>
        <p:blipFill>
          <a:blip r:embed="rId1"/>
          <a:stretch/>
        </p:blipFill>
        <p:spPr>
          <a:xfrm>
            <a:off x="4356000" y="620640"/>
            <a:ext cx="3878280" cy="293364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82" name="Прямоугольник 1"/>
          <p:cNvSpPr/>
          <p:nvPr/>
        </p:nvSpPr>
        <p:spPr>
          <a:xfrm>
            <a:off x="755640" y="393372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3875"/>
                </a:solidFill>
                <a:latin typeface="Century Schoolbook"/>
              </a:rPr>
              <a:t>Цели: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развитие речи и навыков театрально – исполнительской деятельности;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создание атмосферы творчества;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социально – эмоциональное развитие детей.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1"/>
          <p:cNvSpPr/>
          <p:nvPr/>
        </p:nvSpPr>
        <p:spPr>
          <a:xfrm>
            <a:off x="611280" y="190440"/>
            <a:ext cx="5761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  <a:ea typeface="Arial"/>
              </a:rPr>
              <a:t>Чем полнее и эмоциональнее восприятие произведений, тем выше уровень театрализованной деятельности. 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  <a:ea typeface="Arial"/>
              </a:rPr>
              <a:t>В соответствии с этим перед воспитателем встают 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3875"/>
                </a:solidFill>
                <a:latin typeface="Century Schoolbook"/>
                <a:ea typeface="Arial"/>
              </a:rPr>
              <a:t>две основные задачи: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  <a:ea typeface="Arial"/>
              </a:rPr>
              <a:t>—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  <a:ea typeface="Arial"/>
              </a:rPr>
              <a:t>понять, разобраться в том, 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  <a:ea typeface="Arial"/>
              </a:rPr>
              <a:t>что чувствует ребёнок, на что направлены его переживания, насколько они глубоки и серьезны;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  <a:ea typeface="Arial"/>
              </a:rPr>
              <a:t>—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  <a:ea typeface="Arial"/>
              </a:rPr>
              <a:t>помочь ребёнку полнее высказать, проявить свои чувства, создать особые условия, в которых может развернуться содействие персонажам произведений.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pic>
        <p:nvPicPr>
          <p:cNvPr id="384" name="Picture 2" descr="C:\Users\Администратор\Desktop\Картинки театральная деятельность эмоции\image_76071.jpg"/>
          <p:cNvPicPr/>
          <p:nvPr/>
        </p:nvPicPr>
        <p:blipFill>
          <a:blip r:embed="rId1"/>
          <a:stretch/>
        </p:blipFill>
        <p:spPr>
          <a:xfrm>
            <a:off x="5724360" y="1341360"/>
            <a:ext cx="2880000" cy="215892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1"/>
          <p:cNvSpPr/>
          <p:nvPr/>
        </p:nvSpPr>
        <p:spPr>
          <a:xfrm>
            <a:off x="684360" y="333360"/>
            <a:ext cx="7426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В процессе реализации комплекса совместной театрализованной деятельности решаются </a:t>
            </a:r>
            <a:r>
              <a:rPr b="1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следующие задачи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: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— 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развитие творческих способностей и творческой самостоятельности дошкольника;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— 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воспитание интереса к различным видам творческой деятельности;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— 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овладение импровизационными умениями;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— 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развитие всех компонентов, функций и форм речевой деятельности;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— 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совершенствование познавательных процессов.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Совместная театрализованная </a:t>
            </a:r>
            <a:r>
              <a:rPr b="1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деятельность в основном строится по единой схеме: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— 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введение в тему, создание эмоционального настроения;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— 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театрализованная деятельность (в разных формах), где воспитатель и каждый ребёнок имеют возможность реализовать свой творческий потенциал;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— 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эмоциональное заключение, обеспечивающее успешность театрализованной деятельности.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395280" y="2146320"/>
            <a:ext cx="756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b3875"/>
                </a:solidFill>
                <a:latin typeface="Century Schoolbook"/>
              </a:rPr>
              <a:t>Театр </a:t>
            </a:r>
            <a:r>
              <a:rPr b="0" lang="ru-RU" sz="2200" spc="-1" strike="noStrike">
                <a:solidFill>
                  <a:srgbClr val="5b3875"/>
                </a:solidFill>
                <a:latin typeface="Century Schoolbook"/>
              </a:rPr>
              <a:t>раскрывает духовный и творческий потенциал ребёнка и даёт реальную возможность адаптироваться в социальной среде. </a:t>
            </a:r>
            <a:endParaRPr b="0" lang="en-US" sz="2200" spc="-1" strike="noStrike">
              <a:solidFill>
                <a:srgbClr val="5b3875"/>
              </a:solidFill>
              <a:latin typeface="Century Schoolbook"/>
            </a:endParaRPr>
          </a:p>
        </p:txBody>
      </p:sp>
      <p:pic>
        <p:nvPicPr>
          <p:cNvPr id="387" name="Picture 2" descr="C:\Users\Администратор\Desktop\Картинки театральная деятельность эмоции\13486705labgi0l1261096971.jpg"/>
          <p:cNvPicPr/>
          <p:nvPr/>
        </p:nvPicPr>
        <p:blipFill>
          <a:blip r:embed="rId1"/>
          <a:stretch/>
        </p:blipFill>
        <p:spPr>
          <a:xfrm>
            <a:off x="2627280" y="3429000"/>
            <a:ext cx="3889440" cy="282888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88" name="Прямоугольник 3"/>
          <p:cNvSpPr/>
          <p:nvPr/>
        </p:nvSpPr>
        <p:spPr>
          <a:xfrm>
            <a:off x="395280" y="360360"/>
            <a:ext cx="813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b3875"/>
                </a:solidFill>
                <a:latin typeface="Century Schoolbook"/>
              </a:rPr>
              <a:t>Театрализованная деятельность </a:t>
            </a:r>
            <a:r>
              <a:rPr b="0" lang="ru-RU" sz="2200" spc="-1" strike="noStrike">
                <a:solidFill>
                  <a:srgbClr val="5b3875"/>
                </a:solidFill>
                <a:latin typeface="Century Schoolbook"/>
              </a:rPr>
              <a:t>– важнейшее средство развития у детей способности распознавать эмоциональное состояние человека по мимике, жестам, интонации, умения ставить себя на его место в различных ситуациях, находить адекватные способы содействия. </a:t>
            </a:r>
            <a:endParaRPr b="0" lang="en-US" sz="2200" spc="-1" strike="noStrike">
              <a:solidFill>
                <a:srgbClr val="5b387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1"/>
          <p:cNvSpPr/>
          <p:nvPr/>
        </p:nvSpPr>
        <p:spPr>
          <a:xfrm>
            <a:off x="1042920" y="3844800"/>
            <a:ext cx="70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b3875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5b3875"/>
              </a:solidFill>
              <a:latin typeface="Century Schoolbook"/>
            </a:endParaRPr>
          </a:p>
        </p:txBody>
      </p:sp>
      <p:pic>
        <p:nvPicPr>
          <p:cNvPr id="390" name="Picture 2" descr="C:\Users\Администратор\Desktop\Картинки театральная деятельность эмоции\2f42a6478b6e.jpg"/>
          <p:cNvPicPr/>
          <p:nvPr/>
        </p:nvPicPr>
        <p:blipFill>
          <a:blip r:embed="rId1"/>
          <a:stretch/>
        </p:blipFill>
        <p:spPr>
          <a:xfrm>
            <a:off x="3059280" y="368280"/>
            <a:ext cx="3531960" cy="316404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611280" y="82692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b3875"/>
                </a:solidFill>
                <a:latin typeface="Century Schoolbook"/>
                <a:ea typeface="Arial"/>
              </a:rPr>
              <a:t>Духовная жизнь ребенка полна лишь тогда, когда он живет в мире сказок, творчества, воображения, фантазии, а без этого он засушенный цветок.</a:t>
            </a:r>
            <a:br>
              <a:rPr sz="2800"/>
            </a:br>
            <a:r>
              <a:rPr b="1" i="1" lang="ru-RU" sz="2800" spc="-1" strike="noStrike">
                <a:solidFill>
                  <a:srgbClr val="5b3875"/>
                </a:solidFill>
                <a:latin typeface="Century Schoolbook"/>
                <a:ea typeface="Arial"/>
              </a:rPr>
              <a:t>В. Сухомлинский</a:t>
            </a:r>
            <a:endParaRPr b="0" lang="en-US" sz="2800" spc="-1" strike="noStrike">
              <a:solidFill>
                <a:srgbClr val="5b3875"/>
              </a:solidFill>
              <a:latin typeface="Century Schoolbook"/>
            </a:endParaRPr>
          </a:p>
        </p:txBody>
      </p:sp>
      <p:pic>
        <p:nvPicPr>
          <p:cNvPr id="354" name="Picture 2" descr="C:\Users\Администратор\Desktop\Картинки театральная деятельность эмоции\963939525fb767ddbb8baa36c4d771bf.jpg"/>
          <p:cNvPicPr/>
          <p:nvPr/>
        </p:nvPicPr>
        <p:blipFill>
          <a:blip r:embed="rId1"/>
          <a:stretch/>
        </p:blipFill>
        <p:spPr>
          <a:xfrm>
            <a:off x="5402160" y="826920"/>
            <a:ext cx="3017880" cy="3949920"/>
          </a:xfrm>
          <a:prstGeom prst="rect">
            <a:avLst/>
          </a:prstGeom>
          <a:ln w="34920">
            <a:solidFill>
              <a:srgbClr val="e0d3e9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684360" y="260280"/>
            <a:ext cx="7775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3875"/>
                </a:solidFill>
                <a:latin typeface="Century Schoolbook"/>
              </a:rPr>
              <a:t>Театр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– одно из ярких эмоциональных средств, формирующих вкус детей. 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3875"/>
                </a:solidFill>
                <a:latin typeface="Century Schoolbook"/>
              </a:rPr>
              <a:t>Театрализованная деятельность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в детском саду – это хорошая возможность раскрытия творческого потенциала ребенка, воспитания творческой направленности личности.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5b3875"/>
                </a:solidFill>
                <a:latin typeface="Century Schoolbook"/>
              </a:rPr>
              <a:t>Дети учатся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замечать в окружающем мире интересные идеи, воплощать их, создавать свой художественный образ персонажа, 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у них развивается творческое 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воображение, ассоциативное 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мышление, умение видеть 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необычные моменты 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в обыденном.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pic>
        <p:nvPicPr>
          <p:cNvPr id="356" name="Picture 3" descr="C:\Users\Администратор\Desktop\Картинки театральная деятельность эмоции\10.jpg"/>
          <p:cNvPicPr/>
          <p:nvPr/>
        </p:nvPicPr>
        <p:blipFill>
          <a:blip r:embed="rId1"/>
          <a:stretch/>
        </p:blipFill>
        <p:spPr>
          <a:xfrm>
            <a:off x="5219640" y="3716280"/>
            <a:ext cx="2863800" cy="2295720"/>
          </a:xfrm>
          <a:prstGeom prst="rect">
            <a:avLst/>
          </a:prstGeom>
          <a:ln w="34920">
            <a:solidFill>
              <a:srgbClr val="e0d3e9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539640" y="47628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Введите в мир театра малыша,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Узнает он, как сказка хороша,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Проникнется теплом и добротой,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И сказку унесет с собой.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sp>
        <p:nvSpPr>
          <p:cNvPr id="358" name="Прямоугольник 2"/>
          <p:cNvSpPr/>
          <p:nvPr/>
        </p:nvSpPr>
        <p:spPr>
          <a:xfrm>
            <a:off x="1042920" y="508464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3875"/>
                </a:solidFill>
                <a:latin typeface="Century Schoolbook"/>
                <a:ea typeface="Arial"/>
              </a:rPr>
              <a:t>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  <a:ea typeface="Arial"/>
              </a:rPr>
              <a:t>Театр — один из самых демократичных и доступных видов искусства для детей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  <p:pic>
        <p:nvPicPr>
          <p:cNvPr id="359" name="Picture 2" descr="C:\Users\Администратор\Desktop\Картинки театральная деятельность эмоции\3c79dcc8fa71d0d1adfe23244dae28fe.jpg.jpg"/>
          <p:cNvPicPr/>
          <p:nvPr/>
        </p:nvPicPr>
        <p:blipFill>
          <a:blip r:embed="rId1"/>
          <a:stretch/>
        </p:blipFill>
        <p:spPr>
          <a:xfrm>
            <a:off x="2398680" y="2205000"/>
            <a:ext cx="3672000" cy="275112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755640" y="404640"/>
            <a:ext cx="4968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3875"/>
                </a:solidFill>
                <a:latin typeface="Century Schoolbook"/>
              </a:rPr>
              <a:t>Театрализованная деятельность </a:t>
            </a:r>
            <a:r>
              <a:rPr b="1" lang="ru-RU" sz="2000" spc="-1" strike="noStrike">
                <a:solidFill>
                  <a:srgbClr val="5b3875"/>
                </a:solidFill>
                <a:latin typeface="Century Schoolbook"/>
              </a:rPr>
              <a:t>решает задачи, связанные с: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3875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</a:rPr>
              <a:t>- художественным образованием и воспитанием детей;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3875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</a:rPr>
              <a:t>- формированием эстетического вкуса;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3875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</a:rPr>
              <a:t>- нравственным воспитанием;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3875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</a:rPr>
              <a:t>- развитием коммуникативных качеств личности (обучением вербальным и невербальным видам общения);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3875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</a:rPr>
              <a:t>- воспитанием воли, развитием памяти, воображения, инициативности, фантазии, речи (диалога и монолога);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3875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</a:rPr>
              <a:t>- созданием положительного эмоционального настроя, снятием напряженности, решением конфликтных ситуаций через игру. 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</p:txBody>
      </p:sp>
      <p:pic>
        <p:nvPicPr>
          <p:cNvPr id="361" name="Picture 3" descr="C:\Users\Администратор\Desktop\Психолог в детском саду\КАРТИНКИ ДЛЯ ЗАНЯТИЙ\ПИКТОГРАММЫ ЭМОЦИИ\t7743_1.gif"/>
          <p:cNvPicPr/>
          <p:nvPr/>
        </p:nvPicPr>
        <p:blipFill>
          <a:blip r:embed="rId1"/>
          <a:stretch/>
        </p:blipFill>
        <p:spPr>
          <a:xfrm>
            <a:off x="6084720" y="1268280"/>
            <a:ext cx="2374920" cy="333864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1"/>
          <p:cNvSpPr/>
          <p:nvPr/>
        </p:nvSpPr>
        <p:spPr>
          <a:xfrm>
            <a:off x="539640" y="336600"/>
            <a:ext cx="79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3875"/>
                </a:solidFill>
                <a:latin typeface="Century Schoolbook"/>
              </a:rPr>
              <a:t>Театрализованная деятельность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дошкольников базируется на принципах развивающего обучения. </a:t>
            </a:r>
            <a:r>
              <a:rPr b="1" lang="ru-RU" sz="2400" spc="-1" strike="noStrike">
                <a:solidFill>
                  <a:srgbClr val="5b3875"/>
                </a:solidFill>
                <a:latin typeface="Century Schoolbook"/>
              </a:rPr>
              <a:t>Психологическая комфортность предполагает: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1) снятие, по возможности, всех стрессообразующих факторов;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2) раскрепощенность, стимулирующую развитие духовного потенциала и творческой активности;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3) развитие реальных мотивов: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а) игра и обучение не должны быть из-под палки;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б) внутренние, личностные мотивы должны преобладать над внешними, ситуативными, исходящими из авторитета взрослого;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5b3875"/>
                </a:solidFill>
                <a:latin typeface="Century Schoolbook"/>
              </a:rPr>
              <a:t>в) внутренние мотивы должны обязательно включать мотивацию успешности, продвижения вперед («У тебя обязательно получится»).</a:t>
            </a:r>
            <a:endParaRPr b="0" lang="en-US" sz="2400" spc="-1" strike="noStrike">
              <a:solidFill>
                <a:srgbClr val="5b387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1"/>
          <p:cNvSpPr/>
          <p:nvPr/>
        </p:nvSpPr>
        <p:spPr>
          <a:xfrm>
            <a:off x="395280" y="333360"/>
            <a:ext cx="8569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3875"/>
                </a:solidFill>
                <a:latin typeface="Century Schoolbook"/>
              </a:rPr>
              <a:t>Театрализованная деятельность 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</a:rPr>
              <a:t>позволяет ребёнку решать многие проблемы (страхи, стеснительность, тревожность, заторможенность; развязаность и суетливость; отсутствие навыков произвольного поведения, недостаточное развитие психических процессов и речи), ситуации опосредованно от лица какого – либо персонажа. Это помогает преодолевать робость, неуверенность в себе, застенчивость, помогает установить с ребенком продуктивный контакт.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</p:txBody>
      </p:sp>
      <p:pic>
        <p:nvPicPr>
          <p:cNvPr id="364" name="Picture 2" descr="C:\Users\Администратор\Desktop\Картинки театральная деятельность эмоции\kukl.png"/>
          <p:cNvPicPr/>
          <p:nvPr/>
        </p:nvPicPr>
        <p:blipFill>
          <a:blip r:embed="rId1"/>
          <a:stretch/>
        </p:blipFill>
        <p:spPr>
          <a:xfrm>
            <a:off x="4140360" y="2882880"/>
            <a:ext cx="4352760" cy="246708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65" name="Прямоугольник 1"/>
          <p:cNvSpPr/>
          <p:nvPr/>
        </p:nvSpPr>
        <p:spPr>
          <a:xfrm>
            <a:off x="539640" y="3154320"/>
            <a:ext cx="345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Самый короткий путь эмоционального раскрепощения ребенка, снятие зажатости, обучения чувствованию и художественному воображению — </a:t>
            </a:r>
            <a:r>
              <a:rPr b="1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это путь через игру, фантазирование, сочинительство.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"/>
          <p:cNvSpPr/>
          <p:nvPr/>
        </p:nvSpPr>
        <p:spPr>
          <a:xfrm>
            <a:off x="2219400" y="311040"/>
            <a:ext cx="669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Использование пиктограмм</a:t>
            </a:r>
            <a:r>
              <a:rPr b="0" i="1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,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с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пособствует усвоению детьми графического изображения эмоциональных состояний, что является предпосылкой развития у детей умение видеть эмоциональное состояние окружающих людей (эмпатия). У детей развиваются способности демонстрировать </a:t>
            </a:r>
            <a:r>
              <a:rPr b="0" i="1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собственные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эмоции,</a:t>
            </a:r>
            <a:r>
              <a:rPr b="0" lang="ru-RU" sz="2000" spc="-1" strike="noStrike">
                <a:solidFill>
                  <a:srgbClr val="5b3875"/>
                </a:solidFill>
                <a:latin typeface="Century Schoolbook"/>
                <a:ea typeface="Arial"/>
              </a:rPr>
              <a:t> используя для этого выразительные движения лица (мимику), выразительные движения  (пантомимику), а также свои голосовые возможности. </a:t>
            </a:r>
            <a:endParaRPr b="0" lang="en-US" sz="2000" spc="-1" strike="noStrike">
              <a:solidFill>
                <a:srgbClr val="5b3875"/>
              </a:solidFill>
              <a:latin typeface="Century Schoolbook"/>
            </a:endParaRPr>
          </a:p>
        </p:txBody>
      </p:sp>
      <p:pic>
        <p:nvPicPr>
          <p:cNvPr id="367" name="Picture 2" descr="C:\Users\Администратор\Desktop\6519001labk7si1216751069.jpg"/>
          <p:cNvPicPr/>
          <p:nvPr/>
        </p:nvPicPr>
        <p:blipFill>
          <a:blip r:embed="rId1"/>
          <a:stretch/>
        </p:blipFill>
        <p:spPr>
          <a:xfrm>
            <a:off x="371520" y="189000"/>
            <a:ext cx="1847880" cy="319716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68" name="Picture 4" descr="C:\Users\Администратор\Desktop\Психолог в детском саду\ФОТОГРАФИИ\Солнышко январь 2014\в презентацию\DSC06440.JPG"/>
          <p:cNvPicPr/>
          <p:nvPr/>
        </p:nvPicPr>
        <p:blipFill>
          <a:blip r:embed="rId2"/>
          <a:stretch/>
        </p:blipFill>
        <p:spPr>
          <a:xfrm>
            <a:off x="3059280" y="3718080"/>
            <a:ext cx="2869920" cy="251136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69" name="Picture 5" descr="C:\Users\Администратор\Desktop\Психолог в детском саду\ФОТОГРАФИИ\Солнышко январь 2014\в презентацию\DSC06441.JPG"/>
          <p:cNvPicPr/>
          <p:nvPr/>
        </p:nvPicPr>
        <p:blipFill>
          <a:blip r:embed="rId3"/>
          <a:stretch/>
        </p:blipFill>
        <p:spPr>
          <a:xfrm>
            <a:off x="250920" y="3624120"/>
            <a:ext cx="2808360" cy="239868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70" name="Picture 6" descr="C:\Users\Администратор\Desktop\Психолог в детском саду\ФОТОГРАФИИ\Солнышко январь 2014\в презентацию\DSC06442.JPG"/>
          <p:cNvPicPr/>
          <p:nvPr/>
        </p:nvPicPr>
        <p:blipFill>
          <a:blip r:embed="rId4"/>
          <a:stretch/>
        </p:blipFill>
        <p:spPr>
          <a:xfrm>
            <a:off x="5958000" y="3213000"/>
            <a:ext cx="2792160" cy="255924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1"/>
          <p:cNvSpPr/>
          <p:nvPr/>
        </p:nvSpPr>
        <p:spPr>
          <a:xfrm>
            <a:off x="2712960" y="297000"/>
            <a:ext cx="3754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3875"/>
                </a:solidFill>
                <a:latin typeface="Century Schoolbook"/>
                <a:ea typeface="Arial"/>
              </a:rPr>
              <a:t>Э</a:t>
            </a:r>
            <a:r>
              <a:rPr b="1" lang="ru-RU" sz="2200" spc="-1" strike="noStrike">
                <a:solidFill>
                  <a:srgbClr val="5b3875"/>
                </a:solidFill>
                <a:latin typeface="Century Schoolbook"/>
                <a:ea typeface="Arial"/>
              </a:rPr>
              <a:t>тапы формирования творческой активности детей</a:t>
            </a:r>
            <a:r>
              <a:rPr b="0" lang="ru-RU" sz="2200" spc="-1" strike="noStrike">
                <a:solidFill>
                  <a:srgbClr val="5b3875"/>
                </a:solidFill>
                <a:latin typeface="Century Schoolbook"/>
                <a:ea typeface="Arial"/>
              </a:rPr>
              <a:t> :</a:t>
            </a:r>
            <a:endParaRPr b="0" lang="en-US" sz="22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3875"/>
                </a:solidFill>
                <a:latin typeface="Century Schoolbook"/>
                <a:ea typeface="Arial"/>
              </a:rPr>
              <a:t> </a:t>
            </a:r>
            <a:r>
              <a:rPr b="0" lang="ru-RU" sz="2200" spc="-1" strike="noStrike">
                <a:solidFill>
                  <a:srgbClr val="5b3875"/>
                </a:solidFill>
                <a:latin typeface="Century Schoolbook"/>
                <a:ea typeface="Arial"/>
              </a:rPr>
              <a:t>- накопление художественно-образных впечатлений через восприятие театрального искусства;</a:t>
            </a:r>
            <a:endParaRPr b="0" lang="en-US" sz="22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3875"/>
                </a:solidFill>
                <a:latin typeface="Century Schoolbook"/>
                <a:ea typeface="Arial"/>
              </a:rPr>
              <a:t>- активное включение в художественно-игровую деятельность;</a:t>
            </a:r>
            <a:endParaRPr b="0" lang="en-US" sz="22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3875"/>
                </a:solidFill>
                <a:latin typeface="Century Schoolbook"/>
                <a:ea typeface="Arial"/>
              </a:rPr>
              <a:t> </a:t>
            </a:r>
            <a:r>
              <a:rPr b="0" lang="ru-RU" sz="2200" spc="-1" strike="noStrike">
                <a:solidFill>
                  <a:srgbClr val="5b3875"/>
                </a:solidFill>
                <a:latin typeface="Century Schoolbook"/>
                <a:ea typeface="Arial"/>
              </a:rPr>
              <a:t>- поиск-интерпретация поведения в роли;</a:t>
            </a:r>
            <a:endParaRPr b="0" lang="en-US" sz="2200" spc="-1" strike="noStrike">
              <a:solidFill>
                <a:srgbClr val="5b3875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b3875"/>
                </a:solidFill>
                <a:latin typeface="Century Schoolbook"/>
                <a:ea typeface="Arial"/>
              </a:rPr>
              <a:t> </a:t>
            </a:r>
            <a:r>
              <a:rPr b="0" lang="ru-RU" sz="2200" spc="-1" strike="noStrike">
                <a:solidFill>
                  <a:srgbClr val="5b3875"/>
                </a:solidFill>
                <a:latin typeface="Century Schoolbook"/>
                <a:ea typeface="Arial"/>
              </a:rPr>
              <a:t>- создание и оценка детьми продуктов совместного и индивидуального творчества.</a:t>
            </a:r>
            <a:endParaRPr b="0" lang="en-US" sz="2200" spc="-1" strike="noStrike">
              <a:solidFill>
                <a:srgbClr val="5b3875"/>
              </a:solidFill>
              <a:latin typeface="Century Schoolbook"/>
            </a:endParaRPr>
          </a:p>
        </p:txBody>
      </p:sp>
      <p:pic>
        <p:nvPicPr>
          <p:cNvPr id="372" name="Picture 2" descr="C:\Users\Администратор\Desktop\Психолог в детском саду\ФОТОГРАФИИ\Солнышко волшебный стул\DSC06664.JPG"/>
          <p:cNvPicPr/>
          <p:nvPr/>
        </p:nvPicPr>
        <p:blipFill>
          <a:blip r:embed="rId1"/>
          <a:stretch/>
        </p:blipFill>
        <p:spPr>
          <a:xfrm>
            <a:off x="250920" y="157320"/>
            <a:ext cx="2449440" cy="345600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73" name="Picture 3" descr="C:\Users\Администратор\Desktop\Психолог в детском саду\ФОТОГРАФИИ\Солнышко волшебный стул\DSC06667.JPG"/>
          <p:cNvPicPr/>
          <p:nvPr/>
        </p:nvPicPr>
        <p:blipFill>
          <a:blip r:embed="rId2"/>
          <a:stretch/>
        </p:blipFill>
        <p:spPr>
          <a:xfrm>
            <a:off x="250920" y="3389400"/>
            <a:ext cx="2462040" cy="326844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74" name="Picture 5" descr="C:\Users\Администратор\Desktop\Психолог в детском саду\ФОТОГРАФИИ\Солнышко волшебный стул\DSC06668 - копия.JPG"/>
          <p:cNvPicPr/>
          <p:nvPr/>
        </p:nvPicPr>
        <p:blipFill>
          <a:blip r:embed="rId3"/>
          <a:stretch/>
        </p:blipFill>
        <p:spPr>
          <a:xfrm>
            <a:off x="6300720" y="1403280"/>
            <a:ext cx="2376720" cy="3519720"/>
          </a:xfrm>
          <a:prstGeom prst="rect">
            <a:avLst/>
          </a:prstGeom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21:03:11Z</dcterms:created>
  <dc:creator>BEST</dc:creator>
  <dc:description/>
  <dc:language>en-US</dc:language>
  <cp:lastModifiedBy>МАРИШКА</cp:lastModifiedBy>
  <dcterms:modified xsi:type="dcterms:W3CDTF">2018-01-28T15:44:28Z</dcterms:modified>
  <cp:revision>13</cp:revision>
  <dc:subject/>
  <dc:title>РАЗВИТИЕ ЭМОЦИОНАЛЬНОЙ СФЕРЫ ДЕТЕЙ ДОШКОЛЬНОГО ВОЗРАСТА СРЕДСТВАМИ ТЕАТРАЛИЗОВАННОЙ ДЕЯТЕЛЬНОСТИ</dc:title>
</cp:coreProperties>
</file>