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873000"/>
            <a:ext cx="86770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atreshka"/>
                <a:ea typeface="Arial Unicode MS"/>
              </a:rPr>
              <a:t>Русские народные мотивы в изодеятельности.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6920" y="2589120"/>
            <a:ext cx="7453440" cy="21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нятие в средней группе по теме: 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Украсим сарафан матрёшке».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БОУ «Школа №1613»  Д/о №3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айдукова М.А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алы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640" y="1347840"/>
            <a:ext cx="82807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луэты матрёшек из плотной бумаги или картона, пластилин, бусины разного цвета и диаметра, горох.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8" name="Picture 3" descr="C:\Users\Пользователь\Downloads\0_4eb67_5f67639b_XL.png"/>
          <p:cNvPicPr/>
          <p:nvPr/>
        </p:nvPicPr>
        <p:blipFill>
          <a:blip r:embed="rId1"/>
          <a:stretch/>
        </p:blipFill>
        <p:spPr>
          <a:xfrm>
            <a:off x="1103400" y="3392640"/>
            <a:ext cx="7083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1640" y="1566720"/>
            <a:ext cx="828072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ое декоративно-прикладное искусство нашей страны – неотъемлемая часть культуры. Эмоциональность, поэтическая образность этого искусства близки, понятны и дороги людям. Как всякое большое искусство, оно воспитывает чуткое отношение к прекрасному, способствует формированию гармонично развитой личности. Основанное на глубоких художественных традициях, народное искусство входит в жизнь и культуру нашего народа, благотворно влияет на формирование человека будущего. Художественные произведения, созданные народными мастерами, всегда отражают любовь к родному краю, умение видеть и понимать окружающий мир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24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ое декоративно-прикладное искусство – одно из средств эстетического воспитания – помогает формировать художественный вкус, учит детей видеть и понимать прекрасное в окружающей нас жизни и в искусстве. Народное искусство является национальным по содержанию, поэтому способно активно воздействовать на духовное развитие человека, на формирование патриотических чувств у ребёнка.</a:t>
            </a:r>
            <a:br>
              <a:rPr sz="2000"/>
            </a:b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1" name="Содержимое 3" descr="images.jpg"/>
          <p:cNvPicPr/>
          <p:nvPr/>
        </p:nvPicPr>
        <p:blipFill>
          <a:blip r:embed="rId1"/>
          <a:stretch/>
        </p:blipFill>
        <p:spPr>
          <a:xfrm>
            <a:off x="2381400" y="2698920"/>
            <a:ext cx="47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ое декоративно-прикладное искусство и его место в детском саду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31640" y="1639440"/>
            <a:ext cx="828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овременной культуре народное искусство живёт в своих традиционных формах. Благодаря этому изделия народных мастеров сохраняют свои устойчивые особенности и воспринимаются как носители целостной художественной культуры. Предметы народного творчества многообразны. Это могут быть игрушки из дерева, глины, посуда, ковры, кружево, лаковая миниатюра и т.д. Каждое изделие несёт в себе добро, радость, фантазию, увлекающую и детей, и взрослых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84" name="Picture 3" descr="C:\Users\Пользователь\Downloads\njlaErUyRi.jpg"/>
          <p:cNvPicPr/>
          <p:nvPr/>
        </p:nvPicPr>
        <p:blipFill>
          <a:blip r:embed="rId1"/>
          <a:stretch/>
        </p:blipFill>
        <p:spPr>
          <a:xfrm>
            <a:off x="2600280" y="3903840"/>
            <a:ext cx="4417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1640" y="617040"/>
            <a:ext cx="828072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ое искусство образно, красочно, оригинально по своему замыслу. Оно доступно детскому восприятию, так как несёт в себе понятное содержание, которое конкретно, в простых, лаконичных формах раскрывает ребёнку красоту и прелесть окружающего мира. Это всегда знакомые детям сказочные образы животных, выполненные из дерева или глины. Орнаменты, используемые народными мастерами для росписи игрушек и посуды, включает в себя цветы, ягоды, листья, которые ребёнок встречает в лесу, в поле, на участке детского сада. Так, мастера хохломской росписи умело составляют орнаменты из листьев, ягод калины, малины, клюквы. Городецкие мастера создают свои орнаменты из листьев и крупных цветов купальницы, шиповника, розы. Мастера глиняной игрушки расписывают свои изделия чаще всего геометрическим орнаментом: кольцами, полосками, кругами, которые также понятны маленьким детям. Все эти изделия, как деревянные, так и глиняные, используются в детских садах не только для украшения интерьера комнаты. Под руководством педагога дети внимательно их рассматривают, рисуют и лепят по образцам народных изделий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28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детей с народной игрушкой – матрёшкой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8" name="Picture 3" descr="C:\Users\Пользователь\Downloads\0_4eb67_5f67639b_XL.png"/>
          <p:cNvPicPr/>
          <p:nvPr/>
        </p:nvPicPr>
        <p:blipFill>
          <a:blip r:embed="rId1"/>
          <a:stretch/>
        </p:blipFill>
        <p:spPr>
          <a:xfrm>
            <a:off x="847800" y="3282840"/>
            <a:ext cx="7448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ное содержание: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274400"/>
            <a:ext cx="828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знакомить детей с историей рождения русской деревянной матрёшки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казать разнообразие видов данной игрушки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ть эмоциональную отзывчивость на восприятие деревянной матрёшки как символа русского народного искусства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умение украшать силуэт матрёшки разнообразными узорами с использованием нетрадиционной техники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ть и развивать творческие возможности детей в процессе интеграции разнообразных видов деятельности: словесной, художественной и музыкальной.</a:t>
            </a: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бучения:</a:t>
            </a:r>
            <a:endParaRPr b="1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1640" y="1881360"/>
            <a:ext cx="828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разно-художественная, игровая, практическая, 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обучения: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глядные.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93" name="Picture 2" descr="C:\Users\Пользователь\Downloads\изо\0746b8ab0b2bb4887800f20fe838e39c.jpg"/>
          <p:cNvPicPr/>
          <p:nvPr/>
        </p:nvPicPr>
        <p:blipFill>
          <a:blip r:embed="rId1"/>
          <a:stretch/>
        </p:blipFill>
        <p:spPr>
          <a:xfrm>
            <a:off x="4863960" y="3502080"/>
            <a:ext cx="383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рудование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1640" y="1457280"/>
            <a:ext cx="82807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тавка - музей деревянных игрушек, не расписанная матрёшка, расписанная матрёшка, не покрытая лаком, иллюстрации и детские книги с изображением матрёшек.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я для детей с иллюстрациями матрёшек (японская игрушка, старорусская матрёшка, семёновская, загорская и т.д.)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cer</cp:lastModifiedBy>
  <dcterms:modified xsi:type="dcterms:W3CDTF">2015-05-13T04:26:36Z</dcterms:modified>
  <cp:revision>19</cp:revision>
  <dc:subject/>
  <dc:title>Слайд 1</dc:title>
</cp:coreProperties>
</file>