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BCAB-391D-4F60-ADDA-114F79817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EBC3-F490-49AC-83D8-022CE56D91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39F-1083-4F65-82C7-A11648E9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3070440"/>
            <a:ext cx="800748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536-4332-4CC5-AC16-4962DCBE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870-A0C9-434E-9C89-532BDDDA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42848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42848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307044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307044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307044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280-D260-4BA6-9659-AAA1CC3D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4613-C88F-4E91-9FA3-164A0BB8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A3D-0FFC-49F0-AF53-FF923C16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E3B5-B176-4144-9875-251307AB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8F15-3BEC-4615-A366-2CC3A266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6C86-AC84-4F0D-9348-DC2246E4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183960"/>
            <a:ext cx="83851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5C7-D960-49DD-832D-8CA0880F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FA1-5FF0-4BFB-9AF6-EB11AC3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649-86C9-4DBA-BE56-2E9045A5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950F-06F2-4DC0-8A6F-22E827F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070440"/>
            <a:ext cx="800748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46A3-259C-43D7-A280-52051D3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3070440"/>
            <a:ext cx="800748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5CA5-F53C-43F7-88BF-7CDCCB7B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944-5ED9-4C4A-A5D5-45389CE8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42848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42848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307044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307044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3070440"/>
            <a:ext cx="257832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5A5E-6D7C-4783-8D76-45E99838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8B4-D39A-42F2-892E-AD5FF773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817-8A7C-4A3B-8053-280B640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BFE-403F-4A7A-AE74-8997E88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83960"/>
            <a:ext cx="83851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D09-E91E-4615-A53F-80B57540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1B3-4494-40A9-B645-219F501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307044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C53-0316-4813-B240-D6CEE8FC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428480"/>
            <a:ext cx="390744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3070440"/>
            <a:ext cx="8007480" cy="14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65E-57B2-4C68-AD73-CA14EFE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371600"/>
            <a:ext cx="8825040" cy="3772080"/>
            <a:chOff x="318960" y="1371600"/>
            <a:chExt cx="8825040" cy="3772080"/>
          </a:xfrm>
        </p:grpSpPr>
        <p:sp>
          <p:nvSpPr>
            <p:cNvPr id="1" name="Freeform 3"/>
            <p:cNvSpPr/>
            <p:nvPr/>
          </p:nvSpPr>
          <p:spPr>
            <a:xfrm>
              <a:off x="838080" y="3463560"/>
              <a:ext cx="8305920" cy="16797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371600"/>
              <a:ext cx="8810640" cy="377208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3490920"/>
              <a:ext cx="8305920" cy="16527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371600"/>
              <a:ext cx="7313760" cy="3456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371600"/>
              <a:ext cx="46080" cy="21250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3457440"/>
              <a:ext cx="46080" cy="168588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3457440"/>
              <a:ext cx="4570560" cy="3456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3457440"/>
              <a:ext cx="47880" cy="168588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4684680"/>
            <a:ext cx="1901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468468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4684680"/>
            <a:ext cx="1901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0593-BFAD-4FED-9CA2-67D7B5AFE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314360"/>
            <a:ext cx="8825040" cy="3846600"/>
            <a:chOff x="318960" y="1314360"/>
            <a:chExt cx="8825040" cy="3846600"/>
          </a:xfrm>
        </p:grpSpPr>
        <p:sp>
          <p:nvSpPr>
            <p:cNvPr id="51" name="Freeform 3"/>
            <p:cNvSpPr/>
            <p:nvPr/>
          </p:nvSpPr>
          <p:spPr>
            <a:xfrm>
              <a:off x="333360" y="1314360"/>
              <a:ext cx="8810640" cy="382860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2856960"/>
              <a:ext cx="8305920" cy="228564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2829960"/>
              <a:ext cx="5484960" cy="331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314360"/>
              <a:ext cx="7769520" cy="3420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2829960"/>
              <a:ext cx="47880" cy="23310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314360"/>
              <a:ext cx="46080" cy="38404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4684680"/>
            <a:ext cx="1901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4684680"/>
            <a:ext cx="1901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0E75-BDA3-4DDB-AEEA-4CE6C21455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airy-products/Milk.html" TargetMode="External"/><Relationship Id="rId2" Type="http://schemas.openxmlformats.org/officeDocument/2006/relationships/hyperlink" Target="http://www.goodsmatrix.ru/goods-catalogue/Sour-milk-products/Sour-milk-drinks.html" TargetMode="External"/><Relationship Id="rId3" Type="http://schemas.openxmlformats.org/officeDocument/2006/relationships/hyperlink" Target="http://www.goodsmatrix.ru/goods-catalogue/Sour-milk-products/Cheese-curd.html" TargetMode="External"/><Relationship Id="rId4" Type="http://schemas.openxmlformats.org/officeDocument/2006/relationships/hyperlink" Target="http://www.goodsmatrix.ru/goods-catalogue/Delicatessen/Cheeses.html" TargetMode="External"/><Relationship Id="rId5" Type="http://schemas.openxmlformats.org/officeDocument/2006/relationships/hyperlink" Target="http://www.goodsmatrix.ru/goods-catalogue/Fish-and-seafood/Frozen-fish-and-fish-products.html" TargetMode="External"/><Relationship Id="rId6" Type="http://schemas.openxmlformats.org/officeDocument/2006/relationships/hyperlink" Target="http://www.goodsmatrix.ru/goods-catalogue/Meat-poultry-and-eggs/Meat.html" TargetMode="External"/><Relationship Id="rId7" Type="http://schemas.openxmlformats.org/officeDocument/2006/relationships/hyperlink" Target="http://www.goodsmatrix.ru/goods-catalogue/Eggs/Hen%27s-egg.html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Delicatessen/Butter.html" TargetMode="External"/><Relationship Id="rId2" Type="http://schemas.openxmlformats.org/officeDocument/2006/relationships/hyperlink" Target="http://www.goodsmatrix.ru/goods-catalogue/Groceries/Cookin-oil.html" TargetMode="External"/><Relationship Id="rId3" Type="http://schemas.openxmlformats.org/officeDocument/2006/relationships/hyperlink" Target="http://www.goodsmatrix.ru/goods-catalogue/Sour-milk-products/Smetana-Russian-sour-cream.html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Bakery/Bread.html" TargetMode="External"/><Relationship Id="rId2" Type="http://schemas.openxmlformats.org/officeDocument/2006/relationships/hyperlink" Target="http://www.goodsmatrix.ru/goods-catalogue/Groceries/Cereals.html" TargetMode="External"/><Relationship Id="rId3" Type="http://schemas.openxmlformats.org/officeDocument/2006/relationships/hyperlink" Target="http://www.goodsmatrix.ru/goods-catalogue/Frozen-vegetables/Frozen-potato.html" TargetMode="External"/><Relationship Id="rId4" Type="http://schemas.openxmlformats.org/officeDocument/2006/relationships/hyperlink" Target="http://www.goodsmatrix.ru/goods-catalogue/Groceries/Honey-and-other-apiculture-products.html" TargetMode="External"/><Relationship Id="rId5" Type="http://schemas.openxmlformats.org/officeDocument/2006/relationships/hyperlink" Target="http://www.goodsmatrix.ru/goods-catalogue/Dried-fruits-nuts-seeds-and-dried-vegetables/Dried-fruits.html" TargetMode="External"/><Relationship Id="rId6" Type="http://schemas.openxmlformats.org/officeDocument/2006/relationships/hyperlink" Target="http://www.goodsmatrix.ru/goods-catalogue/Salt-sugar-and-soda/Sugar.html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Fruit-vegetables-and-mushrooms/Fresh-vegetables.html" TargetMode="External"/><Relationship Id="rId2" Type="http://schemas.openxmlformats.org/officeDocument/2006/relationships/hyperlink" Target="http://www.goodsmatrix.ru/goods-catalogue/Fruit-vegetables-and-mushrooms/Fresh-vegetables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Fruit-vegetables-and-mushrooms/Fresh-vegetables.html" TargetMode="External"/><Relationship Id="rId2" Type="http://schemas.openxmlformats.org/officeDocument/2006/relationships/hyperlink" Target="http://www.goodsmatrix.ru/goods-catalogue/Fruit-vegetables-and-mushrooms/Fresh-vegetables.html" TargetMode="External"/><Relationship Id="rId3" Type="http://schemas.openxmlformats.org/officeDocument/2006/relationships/hyperlink" Target="http://www.goodsmatrix.ru/goods-catalogue/Frozen-fruit-vegetables-and-mushrooms/Frozen-fruit.html" TargetMode="External"/><Relationship Id="rId4" Type="http://schemas.openxmlformats.org/officeDocument/2006/relationships/hyperlink" Target="http://www.goodsmatrix.ru/goods-catalogue/Frozen-vegetables/Frozen-potato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Meat-poultry-and-eggs/Frozen-poultry-and-pultry-products.html" TargetMode="External"/><Relationship Id="rId2" Type="http://schemas.openxmlformats.org/officeDocument/2006/relationships/hyperlink" Target="http://www.goodsmatrix.ru/goods-catalogue/Meat-poultry-and-eggs/Eggs.html" TargetMode="External"/><Relationship Id="rId3" Type="http://schemas.openxmlformats.org/officeDocument/2006/relationships/hyperlink" Target="http://www.goodsmatrix.ru/goods-catalogue/Cereals/Buckwheat.html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&amp;Kcy;&amp;acy;&amp;rcy;&amp;tcy;&amp;icy;&amp;ncy;&amp;kcy;&amp;acy; 32 &amp;icy;&amp;zcy; 12211"/>
          <p:cNvPicPr/>
          <p:nvPr/>
        </p:nvPicPr>
        <p:blipFill>
          <a:blip r:embed="rId1"/>
          <a:stretch/>
        </p:blipFill>
        <p:spPr>
          <a:xfrm>
            <a:off x="1295280" y="1504800"/>
            <a:ext cx="3689640" cy="3416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6" name="Прямоугольник 1" descr=""/>
          <p:cNvPicPr/>
          <p:nvPr/>
        </p:nvPicPr>
        <p:blipFill>
          <a:blip r:embed="rId2"/>
          <a:stretch/>
        </p:blipFill>
        <p:spPr>
          <a:xfrm>
            <a:off x="811080" y="304920"/>
            <a:ext cx="8143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ИНЕРАЛЬНЫЕ ВЕЩЕ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352320" y="3327120"/>
            <a:ext cx="579132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b"/>
                </a:solidFill>
                <a:latin typeface="바탕"/>
                <a:ea typeface="바탕"/>
              </a:rPr>
              <a:t>На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ирует водный обмен организма, основной составляющий элемент плазмы крови. Соль, мясо, рыба, бекон, сы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40384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b"/>
                </a:solidFill>
                <a:latin typeface="바탕"/>
                <a:ea typeface="바탕"/>
              </a:rPr>
              <a:t>Каль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바탕"/>
                <a:ea typeface="바탕"/>
              </a:rPr>
              <a:t>Способствует построению костей и зубов, участвует в процессах возбуждения нервной ткани и свертывания крови, уменьшает проницаемость сосудов. Молоко и молочные продукты,        хлеб из непросеянной му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14800" y="743040"/>
            <a:ext cx="5105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b"/>
                </a:solidFill>
                <a:latin typeface="Arial"/>
              </a:rPr>
              <a:t>Фосфо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вует во всех процессах жизнедеятельности организма, в обмене веществ и функции нервной и мозговой ткани, мышц, печени, почек, в образовании ферментов, гормонов, построении костей. Печень и почки, яйца, сыр, хле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 — основная среда жизнедеятельности организма, обязательный компонент многочисленных химических реакций. Потеря значительного количества жидкости приводит к сгущению крови, человек при этом ощущает жажду. Водный обмен протекает в организме с большой интенсивностью — за сутки даже при небольшой физической нагрузке и умеренной температуре воздуха человек теряет примерно 2,5 л воды (с мочой, калом, потом, дыханием). При этом из организма выводятся продукты обмена и соли. Если без пищи человек может прожить несколько недель, то без воды он погибнет уже через несколько сут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инцип сбалансированности пит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1428480"/>
            <a:ext cx="9067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здоровья детей важнейшее значение имеет правильное соотношение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еню школьника обязательно должны входить продукты, содержащие не только белки, жиры и углеводы, но и незаменимые аминокислоты, витамины, некоторые жирные кислоты, минералы и микроэлемен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белками, жирами и углеводами должно быть 1:1: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нцип оптимальности пита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меню обязательно учитываются потребности организма, связанных с его ростом и развитием, с изменением условий внешней среды, с повышенной физической или эмоциональной нагруз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оптимальной системе питания соблюдается баланс между поступлением и расходованием основных пищевых вещест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220320" cy="22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  полноценном питании продукты, поступающие в организм школьников должны обеспечивать суточную норму следующих веществ:</a:t>
            </a:r>
            <a:br>
              <a:rPr sz="36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114640"/>
            <a:ext cx="8007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р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ев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неральные соли и 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600"/>
            </a:br>
            <a:br>
              <a:rPr sz="2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628560"/>
            <a:ext cx="800424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лки.</a:t>
            </a:r>
            <a:br>
              <a:rPr sz="4400"/>
            </a:br>
            <a:br>
              <a:rPr sz="40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894960"/>
            <a:ext cx="8007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рационе ребенка школьного возраста обязательно должны присутствовать следующие продук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олок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кисломолочные напит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тво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сыр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рыб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мясные продук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яйц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ры. </a:t>
            </a:r>
            <a:br>
              <a:rPr sz="4800"/>
            </a:br>
            <a:br>
              <a:rPr sz="40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жедневно ребенок школьного возраста должен получ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сливочное масл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растительное масл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метан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Углеводы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ые продукты в меню школь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хлеб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круп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картофел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мед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сухофрук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сахар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720" y="209520"/>
            <a:ext cx="8385480" cy="15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одукты, богатые витамином 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428480"/>
            <a:ext cx="9220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орков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</a:rPr>
              <a:t>сладкий перец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</a:rPr>
              <a:t>зеленый лу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</a:rPr>
              <a:t>щавел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</a:rPr>
              <a:t>шпина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зелень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</a:rPr>
              <a:t>плоды черноплодной рябины, шиповника и облепи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38512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одукты-источники витамина С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зелень петрушки и укроп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омидор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черная и красная смороди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</a:rPr>
              <a:t>красный болгарский пере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</a:rPr>
              <a:t>цитрусов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картоф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888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ДОРОВЫЙ ОБРАЗ ЖИЗН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616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блюдение режима труда и отдых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ое полноценное пита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ктивные занятия физкультурой и спорт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3851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Витамин Е содержится в следующих продуктах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428480"/>
            <a:ext cx="8007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печень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яйца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</a:rPr>
              <a:t>овсяная,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гречневая и пшеничная круп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38512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одукты, богатые витаминами группы В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0" y="2139840"/>
            <a:ext cx="878364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52480" y="1200240"/>
            <a:ext cx="5653080" cy="38084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3" descr=""/>
          <p:cNvPicPr/>
          <p:nvPr/>
        </p:nvPicPr>
        <p:blipFill>
          <a:blip r:embed="rId2"/>
          <a:stretch/>
        </p:blipFill>
        <p:spPr>
          <a:xfrm>
            <a:off x="1457280" y="-92160"/>
            <a:ext cx="6296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 — основная среда жизнедеятельности организма, обязательный компонент многочисленных химических реакций. Потеря значительного количества жидкости приводит к сгущению крови, человек при этом ощущает жажду. Водный обмен протекает в организме с большой интенсивностью — за сутки даже при небольшой физической нагрузке и умеренной температуре воздуха человек теряет примерно 2,5 л воды (с мочой, калом, потом, дыханием). При этом из организма выводятся продукты обмена и соли. Если без пищи человек может прожить несколько недель, то без воды он погибнет уже через несколько сут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kletka-1.png"/>
          <p:cNvPicPr/>
          <p:nvPr/>
        </p:nvPicPr>
        <p:blipFill>
          <a:blip r:embed="rId1"/>
          <a:stretch/>
        </p:blipFill>
        <p:spPr>
          <a:xfrm>
            <a:off x="2928960" y="633240"/>
            <a:ext cx="3286080" cy="3876840"/>
          </a:xfrm>
          <a:prstGeom prst="rect">
            <a:avLst/>
          </a:prstGeom>
          <a:ln w="0">
            <a:noFill/>
          </a:ln>
        </p:spPr>
      </p:pic>
      <p:cxnSp>
        <p:nvCxnSpPr>
          <p:cNvPr id="110" name="Прямая со стрелкой 4"/>
          <p:cNvCxnSpPr/>
          <p:nvPr/>
        </p:nvCxnSpPr>
        <p:spPr>
          <a:xfrm>
            <a:off x="1071720" y="1142640"/>
            <a:ext cx="1643760" cy="214920"/>
          </a:xfrm>
          <a:prstGeom prst="straightConnector1">
            <a:avLst/>
          </a:prstGeom>
          <a:ln w="38160">
            <a:solidFill>
              <a:srgbClr val="008b00"/>
            </a:solidFill>
            <a:miter/>
            <a:tailEnd len="med" type="arrow" w="med"/>
          </a:ln>
        </p:spPr>
      </p:cxnSp>
      <p:cxnSp>
        <p:nvCxnSpPr>
          <p:cNvPr id="111" name="Прямая со стрелкой 5"/>
          <p:cNvCxnSpPr/>
          <p:nvPr/>
        </p:nvCxnSpPr>
        <p:spPr>
          <a:xfrm>
            <a:off x="928800" y="1785960"/>
            <a:ext cx="1643760" cy="72000"/>
          </a:xfrm>
          <a:prstGeom prst="straightConnector1">
            <a:avLst/>
          </a:prstGeom>
          <a:ln w="38160">
            <a:solidFill>
              <a:srgbClr val="ef8011"/>
            </a:solidFill>
            <a:miter/>
            <a:tailEnd len="med" type="arrow" w="med"/>
          </a:ln>
        </p:spPr>
      </p:cxnSp>
      <p:cxnSp>
        <p:nvCxnSpPr>
          <p:cNvPr id="112" name="Прямая со стрелкой 7"/>
          <p:cNvCxnSpPr/>
          <p:nvPr/>
        </p:nvCxnSpPr>
        <p:spPr>
          <a:xfrm>
            <a:off x="1000080" y="2499840"/>
            <a:ext cx="1643760" cy="72360"/>
          </a:xfrm>
          <a:prstGeom prst="straightConnector1">
            <a:avLst/>
          </a:prstGeom>
          <a:ln w="38160">
            <a:solidFill>
              <a:srgbClr val="ef8011"/>
            </a:solidFill>
            <a:miter/>
            <a:tailEnd len="med" type="arrow" w="med"/>
          </a:ln>
        </p:spPr>
      </p:cxnSp>
      <p:cxnSp>
        <p:nvCxnSpPr>
          <p:cNvPr id="113" name="Прямая со стрелкой 8"/>
          <p:cNvCxnSpPr/>
          <p:nvPr/>
        </p:nvCxnSpPr>
        <p:spPr>
          <a:xfrm>
            <a:off x="1000080" y="3071880"/>
            <a:ext cx="1643760" cy="72000"/>
          </a:xfrm>
          <a:prstGeom prst="straightConnector1">
            <a:avLst/>
          </a:prstGeom>
          <a:ln w="38160">
            <a:solidFill>
              <a:srgbClr val="ef8011"/>
            </a:solidFill>
            <a:miter/>
            <a:tailEnd len="med" type="arrow" w="med"/>
          </a:ln>
        </p:spPr>
      </p:cxnSp>
      <p:cxnSp>
        <p:nvCxnSpPr>
          <p:cNvPr id="114" name="Прямая со стрелкой 9"/>
          <p:cNvCxnSpPr/>
          <p:nvPr/>
        </p:nvCxnSpPr>
        <p:spPr>
          <a:xfrm flipV="1">
            <a:off x="1071360" y="3642480"/>
            <a:ext cx="1786680" cy="72360"/>
          </a:xfrm>
          <a:prstGeom prst="straightConnector1">
            <a:avLst/>
          </a:prstGeom>
          <a:ln w="38160">
            <a:solidFill>
              <a:srgbClr val="ef8011"/>
            </a:solidFill>
            <a:miter/>
            <a:tailEnd len="med" type="arrow" w="med"/>
          </a:ln>
        </p:spPr>
      </p:cxnSp>
      <p:grpSp>
        <p:nvGrpSpPr>
          <p:cNvPr id="115" name="Группа 21"/>
          <p:cNvGrpSpPr/>
          <p:nvPr/>
        </p:nvGrpSpPr>
        <p:grpSpPr>
          <a:xfrm>
            <a:off x="6214680" y="1356840"/>
            <a:ext cx="2000880" cy="2643840"/>
            <a:chOff x="6214680" y="1356840"/>
            <a:chExt cx="2000880" cy="2643840"/>
          </a:xfrm>
        </p:grpSpPr>
        <p:cxnSp>
          <p:nvCxnSpPr>
            <p:cNvPr id="116" name="Прямая со стрелкой 12"/>
            <p:cNvCxnSpPr/>
            <p:nvPr/>
          </p:nvCxnSpPr>
          <p:spPr>
            <a:xfrm>
              <a:off x="6429240" y="3286440"/>
              <a:ext cx="1643760" cy="72000"/>
            </a:xfrm>
            <a:prstGeom prst="straightConnector1">
              <a:avLst/>
            </a:prstGeom>
            <a:ln w="38160">
              <a:solidFill>
                <a:srgbClr val="005d00"/>
              </a:solidFill>
              <a:miter/>
              <a:tailEnd len="med" type="arrow" w="med"/>
            </a:ln>
          </p:spPr>
        </p:cxnSp>
        <p:cxnSp>
          <p:nvCxnSpPr>
            <p:cNvPr id="117" name="Прямая со стрелкой 13"/>
            <p:cNvCxnSpPr/>
            <p:nvPr/>
          </p:nvCxnSpPr>
          <p:spPr>
            <a:xfrm>
              <a:off x="6572160" y="2786040"/>
              <a:ext cx="1643760" cy="72000"/>
            </a:xfrm>
            <a:prstGeom prst="straightConnector1">
              <a:avLst/>
            </a:prstGeom>
            <a:ln w="38160">
              <a:solidFill>
                <a:srgbClr val="005d00"/>
              </a:solidFill>
              <a:miter/>
              <a:tailEnd len="med" type="arrow" w="med"/>
            </a:ln>
          </p:spPr>
        </p:cxnSp>
        <p:cxnSp>
          <p:nvCxnSpPr>
            <p:cNvPr id="118" name="Прямая со стрелкой 14"/>
            <p:cNvCxnSpPr/>
            <p:nvPr/>
          </p:nvCxnSpPr>
          <p:spPr>
            <a:xfrm>
              <a:off x="6500520" y="2357280"/>
              <a:ext cx="1643760" cy="72000"/>
            </a:xfrm>
            <a:prstGeom prst="straightConnector1">
              <a:avLst/>
            </a:prstGeom>
            <a:ln w="38160">
              <a:solidFill>
                <a:srgbClr val="005d00"/>
              </a:solidFill>
              <a:miter/>
              <a:tailEnd len="med" type="arrow" w="med"/>
            </a:ln>
          </p:spPr>
        </p:cxnSp>
        <p:cxnSp>
          <p:nvCxnSpPr>
            <p:cNvPr id="119" name="Прямая со стрелкой 15"/>
            <p:cNvCxnSpPr/>
            <p:nvPr/>
          </p:nvCxnSpPr>
          <p:spPr>
            <a:xfrm>
              <a:off x="6572160" y="1857240"/>
              <a:ext cx="1643760" cy="72000"/>
            </a:xfrm>
            <a:prstGeom prst="straightConnector1">
              <a:avLst/>
            </a:prstGeom>
            <a:ln w="38160">
              <a:solidFill>
                <a:srgbClr val="005d00"/>
              </a:solidFill>
              <a:miter/>
              <a:tailEnd len="med" type="arrow" w="med"/>
            </a:ln>
          </p:spPr>
        </p:cxnSp>
        <p:cxnSp>
          <p:nvCxnSpPr>
            <p:cNvPr id="120" name="Прямая со стрелкой 16"/>
            <p:cNvCxnSpPr/>
            <p:nvPr/>
          </p:nvCxnSpPr>
          <p:spPr>
            <a:xfrm flipV="1">
              <a:off x="6500160" y="1356840"/>
              <a:ext cx="1715400" cy="143280"/>
            </a:xfrm>
            <a:prstGeom prst="straightConnector1">
              <a:avLst/>
            </a:prstGeom>
            <a:ln w="38160">
              <a:solidFill>
                <a:srgbClr val="005d00"/>
              </a:solidFill>
              <a:miter/>
              <a:tailEnd len="med" type="arrow" w="med"/>
            </a:ln>
          </p:spPr>
        </p:cxnSp>
        <p:cxnSp>
          <p:nvCxnSpPr>
            <p:cNvPr id="121" name="Прямая со стрелкой 17"/>
            <p:cNvCxnSpPr/>
            <p:nvPr/>
          </p:nvCxnSpPr>
          <p:spPr>
            <a:xfrm>
              <a:off x="6214680" y="3714840"/>
              <a:ext cx="1715400" cy="286200"/>
            </a:xfrm>
            <a:prstGeom prst="straightConnector1">
              <a:avLst/>
            </a:prstGeom>
            <a:ln w="38160">
              <a:solidFill>
                <a:srgbClr val="005d00"/>
              </a:solidFill>
              <a:miter/>
              <a:tailEnd len="med" type="arrow" w="med"/>
            </a:ln>
          </p:spPr>
        </p:cxnSp>
      </p:grpSp>
      <p:sp>
        <p:nvSpPr>
          <p:cNvPr id="122" name="TextBox 22"/>
          <p:cNvSpPr/>
          <p:nvPr/>
        </p:nvSpPr>
        <p:spPr>
          <a:xfrm>
            <a:off x="2571840" y="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urlak"/>
              </a:rPr>
              <a:t>Обмен вещ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1376280" y="147960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urlak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 rot="157800">
            <a:off x="1079280" y="21744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urlak"/>
              </a:rPr>
              <a:t>пит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 rot="152400">
            <a:off x="1001160" y="267624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urlak"/>
              </a:rPr>
              <a:t>витам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 rot="21297600">
            <a:off x="1007640" y="331128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urlak"/>
              </a:rPr>
              <a:t>минер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 rot="21301800">
            <a:off x="948240" y="38329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urlak"/>
              </a:rPr>
              <a:t>микроэле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Прямая со стрелкой 29"/>
          <p:cNvCxnSpPr/>
          <p:nvPr/>
        </p:nvCxnSpPr>
        <p:spPr>
          <a:xfrm flipV="1">
            <a:off x="1213920" y="4142520"/>
            <a:ext cx="1715400" cy="143640"/>
          </a:xfrm>
          <a:prstGeom prst="straightConnector1">
            <a:avLst/>
          </a:prstGeom>
          <a:ln w="38160">
            <a:solidFill>
              <a:srgbClr val="ef8011"/>
            </a:solidFill>
            <a:miter/>
            <a:tailEnd len="med" type="arrow" w="med"/>
          </a:ln>
        </p:spPr>
      </p:cxnSp>
      <p:sp>
        <p:nvSpPr>
          <p:cNvPr id="129" name="TextBox 31"/>
          <p:cNvSpPr/>
          <p:nvPr/>
        </p:nvSpPr>
        <p:spPr>
          <a:xfrm rot="442200">
            <a:off x="1022400" y="792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urlak"/>
              </a:rPr>
              <a:t>кисл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клеток и тканей, усиление защитных реакций организ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со, рыба, домашняя птица, дичь, молоко, сыр, яйца, бобовые, зла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И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энергии. Структурно-пластическая роль, защитная рол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1796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вочное масло, маргарин, кулинарный жир, растительные масла, сыр, жирное мясо, жирная рыб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ГЛЕ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энергии. Нормализуют обмен белков и жи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1796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ка, мучные продукты, злаки, сахар, сиропы, джемы, мед, фрукты, овощ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3851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ТАМ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047600"/>
            <a:ext cx="3927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тамин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ходит в состав зрительных пигментов, обеспечивает нормальное состояние слизистых оболочек. Жирная рыба, печень рыб, молочные проду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917960" y="1428480"/>
            <a:ext cx="3927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1 (тиамин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вает нормальное состояние нервной системы. Дрожжи, бобовые, печень, хлебные злаки, мяс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574200"/>
            <a:ext cx="403848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 В2(рибофлавин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вует в процессах окисления и выработки энергии, способствует росту организма. Дрожжи, мясо, печень, мясные экстракты, хлебные злак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191120" y="518760"/>
            <a:ext cx="49528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 РР (никотиновая кислота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вует в процессах окисления и выработки энергии, регулирует функцию органов пищеварения, обмен холестерина и кроветворение. Дрожжи, мясо, печень, мясные экстракты, хлебные зла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626760"/>
            <a:ext cx="4038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 С (аскорбиновая кислота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ет иммунитет организма, регулирует обмен холестерина, способствует усвоению белков, железа. Фрукты (клубника, цитрусовые), зеленые овощи, корнеплоды, картофе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05520" y="626760"/>
            <a:ext cx="4038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тамин D («солнечный» витамин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ет обмен кальция и фосфора в организме. Печень рыб, жирная рыба, молочные продукт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олнышко</dc:creator>
  <dc:description/>
  <dc:language>en-US</dc:language>
  <cp:lastModifiedBy>Солнышко</cp:lastModifiedBy>
  <dcterms:modified xsi:type="dcterms:W3CDTF">2018-01-28T13:00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