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7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2940-2A0D-4894-944E-5A5E49D59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F77A-0E9B-46DC-BF8D-590231FCA2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84760" y="8685360"/>
            <a:ext cx="2950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36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98F17-2CA7-48CA-9423-C64ADAB880A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27000" y="685800"/>
            <a:ext cx="5002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5472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7983-7BFE-48B1-B26F-AC0D6598EF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84760" y="8685360"/>
            <a:ext cx="2950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36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87BBF-7012-49F3-B35D-4E4130F113FF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27000" y="685800"/>
            <a:ext cx="5002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5472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4C5-87F9-4509-99A3-6F05E2EB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682-8A8E-4566-BFC3-7C1F37A7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297A-2C4E-4D5D-803C-3427C1C1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846-8288-4E0B-8C81-12A0BF69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3ED-0F17-4CA8-AF02-57F1D885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5ED-6B1E-4F70-925D-77A52D83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1F1-535A-4058-A3BA-7E4696B3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147-6179-4004-AAE1-2F9502EB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E08-0B1F-4EB7-8AAE-85EDB4FE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92F-D743-4FC7-8C0E-A71DAFC1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6B5-DAF7-4054-A0E4-11C3C9E1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23A-2707-44EC-8B6E-192DA216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CFD2-570D-44CF-8160-26FAEE76E3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Каргальская О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13 сентября - Куприянов день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1333440" y="233856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13 сентября - Куприянов день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1476360" y="242100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гнездо Птицы Алтая - Part 50"/>
          <p:cNvPicPr/>
          <p:nvPr/>
        </p:nvPicPr>
        <p:blipFill>
          <a:blip r:embed="rId3"/>
          <a:stretch/>
        </p:blipFill>
        <p:spPr>
          <a:xfrm>
            <a:off x="5892840" y="3938760"/>
            <a:ext cx="1549440" cy="218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3280" y="1628280"/>
            <a:ext cx="404352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«Село моё родно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мавбрина Е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Символ счастья, любви и здоровья</a:t>
            </a:r>
            <a:r>
              <a:rPr b="0" i="1" lang="ru-RU" sz="40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 многих местах у населения журавль был заповедной птицей: убийство его, как и лебедя, рассматривалось как дурное дело. И действительно, есть что-то чрезвычайно привлекательное в этой большой, осторожной и красивой птице. Это истинное украшение нашей природы; недаром поэты посвятили журавлю много прекрасных строк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karaoke-juravushka"/>
          <p:cNvPicPr/>
          <p:nvPr/>
        </p:nvPicPr>
        <p:blipFill>
          <a:blip r:embed="rId1"/>
          <a:stretch/>
        </p:blipFill>
        <p:spPr>
          <a:xfrm>
            <a:off x="3205080" y="1600200"/>
            <a:ext cx="2732040" cy="2185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рковь Рождества Христова в с.Заруб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20120" cy="538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476280"/>
            <a:ext cx="2990880" cy="4537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2587680" cy="4668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5300640"/>
            <a:ext cx="8172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нское украшение и подвеска со знаком Рюрика. Первая половина XI в.  Кельгининский могильник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937120" cy="4660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наменитый земл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tangle 3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947680" cy="3844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лаш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ктор Андреевич историк, этнограф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ктор исторических наук, профессор. Он первым удостоен высокого звания «Почётный гражданин Зубово-Полянского райо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3800" y="25653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то выращивают и продают жители Карга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581640" cy="2047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5041800" cy="3287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ем  заняты жители се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513840" cy="3257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1\Desktop\22042013048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ё се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7704360" cy="3447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1\Desktop\22042013048.jpg"/>
          <p:cNvPicPr/>
          <p:nvPr/>
        </p:nvPicPr>
        <p:blipFill>
          <a:blip r:embed="rId3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401360" y="304704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Этот кра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красотою своею ми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Без тоски я взираю на клин журав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Может бы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Кто-то гордый не любит се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Я живу и считаю, что мне повезл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7 0.075 -0.08267 0.125 -0.08267 C 0.175 -0.08267 0.22 -0.05067 0.25 0 C 0.22 0.05067 0.175 0.08267 0.125 0.08267 C 0.075 0.08267 0.03 0.05067 0 0 Z">
                                      <p:cBhvr>
                                        <p:cTn id="1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68360" y="4149720"/>
            <a:ext cx="845964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Мордва называла свою землю Карго мастор – журавлиная страна ( птица в мордовском   фольклоре – символ свободы, счастья),  которая была   частью древнего  финно-угорского государств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26920" y="189000"/>
            <a:ext cx="77137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Мордовский народ стал известен по письме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источникам с 6 века нашей э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832720" cy="25923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0" y="6210360"/>
            <a:ext cx="9142560" cy="645840"/>
            <a:chOff x="0" y="6210360"/>
            <a:chExt cx="9142560" cy="645840"/>
          </a:xfrm>
        </p:grpSpPr>
        <p:pic>
          <p:nvPicPr>
            <p:cNvPr id="57" name="Picture 6" descr=""/>
            <p:cNvPicPr/>
            <p:nvPr/>
          </p:nvPicPr>
          <p:blipFill>
            <a:blip r:embed="rId2"/>
            <a:stretch/>
          </p:blipFill>
          <p:spPr>
            <a:xfrm>
              <a:off x="1413000" y="6214680"/>
              <a:ext cx="167148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7" descr=""/>
            <p:cNvPicPr/>
            <p:nvPr/>
          </p:nvPicPr>
          <p:blipFill>
            <a:blip r:embed="rId3"/>
            <a:stretch/>
          </p:blipFill>
          <p:spPr>
            <a:xfrm>
              <a:off x="0" y="6210360"/>
              <a:ext cx="167148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8" descr=""/>
            <p:cNvPicPr/>
            <p:nvPr/>
          </p:nvPicPr>
          <p:blipFill>
            <a:blip r:embed="rId4"/>
            <a:stretch/>
          </p:blipFill>
          <p:spPr>
            <a:xfrm>
              <a:off x="2860560" y="6214680"/>
              <a:ext cx="167184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9" descr=""/>
            <p:cNvPicPr/>
            <p:nvPr/>
          </p:nvPicPr>
          <p:blipFill>
            <a:blip r:embed="rId5"/>
            <a:stretch/>
          </p:blipFill>
          <p:spPr>
            <a:xfrm>
              <a:off x="4308480" y="6214680"/>
              <a:ext cx="167004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0" descr=""/>
            <p:cNvPicPr/>
            <p:nvPr/>
          </p:nvPicPr>
          <p:blipFill>
            <a:blip r:embed="rId6"/>
            <a:stretch/>
          </p:blipFill>
          <p:spPr>
            <a:xfrm>
              <a:off x="5756400" y="6214680"/>
              <a:ext cx="1671480" cy="64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Group 11"/>
            <p:cNvGrpSpPr/>
            <p:nvPr/>
          </p:nvGrpSpPr>
          <p:grpSpPr>
            <a:xfrm>
              <a:off x="7203960" y="6210360"/>
              <a:ext cx="1938600" cy="644760"/>
              <a:chOff x="7203960" y="6210360"/>
              <a:chExt cx="1938600" cy="644760"/>
            </a:xfrm>
          </p:grpSpPr>
          <p:pic>
            <p:nvPicPr>
              <p:cNvPr id="63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7203960" y="6210360"/>
                <a:ext cx="193860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Text Box 13"/>
              <p:cNvSpPr/>
              <p:nvPr/>
            </p:nvSpPr>
            <p:spPr>
              <a:xfrm>
                <a:off x="7203960" y="6210360"/>
                <a:ext cx="1938600" cy="64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54080" y="6021360"/>
            <a:ext cx="80899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рта Мордов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карта мордовии"/>
          <p:cNvPicPr/>
          <p:nvPr/>
        </p:nvPicPr>
        <p:blipFill>
          <a:blip r:embed="rId1"/>
          <a:stretch/>
        </p:blipFill>
        <p:spPr>
          <a:xfrm>
            <a:off x="971640" y="260280"/>
            <a:ext cx="7534080" cy="5545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1187280" y="-981000"/>
            <a:ext cx="6992640" cy="7839000"/>
            <a:chOff x="1187280" y="-981000"/>
            <a:chExt cx="6992640" cy="7839000"/>
          </a:xfrm>
        </p:grpSpPr>
        <p:sp>
          <p:nvSpPr>
            <p:cNvPr id="71" name="AutoShape 5"/>
            <p:cNvSpPr/>
            <p:nvPr/>
          </p:nvSpPr>
          <p:spPr>
            <a:xfrm>
              <a:off x="1187280" y="-981000"/>
              <a:ext cx="6985080" cy="78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6"/>
            <p:cNvSpPr/>
            <p:nvPr/>
          </p:nvSpPr>
          <p:spPr>
            <a:xfrm>
              <a:off x="1815840" y="4571280"/>
              <a:ext cx="2032560" cy="749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ело Карга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7"/>
            <p:cNvSpPr/>
            <p:nvPr/>
          </p:nvSpPr>
          <p:spPr>
            <a:xfrm>
              <a:off x="4154400" y="4438440"/>
              <a:ext cx="1731240" cy="764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е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аргаши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8"/>
            <p:cNvSpPr/>
            <p:nvPr/>
          </p:nvSpPr>
          <p:spPr>
            <a:xfrm>
              <a:off x="1881720" y="3637080"/>
              <a:ext cx="1496880" cy="875520"/>
            </a:xfrm>
            <a:prstGeom prst="flowChartPunchedCard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аргон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ляй (рек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9"/>
            <p:cNvSpPr/>
            <p:nvPr/>
          </p:nvSpPr>
          <p:spPr>
            <a:xfrm>
              <a:off x="1815840" y="1506240"/>
              <a:ext cx="1475280" cy="1012680"/>
            </a:xfrm>
            <a:prstGeom prst="flowChartPunchedCard">
              <a:avLst/>
            </a:prstGeom>
            <a:solidFill>
              <a:srgbClr val="6699ff"/>
            </a:solid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еспублика Мордов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10"/>
            <p:cNvSpPr/>
            <p:nvPr/>
          </p:nvSpPr>
          <p:spPr>
            <a:xfrm>
              <a:off x="1443960" y="2654640"/>
              <a:ext cx="1669320" cy="837360"/>
            </a:xfrm>
            <a:prstGeom prst="flowChartPunchedCard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аргон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шяй (болото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11"/>
            <p:cNvSpPr/>
            <p:nvPr/>
          </p:nvSpPr>
          <p:spPr>
            <a:xfrm>
              <a:off x="3113640" y="1974600"/>
              <a:ext cx="3548160" cy="2411280"/>
            </a:xfrm>
            <a:custGeom>
              <a:avLst/>
              <a:gdLst>
                <a:gd name="textAreaLeft" fmla="*/ 886680 w 3548160"/>
                <a:gd name="textAreaRight" fmla="*/ 2661480 w 3548160"/>
                <a:gd name="textAreaTop" fmla="*/ 603000 h 2411280"/>
                <a:gd name="textAreaBottom" fmla="*/ 1809000 h 24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50" y="5400"/>
                  </a:lnTo>
                  <a:lnTo>
                    <a:pt x="945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150" y="2700"/>
                  </a:lnTo>
                  <a:lnTo>
                    <a:pt x="12150" y="5400"/>
                  </a:lnTo>
                  <a:lnTo>
                    <a:pt x="16200" y="5400"/>
                  </a:lnTo>
                  <a:lnTo>
                    <a:pt x="16200" y="9450"/>
                  </a:lnTo>
                  <a:lnTo>
                    <a:pt x="18900" y="945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150"/>
                  </a:lnTo>
                  <a:lnTo>
                    <a:pt x="16200" y="12150"/>
                  </a:lnTo>
                  <a:lnTo>
                    <a:pt x="16200" y="16200"/>
                  </a:lnTo>
                  <a:lnTo>
                    <a:pt x="12150" y="16200"/>
                  </a:lnTo>
                  <a:lnTo>
                    <a:pt x="1215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50" y="18900"/>
                  </a:lnTo>
                  <a:lnTo>
                    <a:pt x="9450" y="16200"/>
                  </a:lnTo>
                  <a:lnTo>
                    <a:pt x="5400" y="16200"/>
                  </a:lnTo>
                  <a:lnTo>
                    <a:pt x="5400" y="12150"/>
                  </a:lnTo>
                  <a:lnTo>
                    <a:pt x="2700" y="1215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50"/>
                  </a:lnTo>
                  <a:lnTo>
                    <a:pt x="5400" y="9450"/>
                  </a:lnTo>
                  <a:lnTo>
                    <a:pt x="5400" y="54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2"/>
            <p:cNvSpPr/>
            <p:nvPr/>
          </p:nvSpPr>
          <p:spPr>
            <a:xfrm>
              <a:off x="4012200" y="2584080"/>
              <a:ext cx="1771560" cy="1244160"/>
            </a:xfrm>
            <a:prstGeom prst="rect">
              <a:avLst/>
            </a:prstGeom>
            <a:solidFill>
              <a:srgbClr val="99cc00"/>
            </a:soli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Географические названия, произошедшие от слова журавль (мокша-карга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3"/>
            <p:cNvSpPr/>
            <p:nvPr/>
          </p:nvSpPr>
          <p:spPr>
            <a:xfrm>
              <a:off x="6472440" y="2654640"/>
              <a:ext cx="1584000" cy="982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4"/>
            <p:cNvSpPr/>
            <p:nvPr/>
          </p:nvSpPr>
          <p:spPr>
            <a:xfrm>
              <a:off x="1443960" y="605160"/>
              <a:ext cx="6735960" cy="847080"/>
            </a:xfrm>
            <a:prstGeom prst="flowChartPunchedCard">
              <a:avLst/>
            </a:prstGeom>
            <a:solidFill>
              <a:srgbClr val="66ccff"/>
            </a:solid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опонимические происхождения населённых пунктов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олот, рек, овраг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5"/>
            <p:cNvSpPr/>
            <p:nvPr/>
          </p:nvSpPr>
          <p:spPr>
            <a:xfrm>
              <a:off x="5783760" y="1575360"/>
              <a:ext cx="2185200" cy="817200"/>
            </a:xfrm>
            <a:prstGeom prst="flowChartPunchedCard">
              <a:avLst/>
            </a:prstGeom>
            <a:solidFill>
              <a:srgbClr val="6699ff"/>
            </a:solid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убово-Полянский райо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6"/>
            <p:cNvSpPr/>
            <p:nvPr/>
          </p:nvSpPr>
          <p:spPr>
            <a:xfrm>
              <a:off x="6324120" y="4313520"/>
              <a:ext cx="1794960" cy="74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ело Журавки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30"/>
          <p:cNvSpPr/>
          <p:nvPr/>
        </p:nvSpPr>
        <p:spPr>
          <a:xfrm>
            <a:off x="6516720" y="2781360"/>
            <a:ext cx="209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гонь сань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ысуш.боло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461880"/>
            <a:ext cx="5333760" cy="59342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понимика сел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Карг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7640" y="2349360"/>
            <a:ext cx="439884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рга ляй. Каргал находится на реке Чиуш. Населённый пункт обосновался в пойме реки Чиуш, славившейся журавлиными становищами. Местные жители на болоте Каргонь шяй собирали журавлиные яйца и ели их. Отсюда и произошло название села Каргал (Журавлиное яйцо). Карга (журавль) + ал (яйцо). На территории села Каргал проживает мордва-мокша. Село образовалось в середине 18 века, входила в состав Тамбовской губернии Спасского уез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3" descr="7"/>
          <p:cNvPicPr/>
          <p:nvPr/>
        </p:nvPicPr>
        <p:blipFill>
          <a:blip r:embed="rId1"/>
          <a:stretch/>
        </p:blipFill>
        <p:spPr>
          <a:xfrm>
            <a:off x="4572000" y="2492280"/>
            <a:ext cx="4038480" cy="3056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4" descr="бярозы"/>
          <p:cNvPicPr/>
          <p:nvPr/>
        </p:nvPicPr>
        <p:blipFill>
          <a:blip r:embed="rId2"/>
          <a:stretch/>
        </p:blipFill>
        <p:spPr>
          <a:xfrm>
            <a:off x="324000" y="404640"/>
            <a:ext cx="3492360" cy="2463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рдов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тал очень редок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рый журав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19 века журавль был довольно обыкновенной гнездящейся птицей Тамбовской губернии. Постоянно его численность снижалась, и сейчас это редко гнездящаяся птица области. Для гнездования журавли выбирают наиболее глухие места заболоченных лесов, как можно дальше от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4" descr="5"/>
          <p:cNvPicPr/>
          <p:nvPr/>
        </p:nvPicPr>
        <p:blipFill>
          <a:blip r:embed="rId1"/>
          <a:stretch/>
        </p:blipFill>
        <p:spPr>
          <a:xfrm>
            <a:off x="457200" y="2276640"/>
            <a:ext cx="4038480" cy="3100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авли Gruida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арство: Живот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: Хордов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тип: Позвоноч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: Птиц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яд: Журавлеобраз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ство: Журав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m7748"/>
          <p:cNvPicPr/>
          <p:nvPr/>
        </p:nvPicPr>
        <p:blipFill>
          <a:blip r:embed="rId1"/>
          <a:stretch/>
        </p:blipFill>
        <p:spPr>
          <a:xfrm>
            <a:off x="5843520" y="4383000"/>
            <a:ext cx="1646280" cy="129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6"/>
          <p:cNvPicPr/>
          <p:nvPr/>
        </p:nvPicPr>
        <p:blipFill>
          <a:blip r:embed="rId2"/>
          <a:stretch/>
        </p:blipFill>
        <p:spPr>
          <a:xfrm>
            <a:off x="4842000" y="1600200"/>
            <a:ext cx="3651120" cy="2185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7T18:32:18Z</dcterms:created>
  <dc:creator>user</dc:creator>
  <dc:description/>
  <dc:language>en-US</dc:language>
  <cp:lastModifiedBy>user</cp:lastModifiedBy>
  <dcterms:modified xsi:type="dcterms:W3CDTF">2018-01-28T16:34:02Z</dcterms:modified>
  <cp:revision>144</cp:revision>
  <dc:subject/>
  <dc:title>Слайд 1</dc:title>
</cp:coreProperties>
</file>