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7EF-41C4-4A86-B83F-F0311C43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354-736D-4880-929F-4B7A2CF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AAE-183F-4C17-8349-51A45572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6AD-3A15-44CA-BBD1-0E168102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08E-98DF-4C5D-BF83-A61875C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6DC-3078-4557-9F40-DC63C002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943-F63B-4658-AB96-1F42AFA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0A1-D9F5-480C-860C-3D599202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282-6EF8-42CB-8F70-ABB207E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472-AE26-4519-B686-B1997DE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CED-2AF2-4739-A4A0-48A0A51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BB8-3FD8-4EDF-A8A1-6B97455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F1A-CB22-492B-A38B-85EB54F3F4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1DF-1C37-4183-88E1-356BDCEB46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87640" y="5425560"/>
            <a:ext cx="5834160" cy="7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физики Мкртчян В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00000" y="476280"/>
            <a:ext cx="698184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-КВН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Рисунок 8" descr="https://ds04.infourok.ru/uploads/ex/1218/000171a7-26bd720d/3/img23.jpg"/>
          <p:cNvPicPr/>
          <p:nvPr/>
        </p:nvPicPr>
        <p:blipFill>
          <a:blip r:embed="rId1"/>
          <a:stretch/>
        </p:blipFill>
        <p:spPr>
          <a:xfrm>
            <a:off x="2235240" y="2421000"/>
            <a:ext cx="43527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1EF-0019-4E44-B851-8CE5C5AB84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04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Цель уро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торить и обобщить материал, изученный по тема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ила. Силы в природе»     и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Работа. Мощность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1F1-C17E-49F6-9A9E-7962FC59EE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 Разминка. Конкурс «Найди правильную дорогу»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4995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632-DC65-4ABC-A0F2-C79965CFB2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I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и кроссворд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9999"/>
                </a:solidFill>
                <a:latin typeface="Tahoma"/>
              </a:rPr>
              <a:t>Кроссворд №1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ибор для измерения си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Соревнова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Физическая величина, показывающая, какой путь проходит тело в единицу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Сила, являющаяся результатом сложения нескольких си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Результат решения экспериментальной зада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7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73AE-3C92-4183-908B-C760DCE619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Tahoma"/>
              </a:rPr>
              <a:t>Кроссворд №2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71840" cy="2256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324000" y="1773360"/>
            <a:ext cx="396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бор для определения вертикального напр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 взаимо действия двух те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ния, вдоль которой движется те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цесс экс периментального сравнения физической величины с ее единиц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 равномерного дви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8598-DBCC-4F9A-8363-C67443366A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I.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Найди лишнего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. Конверт «Физические величин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ем; масса; плотность; сила; скорость; механическая работа; вес; газ; длина; время; давление; мощность; в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2. Конверт «Физические приборы и механизм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есы; динамометр; блок; барометр; термометр; спидометр; жидкость; мензурка; рыча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3. Конверт «Физические явл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лния; инерция; радуга; падение тел; тяготение; движение; момент силы; нагревание; тр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AED-7470-4C83-95BB-3E8D55278D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 «Найди правильные формулы»</a:t>
            </a: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0A9-3E18-4D5E-B9E1-0ED4AC6093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 «Найди ошибку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EA3-7B0D-4863-A47F-CDDE77DB58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I. Итог урока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водится итог игры, определяется команда-победит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оценивает работу наиболее активных учеников. Оценивая работу в подобных играх, желательно ставить ученикам только «пятерки» и «четверки» (возможно даже «четверки» — только по желанию учени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но провести общий анализ знаний по теме и дать некоторым ученикам «спец. задание» — повторить тот или иной параграф, формулу, вспомнить решение зада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024" descr="V25ANI"/>
          <p:cNvPicPr/>
          <p:nvPr/>
        </p:nvPicPr>
        <p:blipFill>
          <a:blip r:embed="rId1"/>
          <a:stretch/>
        </p:blipFill>
        <p:spPr>
          <a:xfrm>
            <a:off x="5651640" y="2492280"/>
            <a:ext cx="26683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4:43:35Z</dcterms:created>
  <dc:creator>Илья</dc:creator>
  <dc:description/>
  <dc:language>en-US</dc:language>
  <cp:lastModifiedBy>Сос Мкртчян</cp:lastModifiedBy>
  <dcterms:modified xsi:type="dcterms:W3CDTF">2018-01-28T14:29:09Z</dcterms:modified>
  <cp:revision>10</cp:revision>
  <dc:subject/>
  <dc:title>Слайд 1</dc:title>
</cp:coreProperties>
</file>