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CD3-DAD0-41F7-AC07-F578B52B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7B1-A7B4-4B49-8ECE-28F19CDE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7AB-75EF-4C10-82EE-36D4A622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597-65A6-4AE3-BED4-05B1F29F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6947-6EC5-416E-8B64-04D4E05F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2957-A5C4-4E40-88E2-D1279959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605B-1F38-41EB-93A8-63823C87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B72B-3CDA-4EF7-B380-E8BE0794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C16F-9495-40C7-84EA-BD87D679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D2AD-2759-4C8D-BA48-44CD8D5B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91FF-AF41-46D3-902A-B0FDD8F5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D3C-12AE-4FDF-83D1-C8FD66B7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F19C-DFE5-43FB-B59F-0E275746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5F1F-308C-4BE7-BC72-36C9B3E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5B7-91F0-4900-9AA1-C10A1CE8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93CC-F0A2-43E4-BA25-B83327F4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BF24-B9B9-44CE-BA5C-B6569FD8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8D67-7CCC-42CF-B244-3D781310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E046-2809-4E90-881F-BDF3A2E8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F457-488B-41ED-9A74-0B9AFA82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913F-49B0-4830-8392-047CD303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A70E-C487-41AF-A2C9-FF9A6741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602-0BA5-400A-AB59-4B255A73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7719-4043-4084-8546-E2C3E805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C462-206E-4E28-98B3-19365A90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E737-2DB8-47ED-8D68-93AE239F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BAC7-11AE-47A0-8BFD-48B09726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4771-B267-4D68-95B2-DC66FC00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91FA-A2DE-4D79-A2F9-6B4A95CE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0005-9ED2-4144-AD2F-36F0EC08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72B0-281D-491C-B5E5-8E47B414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D1B0-BA48-4E47-B641-6BBF845B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F79C-C095-418E-998E-A296638F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D62-556D-4C35-9A98-7FDA8D86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7C30-C203-4B65-A907-89837AFA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ED90E-0A6D-4344-A31F-B5A19DD3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0BE8-E186-4284-A4E4-9A03FB2D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E9FC1-917D-4DF8-B63E-2198E1E6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0DA0-CD75-4238-B305-06344EC2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35FB-DA74-4956-9F40-0BF16F1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2DD90-9F28-4092-9065-DACFB7A7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996B-8865-4984-A522-950D73C8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75B93-500D-46D2-958D-CD6EE88B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3FB5-218B-48DD-9600-106BFB79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880-3964-435F-9487-93684597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6FDF-0B62-4376-A3A6-6B2C40A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57BE7-C76E-47CA-87FE-AF8436B5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7692-61A4-4CE0-BE98-329DABA5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174C-6BD1-419A-83AD-765450EB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45EE3-299D-499A-8EDD-E8C016BD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B5E57-6B32-4583-B558-AD5B4B68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6C48-B304-423D-B8C0-09D200F6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F08DA-16C4-4A1C-8852-B344205A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42871-855D-470B-A5FF-E5365BBC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583F-E3E3-4FAA-9CDC-A6935DDC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4EE-72EA-4665-B773-9B67166A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CBB0F-5716-44C4-8F35-3707AA53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B25E0-2B10-4AB7-BF11-E196C692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7D44-B955-42C0-98C0-E8829952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B8FCE-4933-4764-B6F0-DA92D982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6BBFB-9EF5-4395-B885-1B4AB691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83498-5F65-45CA-B0EE-9FC1F5C7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677CA-FFC3-40F4-989C-49F7C9BE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11EA-35A6-4E4C-A99C-8253235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102CD-5319-4C2A-9457-B134EBF4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425E9-BB72-4EA2-80A7-2F1782D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C19-AA43-4616-9942-BAC880EF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9C0E3-823C-4B22-98F6-B26CC17D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54C60-2A6D-4463-91B5-91D06787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EB0F5-285D-4202-A5C9-11737B32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8EE97-0EED-4059-809D-5A9BD298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7E898-118D-4D98-AB66-BC75FD00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A16B2-113B-4847-A91D-AD2B9188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62699-AFB1-47D8-AE7D-21D494CE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F6438-E1F1-44B2-A474-69C05C89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DE8D6-4C5D-4A16-A520-A1E2DD0C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26FC4-E2CA-408F-9866-C91CF0A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B05-E863-4DE2-9D25-F524A9D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42035-FB48-43A1-A292-133F3DBE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71703-5C2D-4F35-ACEF-AAF5D2B4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5E9AD-AF3F-4613-A2D2-0A9870D2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0385-6F51-48E0-BBC7-CBA1BF49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DF239-DEFE-4163-A031-EC37084B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965-396D-4CD8-B27A-DA790655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0F99-6884-4152-B056-C5500B20919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3059-90D7-4546-893C-0E45035B917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EABD-C12A-4B71-BFE5-8E86C43E038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C5BF-6A18-4393-8C77-52A5906E689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6447-3E87-40C4-A5F3-E2ED4AB1EC1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60BC-59CD-46EB-A056-7DBD2E46041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C3B3-E6A2-4A12-95A8-53DDE434123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Тема урока: </a:t>
            </a:r>
            <a:r>
              <a:rPr b="0" lang="ru-RU" sz="6000" spc="-1" strike="noStrike" u="sng">
                <a:solidFill>
                  <a:srgbClr val="572314"/>
                </a:solidFill>
                <a:uFillTx/>
                <a:latin typeface="Corbel"/>
              </a:rPr>
              <a:t>Средневековая деревня и её обитатели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rbel"/>
              </a:rPr>
              <a:t>Оброк</a:t>
            </a: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 – доля продуктов своего хозяйства (зерно, мед, яйца, сало, скот…)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4" descr="images (10).jpg"/>
          <p:cNvPicPr/>
          <p:nvPr/>
        </p:nvPicPr>
        <p:blipFill>
          <a:blip r:embed="rId1"/>
          <a:stretch/>
        </p:blipFill>
        <p:spPr>
          <a:xfrm>
            <a:off x="179280" y="3213000"/>
            <a:ext cx="3745080" cy="3095640"/>
          </a:xfrm>
          <a:prstGeom prst="rect">
            <a:avLst/>
          </a:prstGeom>
          <a:ln w="0">
            <a:noFill/>
          </a:ln>
        </p:spPr>
      </p:pic>
      <p:pic>
        <p:nvPicPr>
          <p:cNvPr id="338" name="Содержимое 5" descr="images (11).jpg"/>
          <p:cNvPicPr/>
          <p:nvPr/>
        </p:nvPicPr>
        <p:blipFill>
          <a:blip r:embed="rId2"/>
          <a:stretch/>
        </p:blipFill>
        <p:spPr>
          <a:xfrm>
            <a:off x="6305400" y="3322800"/>
            <a:ext cx="1600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щины частично владели пашнями и угодьями (луга, озера, леса, реки)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4" descr="images (14).jpg"/>
          <p:cNvPicPr/>
          <p:nvPr/>
        </p:nvPicPr>
        <p:blipFill>
          <a:blip r:embed="rId1"/>
          <a:stretch/>
        </p:blipFill>
        <p:spPr>
          <a:xfrm>
            <a:off x="179280" y="2935440"/>
            <a:ext cx="3672000" cy="2941560"/>
          </a:xfrm>
          <a:prstGeom prst="rect">
            <a:avLst/>
          </a:prstGeom>
          <a:ln w="0">
            <a:noFill/>
          </a:ln>
        </p:spPr>
      </p:pic>
      <p:pic>
        <p:nvPicPr>
          <p:cNvPr id="341" name="Содержимое 5" descr="images (12).jpg"/>
          <p:cNvPicPr/>
          <p:nvPr/>
        </p:nvPicPr>
        <p:blipFill>
          <a:blip r:embed="rId2"/>
          <a:stretch/>
        </p:blipFill>
        <p:spPr>
          <a:xfrm>
            <a:off x="5872320" y="2932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Крестьяне жили в деревнях. Деревни насчитывали 10-15 дворов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4" descr="images (15).jpg"/>
          <p:cNvPicPr/>
          <p:nvPr/>
        </p:nvPicPr>
        <p:blipFill>
          <a:blip r:embed="rId1"/>
          <a:stretch/>
        </p:blipFill>
        <p:spPr>
          <a:xfrm>
            <a:off x="611280" y="2938320"/>
            <a:ext cx="3168720" cy="286704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5" descr="images (16).jpg"/>
          <p:cNvPicPr/>
          <p:nvPr/>
        </p:nvPicPr>
        <p:blipFill>
          <a:blip r:embed="rId2"/>
          <a:stretch/>
        </p:blipFill>
        <p:spPr>
          <a:xfrm>
            <a:off x="5796000" y="29844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Обстановка дома крестьян средневековой Европ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Содержимое 3" descr="68864555.jpg"/>
          <p:cNvPicPr/>
          <p:nvPr/>
        </p:nvPicPr>
        <p:blipFill>
          <a:blip r:embed="rId1"/>
          <a:stretch/>
        </p:blipFill>
        <p:spPr>
          <a:xfrm>
            <a:off x="2327400" y="1704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Corbel"/>
              </a:rPr>
              <a:t>Хозяйство было натуральным, то есть все основные продукты и вещи изготовлялись не для продажи, а для собственного потребления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Домашнее задание: §11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К середине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XI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века в Европе установился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ffff00"/>
                </a:solidFill>
                <a:latin typeface="Corbel"/>
              </a:rPr>
              <a:t>феодализм 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– </a:t>
            </a: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общественный строй, при котором власть в обществе принадлежала землевладельцам-феодалам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351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Феодалы были </a:t>
            </a: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светскими</a:t>
            </a: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 и </a:t>
            </a: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церковными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4" descr="images (4).jpg"/>
          <p:cNvPicPr/>
          <p:nvPr/>
        </p:nvPicPr>
        <p:blipFill>
          <a:blip r:embed="rId1"/>
          <a:stretch/>
        </p:blipFill>
        <p:spPr>
          <a:xfrm>
            <a:off x="250920" y="2060640"/>
            <a:ext cx="3313080" cy="446400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5" descr="images (3).jpg"/>
          <p:cNvPicPr/>
          <p:nvPr/>
        </p:nvPicPr>
        <p:blipFill>
          <a:blip r:embed="rId2"/>
          <a:stretch/>
        </p:blipFill>
        <p:spPr>
          <a:xfrm>
            <a:off x="6167520" y="2946240"/>
            <a:ext cx="1876320" cy="1819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556240" y="980640"/>
            <a:ext cx="305424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Рисунок 4" descr="images.jpg"/>
          <p:cNvPicPr/>
          <p:nvPr/>
        </p:nvPicPr>
        <p:blipFill>
          <a:blip r:embed="rId1"/>
          <a:stretch/>
        </p:blipFill>
        <p:spPr>
          <a:xfrm>
            <a:off x="536400" y="615960"/>
            <a:ext cx="4651560" cy="45226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292720" y="1052280"/>
            <a:ext cx="352728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77"/>
                </a:solidFill>
                <a:latin typeface="Corbel"/>
              </a:rPr>
              <a:t>Подавляющее большинство населения составляли </a:t>
            </a:r>
            <a:r>
              <a:rPr b="1" lang="ru-RU" sz="4800" spc="-1" strike="noStrike">
                <a:solidFill>
                  <a:srgbClr val="777777"/>
                </a:solidFill>
                <a:latin typeface="Corbel"/>
              </a:rPr>
              <a:t>зависимые крестьяне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3" descr="images (5).jpg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В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X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-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X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веках возникла феодальная вотчина, или </a:t>
            </a:r>
            <a:r>
              <a:rPr b="0" lang="ru-RU" sz="4300" spc="-1" strike="noStrike">
                <a:solidFill>
                  <a:srgbClr val="ffff00"/>
                </a:solidFill>
                <a:latin typeface="Corbel"/>
              </a:rPr>
              <a:t>поместье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, - хозяйство феодала, в котором работали зависимые крестьян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3" descr="images (6).jpg"/>
          <p:cNvPicPr/>
          <p:nvPr/>
        </p:nvPicPr>
        <p:blipFill>
          <a:blip r:embed="rId1"/>
          <a:stretch/>
        </p:blipFill>
        <p:spPr>
          <a:xfrm>
            <a:off x="3946680" y="292428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7072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rbel"/>
              </a:rPr>
              <a:t>Вотчина</a:t>
            </a: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 («от отца») – наследственное земельное владение феодала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За пользование землей зависимые крестьяне несли повинности (принудительные обязанности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Содержимое 3" descr="загруженное.jpg"/>
          <p:cNvPicPr/>
          <p:nvPr/>
        </p:nvPicPr>
        <p:blipFill>
          <a:blip r:embed="rId1"/>
          <a:stretch/>
        </p:blipFill>
        <p:spPr>
          <a:xfrm>
            <a:off x="4270320" y="2595600"/>
            <a:ext cx="1828800" cy="2504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Corbel"/>
              </a:rPr>
              <a:t>Барщина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– все работы крестьян в хозяйстве помещика (строили и чинили его дом, чистили пруды и т.д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4" descr="images (9).jpg"/>
          <p:cNvPicPr/>
          <p:nvPr/>
        </p:nvPicPr>
        <p:blipFill>
          <a:blip r:embed="rId1"/>
          <a:stretch/>
        </p:blipFill>
        <p:spPr>
          <a:xfrm>
            <a:off x="395280" y="2421000"/>
            <a:ext cx="2833560" cy="4103640"/>
          </a:xfrm>
          <a:prstGeom prst="rect">
            <a:avLst/>
          </a:prstGeom>
          <a:ln w="0">
            <a:noFill/>
          </a:ln>
        </p:spPr>
      </p:pic>
      <p:pic>
        <p:nvPicPr>
          <p:cNvPr id="335" name="Содержимое 5" descr="images (8).jpg"/>
          <p:cNvPicPr/>
          <p:nvPr/>
        </p:nvPicPr>
        <p:blipFill>
          <a:blip r:embed="rId2"/>
          <a:stretch/>
        </p:blipFill>
        <p:spPr>
          <a:xfrm>
            <a:off x="5962680" y="29988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13:58:15Z</dcterms:created>
  <dc:creator>павел</dc:creator>
  <dc:description/>
  <dc:language>en-US</dc:language>
  <cp:lastModifiedBy>Windows User</cp:lastModifiedBy>
  <dcterms:modified xsi:type="dcterms:W3CDTF">2018-01-28T11:50:52Z</dcterms:modified>
  <cp:revision>10</cp:revision>
  <dc:subject/>
  <dc:title>Тема урока: Средневековая деревня и её обитатели</dc:title>
</cp:coreProperties>
</file>