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click.wav" ContentType="audio/x-wav"/>
  <Override PartName="/ppt/media/image3.gif" ContentType="image/gif"/>
  <Override PartName="/ppt/media/chimes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19F-0B57-4C4A-BE61-C1C5BCFF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398-D09A-49B6-B0D4-A5A5506C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1462-8B83-4A12-9BA3-8F809A7D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3AD-7F3D-4BC6-A435-B31D3C69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BDA9-0A79-4C55-B843-E289C18F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8503-819F-4F44-8273-446464AC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5D22-78A2-41E1-AD80-CA880D3D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34A6-FD38-4086-9BCE-C9D34E17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D681-B0B3-4DC8-9E61-CBC2A5DB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D94F-3140-41BE-A763-3B000E89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EC5B-442C-4725-BC5A-28571371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5C0-9478-4800-BDCF-CB036539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9C4D-8108-4CC2-837B-3455E61B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D629-0546-47B6-8729-DC23329B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ED9A-7648-4F5E-8851-5D22AC22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5992-51A7-48F8-9258-904FB758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074A-DF0B-4DA9-A545-B9AF97DF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4D40-B0DC-4272-A39C-C17B8C68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79A-2E55-4C50-9643-20C5BF29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881-E667-4818-A5F0-0909F05E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256-57C4-425B-A2F4-C10A963C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D77F-7BED-4584-9036-EB824BC9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CC6B-2577-473B-BD67-DD8EDC89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074-9E52-495E-BA3E-D4F96AF1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9C87-BAC0-472B-97A3-5C170C94BAC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990000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ED69-6128-4E87-80FD-79130801BA7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19.xml"/><Relationship Id="rId10" Type="http://schemas.openxmlformats.org/officeDocument/2006/relationships/slide" Target="slide21.xml"/><Relationship Id="rId11" Type="http://schemas.openxmlformats.org/officeDocument/2006/relationships/slide" Target="slide51.xml"/><Relationship Id="rId12" Type="http://schemas.openxmlformats.org/officeDocument/2006/relationships/slide" Target="slide53.xml"/><Relationship Id="rId13" Type="http://schemas.openxmlformats.org/officeDocument/2006/relationships/slide" Target="slide55.xml"/><Relationship Id="rId14" Type="http://schemas.openxmlformats.org/officeDocument/2006/relationships/slide" Target="slide57.xml"/><Relationship Id="rId15" Type="http://schemas.openxmlformats.org/officeDocument/2006/relationships/slide" Target="slide59.xml"/><Relationship Id="rId16" Type="http://schemas.openxmlformats.org/officeDocument/2006/relationships/slide" Target="slide23.xml"/><Relationship Id="rId17" Type="http://schemas.openxmlformats.org/officeDocument/2006/relationships/slide" Target="slide25.xml"/><Relationship Id="rId18" Type="http://schemas.openxmlformats.org/officeDocument/2006/relationships/slide" Target="slide27.xml"/><Relationship Id="rId19" Type="http://schemas.openxmlformats.org/officeDocument/2006/relationships/slide" Target="slide29.xml"/><Relationship Id="rId20" Type="http://schemas.openxmlformats.org/officeDocument/2006/relationships/slide" Target="slide31.xml"/><Relationship Id="rId21" Type="http://schemas.openxmlformats.org/officeDocument/2006/relationships/slide" Target="slide33.xml"/><Relationship Id="rId22" Type="http://schemas.openxmlformats.org/officeDocument/2006/relationships/slide" Target="slide35.xml"/><Relationship Id="rId23" Type="http://schemas.openxmlformats.org/officeDocument/2006/relationships/slide" Target="slide37.xml"/><Relationship Id="rId24" Type="http://schemas.openxmlformats.org/officeDocument/2006/relationships/slide" Target="slide39.xml"/><Relationship Id="rId25" Type="http://schemas.openxmlformats.org/officeDocument/2006/relationships/slide" Target="slide41.xml"/><Relationship Id="rId26" Type="http://schemas.openxmlformats.org/officeDocument/2006/relationships/slide" Target="slide43.xml"/><Relationship Id="rId27" Type="http://schemas.openxmlformats.org/officeDocument/2006/relationships/slide" Target="slide45.xml"/><Relationship Id="rId28" Type="http://schemas.openxmlformats.org/officeDocument/2006/relationships/slide" Target="slide47.xml"/><Relationship Id="rId29" Type="http://schemas.openxmlformats.org/officeDocument/2006/relationships/slide" Target="slide49.xml"/><Relationship Id="rId30" Type="http://schemas.openxmlformats.org/officeDocument/2006/relationships/slide" Target="slide61.xml"/><Relationship Id="rId31" Type="http://schemas.openxmlformats.org/officeDocument/2006/relationships/slide" Target="slide63.xml"/><Relationship Id="rId32" Type="http://schemas.openxmlformats.org/officeDocument/2006/relationships/image" Target="../media/image1.png"/><Relationship Id="rId3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2;&#1080;&#1088;%20&#1080;&#1085;&#1092;&#1086;&#1088;&#1084;&#1072;&#1090;&#1080;&#1082;&#1080;.ppt" TargetMode="External"/><Relationship Id="rId2" Type="http://schemas.openxmlformats.org/officeDocument/2006/relationships/slide" Target="slide4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himes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43080" y="1684440"/>
            <a:ext cx="765792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ctr">
              <a:lnSpc>
                <a:spcPct val="80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1900" spc="-1" strike="noStrike">
                <a:solidFill>
                  <a:srgbClr val="cc0000"/>
                </a:solidFill>
                <a:latin typeface="Times New Roman"/>
              </a:rPr>
              <a:t>Своя игра</a:t>
            </a:r>
            <a:endParaRPr b="0" lang="en-US" sz="1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opening_98.mp3" descr=""/>
          <p:cNvPicPr/>
          <p:nvPr/>
        </p:nvPicPr>
        <p:blipFill>
          <a:blip r:embed="rId1"/>
          <a:stretch/>
        </p:blipFill>
        <p:spPr>
          <a:xfrm>
            <a:off x="78487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p79_spinearth"/>
          <p:cNvPicPr/>
          <p:nvPr/>
        </p:nvPicPr>
        <p:blipFill>
          <a:blip r:embed="rId2"/>
          <a:stretch/>
        </p:blipFill>
        <p:spPr>
          <a:xfrm>
            <a:off x="6905520" y="228600"/>
            <a:ext cx="2238480" cy="2238480"/>
          </a:xfrm>
          <a:prstGeom prst="rect">
            <a:avLst/>
          </a:prstGeom>
          <a:ln w="0">
            <a:noFill/>
          </a:ln>
        </p:spPr>
      </p:pic>
      <p:sp>
        <p:nvSpPr>
          <p:cNvPr id="159" name="WordArt 16"/>
          <p:cNvSpPr txBox="1"/>
          <p:nvPr/>
        </p:nvSpPr>
        <p:spPr>
          <a:xfrm>
            <a:off x="992160" y="3664080"/>
            <a:ext cx="7524720" cy="14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5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утешествие по материкам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26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79000" y="333360"/>
            <a:ext cx="8699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тв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а севере проживают арабские народы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 Центральной и Южной Африке –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ренные народы (негры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аселение размещено неравномерно: почти не заселены пустынные территории, непроходимые экваториальные леса. Зато Средиземноморское побережье и долина реки Нил заселены очень плотн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55680" y="259920"/>
            <a:ext cx="85471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вопро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ак повлияло колониальное прошлое материка на развитие природы, хозяйства и населения Африк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38920" y="59245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87" name="Svoya_igra - 30 Sec.mp3" descr=""/>
          <p:cNvPicPr/>
          <p:nvPr/>
        </p:nvPicPr>
        <p:blipFill>
          <a:blip r:embed="rId2"/>
          <a:stretch/>
        </p:blipFill>
        <p:spPr>
          <a:xfrm>
            <a:off x="1009800" y="6153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32523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42720" y="333360"/>
            <a:ext cx="83437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тв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лонизаторы угнетали и эксплуа-тировали коренное население, отнимали лучшие земли, грабили страны (вывозили полезные ископаемые, древесину). Всё это не давало развиваться африканским государствам, поэтому сейчас все страны континента относятся к наименее развитым странам мир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914400" y="549360"/>
            <a:ext cx="77724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Вопро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ff"/>
                </a:solidFill>
                <a:latin typeface="Verdana"/>
              </a:rPr>
              <a:t>Почему Австралию часто называют “Страной наоборот”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6667560" y="5848200"/>
            <a:ext cx="18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92" name="30sec_94.mp3" descr=""/>
          <p:cNvPicPr/>
          <p:nvPr/>
        </p:nvPicPr>
        <p:blipFill>
          <a:blip r:embed="rId2"/>
          <a:stretch/>
        </p:blipFill>
        <p:spPr>
          <a:xfrm>
            <a:off x="971640" y="603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31165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06440" y="404280"/>
            <a:ext cx="8432640" cy="561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Австралия расположена в южном полушарии, поэтому здесь чем севернее, тем теплее; зима здесь в июле, а лето - в декабр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9760" y="404640"/>
            <a:ext cx="83566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Вопро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Почему в Австралии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не происходит землетрясений и нет действующих вулканов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7143840" y="5791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97" name="30sec_old.mp3" descr=""/>
          <p:cNvPicPr/>
          <p:nvPr/>
        </p:nvPicPr>
        <p:blipFill>
          <a:blip r:embed="rId2"/>
          <a:stretch/>
        </p:blipFill>
        <p:spPr>
          <a:xfrm>
            <a:off x="1333440" y="607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8" name="Своя Игра - Cat In Bag (1997-2000).mp3" descr=""/>
          <p:cNvPicPr/>
          <p:nvPr/>
        </p:nvPicPr>
        <p:blipFill>
          <a:blip r:embed="rId3"/>
          <a:stretch/>
        </p:blipFill>
        <p:spPr>
          <a:xfrm>
            <a:off x="2247840" y="603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9" name="30sec_old.mp3" descr=""/>
          <p:cNvPicPr/>
          <p:nvPr/>
        </p:nvPicPr>
        <p:blipFill>
          <a:blip r:embed="rId4"/>
          <a:stretch/>
        </p:blipFill>
        <p:spPr>
          <a:xfrm>
            <a:off x="352440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284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30250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30250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68280" y="259920"/>
            <a:ext cx="8445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встралия полностью расположена в пределах Индо-Австралийской литосферной плиты, а землетрясения и вулканизм характерны для границ литосферных плит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79000" y="1599840"/>
            <a:ext cx="8534520" cy="33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ак называются сухие русла рек в Австралии?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Почему их здесь так много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6286680" y="52578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05" name="30sec_94.mp3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31165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44600" y="144792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ухие русла рек называются </a:t>
            </a:r>
            <a:r>
              <a:rPr b="1" lang="ru-RU" sz="3600" spc="-1" strike="noStrike">
                <a:solidFill>
                  <a:srgbClr val="ff6600"/>
                </a:solidFill>
                <a:latin typeface="Verdana"/>
              </a:rPr>
              <a:t>ВАД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х много в Австралии потому, что этот материк почти посередине пересекает южный тропик. Австралия – самый сухой материк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 дожди здесь - редкое явлен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55680" y="404640"/>
            <a:ext cx="85471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Вопро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Назовите типичных представителей растительного и животного мира Австралии. Почему органический мир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этого материка так своеобразен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7512120" y="601992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11" name="30sec_94.mp3" descr=""/>
          <p:cNvPicPr/>
          <p:nvPr/>
        </p:nvPicPr>
        <p:blipFill>
          <a:blip r:embed="rId2"/>
          <a:stretch/>
        </p:blipFill>
        <p:spPr>
          <a:xfrm>
            <a:off x="838080" y="59245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1165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226360" cy="81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16000" y="870120"/>
          <a:ext cx="8397720" cy="5376600"/>
        </p:xfrm>
        <a:graphic>
          <a:graphicData uri="http://schemas.openxmlformats.org/drawingml/2006/table">
            <a:tbl>
              <a:tblPr/>
              <a:tblGrid>
                <a:gridCol w="3502080"/>
                <a:gridCol w="1160280"/>
                <a:gridCol w="1122480"/>
                <a:gridCol w="689040"/>
                <a:gridCol w="987120"/>
                <a:gridCol w="936720"/>
              </a:tblGrid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    </a:t>
                      </a:r>
                      <a:r>
                        <a:rPr b="1" lang="tt-RU" sz="2400" spc="-1" strike="noStrike">
                          <a:solidFill>
                            <a:srgbClr val="663300"/>
                          </a:solidFill>
                          <a:latin typeface="Verdana"/>
                        </a:rPr>
                        <a:t>Африка</a:t>
                      </a:r>
                      <a:endParaRPr b="1" lang="en-US" sz="24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" action="ppaction://hlinksldjump"/>
                        </a:rPr>
                        <a:t>1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" action="ppaction://hlinksldjump"/>
                        </a:rPr>
                        <a:t>2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 action="ppaction://hlinksldjump"/>
                        </a:rPr>
                        <a:t>3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4" action="ppaction://hlinksldjump"/>
                        </a:rPr>
                        <a:t>4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5" action="ppaction://hlinksldjump"/>
                        </a:rPr>
                        <a:t>5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Австралия</a:t>
                      </a:r>
                      <a:endParaRPr b="1" lang="en-US" sz="24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6" action="ppaction://hlinksldjump"/>
                        </a:rPr>
                        <a:t>2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7" action="ppaction://hlinksldjump"/>
                        </a:rPr>
                        <a:t>3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8" action="ppaction://hlinksldjump"/>
                        </a:rPr>
                        <a:t>4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9" action="ppaction://hlinksldjump"/>
                        </a:rPr>
                        <a:t>5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0" action="ppaction://hlinksldjump"/>
                        </a:rPr>
                        <a:t>6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Южная Америка</a:t>
                      </a:r>
                      <a:endParaRPr b="1" lang="en-US" sz="24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1" action="ppaction://hlinksldjump"/>
                        </a:rPr>
                        <a:t>5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2" action="ppaction://hlinksldjump"/>
                        </a:rPr>
                        <a:t>1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3" action="ppaction://hlinksldjump"/>
                        </a:rPr>
                        <a:t>15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4" action="ppaction://hlinksldjump"/>
                        </a:rPr>
                        <a:t>2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5" action="ppaction://hlinksldjump"/>
                        </a:rPr>
                        <a:t>25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нтарктида</a:t>
                      </a:r>
                      <a:endParaRPr b="1" lang="en-US" sz="24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6" action="ppaction://hlinksldjump"/>
                        </a:rPr>
                        <a:t>2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7" action="ppaction://hlinksldjump"/>
                        </a:rPr>
                        <a:t>3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8" action="ppaction://hlinksldjump"/>
                        </a:rPr>
                        <a:t>4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19" action="ppaction://hlinksldjump"/>
                        </a:rPr>
                        <a:t>5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0" action="ppaction://hlinksldjump"/>
                        </a:rPr>
                        <a:t>6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3399ff"/>
                          </a:solidFill>
                          <a:latin typeface="Verdana"/>
                        </a:rPr>
                        <a:t>Северная Америка</a:t>
                      </a:r>
                      <a:endParaRPr b="1" lang="en-US" sz="24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1" action="ppaction://hlinksldjump"/>
                        </a:rPr>
                        <a:t>15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2" action="ppaction://hlinksldjump"/>
                        </a:rPr>
                        <a:t>2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3" action="ppaction://hlinksldjump"/>
                        </a:rPr>
                        <a:t>25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4" action="ppaction://hlinksldjump"/>
                        </a:rPr>
                        <a:t>3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5" action="ppaction://hlinksldjump"/>
                        </a:rPr>
                        <a:t>35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Евразия</a:t>
                      </a:r>
                      <a:endParaRPr b="1" lang="en-US" sz="24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6" action="ppaction://hlinksldjump"/>
                        </a:rPr>
                        <a:t>5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7" action="ppaction://hlinksldjump"/>
                        </a:rPr>
                        <a:t>1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8" action="ppaction://hlinksldjump"/>
                        </a:rPr>
                        <a:t>15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29" action="ppaction://hlinksldjump"/>
                        </a:rPr>
                        <a:t>20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0" action="ppaction://hlinksldjump"/>
                        </a:rPr>
                        <a:t>25</a:t>
                      </a:r>
                      <a:endParaRPr b="1" lang="en-US" sz="28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170"/>
          <p:cNvSpPr/>
          <p:nvPr/>
        </p:nvSpPr>
        <p:spPr>
          <a:xfrm>
            <a:off x="6267600" y="6391440"/>
            <a:ext cx="14349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31" action="ppaction://hlinksldjump"/>
              </a:rPr>
              <a:t>Финал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63" name="Своя Игра - Begin Round (1998-2000).mp3" descr=""/>
          <p:cNvPicPr/>
          <p:nvPr/>
        </p:nvPicPr>
        <p:blipFill>
          <a:blip r:embed="rId32"/>
          <a:stretch/>
        </p:blipFill>
        <p:spPr>
          <a:xfrm>
            <a:off x="8528040" y="6311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94096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Verdana"/>
              </a:rPr>
              <a:t>Растительный мир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- эвкалипты, акаци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Животны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кенгуру, коала, утконос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хидна, страус эм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воеобразие органического мира объясняется тем, что Австралия давно отделилась от других материков и развивалась изолированно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396360"/>
            <a:ext cx="857232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Вопро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ак называют коренных жителей Австралии?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Изменилась ли их жизнь с приходом европейцев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6419880" y="588636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16" name="30sec_94.mp3" descr=""/>
          <p:cNvPicPr/>
          <p:nvPr/>
        </p:nvPicPr>
        <p:blipFill>
          <a:blip r:embed="rId2"/>
          <a:stretch/>
        </p:blipFill>
        <p:spPr>
          <a:xfrm>
            <a:off x="57168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31165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17160" y="475920"/>
            <a:ext cx="85978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ренные жители – </a:t>
            </a: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абориге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о прихода европейцев они занимались только охотой и рыболовством, но занимали самые благоприятные территории материка. Европейцы стали уничтожать коренное население, выселять их в пустынные районы, непригодные для жиз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Вопро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Чем не похожа  Антарктида на все остальные материки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667560" y="58863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21" name="30sec_98.mp3" descr=""/>
          <p:cNvPicPr/>
          <p:nvPr/>
        </p:nvPicPr>
        <p:blipFill>
          <a:blip r:embed="rId2"/>
          <a:stretch/>
        </p:blipFill>
        <p:spPr>
          <a:xfrm>
            <a:off x="533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30564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4160" y="404640"/>
            <a:ext cx="86104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Отв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нтарктида- самый высокий и самый холодный материк Земли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десь наблюдаются самые сильные ветры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регистрированы самые низкие температуры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Это единственный материк, на котором нет постоянного населени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67920" y="333360"/>
            <a:ext cx="83185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Вопро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то открыл Антарктиду?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гда это было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686640" y="603396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26" name="30sec_98.mp3" descr=""/>
          <p:cNvPicPr/>
          <p:nvPr/>
        </p:nvPicPr>
        <p:blipFill>
          <a:blip r:embed="rId2"/>
          <a:stretch/>
        </p:blipFill>
        <p:spPr>
          <a:xfrm>
            <a:off x="647640" y="6153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30564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404640"/>
            <a:ext cx="86104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Verdana"/>
              </a:rPr>
              <a:t>Фаддей  Фаддеевич Беллинсгаузен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  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6600"/>
                </a:solidFill>
                <a:latin typeface="Verdana"/>
              </a:rPr>
              <a:t>Михаил Петрович Лазарев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на судах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«Мирный» и «Восток»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в 1920 году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6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Вопро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то и когда впервые достиг Южного полюса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496200" y="60768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31" name="30sec_98.mp3" descr=""/>
          <p:cNvPicPr/>
          <p:nvPr/>
        </p:nvPicPr>
        <p:blipFill>
          <a:blip r:embed="rId2"/>
          <a:stretch/>
        </p:blipFill>
        <p:spPr>
          <a:xfrm>
            <a:off x="533520" y="6058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30564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3800" y="691920"/>
            <a:ext cx="86994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Норвежский полярник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Georgia"/>
              </a:rPr>
              <a:t>Руаль Амундсен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–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14 декабря 1911 г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Английский путешественник </a:t>
            </a:r>
            <a:r>
              <a:rPr b="1" lang="ru-RU" sz="4400" spc="-1" strike="noStrike">
                <a:solidFill>
                  <a:srgbClr val="ff6600"/>
                </a:solidFill>
                <a:latin typeface="Georgia"/>
              </a:rPr>
              <a:t>Роберт Скотт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–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18 января 1912 г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0"/>
          <p:cNvSpPr/>
          <p:nvPr/>
        </p:nvSpPr>
        <p:spPr>
          <a:xfrm>
            <a:off x="404640" y="295200"/>
            <a:ext cx="832824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990000"/>
                </a:solidFill>
                <a:latin typeface="Arial"/>
              </a:rPr>
              <a:t>Вопрос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ff"/>
                </a:solidFill>
                <a:latin typeface="Arial"/>
              </a:rPr>
              <a:t>Почему Антарктида считается самым высоким материком над уровнем моря, ведь самые высокие горы расположены не здесь?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5" name="Text Box 32"/>
          <p:cNvSpPr/>
          <p:nvPr/>
        </p:nvSpPr>
        <p:spPr>
          <a:xfrm>
            <a:off x="6227640" y="5661000"/>
            <a:ext cx="20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6" name="Text Box 34"/>
          <p:cNvSpPr/>
          <p:nvPr/>
        </p:nvSpPr>
        <p:spPr>
          <a:xfrm>
            <a:off x="6991200" y="6210360"/>
            <a:ext cx="18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37" name="30sec_98.mp3" descr=""/>
          <p:cNvPicPr/>
          <p:nvPr/>
        </p:nvPicPr>
        <p:blipFill>
          <a:blip r:embed="rId2"/>
          <a:stretch/>
        </p:blipFill>
        <p:spPr>
          <a:xfrm>
            <a:off x="419040" y="6114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30564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вопро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ак географическое положение Африки влияет на природу материка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4">
            <a:hlinkClick r:id="rId1"/>
          </p:cNvPr>
          <p:cNvSpPr/>
          <p:nvPr/>
        </p:nvSpPr>
        <p:spPr>
          <a:xfrm>
            <a:off x="7704360" y="5954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66" name="Svoya_igra - 30 Sec.mp3" descr=""/>
          <p:cNvPicPr/>
          <p:nvPr/>
        </p:nvPicPr>
        <p:blipFill>
          <a:blip r:embed="rId3"/>
          <a:stretch/>
        </p:blipFill>
        <p:spPr>
          <a:xfrm>
            <a:off x="8305920" y="5353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2523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5676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Отв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Почти весь материк покрыт мощным ледниковым щитом, толщина которого составляет 2000-3000 метров. За счёт этого ледяного купола Антарктида почти в три раза выше других материков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AutoShape 6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14400" y="620640"/>
            <a:ext cx="77724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Вопро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 чём особенности органического мира Антарктиды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7257960" y="615312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42" name="30sec_98.mp3" descr=""/>
          <p:cNvPicPr/>
          <p:nvPr/>
        </p:nvPicPr>
        <p:blipFill>
          <a:blip r:embed="rId2"/>
          <a:stretch/>
        </p:blipFill>
        <p:spPr>
          <a:xfrm>
            <a:off x="399960" y="6114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30564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80880" y="549360"/>
            <a:ext cx="850896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Отв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Здесь только одна природная зона – антарктическая пустын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рганический мир беден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Жизнь животных (пингвины, тюлени, морские львы и др.) связана с морем, т.к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ам они находят питани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 растений встречаются только мхи и лишайни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AutoShape 6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Вопрос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(аукцион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то открыл Америку и почему она так называется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5791320" y="5689440"/>
            <a:ext cx="1422360" cy="317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ответ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6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8040" y="406440"/>
            <a:ext cx="7983360" cy="66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твет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81160" y="1321920"/>
            <a:ext cx="85579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ткрыл Америку Христофор Колумб, но назван материк в честь Америго Веспуччи, который первый высказал мысль о том, что это новый, ещё не известный материк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1920" y="1587240"/>
            <a:ext cx="8624880" cy="42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Почему северная часть материка Северная Америка очень сильно изрезана, имеет много островов, а также озёр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5940360" y="59500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54" name="30sec_old.mp3" descr=""/>
          <p:cNvPicPr/>
          <p:nvPr/>
        </p:nvPicPr>
        <p:blipFill>
          <a:blip r:embed="rId2"/>
          <a:stretch/>
        </p:blipFill>
        <p:spPr>
          <a:xfrm>
            <a:off x="476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30250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61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4000" y="1209600"/>
            <a:ext cx="8496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ного тысяч лет назад северную  часть материка покрывал огромный ледник. Множество озёр, сильно изрезанный рельеф, котловины, нагромождения валунов – всё это следы деятельности ледник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еликие равнины в Америке часто называют «главной улицей торнадо». Почему они здесь случаются так часто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7480440" y="6197760"/>
            <a:ext cx="12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61" name="30sec_old.mp3" descr=""/>
          <p:cNvPicPr/>
          <p:nvPr/>
        </p:nvPicPr>
        <p:blipFill>
          <a:blip r:embed="rId2"/>
          <a:stretch/>
        </p:blipFill>
        <p:spPr>
          <a:xfrm>
            <a:off x="476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30250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255320"/>
            <a:ext cx="8408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а севере и на юге материка отсутствуют горные хребты и воздушные массы с севера или с юга могут беспрепятственно проходить вглубь. Возникает разница в температуре и атмосферном давлении. Это и приводит к образованию торнадо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вопрос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6360" y="1339560"/>
            <a:ext cx="859968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акие водные объекты Северной Америки заслуживают, на ваш взгляд, особого внимания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7353360" y="5962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68" name="30sec_old.mp3" descr=""/>
          <p:cNvPicPr/>
          <p:nvPr/>
        </p:nvPicPr>
        <p:blipFill>
          <a:blip r:embed="rId2"/>
          <a:stretch/>
        </p:blipFill>
        <p:spPr>
          <a:xfrm>
            <a:off x="361800" y="6210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30250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отв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Экватор пересекает Африку посередине, поэтому на материке все климатические пояса и природные зоны повторяются к северу и к югу от экватора. А расположена Африка в экваториальном, субэкваториальном, тропическом и субтропическом поясах, а они получают очень много солнечного тепла. Из-за этого Африка – самый жаркий матери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твет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31920" y="1193400"/>
            <a:ext cx="8496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еликие озёра - самая крупная система пресных озёр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ека Колорадо образовала глубочайший в мире каньон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иагарский водопад медленно разрушает уступ, с которого падает вода, и отступае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 озеру Эр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ека Миссисипи – самая полноводная на материке, индейцы называли е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отцом вод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опрос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Назовите страны и столицы стран Северной Америки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651640" y="530064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75" name="30sec_old.mp3" descr=""/>
          <p:cNvPicPr/>
          <p:nvPr/>
        </p:nvPicPr>
        <p:blipFill>
          <a:blip r:embed="rId2"/>
          <a:stretch/>
        </p:blipFill>
        <p:spPr>
          <a:xfrm>
            <a:off x="49536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0250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твет</a:t>
            </a: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Канада – Оттав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США – Вашингтон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Мексика - Мехик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вопрос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6480" y="1490760"/>
            <a:ext cx="84358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акие отличительные особенности рельефа Евразии вы можете назвать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7837560" y="6130800"/>
            <a:ext cx="9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82" name="Svoya_igra - 30 Sec.mp3" descr=""/>
          <p:cNvPicPr/>
          <p:nvPr/>
        </p:nvPicPr>
        <p:blipFill>
          <a:blip r:embed="rId2"/>
          <a:stretch/>
        </p:blipFill>
        <p:spPr>
          <a:xfrm>
            <a:off x="495360" y="6114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32523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ответ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13840" y="1227240"/>
            <a:ext cx="87282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вразия значительно выше других материков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материке расположены высочайшие горы – Гималаи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ного огромных равнин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Аравийском полуострове расположена самая глубокая впадина на суше 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ёртвое мор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вопрос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90160" y="1383840"/>
            <a:ext cx="8651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Что такое «Огненное кольцо» и где оно расположено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7134120" y="6004080"/>
            <a:ext cx="155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89" name="Svoya_igra - 30 Sec.mp3" descr=""/>
          <p:cNvPicPr/>
          <p:nvPr/>
        </p:nvPicPr>
        <p:blipFill>
          <a:blip r:embed="rId2"/>
          <a:stretch/>
        </p:blipFill>
        <p:spPr>
          <a:xfrm>
            <a:off x="533520" y="6076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32523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4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ответ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Это сейсмический пояс, где часто происходят землетрясения и много действующих вулканов. Расположен он на границе Тихоокеанской и Евразийской литосферных плит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AutoShape 7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45680"/>
            <a:ext cx="822960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Почему климат Евразии самый разнообразный по сравнению с другими материками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7642080" y="5961240"/>
            <a:ext cx="11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96" name="Svoya_igra - 30 Sec.mp3" descr=""/>
          <p:cNvPicPr/>
          <p:nvPr/>
        </p:nvPicPr>
        <p:blipFill>
          <a:blip r:embed="rId2"/>
          <a:stretch/>
        </p:blipFill>
        <p:spPr>
          <a:xfrm>
            <a:off x="666720" y="6134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32523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358640"/>
            <a:ext cx="840744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6676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Евразия – самый большой материк;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26676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расположена во всех климатических поясах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26676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имеет большую протя-жённость не только с севера на юг, но и с запада на восток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AutoShape 6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61560" y="290160"/>
            <a:ext cx="7628040" cy="90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Вопрос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(своя игра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азовите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95400" indent="1141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амое большое озеро Евраз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95400" indent="1141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амое глубокое озер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95400" indent="1141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амое солёное озер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95400" indent="1141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амую длинную реку матер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95400" indent="1141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амую крупную реку, относящуюся к бессточному бассейн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7048440" y="6148440"/>
            <a:ext cx="12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03" name="Svoya_igra - 30 Sec.mp3" descr=""/>
          <p:cNvPicPr/>
          <p:nvPr/>
        </p:nvPicPr>
        <p:blipFill>
          <a:blip r:embed="rId2"/>
          <a:stretch/>
        </p:blipFill>
        <p:spPr>
          <a:xfrm>
            <a:off x="8362800" y="6153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4" name="Своя Игра - 1 Minute.mp3" descr=""/>
          <p:cNvPicPr/>
          <p:nvPr/>
        </p:nvPicPr>
        <p:blipFill>
          <a:blip r:embed="rId3"/>
          <a:stretch/>
        </p:blipFill>
        <p:spPr>
          <a:xfrm>
            <a:off x="43812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32523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979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Вопро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В каких  природных зонах расположена  Африка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Назовите основных представителей животного и растительного мира каждой природной зон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(по 2-3 примера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067520" y="608976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71" name="Svoya_igra - 30 Sec.mp3" descr=""/>
          <p:cNvPicPr/>
          <p:nvPr/>
        </p:nvPicPr>
        <p:blipFill>
          <a:blip r:embed="rId2"/>
          <a:stretch/>
        </p:blipFill>
        <p:spPr>
          <a:xfrm>
            <a:off x="552600" y="6076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2523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352440" y="1157400"/>
            <a:ext cx="8512200" cy="63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амое большое озеро – Каспийское;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амое глубокое – Байкал;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амое солёное – Мёртвое;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амая длинная река – Янцзы;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амая крупная река бессточного бассейна – Волга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7" name="AutoShape 7">
            <a:hlinkClick r:id="rId1" action="ppaction://hlinksldjump"/>
          </p:cNvPr>
          <p:cNvSpPr/>
          <p:nvPr/>
        </p:nvSpPr>
        <p:spPr>
          <a:xfrm>
            <a:off x="8292960" y="5924520"/>
            <a:ext cx="648000" cy="68580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85800"/>
              <a:gd name="textAreaBottom" fmla="*/ 644040 h 685800"/>
            </a:gdLst>
            <a:ahLst/>
            <a:rect l="textAreaLeft" t="textAreaTop" r="textAreaRight" b="textAreaBottom"/>
            <a:pathLst>
              <a:path w="21600" h="22859">
                <a:moveTo>
                  <a:pt x="0" y="0"/>
                </a:moveTo>
                <a:lnTo>
                  <a:pt x="21600" y="0"/>
                </a:lnTo>
                <a:lnTo>
                  <a:pt x="21600" y="22859"/>
                </a:lnTo>
                <a:lnTo>
                  <a:pt x="0" y="22859"/>
                </a:lnTo>
                <a:close/>
              </a:path>
              <a:path fill="lightenLess" w="21600" h="228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59">
                <a:moveTo>
                  <a:pt x="21600" y="0"/>
                </a:moveTo>
                <a:lnTo>
                  <a:pt x="21600" y="22859"/>
                </a:lnTo>
                <a:lnTo>
                  <a:pt x="20200" y="21459"/>
                </a:lnTo>
                <a:lnTo>
                  <a:pt x="20200" y="1400"/>
                </a:lnTo>
                <a:close/>
              </a:path>
              <a:path fill="darkenLess" w="21600" h="22859">
                <a:moveTo>
                  <a:pt x="21600" y="22859"/>
                </a:moveTo>
                <a:lnTo>
                  <a:pt x="0" y="22859"/>
                </a:lnTo>
                <a:lnTo>
                  <a:pt x="1400" y="21459"/>
                </a:lnTo>
                <a:lnTo>
                  <a:pt x="20200" y="21459"/>
                </a:lnTo>
                <a:close/>
              </a:path>
              <a:path fill="lighten" w="21600" h="22859">
                <a:moveTo>
                  <a:pt x="0" y="228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59"/>
                </a:lnTo>
                <a:close/>
              </a:path>
              <a:path fill="darken" w="21600" h="22859">
                <a:moveTo>
                  <a:pt x="10800" y="4467"/>
                </a:moveTo>
                <a:lnTo>
                  <a:pt x="13376" y="7078"/>
                </a:lnTo>
                <a:lnTo>
                  <a:pt x="13376" y="5337"/>
                </a:lnTo>
                <a:lnTo>
                  <a:pt x="15152" y="5337"/>
                </a:lnTo>
                <a:lnTo>
                  <a:pt x="15152" y="8853"/>
                </a:lnTo>
                <a:lnTo>
                  <a:pt x="17763" y="11430"/>
                </a:lnTo>
                <a:lnTo>
                  <a:pt x="16109" y="11430"/>
                </a:lnTo>
                <a:lnTo>
                  <a:pt x="16109" y="18619"/>
                </a:lnTo>
                <a:lnTo>
                  <a:pt x="5491" y="18619"/>
                </a:lnTo>
                <a:lnTo>
                  <a:pt x="5491" y="11430"/>
                </a:lnTo>
                <a:lnTo>
                  <a:pt x="3837" y="11430"/>
                </a:lnTo>
                <a:close/>
              </a:path>
              <a:path fill="darkenLess" w="21600" h="22859">
                <a:moveTo>
                  <a:pt x="13376" y="7078"/>
                </a:moveTo>
                <a:lnTo>
                  <a:pt x="13376" y="5337"/>
                </a:lnTo>
                <a:lnTo>
                  <a:pt x="15152" y="5337"/>
                </a:lnTo>
                <a:lnTo>
                  <a:pt x="15152" y="8853"/>
                </a:lnTo>
                <a:close/>
              </a:path>
              <a:path fill="darkenLess" w="21600" h="22859">
                <a:moveTo>
                  <a:pt x="9877" y="14929"/>
                </a:moveTo>
                <a:lnTo>
                  <a:pt x="11723" y="14929"/>
                </a:lnTo>
                <a:lnTo>
                  <a:pt x="11723" y="18619"/>
                </a:lnTo>
                <a:lnTo>
                  <a:pt x="16109" y="18619"/>
                </a:lnTo>
                <a:lnTo>
                  <a:pt x="16109" y="11430"/>
                </a:lnTo>
                <a:lnTo>
                  <a:pt x="5491" y="11430"/>
                </a:lnTo>
                <a:lnTo>
                  <a:pt x="5491" y="18619"/>
                </a:lnTo>
                <a:lnTo>
                  <a:pt x="9877" y="1861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Вопрос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Что вы знаете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954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о Южной Америке «самого - самого»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6732720" y="5516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11" name="Svoya_igra - 30 Sec.mp3" descr=""/>
          <p:cNvPicPr/>
          <p:nvPr/>
        </p:nvPicPr>
        <p:blipFill>
          <a:blip r:embed="rId2"/>
          <a:stretch/>
        </p:blipFill>
        <p:spPr>
          <a:xfrm>
            <a:off x="3808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32523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амый влажный материк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десь расположена самая большая равнина мира – Амазонская низменность. Протекает самая полноводная река мира – Амазонк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амая длиная горная цепь на суше – Анды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акой из океанов, омывающих Южную Америку, оказывает большее влияние на климат материка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6877080" y="5753160"/>
            <a:ext cx="18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18" name="Svoya_igra - 30 Sec.mp3" descr=""/>
          <p:cNvPicPr/>
          <p:nvPr/>
        </p:nvPicPr>
        <p:blipFill>
          <a:blip r:embed="rId2"/>
          <a:stretch/>
        </p:blipFill>
        <p:spPr>
          <a:xfrm>
            <a:off x="380880" y="62676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32523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твет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0788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тлантический, т.к. с востока у берегов Южной Америки проходит тёплое течение, а в рельефе преобладают равнины и плоскогорь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западе же сразу у побережья поднимается горная цепь Анд, а у берегов проходит холодное течени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Вопрос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Почему Южная Америка является самым влажным материком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6877080" y="571500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25" name="Svoya_igra - 30 Sec.mp3" descr=""/>
          <p:cNvPicPr/>
          <p:nvPr/>
        </p:nvPicPr>
        <p:blipFill>
          <a:blip r:embed="rId2"/>
          <a:stretch/>
        </p:blipFill>
        <p:spPr>
          <a:xfrm>
            <a:off x="7048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32523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твет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Южная Америка имеет особенно большие размеры на севере материка. Эта часть расположена в пределах экваториального и субэкваториального климатического поясов, которые получают большое количество осадков в течение года. Поэтому Южная Америка – самый влажный матери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AutoShape 5">
            <a:hlinkClick r:id="rId1" action="ppaction://hlinksldjump"/>
          </p:cNvPr>
          <p:cNvSpPr/>
          <p:nvPr/>
        </p:nvSpPr>
        <p:spPr>
          <a:xfrm>
            <a:off x="8178840" y="5873760"/>
            <a:ext cx="743040" cy="736560"/>
          </a:xfrm>
          <a:custGeom>
            <a:avLst/>
            <a:gdLst>
              <a:gd name="textAreaLeft" fmla="*/ 47520 w 743040"/>
              <a:gd name="textAreaRight" fmla="*/ 695520 w 743040"/>
              <a:gd name="textAreaTop" fmla="*/ 47520 h 736560"/>
              <a:gd name="textAreaBottom" fmla="*/ 689040 h 736560"/>
            </a:gdLst>
            <a:ahLst/>
            <a:rect l="textAreaLeft" t="textAreaTop" r="textAreaRight" b="textAreaBottom"/>
            <a:pathLst>
              <a:path w="21790" h="21600">
                <a:moveTo>
                  <a:pt x="0" y="0"/>
                </a:moveTo>
                <a:lnTo>
                  <a:pt x="21790" y="0"/>
                </a:lnTo>
                <a:lnTo>
                  <a:pt x="21790" y="21600"/>
                </a:lnTo>
                <a:lnTo>
                  <a:pt x="0" y="21600"/>
                </a:lnTo>
                <a:close/>
              </a:path>
              <a:path fill="lightenLess" w="21790" h="21600">
                <a:moveTo>
                  <a:pt x="0" y="0"/>
                </a:moveTo>
                <a:lnTo>
                  <a:pt x="21790" y="0"/>
                </a:lnTo>
                <a:lnTo>
                  <a:pt x="20390" y="1400"/>
                </a:lnTo>
                <a:lnTo>
                  <a:pt x="1400" y="1400"/>
                </a:lnTo>
                <a:close/>
              </a:path>
              <a:path fill="darken" w="21790" h="21600">
                <a:moveTo>
                  <a:pt x="21790" y="0"/>
                </a:moveTo>
                <a:lnTo>
                  <a:pt x="21790" y="21600"/>
                </a:lnTo>
                <a:lnTo>
                  <a:pt x="20390" y="20200"/>
                </a:lnTo>
                <a:lnTo>
                  <a:pt x="20390" y="1400"/>
                </a:lnTo>
                <a:close/>
              </a:path>
              <a:path fill="darkenLess" w="21790" h="21600">
                <a:moveTo>
                  <a:pt x="21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90" y="20200"/>
                </a:lnTo>
                <a:close/>
              </a:path>
              <a:path fill="lighten" w="21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90" h="21600">
                <a:moveTo>
                  <a:pt x="10895" y="3837"/>
                </a:moveTo>
                <a:lnTo>
                  <a:pt x="13471" y="6448"/>
                </a:lnTo>
                <a:lnTo>
                  <a:pt x="13471" y="4707"/>
                </a:lnTo>
                <a:lnTo>
                  <a:pt x="15247" y="4707"/>
                </a:lnTo>
                <a:lnTo>
                  <a:pt x="15247" y="8224"/>
                </a:lnTo>
                <a:lnTo>
                  <a:pt x="17858" y="10800"/>
                </a:lnTo>
                <a:lnTo>
                  <a:pt x="16204" y="10800"/>
                </a:lnTo>
                <a:lnTo>
                  <a:pt x="16204" y="17989"/>
                </a:lnTo>
                <a:lnTo>
                  <a:pt x="5586" y="17989"/>
                </a:lnTo>
                <a:lnTo>
                  <a:pt x="5586" y="10800"/>
                </a:lnTo>
                <a:lnTo>
                  <a:pt x="3932" y="10800"/>
                </a:lnTo>
                <a:close/>
              </a:path>
              <a:path fill="darkenLess" w="21790" h="21600">
                <a:moveTo>
                  <a:pt x="13471" y="6448"/>
                </a:moveTo>
                <a:lnTo>
                  <a:pt x="13471" y="4707"/>
                </a:lnTo>
                <a:lnTo>
                  <a:pt x="15247" y="4707"/>
                </a:lnTo>
                <a:lnTo>
                  <a:pt x="15247" y="8224"/>
                </a:lnTo>
                <a:close/>
              </a:path>
              <a:path fill="darkenLess" w="21790" h="21600">
                <a:moveTo>
                  <a:pt x="9972" y="14299"/>
                </a:moveTo>
                <a:lnTo>
                  <a:pt x="11818" y="14299"/>
                </a:lnTo>
                <a:lnTo>
                  <a:pt x="11818" y="17989"/>
                </a:lnTo>
                <a:lnTo>
                  <a:pt x="16204" y="17989"/>
                </a:lnTo>
                <a:lnTo>
                  <a:pt x="16204" y="10800"/>
                </a:lnTo>
                <a:lnTo>
                  <a:pt x="5586" y="10800"/>
                </a:lnTo>
                <a:lnTo>
                  <a:pt x="5586" y="17989"/>
                </a:lnTo>
                <a:lnTo>
                  <a:pt x="9972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Вопрос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ие природные зоны занимают большую площадь в Южной Америке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зовите представителей животного мира, характерного только для этого материк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6877080" y="571500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32" name="Svoya_igra - 30 Sec.mp3" descr=""/>
          <p:cNvPicPr/>
          <p:nvPr/>
        </p:nvPicPr>
        <p:blipFill>
          <a:blip r:embed="rId2"/>
          <a:stretch/>
        </p:blipFill>
        <p:spPr>
          <a:xfrm>
            <a:off x="704880" y="6058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32523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твет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Влажные экваториальные леса (сельва); саванны; степи (пампа); полупустыни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Анаконда (водяной удав), броненосцы, муравьеды, ламы, орлы-кондоры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954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то населяет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954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Южную Америку?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954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Почему национальный состав так разнообразен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6972480" y="5486400"/>
            <a:ext cx="18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39" name="Svoya_igra - 30 Sec.mp3" descr=""/>
          <p:cNvPicPr/>
          <p:nvPr/>
        </p:nvPicPr>
        <p:blipFill>
          <a:blip r:embed="rId2"/>
          <a:stretch/>
        </p:blipFill>
        <p:spPr>
          <a:xfrm>
            <a:off x="552600" y="62103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32523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41200" y="333360"/>
            <a:ext cx="89028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тв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1200" y="938160"/>
          <a:ext cx="8674200" cy="5230800"/>
        </p:xfrm>
        <a:graphic>
          <a:graphicData uri="http://schemas.openxmlformats.org/drawingml/2006/table">
            <a:tbl>
              <a:tblPr/>
              <a:tblGrid>
                <a:gridCol w="2890800"/>
                <a:gridCol w="2892600"/>
                <a:gridCol w="2890800"/>
              </a:tblGrid>
              <a:tr h="129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иродная зона</a:t>
                      </a:r>
                      <a:endParaRPr b="1" lang="en-US" sz="24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едставители растительного мира</a:t>
                      </a:r>
                      <a:endParaRPr b="1" lang="en-US" sz="24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едставители животного мира</a:t>
                      </a:r>
                      <a:endParaRPr b="1" lang="en-US" sz="24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лажные экваториальные леса</a:t>
                      </a:r>
                      <a:endParaRPr b="1" lang="en-US" sz="20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Фикусы, пальмы, бананы, лианы, древовидные папоротники</a:t>
                      </a:r>
                      <a:endParaRPr b="1" lang="en-US" sz="20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безьяны, карликовые бегемоты, окапи, леопарды</a:t>
                      </a:r>
                      <a:endParaRPr b="1" lang="en-US" sz="20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аванны и редколесья</a:t>
                      </a:r>
                      <a:endParaRPr b="1" lang="en-US" sz="20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аобабы, зонтичные акации, масличные пальмы, слоновья трава</a:t>
                      </a:r>
                      <a:endParaRPr b="1" lang="en-US" sz="20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лоны, бегемоты, носороги, львы, зебры, жирафы, антилопы, гепарды</a:t>
                      </a:r>
                      <a:endParaRPr b="1" lang="en-US" sz="20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ропические пустыни</a:t>
                      </a:r>
                      <a:endParaRPr b="1" lang="en-US" sz="20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олочай, алоэ, дикие арбузы, финиковая пальма (в оазисах)</a:t>
                      </a:r>
                      <a:endParaRPr b="1" lang="en-US" sz="20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ерблюды, гиены, шакалы, черепахи, ящерицы, змеи, скорпионы </a:t>
                      </a:r>
                      <a:endParaRPr b="1" lang="en-US" sz="2000" spc="-1" strike="noStrike">
                        <a:solidFill>
                          <a:srgbClr val="99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74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твет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79360" y="1333080"/>
            <a:ext cx="8661600" cy="46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ренные народы – индейцы. Большую долю составляют европейцы, в основном испанцы и португальцы. Для работы на плантациях в колониальный период европейцы завезли сюда негров из Африки. Сейчас заключается много смешанных браков, в результате которых появляются метисы, мулаты и самбо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На какие регионы делится  Европа? Приведите примеры стран из каждого регион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7093080" y="572148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46" name="Svoya_igra - 30 Sec.mp3" descr=""/>
          <p:cNvPicPr/>
          <p:nvPr/>
        </p:nvPicPr>
        <p:blipFill>
          <a:blip r:embed="rId1"/>
          <a:stretch/>
        </p:blipFill>
        <p:spPr>
          <a:xfrm>
            <a:off x="304920" y="62294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32523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ответ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Северная Европ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Западная Европ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осточная Европ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Южная Европ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AutoShape 5"/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 Black"/>
              </a:rPr>
              <a:t>ФИНА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Блиц-опрос «Самое, самое…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901800" y="2521080"/>
            <a:ext cx="71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гра «Третий лишний»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806400" y="347328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нкурс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«Догадайся!»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819000" y="4248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адание «Найдите соответствие»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800280" y="49719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нкурс «Вспомним всех поимённо…»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6" name="AutoShape 9"/>
          <p:cNvSpPr/>
          <p:nvPr/>
        </p:nvSpPr>
        <p:spPr>
          <a:xfrm>
            <a:off x="7238880" y="5905440"/>
            <a:ext cx="819360" cy="723960"/>
          </a:xfrm>
          <a:custGeom>
            <a:avLst/>
            <a:gdLst>
              <a:gd name="textAreaLeft" fmla="*/ 46800 w 819360"/>
              <a:gd name="textAreaRight" fmla="*/ 772560 w 819360"/>
              <a:gd name="textAreaTop" fmla="*/ 46800 h 723960"/>
              <a:gd name="textAreaBottom" fmla="*/ 677160 h 723960"/>
            </a:gdLst>
            <a:ahLst/>
            <a:rect l="textAreaLeft" t="textAreaTop" r="textAreaRight" b="textAreaBottom"/>
            <a:pathLst>
              <a:path w="24445" h="21600">
                <a:moveTo>
                  <a:pt x="0" y="0"/>
                </a:moveTo>
                <a:lnTo>
                  <a:pt x="24445" y="0"/>
                </a:lnTo>
                <a:lnTo>
                  <a:pt x="24445" y="21600"/>
                </a:lnTo>
                <a:lnTo>
                  <a:pt x="0" y="21600"/>
                </a:lnTo>
                <a:close/>
              </a:path>
              <a:path fill="lightenLess" w="24445" h="21600">
                <a:moveTo>
                  <a:pt x="0" y="0"/>
                </a:moveTo>
                <a:lnTo>
                  <a:pt x="24445" y="0"/>
                </a:lnTo>
                <a:lnTo>
                  <a:pt x="23045" y="1400"/>
                </a:lnTo>
                <a:lnTo>
                  <a:pt x="1400" y="1400"/>
                </a:lnTo>
                <a:close/>
              </a:path>
              <a:path fill="darken" w="24445" h="21600">
                <a:moveTo>
                  <a:pt x="24445" y="0"/>
                </a:moveTo>
                <a:lnTo>
                  <a:pt x="24445" y="21600"/>
                </a:lnTo>
                <a:lnTo>
                  <a:pt x="23045" y="20200"/>
                </a:lnTo>
                <a:lnTo>
                  <a:pt x="23045" y="1400"/>
                </a:lnTo>
                <a:close/>
              </a:path>
              <a:path fill="darkenLess" w="24445" h="21600">
                <a:moveTo>
                  <a:pt x="24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45" y="20200"/>
                </a:lnTo>
                <a:close/>
              </a:path>
              <a:path fill="lighten" w="24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45" h="21600">
                <a:moveTo>
                  <a:pt x="5216" y="3794"/>
                </a:moveTo>
                <a:lnTo>
                  <a:pt x="19229" y="10800"/>
                </a:lnTo>
                <a:lnTo>
                  <a:pt x="521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57" name="Begin Round.mp3" descr=""/>
          <p:cNvPicPr/>
          <p:nvPr/>
        </p:nvPicPr>
        <p:blipFill>
          <a:blip r:embed="rId1"/>
          <a:stretch/>
        </p:blipFill>
        <p:spPr>
          <a:xfrm>
            <a:off x="6419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6179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4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Bookman Old Style"/>
              </a:rPr>
              <a:t>Вопрос 1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 (10 баллов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90440" y="1168200"/>
            <a:ext cx="876312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амый маленький материк?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6600"/>
                </a:solidFill>
                <a:latin typeface="Verdana"/>
              </a:rPr>
              <a:t>(АВСТРАЛИЯ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амое глубокое место в Мировом океан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6600"/>
                </a:solidFill>
                <a:latin typeface="Verdana"/>
              </a:rPr>
              <a:t>(МАРИАНСКАЯ ВПАДИНА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амый большой остров Земли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6600"/>
                </a:solidFill>
                <a:latin typeface="Verdana"/>
              </a:rPr>
              <a:t>(ГРЕНЛАНДИЯ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амая сухая пустыня мира?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6600"/>
                </a:solidFill>
                <a:latin typeface="Verdana"/>
              </a:rPr>
              <a:t>(АТАКАМА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амая полноводная река мира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2400" spc="-1" strike="noStrike">
                <a:solidFill>
                  <a:srgbClr val="ff6600"/>
                </a:solidFill>
                <a:latin typeface="Verdana"/>
              </a:rPr>
              <a:t>(АМАЗОНКА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амое глубокое озеро мира?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6600"/>
                </a:solidFill>
                <a:latin typeface="Verdana"/>
              </a:rPr>
              <a:t>(БАЙКАЛ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амый высокий водопад?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6600"/>
                </a:solidFill>
                <a:latin typeface="Verdana"/>
              </a:rPr>
              <a:t>(АНХЕЛЬ)</a:t>
            </a:r>
            <a:r>
              <a:rPr b="1" lang="ru-RU" sz="24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7658280" y="577224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61" name="Svoya_igra - 30 Sec.mp3" descr=""/>
          <p:cNvPicPr/>
          <p:nvPr/>
        </p:nvPicPr>
        <p:blipFill>
          <a:blip r:embed="rId1"/>
          <a:stretch/>
        </p:blipFill>
        <p:spPr>
          <a:xfrm>
            <a:off x="51444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11"/>
          <p:cNvSpPr/>
          <p:nvPr/>
        </p:nvSpPr>
        <p:spPr>
          <a:xfrm rot="5400000">
            <a:off x="6609960" y="5734080"/>
            <a:ext cx="876600" cy="895320"/>
          </a:xfrm>
          <a:custGeom>
            <a:avLst/>
            <a:gdLst>
              <a:gd name="textAreaLeft" fmla="*/ 56520 w 876600"/>
              <a:gd name="textAreaRight" fmla="*/ 820080 w 876600"/>
              <a:gd name="textAreaTop" fmla="*/ 56520 h 895320"/>
              <a:gd name="textAreaBottom" fmla="*/ 838800 h 895320"/>
            </a:gdLst>
            <a:ahLst/>
            <a:rect l="textAreaLeft" t="textAreaTop" r="textAreaRight" b="textAreaBottom"/>
            <a:pathLst>
              <a:path w="21600" h="22061">
                <a:moveTo>
                  <a:pt x="0" y="0"/>
                </a:moveTo>
                <a:lnTo>
                  <a:pt x="21600" y="0"/>
                </a:lnTo>
                <a:lnTo>
                  <a:pt x="21600" y="22061"/>
                </a:lnTo>
                <a:lnTo>
                  <a:pt x="0" y="22061"/>
                </a:lnTo>
                <a:close/>
              </a:path>
              <a:path fill="lightenLess" w="21600" h="220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61">
                <a:moveTo>
                  <a:pt x="21600" y="0"/>
                </a:moveTo>
                <a:lnTo>
                  <a:pt x="21600" y="22061"/>
                </a:lnTo>
                <a:lnTo>
                  <a:pt x="20200" y="20661"/>
                </a:lnTo>
                <a:lnTo>
                  <a:pt x="20200" y="1400"/>
                </a:lnTo>
                <a:close/>
              </a:path>
              <a:path fill="darkenLess" w="21600" h="22061">
                <a:moveTo>
                  <a:pt x="21600" y="22061"/>
                </a:moveTo>
                <a:lnTo>
                  <a:pt x="0" y="22061"/>
                </a:lnTo>
                <a:lnTo>
                  <a:pt x="1400" y="20661"/>
                </a:lnTo>
                <a:lnTo>
                  <a:pt x="20200" y="20661"/>
                </a:lnTo>
                <a:close/>
              </a:path>
              <a:path fill="lighten" w="21600" h="22061">
                <a:moveTo>
                  <a:pt x="0" y="220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61"/>
                </a:lnTo>
                <a:close/>
              </a:path>
              <a:path fill="darken" w="21600" h="22061">
                <a:moveTo>
                  <a:pt x="3794" y="11031"/>
                </a:moveTo>
                <a:lnTo>
                  <a:pt x="17806" y="4024"/>
                </a:lnTo>
                <a:lnTo>
                  <a:pt x="17806" y="1803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32523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 fill="hold"/>
                                        <p:tgtEl>
                                          <p:spTgt spid="3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3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3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опрос 2  (10 баллов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адагаскар, Ява, Сомал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800" spc="-1" strike="noStrike">
                <a:solidFill>
                  <a:srgbClr val="ff6600"/>
                </a:solidFill>
                <a:latin typeface="Verdana"/>
              </a:rPr>
              <a:t>Сомал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льпы, Сахара, Анд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800" spc="-1" strike="noStrike">
                <a:solidFill>
                  <a:srgbClr val="ff6600"/>
                </a:solidFill>
                <a:latin typeface="Verdana"/>
              </a:rPr>
              <a:t>Саха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а-Манш, Берингов, Суэцк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800" spc="-1" strike="noStrike">
                <a:solidFill>
                  <a:srgbClr val="ff6600"/>
                </a:solidFill>
                <a:latin typeface="Verdana"/>
              </a:rPr>
              <a:t>Суэц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Балхаш, Дунай, Нил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800" spc="-1" strike="noStrike">
                <a:solidFill>
                  <a:srgbClr val="ff6600"/>
                </a:solidFill>
                <a:latin typeface="Verdana"/>
              </a:rPr>
              <a:t>Балха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Франция, Италия, Егип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800" spc="-1" strike="noStrike">
                <a:solidFill>
                  <a:srgbClr val="ff6600"/>
                </a:solidFill>
                <a:latin typeface="Verdana"/>
              </a:rPr>
              <a:t>Егип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AutoShape 6"/>
          <p:cNvSpPr/>
          <p:nvPr/>
        </p:nvSpPr>
        <p:spPr>
          <a:xfrm>
            <a:off x="7658280" y="577224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66" name="Begin Round.mp3" descr=""/>
          <p:cNvPicPr/>
          <p:nvPr/>
        </p:nvPicPr>
        <p:blipFill>
          <a:blip r:embed="rId1"/>
          <a:stretch/>
        </p:blipFill>
        <p:spPr>
          <a:xfrm>
            <a:off x="514440" y="61340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9"/>
          <p:cNvSpPr/>
          <p:nvPr/>
        </p:nvSpPr>
        <p:spPr>
          <a:xfrm rot="5400000">
            <a:off x="6609960" y="5734080"/>
            <a:ext cx="876600" cy="895320"/>
          </a:xfrm>
          <a:custGeom>
            <a:avLst/>
            <a:gdLst>
              <a:gd name="textAreaLeft" fmla="*/ 56520 w 876600"/>
              <a:gd name="textAreaRight" fmla="*/ 820080 w 876600"/>
              <a:gd name="textAreaTop" fmla="*/ 56520 h 895320"/>
              <a:gd name="textAreaBottom" fmla="*/ 838800 h 895320"/>
            </a:gdLst>
            <a:ahLst/>
            <a:rect l="textAreaLeft" t="textAreaTop" r="textAreaRight" b="textAreaBottom"/>
            <a:pathLst>
              <a:path w="21600" h="22061">
                <a:moveTo>
                  <a:pt x="0" y="0"/>
                </a:moveTo>
                <a:lnTo>
                  <a:pt x="21600" y="0"/>
                </a:lnTo>
                <a:lnTo>
                  <a:pt x="21600" y="22061"/>
                </a:lnTo>
                <a:lnTo>
                  <a:pt x="0" y="22061"/>
                </a:lnTo>
                <a:close/>
              </a:path>
              <a:path fill="lightenLess" w="21600" h="220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61">
                <a:moveTo>
                  <a:pt x="21600" y="0"/>
                </a:moveTo>
                <a:lnTo>
                  <a:pt x="21600" y="22061"/>
                </a:lnTo>
                <a:lnTo>
                  <a:pt x="20200" y="20661"/>
                </a:lnTo>
                <a:lnTo>
                  <a:pt x="20200" y="1400"/>
                </a:lnTo>
                <a:close/>
              </a:path>
              <a:path fill="darkenLess" w="21600" h="22061">
                <a:moveTo>
                  <a:pt x="21600" y="22061"/>
                </a:moveTo>
                <a:lnTo>
                  <a:pt x="0" y="22061"/>
                </a:lnTo>
                <a:lnTo>
                  <a:pt x="1400" y="20661"/>
                </a:lnTo>
                <a:lnTo>
                  <a:pt x="20200" y="20661"/>
                </a:lnTo>
                <a:close/>
              </a:path>
              <a:path fill="lighten" w="21600" h="22061">
                <a:moveTo>
                  <a:pt x="0" y="220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61"/>
                </a:lnTo>
                <a:close/>
              </a:path>
              <a:path fill="darken" w="21600" h="22061">
                <a:moveTo>
                  <a:pt x="3794" y="11031"/>
                </a:moveTo>
                <a:lnTo>
                  <a:pt x="17806" y="4024"/>
                </a:lnTo>
                <a:lnTo>
                  <a:pt x="17806" y="1803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6179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9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9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9"/>
          <p:cNvSpPr/>
          <p:nvPr/>
        </p:nvSpPr>
        <p:spPr>
          <a:xfrm rot="5400000">
            <a:off x="7638840" y="6026040"/>
            <a:ext cx="584280" cy="730080"/>
          </a:xfrm>
          <a:custGeom>
            <a:avLst/>
            <a:gdLst>
              <a:gd name="textAreaLeft" fmla="*/ 37800 w 584280"/>
              <a:gd name="textAreaRight" fmla="*/ 546480 w 584280"/>
              <a:gd name="textAreaTop" fmla="*/ 37800 h 730080"/>
              <a:gd name="textAreaBottom" fmla="*/ 692280 h 730080"/>
            </a:gdLst>
            <a:ahLst/>
            <a:rect l="textAreaLeft" t="textAreaTop" r="textAreaRight" b="textAreaBottom"/>
            <a:pathLst>
              <a:path w="21600" h="26987">
                <a:moveTo>
                  <a:pt x="0" y="0"/>
                </a:moveTo>
                <a:lnTo>
                  <a:pt x="21600" y="0"/>
                </a:lnTo>
                <a:lnTo>
                  <a:pt x="21600" y="26987"/>
                </a:lnTo>
                <a:lnTo>
                  <a:pt x="0" y="26987"/>
                </a:lnTo>
                <a:close/>
              </a:path>
              <a:path fill="lightenLess" w="21600" h="269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7">
                <a:moveTo>
                  <a:pt x="21600" y="0"/>
                </a:moveTo>
                <a:lnTo>
                  <a:pt x="21600" y="26987"/>
                </a:lnTo>
                <a:lnTo>
                  <a:pt x="20200" y="25587"/>
                </a:lnTo>
                <a:lnTo>
                  <a:pt x="20200" y="1400"/>
                </a:lnTo>
                <a:close/>
              </a:path>
              <a:path fill="darkenLess" w="21600" h="26987">
                <a:moveTo>
                  <a:pt x="21600" y="26987"/>
                </a:moveTo>
                <a:lnTo>
                  <a:pt x="0" y="26987"/>
                </a:lnTo>
                <a:lnTo>
                  <a:pt x="1400" y="25587"/>
                </a:lnTo>
                <a:lnTo>
                  <a:pt x="20200" y="25587"/>
                </a:lnTo>
                <a:close/>
              </a:path>
              <a:path fill="lighten" w="21600" h="26987">
                <a:moveTo>
                  <a:pt x="0" y="269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7"/>
                </a:lnTo>
                <a:close/>
              </a:path>
              <a:path fill="darken" w="21600" h="26987">
                <a:moveTo>
                  <a:pt x="3794" y="13493"/>
                </a:moveTo>
                <a:lnTo>
                  <a:pt x="17806" y="6487"/>
                </a:lnTo>
                <a:lnTo>
                  <a:pt x="17806" y="205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опрос 3  (10 баллов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66760" y="1371600"/>
            <a:ext cx="86868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По описанию догадайтесь, о какой равнине мира идёт речь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стирается эта равнина с севера на юг и проходит через несколько природных зон, вплоть до пустынь. На ней находится Валдайская возвышенность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Verdana"/>
              </a:rPr>
              <a:t>Восточно-Европейская равни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AutoShape 6"/>
          <p:cNvSpPr/>
          <p:nvPr/>
        </p:nvSpPr>
        <p:spPr>
          <a:xfrm>
            <a:off x="8528040" y="6051600"/>
            <a:ext cx="615960" cy="628560"/>
          </a:xfrm>
          <a:custGeom>
            <a:avLst/>
            <a:gdLst>
              <a:gd name="textAreaLeft" fmla="*/ 39600 w 615960"/>
              <a:gd name="textAreaRight" fmla="*/ 576360 w 615960"/>
              <a:gd name="textAreaTop" fmla="*/ 39600 h 628560"/>
              <a:gd name="textAreaBottom" fmla="*/ 588960 h 628560"/>
            </a:gdLst>
            <a:ahLst/>
            <a:rect l="textAreaLeft" t="textAreaTop" r="textAreaRight" b="textAreaBottom"/>
            <a:pathLst>
              <a:path w="21600" h="22042">
                <a:moveTo>
                  <a:pt x="0" y="0"/>
                </a:moveTo>
                <a:lnTo>
                  <a:pt x="21600" y="0"/>
                </a:lnTo>
                <a:lnTo>
                  <a:pt x="21600" y="22042"/>
                </a:lnTo>
                <a:lnTo>
                  <a:pt x="0" y="22042"/>
                </a:lnTo>
                <a:close/>
              </a:path>
              <a:path fill="lightenLess" w="21600" h="22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2">
                <a:moveTo>
                  <a:pt x="21600" y="0"/>
                </a:moveTo>
                <a:lnTo>
                  <a:pt x="21600" y="22042"/>
                </a:lnTo>
                <a:lnTo>
                  <a:pt x="20200" y="20642"/>
                </a:lnTo>
                <a:lnTo>
                  <a:pt x="20200" y="1400"/>
                </a:lnTo>
                <a:close/>
              </a:path>
              <a:path fill="darkenLess" w="21600" h="22042">
                <a:moveTo>
                  <a:pt x="21600" y="22042"/>
                </a:moveTo>
                <a:lnTo>
                  <a:pt x="0" y="22042"/>
                </a:lnTo>
                <a:lnTo>
                  <a:pt x="1400" y="20642"/>
                </a:lnTo>
                <a:lnTo>
                  <a:pt x="20200" y="20642"/>
                </a:lnTo>
                <a:close/>
              </a:path>
              <a:path fill="lighten" w="21600" h="22042">
                <a:moveTo>
                  <a:pt x="0" y="22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2"/>
                </a:lnTo>
                <a:close/>
              </a:path>
              <a:path fill="darken" w="21600" h="22042">
                <a:moveTo>
                  <a:pt x="3794" y="4014"/>
                </a:moveTo>
                <a:lnTo>
                  <a:pt x="17806" y="11021"/>
                </a:lnTo>
                <a:lnTo>
                  <a:pt x="3794" y="1802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72" name="Своя Игра - Begin Round (1998-2000).mp3" descr=""/>
          <p:cNvPicPr/>
          <p:nvPr/>
        </p:nvPicPr>
        <p:blipFill>
          <a:blip r:embed="rId1"/>
          <a:stretch/>
        </p:blipFill>
        <p:spPr>
          <a:xfrm>
            <a:off x="291960" y="6203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8" dur="6165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опрос 4 (10 баллов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9440" y="1358640"/>
            <a:ext cx="80010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фрика                    –       Пами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встралия                –       Намиб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Южная Америка     –       Аппалач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нтарктида              –      Мурр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еверная Америка  –      влк.Эребу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Евразия                     -     Игуас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58720" y="4140360"/>
            <a:ext cx="8331120" cy="24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фрика                    –       Намиб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встралия                –       Мурр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Южная Америка     –       Игуас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нтарктида              –      влк.Эребу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еверная Америка  –      Аппалач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Евразия                     -     Пами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8464680" y="5975280"/>
            <a:ext cx="679320" cy="692280"/>
          </a:xfrm>
          <a:custGeom>
            <a:avLst/>
            <a:gdLst>
              <a:gd name="textAreaLeft" fmla="*/ 43920 w 679320"/>
              <a:gd name="textAreaRight" fmla="*/ 635400 w 679320"/>
              <a:gd name="textAreaTop" fmla="*/ 43920 h 692280"/>
              <a:gd name="textAreaBottom" fmla="*/ 648360 h 692280"/>
            </a:gdLst>
            <a:ahLst/>
            <a:rect l="textAreaLeft" t="textAreaTop" r="textAreaRight" b="textAreaBottom"/>
            <a:pathLst>
              <a:path w="21600" h="22012">
                <a:moveTo>
                  <a:pt x="0" y="0"/>
                </a:moveTo>
                <a:lnTo>
                  <a:pt x="21600" y="0"/>
                </a:lnTo>
                <a:lnTo>
                  <a:pt x="21600" y="22012"/>
                </a:lnTo>
                <a:lnTo>
                  <a:pt x="0" y="22012"/>
                </a:lnTo>
                <a:close/>
              </a:path>
              <a:path fill="lightenLess" w="21600" h="22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12">
                <a:moveTo>
                  <a:pt x="21600" y="0"/>
                </a:moveTo>
                <a:lnTo>
                  <a:pt x="21600" y="22012"/>
                </a:lnTo>
                <a:lnTo>
                  <a:pt x="20200" y="20612"/>
                </a:lnTo>
                <a:lnTo>
                  <a:pt x="20200" y="1400"/>
                </a:lnTo>
                <a:close/>
              </a:path>
              <a:path fill="darkenLess" w="21600" h="22012">
                <a:moveTo>
                  <a:pt x="21600" y="22012"/>
                </a:moveTo>
                <a:lnTo>
                  <a:pt x="0" y="22012"/>
                </a:lnTo>
                <a:lnTo>
                  <a:pt x="1400" y="20612"/>
                </a:lnTo>
                <a:lnTo>
                  <a:pt x="20200" y="20612"/>
                </a:lnTo>
                <a:close/>
              </a:path>
              <a:path fill="lighten" w="21600" h="22012">
                <a:moveTo>
                  <a:pt x="0" y="22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12"/>
                </a:lnTo>
                <a:close/>
              </a:path>
              <a:path fill="darken" w="21600" h="22012">
                <a:moveTo>
                  <a:pt x="3794" y="3999"/>
                </a:moveTo>
                <a:lnTo>
                  <a:pt x="17806" y="11006"/>
                </a:lnTo>
                <a:lnTo>
                  <a:pt x="3794" y="1801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77" name="Своя Игра - Begin Round (1998-2000).mp3" descr=""/>
          <p:cNvPicPr/>
          <p:nvPr/>
        </p:nvPicPr>
        <p:blipFill>
          <a:blip r:embed="rId1"/>
          <a:stretch/>
        </p:blipFill>
        <p:spPr>
          <a:xfrm>
            <a:off x="285840" y="61149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78" name="AutoShape 9"/>
          <p:cNvSpPr/>
          <p:nvPr/>
        </p:nvSpPr>
        <p:spPr>
          <a:xfrm rot="5400000">
            <a:off x="7587720" y="5962320"/>
            <a:ext cx="635040" cy="730440"/>
          </a:xfrm>
          <a:custGeom>
            <a:avLst/>
            <a:gdLst>
              <a:gd name="textAreaLeft" fmla="*/ 41040 w 635040"/>
              <a:gd name="textAreaRight" fmla="*/ 594000 w 635040"/>
              <a:gd name="textAreaTop" fmla="*/ 41040 h 730440"/>
              <a:gd name="textAreaBottom" fmla="*/ 689400 h 730440"/>
            </a:gdLst>
            <a:ahLst/>
            <a:rect l="textAreaLeft" t="textAreaTop" r="textAreaRight" b="textAreaBottom"/>
            <a:pathLst>
              <a:path w="21600" h="24843">
                <a:moveTo>
                  <a:pt x="0" y="0"/>
                </a:moveTo>
                <a:lnTo>
                  <a:pt x="21600" y="0"/>
                </a:lnTo>
                <a:lnTo>
                  <a:pt x="21600" y="24843"/>
                </a:lnTo>
                <a:lnTo>
                  <a:pt x="0" y="24843"/>
                </a:lnTo>
                <a:close/>
              </a:path>
              <a:path fill="lightenLess" w="21600" h="248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43">
                <a:moveTo>
                  <a:pt x="21600" y="0"/>
                </a:moveTo>
                <a:lnTo>
                  <a:pt x="21600" y="24843"/>
                </a:lnTo>
                <a:lnTo>
                  <a:pt x="20200" y="23443"/>
                </a:lnTo>
                <a:lnTo>
                  <a:pt x="20200" y="1400"/>
                </a:lnTo>
                <a:close/>
              </a:path>
              <a:path fill="darkenLess" w="21600" h="24843">
                <a:moveTo>
                  <a:pt x="21600" y="24843"/>
                </a:moveTo>
                <a:lnTo>
                  <a:pt x="0" y="24843"/>
                </a:lnTo>
                <a:lnTo>
                  <a:pt x="1400" y="23443"/>
                </a:lnTo>
                <a:lnTo>
                  <a:pt x="20200" y="23443"/>
                </a:lnTo>
                <a:close/>
              </a:path>
              <a:path fill="lighten" w="21600" h="24843">
                <a:moveTo>
                  <a:pt x="0" y="248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43"/>
                </a:lnTo>
                <a:close/>
              </a:path>
              <a:path fill="darken" w="21600" h="24843">
                <a:moveTo>
                  <a:pt x="3794" y="12422"/>
                </a:moveTo>
                <a:lnTo>
                  <a:pt x="17806" y="5415"/>
                </a:lnTo>
                <a:lnTo>
                  <a:pt x="17806" y="1942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6165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9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9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9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9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Вопрос 5  </a:t>
            </a:r>
            <a:br>
              <a:rPr sz="4000"/>
            </a:b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(по 1 баллу за правильный ответ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15640" y="1193760"/>
            <a:ext cx="8699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Verdana"/>
              </a:rPr>
              <a:t>Вспомните как можно больше географических объектов, носящих имена путешественников, первооткрывателей и других известных люд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Берингово море и пролив; мыс Челюскин; г.Хабаровск; пролив Дрейка; вдп.Виктория; вдп.Анхель; р.Маккензи; море Росса; о-в Тасмания; Америка; гос-во Колумбия и др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8344080" y="5924520"/>
            <a:ext cx="590400" cy="755640"/>
          </a:xfrm>
          <a:custGeom>
            <a:avLst/>
            <a:gdLst>
              <a:gd name="textAreaLeft" fmla="*/ 38160 w 590400"/>
              <a:gd name="textAreaRight" fmla="*/ 552240 w 590400"/>
              <a:gd name="textAreaTop" fmla="*/ 38160 h 755640"/>
              <a:gd name="textAreaBottom" fmla="*/ 717480 h 755640"/>
            </a:gdLst>
            <a:ahLst/>
            <a:rect l="textAreaLeft" t="textAreaTop" r="textAreaRight" b="textAreaBottom"/>
            <a:pathLst>
              <a:path w="21600" h="27642">
                <a:moveTo>
                  <a:pt x="0" y="0"/>
                </a:moveTo>
                <a:lnTo>
                  <a:pt x="21600" y="0"/>
                </a:lnTo>
                <a:lnTo>
                  <a:pt x="21600" y="27642"/>
                </a:lnTo>
                <a:lnTo>
                  <a:pt x="0" y="27642"/>
                </a:lnTo>
                <a:close/>
              </a:path>
              <a:path fill="lightenLess" w="21600" h="276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42">
                <a:moveTo>
                  <a:pt x="21600" y="0"/>
                </a:moveTo>
                <a:lnTo>
                  <a:pt x="21600" y="27642"/>
                </a:lnTo>
                <a:lnTo>
                  <a:pt x="20200" y="26242"/>
                </a:lnTo>
                <a:lnTo>
                  <a:pt x="20200" y="1400"/>
                </a:lnTo>
                <a:close/>
              </a:path>
              <a:path fill="darkenLess" w="21600" h="27642">
                <a:moveTo>
                  <a:pt x="21600" y="27642"/>
                </a:moveTo>
                <a:lnTo>
                  <a:pt x="0" y="27642"/>
                </a:lnTo>
                <a:lnTo>
                  <a:pt x="1400" y="26242"/>
                </a:lnTo>
                <a:lnTo>
                  <a:pt x="20200" y="26242"/>
                </a:lnTo>
                <a:close/>
              </a:path>
              <a:path fill="lighten" w="21600" h="27642">
                <a:moveTo>
                  <a:pt x="0" y="276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42"/>
                </a:lnTo>
                <a:close/>
              </a:path>
              <a:path fill="darken" w="21600" h="27642">
                <a:moveTo>
                  <a:pt x="3794" y="6814"/>
                </a:moveTo>
                <a:lnTo>
                  <a:pt x="17806" y="13821"/>
                </a:lnTo>
                <a:lnTo>
                  <a:pt x="3794" y="2082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82" name="Begin Round.mp3" descr=""/>
          <p:cNvPicPr/>
          <p:nvPr/>
        </p:nvPicPr>
        <p:blipFill>
          <a:blip r:embed="rId1"/>
          <a:stretch/>
        </p:blipFill>
        <p:spPr>
          <a:xfrm>
            <a:off x="609480" y="6210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9"/>
          <p:cNvSpPr/>
          <p:nvPr/>
        </p:nvSpPr>
        <p:spPr>
          <a:xfrm rot="5400000">
            <a:off x="7512120" y="6013440"/>
            <a:ext cx="736560" cy="628560"/>
          </a:xfrm>
          <a:custGeom>
            <a:avLst/>
            <a:gdLst>
              <a:gd name="textAreaLeft" fmla="*/ 40680 w 736560"/>
              <a:gd name="textAreaRight" fmla="*/ 695880 w 736560"/>
              <a:gd name="textAreaTop" fmla="*/ 40680 h 628560"/>
              <a:gd name="textAreaBottom" fmla="*/ 587880 h 628560"/>
            </a:gdLst>
            <a:ahLst/>
            <a:rect l="textAreaLeft" t="textAreaTop" r="textAreaRight" b="textAreaBottom"/>
            <a:pathLst>
              <a:path w="25309" h="21600">
                <a:moveTo>
                  <a:pt x="0" y="0"/>
                </a:moveTo>
                <a:lnTo>
                  <a:pt x="25309" y="0"/>
                </a:lnTo>
                <a:lnTo>
                  <a:pt x="25309" y="21600"/>
                </a:lnTo>
                <a:lnTo>
                  <a:pt x="0" y="21600"/>
                </a:lnTo>
                <a:close/>
              </a:path>
              <a:path fill="lightenLess" w="25309" h="21600">
                <a:moveTo>
                  <a:pt x="0" y="0"/>
                </a:moveTo>
                <a:lnTo>
                  <a:pt x="25309" y="0"/>
                </a:lnTo>
                <a:lnTo>
                  <a:pt x="23909" y="1400"/>
                </a:lnTo>
                <a:lnTo>
                  <a:pt x="1400" y="1400"/>
                </a:lnTo>
                <a:close/>
              </a:path>
              <a:path fill="darken" w="25309" h="21600">
                <a:moveTo>
                  <a:pt x="25309" y="0"/>
                </a:moveTo>
                <a:lnTo>
                  <a:pt x="25309" y="21600"/>
                </a:lnTo>
                <a:lnTo>
                  <a:pt x="23909" y="20200"/>
                </a:lnTo>
                <a:lnTo>
                  <a:pt x="23909" y="1400"/>
                </a:lnTo>
                <a:close/>
              </a:path>
              <a:path fill="darkenLess" w="25309" h="21600">
                <a:moveTo>
                  <a:pt x="25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09" y="20200"/>
                </a:lnTo>
                <a:close/>
              </a:path>
              <a:path fill="lighten" w="25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09" h="21600">
                <a:moveTo>
                  <a:pt x="5648" y="10800"/>
                </a:moveTo>
                <a:lnTo>
                  <a:pt x="19661" y="3794"/>
                </a:lnTo>
                <a:lnTo>
                  <a:pt x="19661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8" dur="6179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WordArt 7"/>
          <p:cNvSpPr txBox="1"/>
          <p:nvPr/>
        </p:nvSpPr>
        <p:spPr>
          <a:xfrm>
            <a:off x="677880" y="1933560"/>
            <a:ext cx="8061480" cy="27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ем спасибо!!!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5600" y="277920"/>
            <a:ext cx="7531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 Black"/>
              </a:rPr>
              <a:t>Игра оконч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6" name="Picture 5" descr="p79_comicbird"/>
          <p:cNvPicPr/>
          <p:nvPr/>
        </p:nvPicPr>
        <p:blipFill>
          <a:blip r:embed="rId1"/>
          <a:stretch/>
        </p:blipFill>
        <p:spPr>
          <a:xfrm>
            <a:off x="419040" y="458640"/>
            <a:ext cx="3987720" cy="2117880"/>
          </a:xfrm>
          <a:prstGeom prst="rect">
            <a:avLst/>
          </a:prstGeom>
          <a:ln w="0">
            <a:noFill/>
          </a:ln>
        </p:spPr>
      </p:pic>
      <p:pic>
        <p:nvPicPr>
          <p:cNvPr id="387" name="Своя Игра - Closing (1995-1998, Short).mp3" descr=""/>
          <p:cNvPicPr/>
          <p:nvPr/>
        </p:nvPicPr>
        <p:blipFill>
          <a:blip r:embed="rId2"/>
          <a:stretch/>
        </p:blipFill>
        <p:spPr>
          <a:xfrm>
            <a:off x="762120" y="6134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88" name="closing_94.mp3" descr=""/>
          <p:cNvPicPr/>
          <p:nvPr/>
        </p:nvPicPr>
        <p:blipFill>
          <a:blip r:embed="rId3"/>
          <a:stretch/>
        </p:blipFill>
        <p:spPr>
          <a:xfrm>
            <a:off x="1562040" y="6058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8" dur="33124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0" dur="69042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69042"/>
                            </p:stCondLst>
                            <p:childTnLst>
                              <p:par>
                                <p:cTn id="5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1.11111E-006 C -0.00903 0.09074 -0.01806 0.18148 0.00208 0.21944 C 0.02222 0.25741 0.08402 0.20278 0.12083 0.22778 C 0.15763 0.25278 0.17708 0.37037 0.22291 0.36944 C 0.26874 0.36852 0.34826 0.27778 0.39565 0.22222 C 0.44322 0.16666 0.45798 0.03842 0.50833 0.03611 C 0.55867 0.03379 0.65208 0.1787 0.69791 0.20833 C 0.74374 0.23796 0.79305 0.18796 0.78315 0.21389 C 0.7736 0.23981 0.71874 0.31342 0.63958 0.36389 C 0.56041 0.41435 0.35659 0.48148 0.30833 0.51666 C 0.26006 0.55185 0.30503 0.56342 0.34999 0.575 E">
                                      <p:cBhvr>
                                        <p:cTn id="583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250" autoRev="1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animClr clrSpc="rgb">
                                      <p:cBhvr>
                                        <p:cTn id="586" dur="250" autoRev="1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cc"/>
                                      </p:to>
                                    </p:animClr>
                                    <p:set>
                                      <p:cBhvr>
                                        <p:cTn id="587" dur="250" autoRev="1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279360"/>
            <a:ext cx="91440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Назовите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самую большую по площади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о населению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самую развитую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самую загадочную страну Африки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Назовите столицы этих стра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953400" y="596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77" name="Svoya_igra - 30 Sec.mp3" descr=""/>
          <p:cNvPicPr/>
          <p:nvPr/>
        </p:nvPicPr>
        <p:blipFill>
          <a:blip r:embed="rId2"/>
          <a:stretch/>
        </p:blipFill>
        <p:spPr>
          <a:xfrm>
            <a:off x="743040" y="62294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32523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560" y="259920"/>
            <a:ext cx="86230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тв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Судан – Хартум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Нигерия - Абудж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ЮАР – Претори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Египет – Каи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31280" y="404640"/>
            <a:ext cx="84330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Вопро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то населяет Африку?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ак размещено население на материке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6610320" y="577224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1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82" name="Svoya_igra - 30 Sec.mp3" descr=""/>
          <p:cNvPicPr/>
          <p:nvPr/>
        </p:nvPicPr>
        <p:blipFill>
          <a:blip r:embed="rId2"/>
          <a:stretch/>
        </p:blipFill>
        <p:spPr>
          <a:xfrm>
            <a:off x="609480" y="6114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32523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4:49:57Z</dcterms:created>
  <dc:creator>Сабинская средняя общеобразовательная</dc:creator>
  <dc:description/>
  <dc:language>en-US</dc:language>
  <cp:lastModifiedBy>Оксана Кревная</cp:lastModifiedBy>
  <dcterms:modified xsi:type="dcterms:W3CDTF">2018-01-24T19:28:24Z</dcterms:modified>
  <cp:revision>116</cp:revision>
  <dc:subject/>
  <dc:title> Мир информатики</dc:title>
</cp:coreProperties>
</file>