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BA4-D612-435D-966B-1AFB27C4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EFC-A26A-44B6-86D1-3513F8E9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B50F2-539D-4D8A-810C-79A7981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5EEF8-0E72-404B-A537-602B9677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0B029-732D-4FBE-A9B5-AD0DD51E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9782B-C139-457B-88EE-4905A36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5884F-1B11-47EC-A327-DE6EF69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FC9FF-878A-4791-B99D-75D9563F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1E223-F89A-4E3A-80EC-3B9AD2E3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5BEF2-F721-48A4-829C-147032A9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09772-C0BA-4D5C-AA55-286AE335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AA2C6-4BF4-422A-9937-F578C176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C68-C036-43A3-96B6-34B3594A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DB4AE-4706-4144-861C-FEB6CF9E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6C680-CCF4-40AA-B229-37919B90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7B1D7-C0C2-4156-BE1A-3BB58D81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DA5AE-FBB9-4A3C-B04E-A2419BA7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47B7B-92DE-4849-B450-257A5A98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DA0B8-5DB6-46BD-99F2-E492E310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D35B6-653A-488C-9FBC-CBE43135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59E16-DAB1-4F24-8FD0-24503BAB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2E70D-B1AC-4E9B-8890-2ECE05D8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1A4AD-D501-4D6A-BC8D-917EE06A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A83-99EF-49C9-8040-64BC2A86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68C88-3FD2-4F27-B983-9D6D4232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25084-0B7B-403E-A998-C8760AD5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112C8-C205-4D1C-B2F7-8BDD4ABB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6928D-7485-4945-8CF8-D6D91A98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CF0B2-2F3F-4EB5-9D36-1882DC4E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73230-1583-4354-B308-9725AA66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D505C-BC45-4071-9BC3-D95FEAAE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74B5D-4DCE-4847-95D3-CCA1B885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6E98B-9088-4191-A293-D8632804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9463C-5673-4F18-A5D7-0168EF88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1AC8-4DCA-4A10-A46B-B53B193F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AA746-C5F5-4018-A01C-4A654A9A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3D10B-F9B4-4F5A-AE7F-B42012B7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9772D-46EA-4A2A-A277-2CD93B54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FB655-ED68-4602-9B35-F7CD5A38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1B813-021D-4C19-9740-0780DC5E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9631D-7D36-42E1-9D9F-FC618D39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7F530-C72C-4DE4-9A1F-CDAA5356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74343-61AA-46F2-80D7-375D7A87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A0C7B-E624-44C9-B9C0-5DAD3DC2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1CBF7-7202-4356-8C75-0B60C058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DE3C-CC7F-4399-97D2-E4638335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7CA06-8BAC-485A-86B5-73E954B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10CA6-D71F-4F8A-ADB7-D791BED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E08AE-39DB-4020-827A-B840AB0F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19F96-D9EB-4BF8-88BB-D9216838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B3D90-2254-4F50-BDB9-D33068B4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1A95-12B2-4BF4-8A8B-7E6D8F5E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C23E-3D2F-4E79-9504-8A014965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0800-F0DD-4F32-84FD-CCE97508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B2A9-4FE0-42B9-94A8-0C81BF94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A377-B051-4AAE-BD15-F2C0EFB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14D-3BB7-4E02-9220-AEAEBC74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5BCB-1EAE-4848-92AF-C74C8C76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55D6-F589-4570-87B7-AC961098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34B1-A822-4F9A-AB66-052D927B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BC80-293F-4D9E-B7E1-F187A5D5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E919-F098-4655-B27C-88C7DC9D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11FD-9534-4523-B6B7-BF99C172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0F8E-8884-40C6-ACD2-5802AB6F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EA8F-08C3-48F8-81B5-DD0DA788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A897-BF0C-46E4-800E-DE382327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E462-0B94-4988-B498-ED39F1B3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C38-83C5-45F8-AFB4-8F6BA232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278E2-7C8A-42A4-B2C2-9BCB916B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4C55-BCC9-40B7-BD48-FC6F5B2E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5123-5805-4378-9903-64828C82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F345F-F225-4C83-869A-DBEEF81A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E5849-594C-4B36-AA1C-F452D040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F8169-22A5-4A2F-BE6A-4283AB41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F350-307D-4B92-94A0-9C03BB74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2CD40-8425-4D80-8CA8-5F14A651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90AD-EA9B-4C70-A67E-A2880A06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D6007-8793-4F20-94D0-55A7DDF4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99E-BC1F-4B64-83D7-106CD3B9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2E9A5-A8C3-4E5C-B2FB-37B0BC3C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149A-074A-4E16-91B0-C55D4D71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5B4E-D821-448A-BF91-086E7E54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A94C5-D9B1-484A-BB03-58994D74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804DC-9479-4FCF-9A66-4A96A2E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467D-EB36-4280-ABDC-CECC348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1BC6-9ED2-4B87-95C7-B318BB60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65F2A-5868-4E08-9B9D-62574378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D43EB-5625-4932-9E1E-1CE8FF24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03154-4DA4-418A-95C2-0A38E2DA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83C-6925-4966-BA28-FA3E1A11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0FF2-A109-46FA-A154-3DA804FE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BA41A-9DAC-4D3F-92A7-35AD430D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F5D4-6D97-499E-9114-B68B9BC5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D67C5-DD4D-4914-804C-746B4BBB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23F99-559E-406C-925A-A235A42F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C2DEC-22DD-4AA0-AA12-0857F43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566B-1D00-4CBF-8774-50FA631D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1454E-F84C-4306-9E6A-CFF848E7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40159-2AFC-43C2-8F54-71AA8465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B4A10-A08C-4EB5-873C-8C3F9B67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AF6-B1F0-4695-91E8-BB41DD2B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49056-20BF-4A46-9265-69F0D852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08BE1-42C6-4BCC-A293-D1D16BF8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F3AD7-D6C2-4DCE-91F0-331F2541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B33C5-9E81-4ACC-BD30-F7893883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DDA0-1394-4607-BFB0-44120AF5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4F803-5C31-4AC6-A529-32D8035E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BC1D7-5F3C-4626-8671-995A0625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F7CFB-DA3A-4896-B47D-0E3ABA83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E299A-F186-4B57-9705-511403D3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49304-B4EE-4E5C-A7D8-97BF63F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3DE-2BAB-40EA-9337-908348B6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1A2B0-3913-42BD-8D0B-9F5EA8C8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4A7AE-6815-4D95-ADD1-36F4BFA3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A1719-34CB-4F13-B3C4-8ED00233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76882-C965-4188-9240-B3D84ACB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AA20F-A0BE-41D7-9BC1-F8D96A9C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0F480-6CCB-4EE1-B9D7-C5586334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03AC8-CA9F-49F9-9ABB-4D8208CA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58364-944C-4A95-ACE5-A0A5DFF5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3F5D6-7860-4BC5-BC7C-AA762F09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3A1C4-EF48-4D37-A65E-8B3693A4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A3B-A5AD-45C5-B6E2-323F26D2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293CB-0D41-4FCC-9EC1-DDB9946D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E62CE-E592-43C5-A694-1B27BEDE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DC66-182C-449F-8E8A-0B6C2AFB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951EE-2A0A-4A59-9F0A-79DDF2CA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76D5F-8691-4D39-8CEB-084C5B2A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67222-DD42-4A2A-9786-A1CCBE1F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8B518-AC27-4F5D-99E9-39C40772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7EA8E-E5CF-48B5-B296-31C4493F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61661-BBA5-4BFB-BBC3-D388D2FD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9966E-C4F9-460F-B69A-FEE7B852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FC5-527F-4408-AED0-1B230199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31CF0-8E74-45F2-AFEA-C6124D66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DF00C-A4E1-4F57-8D8A-7D85BB72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C9AE0-3DCE-44E6-8CF3-F5A7B778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2BD4C-9A49-4A5F-9728-BB6884F7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3A00D-83C8-4D0D-B329-AEDE03E3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BD912-83CC-49D5-A0CA-B4035391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87AFD-E2FF-4B17-9010-66C695F7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6F9BA-5C9B-4A2B-AB2A-7BFCCD9A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2D679-DD1B-49AB-8698-7FF25991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EFDB5-3515-4C9E-805C-2F1F5E1E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A64EFA-3DB1-466E-9067-9C9264FA93A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D691AC-3D7B-48B9-948F-BA8200C64D5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DA81FB-36B6-42B2-A281-06D3D72ABF9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767DD5-9FB0-4841-B1F5-F13F2B9A006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19C3B5-676A-4752-8EBA-2A908F43EDC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1464E0-7D44-4AD5-AE4A-AC86FED1DD3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93E0F4-4E0C-42B9-BD9C-1227B034720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CC9312-FB93-4258-933D-1E0E15E4D69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25EBF9-4CAA-4E2F-965F-C96F4C0FBD6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1D46D5-DF1D-402A-83A4-1F1DB402113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1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BA82D6-5229-4EBB-9460-4356F20291E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C140CE-F33C-45E3-9F16-5ACD984FFFF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10" descr=""/>
          <p:cNvPicPr/>
          <p:nvPr/>
        </p:nvPicPr>
        <p:blipFill>
          <a:blip r:embed="rId1"/>
          <a:stretch/>
        </p:blipFill>
        <p:spPr>
          <a:xfrm>
            <a:off x="3017880" y="755640"/>
            <a:ext cx="5218200" cy="41814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56760" y="4500360"/>
            <a:ext cx="771516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24d1d"/>
                </a:solidFill>
                <a:latin typeface="Georgia"/>
              </a:rPr>
              <a:t>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24d1d"/>
                </a:solidFill>
                <a:latin typeface="Georgia"/>
              </a:rPr>
              <a:t>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24d1d"/>
                </a:solidFill>
                <a:latin typeface="Georgia"/>
              </a:rPr>
              <a:t>Гайворонской Светланы Николаевны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0" name="Picture 5" descr="C:\Users\вячеслав\Desktop\на мой сайт\Рисунок1.jpg"/>
          <p:cNvPicPr/>
          <p:nvPr/>
        </p:nvPicPr>
        <p:blipFill>
          <a:blip r:embed="rId2"/>
          <a:stretch/>
        </p:blipFill>
        <p:spPr>
          <a:xfrm>
            <a:off x="214200" y="214200"/>
            <a:ext cx="2786040" cy="379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Rectangle 1" descr=""/>
          <p:cNvPicPr/>
          <p:nvPr/>
        </p:nvPicPr>
        <p:blipFill>
          <a:blip r:embed="rId1"/>
          <a:stretch/>
        </p:blipFill>
        <p:spPr>
          <a:xfrm>
            <a:off x="133200" y="208080"/>
            <a:ext cx="8224920" cy="101124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642960" y="1714680"/>
            <a:ext cx="75009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 с использованием сказочного геро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-соревновани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-путешестви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-сказк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-игр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 КВН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4357800" y="4060800"/>
            <a:ext cx="3786120" cy="279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Заголовок 3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7869240" cy="12319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713880" y="1785600"/>
            <a:ext cx="73580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одготовка учащихся к усвоению новых знаний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своение новых знаний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закрепление новых знаний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контроль знаний учащихся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одведение итогов урока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3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домашнее задание.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3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7966080" cy="10112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428760" y="1643040"/>
            <a:ext cx="7643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овышается мотивация к изучению  предмета;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активизируется познавательная  деятельность;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</a:t>
            </a:r>
            <a:r>
              <a:rPr b="0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овышается качество успеваемости школьников;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развивается наглядно-образное мышление;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развиваются  навыки самообразования и самоконтроля у младших школьников;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овышается активность и инициативность младших школьников на уроке;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5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овышается уровень комфортности обучения;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24d1d"/>
                </a:solidFill>
                <a:latin typeface="Trebuchet MS"/>
              </a:rPr>
              <a:t>►</a:t>
            </a:r>
            <a:r>
              <a:rPr b="0" lang="ru-RU" sz="24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олностью  реализуется принцип наглядности обучения младших школьник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0" lang="ru-RU" sz="24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озволяет дифференцировать и индивидуализировать работу учащих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377560" cy="10861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285480" y="142884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1. Создание банка презентаций по предметам. </a:t>
            </a:r>
            <a:br>
              <a:rPr sz="2200"/>
            </a:br>
            <a:r>
              <a:rPr b="1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. Работа с Интернет ресурсами.</a:t>
            </a:r>
            <a:br>
              <a:rPr sz="2200"/>
            </a:br>
            <a:r>
              <a:rPr b="1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3. Использование готовых обучающих программ.</a:t>
            </a:r>
            <a:br>
              <a:rPr sz="2200"/>
            </a:br>
            <a:r>
              <a:rPr b="1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4. Разработка и использование  рабочих программ по предметам и внеурочной деятельности. </a:t>
            </a:r>
            <a:br>
              <a:rPr sz="2200"/>
            </a:br>
            <a:r>
              <a:rPr b="1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5. Создание  дидактических материалов (задания, таблицы, памятки, схемы, чертежи, демонстрационные таблицы).</a:t>
            </a:r>
            <a:br>
              <a:rPr sz="2200"/>
            </a:br>
            <a:r>
              <a:rPr b="1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6. Создание мониторингов по отслеживанию результатов обучения и воспитания.</a:t>
            </a:r>
            <a:br>
              <a:rPr sz="2200"/>
            </a:br>
            <a:r>
              <a:rPr b="1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7. Создание текстовых работ.</a:t>
            </a:r>
            <a:br>
              <a:rPr sz="2200"/>
            </a:br>
            <a:r>
              <a:rPr b="1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8.  Обобщение методического опыта в электронном виде. </a:t>
            </a:r>
            <a:br>
              <a:rPr sz="2200"/>
            </a:br>
            <a:r>
              <a:rPr b="1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9.Создание банка  современных педагогических технологи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10. Разработка сценариев уроков  и внеклассных мероприятий с применением информационных технологи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3000"/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*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Rectangle 2" descr=""/>
          <p:cNvPicPr/>
          <p:nvPr/>
        </p:nvPicPr>
        <p:blipFill>
          <a:blip r:embed="rId1"/>
          <a:stretch/>
        </p:blipFill>
        <p:spPr>
          <a:xfrm>
            <a:off x="133200" y="208080"/>
            <a:ext cx="7944120" cy="12967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642600" y="1571760"/>
            <a:ext cx="742932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4d1d"/>
                </a:solidFill>
                <a:latin typeface="Trebuchet MS"/>
              </a:rPr>
              <a:t>►</a:t>
            </a:r>
            <a:r>
              <a:rPr b="1" lang="ru-RU" sz="3200" spc="-1" strike="noStrike">
                <a:solidFill>
                  <a:srgbClr val="b24d1d"/>
                </a:solidFill>
                <a:latin typeface="Trebuchet MS"/>
              </a:rPr>
              <a:t>Открытые уро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4d1d"/>
                </a:solidFill>
                <a:latin typeface="Trebuchet MS"/>
              </a:rPr>
              <a:t>►</a:t>
            </a:r>
            <a:r>
              <a:rPr b="1" lang="ru-RU" sz="3200" spc="-1" strike="noStrike">
                <a:solidFill>
                  <a:srgbClr val="b24d1d"/>
                </a:solidFill>
                <a:latin typeface="Trebuchet MS"/>
              </a:rPr>
              <a:t>Мастер-классы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4d1d"/>
                </a:solidFill>
                <a:latin typeface="Trebuchet MS"/>
              </a:rPr>
              <a:t>►</a:t>
            </a:r>
            <a:r>
              <a:rPr b="1" lang="ru-RU" sz="3200" spc="-1" strike="noStrike">
                <a:solidFill>
                  <a:srgbClr val="b24d1d"/>
                </a:solidFill>
                <a:latin typeface="Trebuchet MS"/>
              </a:rPr>
              <a:t>Выступление на заседаниях ШМО,                  педагогических совета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4d1d"/>
                </a:solidFill>
                <a:latin typeface="Trebuchet MS"/>
              </a:rPr>
              <a:t>►</a:t>
            </a:r>
            <a:r>
              <a:rPr b="1" lang="ru-RU" sz="3200" spc="-1" strike="noStrike">
                <a:solidFill>
                  <a:srgbClr val="b24d1d"/>
                </a:solidFill>
                <a:latin typeface="Trebuchet MS"/>
              </a:rPr>
              <a:t>Творческие отчёты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4d1d"/>
                </a:solidFill>
                <a:latin typeface="Trebuchet MS"/>
              </a:rPr>
              <a:t>►</a:t>
            </a:r>
            <a:r>
              <a:rPr b="1" lang="ru-RU" sz="3200" spc="-1" strike="noStrike">
                <a:solidFill>
                  <a:srgbClr val="b24d1d"/>
                </a:solidFill>
                <a:latin typeface="Trebuchet MS"/>
              </a:rPr>
              <a:t>Публикация в СМИ и Интернет сайтах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Заголовок 3" descr=""/>
          <p:cNvPicPr/>
          <p:nvPr/>
        </p:nvPicPr>
        <p:blipFill>
          <a:blip r:embed="rId1"/>
          <a:stretch/>
        </p:blipFill>
        <p:spPr>
          <a:xfrm>
            <a:off x="274680" y="285840"/>
            <a:ext cx="7607160" cy="11826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213840" y="1609560"/>
            <a:ext cx="80010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4 год Школьный этап конкурса « Современный урок – современным детям».  Окружающий мир 1 класс. Урок – путешествие  на тему «Где живут белые медведи?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4 год Открытый классный час на тему  «Откуда в наш дом пришло электричество?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5 год Открытый классный час «Планета толерантности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6 год Открытый урок. Окружающий мир 3 класс. Урок на тему «В царстве грибов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7 год Экологический праздник «Наш дом – планета Земля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Заголовок 1" descr=""/>
          <p:cNvPicPr/>
          <p:nvPr/>
        </p:nvPicPr>
        <p:blipFill>
          <a:blip r:embed="rId1"/>
          <a:stretch/>
        </p:blipFill>
        <p:spPr>
          <a:xfrm>
            <a:off x="390600" y="249120"/>
            <a:ext cx="7894440" cy="9702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 txBox="1"/>
          <p:nvPr/>
        </p:nvSpPr>
        <p:spPr>
          <a:xfrm>
            <a:off x="285840" y="928440"/>
            <a:ext cx="7929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4 год  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Рабочие программы для 4 класса УМК «Школа России».  Сайт МБОУ Колодезянская СОШ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http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/66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.86315.3535.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5 г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од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Создание персонального сайта. Социальная сеть работников образования  «Нспортал»  сертификат  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nsportal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5 г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од  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 окружающего мира на тему «Где живут белые медведи?»  Социальная сеть работников образования «Нспортал»  свидетельство  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http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//nsportal.ru/node/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184084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5 год 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 окружающего мира на тему «Дикие и домашние животные». Социальная сеть работников образования «Нспортал» свидетельство  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http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//nsportal.ru/node/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184085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7 год  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Рабочие программы для 3 класса УМК «Школа России»  Социальная сеть работников образования «Нспортал»  свидетельство  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http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//nsportal.ru/node/263704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7 год 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Экологический праздник «Наш дом – планета Земля» 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http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//nsportal.ru/node/291075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017 год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Рабочие программы по предметам в 4 классе УМК «Школа России»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http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//nsportal.ru/node/291084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3" descr=""/>
          <p:cNvPicPr/>
          <p:nvPr/>
        </p:nvPicPr>
        <p:blipFill>
          <a:blip r:embed="rId1"/>
          <a:stretch/>
        </p:blipFill>
        <p:spPr>
          <a:xfrm>
            <a:off x="73080" y="133200"/>
            <a:ext cx="8163000" cy="14464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571320" y="1785600"/>
            <a:ext cx="8001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управлять учебным процессом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создавать и редактировать электронные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таблицы, тексты и презентации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создавать и редактировать интерактивные учебные материалы, творческие работы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размещать, систематизировать и хранить материалы учебного процесса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проводить мониторинг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использовать различные виды и формы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контроля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осуществлять взаимодействие между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b24d1d"/>
                </a:solidFill>
                <a:latin typeface="Trebuchet MS"/>
              </a:rPr>
              <a:t>участниками учебного процесс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Rectangle 1" descr=""/>
          <p:cNvPicPr/>
          <p:nvPr/>
        </p:nvPicPr>
        <p:blipFill>
          <a:blip r:embed="rId1"/>
          <a:stretch/>
        </p:blipFill>
        <p:spPr>
          <a:xfrm>
            <a:off x="30240" y="208080"/>
            <a:ext cx="8358120" cy="29430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142920" y="3786120"/>
            <a:ext cx="814392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800" spc="-1" strike="noStrike">
                <a:solidFill>
                  <a:srgbClr val="b24d1d"/>
                </a:solidFill>
                <a:latin typeface="Georgia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овершенствование  навыка  владения информационными технологиями на уроках в начальной школ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Rectangle 1" descr=""/>
          <p:cNvPicPr/>
          <p:nvPr/>
        </p:nvPicPr>
        <p:blipFill>
          <a:blip r:embed="rId1"/>
          <a:stretch/>
        </p:blipFill>
        <p:spPr>
          <a:xfrm>
            <a:off x="328680" y="1494000"/>
            <a:ext cx="7907400" cy="50101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066320" y="285840"/>
            <a:ext cx="6255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3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7869240" cy="6397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142920" y="928800"/>
            <a:ext cx="79293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Обучающие.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Они сообщают знания, формируют навыки практической или учебной деятельности, обеспечивая требуемый уровень усвоения материала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2.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Тренажеры.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Предназначены для отработки различных умений, закрепления или повторения пройденного урока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правочные и информационно-поисковые.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Сообщают сведения по систематизации информаци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Демонстрационные.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Визуализируют изучаемые явления, процессы, объекты с целью их изучения и исследован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5.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Имитационные.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едставляют собой определенный аспект реальности, позволяющий изучать его функциональные и структурные характеристик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Лабораторные.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Позволяют проводить эксперименты на действующем оборудовании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Моделирующие.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Дают возможность составлять модель объекта, явления с целью его изучения и исследован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Расчетные.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Автоматизируют расчеты и разнообразные рутинные операци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9. </a:t>
            </a:r>
            <a:r>
              <a:rPr b="1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чебно-игровые. </a:t>
            </a:r>
            <a:r>
              <a:rPr b="0" lang="ru-RU" sz="1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едназначены для создания учебной ситуации, в которой деятельность обучаемых реализована в игровой форм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3" descr=""/>
          <p:cNvPicPr/>
          <p:nvPr/>
        </p:nvPicPr>
        <p:blipFill>
          <a:blip r:embed="rId1"/>
          <a:stretch/>
        </p:blipFill>
        <p:spPr>
          <a:xfrm>
            <a:off x="201600" y="133200"/>
            <a:ext cx="7875720" cy="873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499680" y="1357200"/>
            <a:ext cx="7715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0" lang="ru-RU" sz="2600" spc="-1" strike="noStrike">
                <a:solidFill>
                  <a:srgbClr val="b24d1d"/>
                </a:solidFill>
                <a:latin typeface="Trebuchet MS"/>
              </a:rPr>
              <a:t>средство связи с учащимис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0" lang="ru-RU" sz="2600" spc="-1" strike="noStrike">
                <a:solidFill>
                  <a:srgbClr val="b24d1d"/>
                </a:solidFill>
                <a:latin typeface="Trebuchet MS"/>
              </a:rPr>
              <a:t>информационная поддержка учебного процесс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0" lang="ru-RU" sz="2600" spc="-1" strike="noStrike">
                <a:solidFill>
                  <a:srgbClr val="b24d1d"/>
                </a:solidFill>
                <a:latin typeface="Trebuchet MS"/>
              </a:rPr>
              <a:t>публикация детских творческих работ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0" lang="ru-RU" sz="2600" spc="-1" strike="noStrike">
                <a:solidFill>
                  <a:srgbClr val="b24d1d"/>
                </a:solidFill>
                <a:latin typeface="Trebuchet MS"/>
              </a:rPr>
              <a:t>внеклассная работа по предметам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0" lang="ru-RU" sz="2600" spc="-1" strike="noStrike">
                <a:solidFill>
                  <a:srgbClr val="b24d1d"/>
                </a:solidFill>
                <a:latin typeface="Trebuchet MS"/>
              </a:rPr>
              <a:t>организация воспитательной работы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0" lang="ru-RU" sz="2600" spc="-1" strike="noStrike">
                <a:solidFill>
                  <a:srgbClr val="b24d1d"/>
                </a:solidFill>
                <a:latin typeface="Trebuchet MS"/>
              </a:rPr>
              <a:t>усиление интенсивности уро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0" lang="ru-RU" sz="2600" spc="-1" strike="noStrike">
                <a:solidFill>
                  <a:srgbClr val="b24d1d"/>
                </a:solidFill>
                <a:latin typeface="Trebuchet MS"/>
              </a:rPr>
              <a:t>повышение мотивации обучающихся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0" lang="ru-RU" sz="2600" spc="-1" strike="noStrike">
                <a:solidFill>
                  <a:srgbClr val="b24d1d"/>
                </a:solidFill>
                <a:latin typeface="Trebuchet MS"/>
              </a:rPr>
              <a:t>мониторинг достижений обучающихс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4d1d"/>
                </a:solidFill>
                <a:latin typeface="Trebuchet MS"/>
              </a:rPr>
              <a:t>►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b24d1d"/>
                </a:solidFill>
                <a:latin typeface="Trebuchet MS"/>
              </a:rPr>
              <a:t>средство связи с родителя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Заголовок 1" descr=""/>
          <p:cNvPicPr/>
          <p:nvPr/>
        </p:nvPicPr>
        <p:blipFill>
          <a:blip r:embed="rId1"/>
          <a:stretch/>
        </p:blipFill>
        <p:spPr>
          <a:xfrm>
            <a:off x="281160" y="-6480"/>
            <a:ext cx="7869240" cy="10130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21384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электронная обработка документов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использование готовых и собственных мультимедийных продуктов;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использование ресурсов Интернета для подготовки к урокам и для самообразования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использование ИКТ во внеурочное время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использование ИКТ в работе с родителями, на МО учителей начальных классов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офессиональные форумы, работа в сетевых профессиональных ассоциациях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использование Интернета для участия в дистанционных конкурсах, олимпиадах, вебинарах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0" lang="ru-RU" sz="2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дистанционное образование (курсы повышения квалификации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Заголовок 1" descr=""/>
          <p:cNvPicPr/>
          <p:nvPr/>
        </p:nvPicPr>
        <p:blipFill>
          <a:blip r:embed="rId1"/>
          <a:stretch/>
        </p:blipFill>
        <p:spPr>
          <a:xfrm>
            <a:off x="353880" y="103320"/>
            <a:ext cx="7723440" cy="1116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C:\Users\вячеслав\Desktop\видео уроки ГСН\кл. час 2 кл Планета толерантности 15г\IMG_7784.JPG"/>
          <p:cNvPicPr/>
          <p:nvPr/>
        </p:nvPicPr>
        <p:blipFill>
          <a:blip r:embed="rId2"/>
          <a:stretch/>
        </p:blipFill>
        <p:spPr>
          <a:xfrm>
            <a:off x="4572000" y="3714840"/>
            <a:ext cx="4311720" cy="2874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C:\Users\вячеслав\Desktop\видео уроки ГСН\орк мир 3 кл Дорожные знаки\IMG_2221.JPG"/>
          <p:cNvPicPr/>
          <p:nvPr/>
        </p:nvPicPr>
        <p:blipFill>
          <a:blip r:embed="rId3"/>
          <a:stretch/>
        </p:blipFill>
        <p:spPr>
          <a:xfrm>
            <a:off x="285840" y="3643200"/>
            <a:ext cx="3929040" cy="294660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6"/>
          <p:cNvSpPr/>
          <p:nvPr/>
        </p:nvSpPr>
        <p:spPr>
          <a:xfrm>
            <a:off x="357120" y="1285920"/>
            <a:ext cx="7500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интерактивная доск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ноутбук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медиапроекто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b24d1d"/>
                </a:solidFill>
                <a:latin typeface="Arial"/>
              </a:rPr>
              <a:t>►</a:t>
            </a:r>
            <a:r>
              <a:rPr b="1" lang="ru-RU" sz="32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музыкальные колонк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b24d1d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1116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499680" y="1643040"/>
            <a:ext cx="7643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b24d1d"/>
                </a:solidFill>
                <a:latin typeface="Trebuchet MS"/>
              </a:rPr>
              <a:t>► </a:t>
            </a: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 усвоения новых знан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 комплексного применения знаний и умений (урок закрепления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 актуализации знаний и умений (урок повторения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 систематизации и обобщения знаний и умен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 контроля знаний и умен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Урок коррекции знаний, умений и навык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► </a:t>
            </a:r>
            <a:r>
              <a:rPr b="1" lang="ru-RU" sz="28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Комбинированный уро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38:09Z</dcterms:created>
  <dc:creator>мои документы</dc:creator>
  <dc:description/>
  <dc:language>en-US</dc:language>
  <cp:lastModifiedBy>вячеслав</cp:lastModifiedBy>
  <dcterms:modified xsi:type="dcterms:W3CDTF">2018-01-28T12:47:40Z</dcterms:modified>
  <cp:revision>89</cp:revision>
  <dc:subject/>
  <dc:title>Слайд 1</dc:title>
</cp:coreProperties>
</file>