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1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23.gif" ContentType="image/gif"/>
  <Override PartName="/ppt/media/image16.png" ContentType="image/png"/>
  <Override PartName="/ppt/media/image15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15C-BDD9-467C-85B3-FBA66314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947-B2A8-4C30-A19A-F047DFC3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CAE-E253-465F-881F-62B549E0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4EF-A4C0-49D4-BEF7-D3D275E2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D46D-896F-4BA5-8339-EBE7BDEA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53D-0887-4021-A4C6-B2D271D7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E40E-5C88-4102-B8A9-39BF3A2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97AB-33CC-4B8B-8AB7-2DAEAD5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4049-C6A5-4EF6-9375-3889CCC6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906F-D179-4DF3-854F-804C3685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D4D-7CD2-4CB9-BB53-0880BB8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CB4-8B1D-44D8-8DDD-24CC5055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9982-2186-4F7E-ACFA-EBFCD6C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20D2-3BB5-4154-973E-A17220A8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187-2558-4177-B442-B9822DC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AE00-2BEF-4C72-AB01-23F83EC9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BBCC-F512-4FC0-B02E-D9A1732F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E3D9-EE04-4D32-BFE7-0D19E6A7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6C6C-7A2A-4937-9204-E19578D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FD73-7B9C-43E9-ABE1-BD35359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7EC6-D87D-4560-A9FA-8F1BD43A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F3D2-3267-4C4C-B455-DE867B6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63A-2454-440A-96FB-D4F08274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E7FC-44C9-4B97-879C-16A04DBC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8813-81DF-4B3D-BA16-4638933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41F5-1B77-45FF-AC02-0AAB44F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DED4-56DC-4E0F-8147-D39ABD1C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2577-021F-4F86-B6F0-568DB0E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B022-5C32-40FA-99FB-F249EE6C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7929-621E-4858-8231-58C16691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C8CF-26EA-4DFF-9959-72CBD09D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1F85-BA22-40D9-89B9-D1C09CAE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C3A6B-9FD7-4FFC-9B92-5A52A83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9CE-2980-4B68-8C03-6E58E9A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865B-8A0C-4A4A-AA8E-3D3823E4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3147-4E1F-4BC8-BB33-DC38D6A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6FA4-8455-46FB-9513-E88A1846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69BC-59C3-4BEE-853D-00768E8B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88BD-7706-4A1E-AEB0-C807B19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2122E-500C-4F7B-8C91-684F420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E162-01B9-42B1-A3C9-351780CE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0C36-0C23-464A-86BA-1FFB7EFA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2DC6-F934-4881-9DC5-EC80DF6D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5E4F3-8EA3-4C81-852D-9B3FAE1C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9DE-24F0-443B-B202-4B974D02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0C02-C167-4738-BFE1-7030883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44C3-CF7B-4FCF-AFD3-088C2452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56A0E-F678-400E-956A-41C68A0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684B-BA87-42F4-9DE3-D4878ACF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2A2C-3C48-4AC4-AE49-92EE9AB3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58846-52FF-472D-98CF-589896F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D83E7-33FD-49DD-ADF8-BA63716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030B-A677-4254-B91E-5632F832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1BDB-80A0-4119-A3CE-C5C6BEA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4830-86DE-47D6-A757-52388941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E92-BF88-4642-A698-C05A71BD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E15D-097B-4EBE-803B-39E03B6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3700-6EEC-4626-95B3-1E2DC889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CF5F-2A32-45B5-8510-753BDFAC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FA95F-73D2-4EE8-B0E1-3A235315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3A3F2-133F-4C3D-9562-D27AC61A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591C-EF96-46D7-A50B-048CE1F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7332-9FC9-4092-AF89-02FD4CC5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4B70B-5478-4F55-B752-983D1E6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FF3FD-2AA0-411C-9B69-4C24A57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F07D9-DB6C-4D1F-800A-F8BB9DD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354-6C82-4881-97AB-1DB273B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A345-2790-4FB2-BCC1-54861339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F298-C3B1-4FB1-948A-7DD69C71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5B3B-6C70-4190-BB53-809EE438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CDA7-8CBA-4226-B5AC-903C0B67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66F8-C4D9-4F3C-BBCC-5B725FE8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0954-2D4F-4325-99EB-DC04AE85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F999C-9EBF-4513-A59C-8B5F7A0F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47F8A-D327-4836-B85E-DE4355B6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9695-CE4A-4AAF-B7D4-83798AF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16BBF-2658-479C-B13B-8102936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D48-2214-4C53-AE79-DF34623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C235-A293-4FFE-99A0-7DEBF822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EF2B-EEC8-47C4-AA5B-DCB6A36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BA148-25C6-4BC1-9F12-9BEE8829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90709-2BDA-410C-A847-B0B263F2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243F7-EC66-414F-9851-BE73524F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1FDA-6EF1-4896-ACE1-DE973496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116E2-B84C-44FA-9490-CEB277CB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9729-D6DB-44D1-92E2-1639215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C1999-332D-46F4-B172-B63311DD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4B56A-DBF8-4043-A9A0-B0F57BB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794-F706-41DE-AA93-D0C81203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A1B6A-D218-401A-9D3C-DE726337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92851-00D5-4623-8206-0EF7005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195C-E8E0-4E01-A8CD-8A6BF1EC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D7A63-B40F-4F3E-94C5-C2E0AC2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04C6-46CD-4261-A28E-8D44338B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90B85-2449-4DF7-B127-D2BBB1DF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D57B-07C5-41E0-9128-BD959249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476C-A000-42BB-BF54-382D38ECC0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3CE-2186-4AF0-B03B-5763700C051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DA5D-673D-4E24-8A87-25A1336B286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F53-8594-48C5-A415-51E35D7682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7415-408B-4F76-BC1E-0ADF4DAF17E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20FF-B09E-40FF-9F4F-CD80253E13D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9780-DDAD-42A6-8905-D42981F7B7D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C5A5-3CB8-4D11-B1E3-642E4FDDCE4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yandex.ru/yandsearch?fp=0&amp;img_url=http://borisovna.rusedu.net/gallery/4998/sovremennyi_urok.gif&amp;iorient=&amp;ih=&amp;icolor=&amp;nojs=1&amp;site=&amp;text=&#1055;&#1088;&#1086;&#1077;&#1082;&#1090;%20&#1087;&#1086;%20&#1088;&#1091;&#1089;&#1089;&#1082;&#1086;&#1084;&#1091;%20&#1103;&#1079;&#1099;&#1082;&#1091;%20&#1074;%20&#1085;&#1072;&#1095;&#1072;&#1083;&#1100;&#1085;&#1086;&#1081;%20&#1096;&#1082;&#1086;&#1083;&#1077;&amp;wp=&amp;iw=&amp;pos=15&amp;type=&amp;recent=&amp;isize=&amp;rpt=simage&amp;itype=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8259840" cy="25243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285720" y="4071600"/>
            <a:ext cx="5429160" cy="2428920"/>
          </a:xfrm>
          <a:prstGeom prst="rect">
            <a:avLst/>
          </a:prstGeom>
          <a:solidFill>
            <a:srgbClr val="b5e9f4"/>
          </a:solidFill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Выполнила ученица 3Б класс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БОУ СОШ№1 г . Шагон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Бавуу Сайз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руководитель: Доктугу Э.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Рисунок 3" descr="http://im6-tub-ru.yandex.net/i?id=155484131-16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07172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2114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Доктугу\мои документы\Мои документы\Мои рисунки\элла\элла.jpg"/>
          <p:cNvPicPr/>
          <p:nvPr/>
        </p:nvPicPr>
        <p:blipFill>
          <a:blip r:embed="rId2"/>
          <a:stretch/>
        </p:blipFill>
        <p:spPr>
          <a:xfrm>
            <a:off x="1785960" y="2357280"/>
            <a:ext cx="3143160" cy="4286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D:\Доктугу\мои документы\Мои документы\Мои рисунки\элла\элла 001.jpg"/>
          <p:cNvPicPr/>
          <p:nvPr/>
        </p:nvPicPr>
        <p:blipFill>
          <a:blip r:embed="rId3"/>
          <a:stretch/>
        </p:blipFill>
        <p:spPr>
          <a:xfrm>
            <a:off x="5500800" y="2428920"/>
            <a:ext cx="3071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13840" y="64260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ышится долгий согласный в корне слов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[нн]на – ва?на, га[л'л']ерея – га?лере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ов с двойными согласными в корне  в русском языке много. Но вот объяснить их правописание с помощью правил, к сожалению, обычно нельзя . Остается одно – запоминать. Впрочем, некоторые секреты этих слов приоткрыть всё – таки можн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189000"/>
            <a:ext cx="8820360" cy="957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ольшинство слов с двойными согласным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шли к нам из других языков. Пришли и остались навсегда , прижились . Слово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алле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из французского языка, слова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класс, групп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из немецкого,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касс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из итальянского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кассе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из английского. Вот поэтому- то и трудно объяснить их написание, что они – иностранцы. 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конно русские слов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i="1" lang="ru-RU" sz="3000" spc="-1" strike="noStrike">
                <a:solidFill>
                  <a:srgbClr val="000000"/>
                </a:solidFill>
                <a:latin typeface="Lucida Sans Unicode"/>
              </a:rPr>
              <a:t>ссора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i="1" lang="ru-RU" sz="3000" spc="-1" strike="noStrike">
                <a:solidFill>
                  <a:srgbClr val="000000"/>
                </a:solidFill>
                <a:latin typeface="Lucida Sans Unicode"/>
              </a:rPr>
              <a:t>дрожжи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i="1" lang="ru-RU" sz="3000" spc="-1" strike="noStrike">
                <a:solidFill>
                  <a:srgbClr val="000000"/>
                </a:solidFill>
                <a:latin typeface="Lucida Sans Unicode"/>
              </a:rPr>
              <a:t>жужжать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чему в словах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рожжи , жужжа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ы пишем двойные согласные?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(В этих словах слышится долгий звук.)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егда ли слышится долгий звук, если в слове пишутся двойные согласные?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(Нет.)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писание многих слов с двойными согласными надо запомина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которые слова только притворяются, что в них есть удвоенные согласные, а на самом деле пишутся с одной. Вот самые известные из этих слов-обманщиков: </a:t>
            </a: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адрес, актриса, афиша ,  бизнес ,волейбол ,галерея , двенадцать, километр, количество, командир, коридор, милиционер, пьеса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экскурсия, ю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71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3" descr="knigi-97.gif"/>
          <p:cNvPicPr/>
          <p:nvPr/>
        </p:nvPicPr>
        <p:blipFill>
          <a:blip r:embed="rId2"/>
          <a:stretch/>
        </p:blipFill>
        <p:spPr>
          <a:xfrm>
            <a:off x="5572080" y="4000680"/>
            <a:ext cx="2786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лагодаря удвоенным согласным можно различить некоторые слов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ал ( танцевальный вечер) – балл (оценк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" descr="knigi-169.gif"/>
          <p:cNvPicPr/>
          <p:nvPr/>
        </p:nvPicPr>
        <p:blipFill>
          <a:blip r:embed="rId2"/>
          <a:stretch/>
        </p:blipFill>
        <p:spPr>
          <a:xfrm>
            <a:off x="4143240" y="2571840"/>
            <a:ext cx="2876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8568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рнях русских слов двойными бывают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и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Этих слов немного, мы перечисли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чти вс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Lucida Sans Unicode"/>
              </a:rPr>
              <a:t>вожжи                               ссо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Lucida Sans Unicode"/>
              </a:rPr>
              <a:t>дрожжи                             Росс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Lucida Sans Unicode"/>
              </a:rPr>
              <a:t>можжевельник                россиян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Lucida Sans Unicode"/>
              </a:rPr>
              <a:t>жужжа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Lucida Sans Unicode"/>
              </a:rPr>
              <a:t>жжё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от этих слов образовать родствен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 двойные согласные сохранятся и в них: жжет – жженка – жжение – зажжет; жужжать – жужжащий – жужжание и т.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67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8568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лове русский одна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адлежит корню ру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с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,а другая – суффиксу –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с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 - : ру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сс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им же образом встретились две 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н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ловах осе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нн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й ,весе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нн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й , дли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нн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ый, стра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нн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ый, чугу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нн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ый и т.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31.gif"/>
          <p:cNvPicPr/>
          <p:nvPr/>
        </p:nvPicPr>
        <p:blipFill>
          <a:blip r:embed="rId2"/>
          <a:stretch/>
        </p:blipFill>
        <p:spPr>
          <a:xfrm>
            <a:off x="4071960" y="3357720"/>
            <a:ext cx="4286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войные согласные пишутся в сложносокращённых словах, если одна часть кончается , а другая начинается одной и той же согласной, например: </a:t>
            </a: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главврач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   Примечание. В первой части сложносокращённых слов, представляющих собой основу, которая оканчивается двойной согласной, пишется только одна согласная, например: грампластинка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войные согласные пишутся на стыке приставки и корня, если приставка кончается, а корень начинается одной и той же согласной, например: </a:t>
            </a: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воззв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4" descr="detia-505.gif"/>
          <p:cNvPicPr/>
          <p:nvPr/>
        </p:nvPicPr>
        <p:blipFill>
          <a:blip r:embed="rId2"/>
          <a:stretch/>
        </p:blipFill>
        <p:spPr>
          <a:xfrm>
            <a:off x="4071960" y="3429000"/>
            <a:ext cx="4643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92880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Lucida Sans Unicode"/>
              </a:rPr>
              <a:t>Руководитель и консультант проекта-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октугу Элла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шкар-ооловна   учитель начальных классов МБОУ СОШ№1 г. Шагонара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Lucida Sans Unicode"/>
              </a:rPr>
              <a:t>Участник проекта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– Бавуу Сайзана Вячеславовна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ченица 3 «Б» класса     МБОУ СОШ №1 г.Шагонара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Lucida Sans Unicode"/>
              </a:rPr>
              <a:t>Тип проекта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– информационно -  исследовательск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Lucida Sans Unicode"/>
              </a:rPr>
              <a:t>Форма работы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- индивидуальна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Lucida Sans Unicode"/>
              </a:rPr>
              <a:t>Сроки реализации проекта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- три недел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Lucida Sans Unicode"/>
              </a:rPr>
              <a:t>Продукт проекта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1900" spc="-1" strike="noStrike">
                <a:solidFill>
                  <a:srgbClr val="7030a0"/>
                </a:solidFill>
                <a:latin typeface="Lucida Sans Unicode"/>
              </a:rPr>
              <a:t>Презентация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«Слова с удвоенными согласными», карточки со словами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авописание которых нужно запомнить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779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русском языке удвоенные согласные пишутс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гда встречаются одинаков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вуки в приставке и в корн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гда встречаются одинаковы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исконно русских словах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4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словах иностранного происхождения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торые мы запоминае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5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при переносе двойные согласные разделя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1. </a:t>
            </a:r>
            <a:r>
              <a:rPr b="0" i="1" lang="ru-RU" sz="2500" spc="-1" strike="noStrike">
                <a:solidFill>
                  <a:srgbClr val="002060"/>
                </a:solidFill>
                <a:latin typeface="Lucida Sans Unicode"/>
              </a:rPr>
              <a:t>Бакулина Г.А. 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Интеллектуальное развитие младших школьников на уроках русского языка. – М.: Владос, 2000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2. </a:t>
            </a:r>
            <a:r>
              <a:rPr b="0" i="1" lang="ru-RU" sz="2500" spc="-1" strike="noStrike">
                <a:solidFill>
                  <a:srgbClr val="002060"/>
                </a:solidFill>
                <a:latin typeface="Lucida Sans Unicode"/>
              </a:rPr>
              <a:t>Иванова В.Ф. 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Трудные вопросы орфографии. – М.: Просвещение, 1982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3. </a:t>
            </a:r>
            <a:r>
              <a:rPr b="0" i="1" lang="ru-RU" sz="2500" spc="-1" strike="noStrike">
                <a:solidFill>
                  <a:srgbClr val="002060"/>
                </a:solidFill>
                <a:latin typeface="Lucida Sans Unicode"/>
              </a:rPr>
              <a:t>Игнатченко И.Г. 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Балл или бал? (Слова с двойными согласными): Словарь с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грамматическим комментарием. – М.: Русский язык; Дрофа, 1998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4. </a:t>
            </a:r>
            <a:r>
              <a:rPr b="0" i="1" lang="ru-RU" sz="2500" spc="-1" strike="noStrike">
                <a:solidFill>
                  <a:srgbClr val="002060"/>
                </a:solidFill>
                <a:latin typeface="Lucida Sans Unicode"/>
              </a:rPr>
              <a:t>Морозова Н.А. </a:t>
            </a: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Система уроков по тем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«Удвоенные согласные»//Начальная школа. – 2002. – № 10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467920" cy="77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Lucida Sans Unicode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Lucida Sans Unicode"/>
              </a:rPr>
              <a:t>ЗА ВНИМАНИЕ !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Picture 18" descr=""/>
          <p:cNvPicPr/>
          <p:nvPr/>
        </p:nvPicPr>
        <p:blipFill>
          <a:blip r:embed="rId1"/>
          <a:stretch/>
        </p:blipFill>
        <p:spPr>
          <a:xfrm>
            <a:off x="2786040" y="2928960"/>
            <a:ext cx="4071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"/>
          <p:cNvSpPr/>
          <p:nvPr/>
        </p:nvSpPr>
        <p:spPr>
          <a:xfrm>
            <a:off x="1116000" y="1628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 место  в кожуунном конкурсе исследовательских работ и творческих проектов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асто пропускала ошибки в словах с двойными согласными. Учительница мне говорила ,что их нужно запоминать . Потому что конкретных правил на их правописание нет, но у них есть свои тайны. Мне захотелось научиться правильно писать эти слова . Поэтому я стала много спрашивать о них и  искать ответы в других источниках, чтобы раскрыть их тайн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ые согласные очень часто встречаются в диктантах. Важно знать их правописание и  запоминать, чтобы правильно писать их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96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Рисунок2"/>
          <p:cNvPicPr/>
          <p:nvPr/>
        </p:nvPicPr>
        <p:blipFill>
          <a:blip r:embed="rId2"/>
          <a:stretch/>
        </p:blipFill>
        <p:spPr>
          <a:xfrm>
            <a:off x="5429160" y="314316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положим, что удвоенные согласные бывают  в словах иностранного происхождения,  правописание которых мы запоминае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WordArt 4"/>
          <p:cNvSpPr txBox="1"/>
          <p:nvPr/>
        </p:nvSpPr>
        <p:spPr>
          <a:xfrm>
            <a:off x="785880" y="285840"/>
            <a:ext cx="706284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ипотез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4" descr=""/>
          <p:cNvPicPr/>
          <p:nvPr/>
        </p:nvPicPr>
        <p:blipFill>
          <a:blip r:embed="rId1"/>
          <a:stretch/>
        </p:blipFill>
        <p:spPr>
          <a:xfrm>
            <a:off x="1822320" y="755640"/>
            <a:ext cx="5973840" cy="8841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85480" y="114300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ормировать умение обозначать на письме долгие согласные звуки буквами , переносить слова с удвоенными согласными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знать  , что от лексического значения слова зависит его написание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WordArt 6"/>
          <p:cNvSpPr txBox="1"/>
          <p:nvPr/>
        </p:nvSpPr>
        <p:spPr>
          <a:xfrm>
            <a:off x="1071720" y="214200"/>
            <a:ext cx="70815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работы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Lucida Sans Unicode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 с удвоенными согласными.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WordArt 4" descr=""/>
          <p:cNvPicPr/>
          <p:nvPr/>
        </p:nvPicPr>
        <p:blipFill>
          <a:blip r:embed="rId2"/>
          <a:stretch/>
        </p:blipFill>
        <p:spPr>
          <a:xfrm>
            <a:off x="1274760" y="755640"/>
            <a:ext cx="6973920" cy="2341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дополнительную литературу и раскрыть секреты слов с удвоенными согласными ; провести исследование таких слов в учебнике третьего и  четвёртого классов ; сделать анализ и обобщить результа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4"/>
          <p:cNvSpPr txBox="1"/>
          <p:nvPr/>
        </p:nvSpPr>
        <p:spPr>
          <a:xfrm>
            <a:off x="1857240" y="285840"/>
            <a:ext cx="61437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Теоретический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слова с удвоенными согласными и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их переноса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017720"/>
          </a:xfrm>
          <a:prstGeom prst="rect">
            <a:avLst/>
          </a:prstGeom>
          <a:ln w="0">
            <a:noFill/>
          </a:ln>
        </p:spPr>
      </p:pic>
      <p:sp>
        <p:nvSpPr>
          <p:cNvPr id="418" name="WordArt 4"/>
          <p:cNvSpPr txBox="1"/>
          <p:nvPr/>
        </p:nvSpPr>
        <p:spPr>
          <a:xfrm>
            <a:off x="1143000" y="214200"/>
            <a:ext cx="70866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рабо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01:32:00Z</dcterms:created>
  <dc:creator>Admin</dc:creator>
  <dc:description/>
  <dc:language>en-US</dc:language>
  <cp:lastModifiedBy>Пользователь</cp:lastModifiedBy>
  <dcterms:modified xsi:type="dcterms:W3CDTF">2017-02-28T12:07:32Z</dcterms:modified>
  <cp:revision>61</cp:revision>
  <dc:subject/>
  <dc:title>Слайд 1</dc:title>
</cp:coreProperties>
</file>