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png" ContentType="image/png"/>
  <Override PartName="/ppt/media/image19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C373-8E62-44D4-91DD-86EA450C3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0277-AD0E-42B5-85D6-3D78DB8E1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E1E5-58A6-42D9-B3E2-74461FA0D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61FC-5186-413C-B74D-38E509322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65D1-3831-4D23-AA8F-DE9DE0B93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5A7D-5BB0-4870-A6F5-956068258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7045-8E71-470E-BE7B-F97438EAC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D250-8DD9-490B-B014-23F243524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9834-374B-4B4B-BBD3-4D2B35804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0774-C464-448E-A9C4-5B198580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969D-8122-47DB-88C2-CC301FE1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FEF8-BF1D-4C01-90C1-7DD4B3E4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F7ABA-FEEA-4CBD-A73E-2D1D3D6DF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19280" y="2997360"/>
            <a:ext cx="6121440" cy="237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9966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ЛОКНА</a:t>
            </a:r>
            <a:endParaRPr b="0" lang="en-US" sz="1800" spc="1" strike="noStrike">
              <a:ln w="19080">
                <a:solidFill>
                  <a:srgbClr val="339966"/>
                </a:solidFill>
                <a:miter/>
              </a:ln>
              <a:solidFill>
                <a:srgbClr val="0099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79280" y="1052640"/>
            <a:ext cx="871380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Волокно — класс материалов, состоящий из непряденых нитей материала или длинных тонких отрезков нити. Волокно используется в природе как животными так и растениями, для удержания тканей (биологических). Волокно используется человеком для прядения нитей, веревок, как часть композитных материалов, а также для производства таких материалов как бумага или войл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39640" y="836640"/>
            <a:ext cx="80661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8964720" cy="61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076720" y="189000"/>
            <a:ext cx="3662640" cy="2824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619280" y="260280"/>
            <a:ext cx="2857320" cy="2124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3635280" y="321300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468360" y="2637000"/>
            <a:ext cx="238104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rcRect l="1834" t="11657" r="0" b="0"/>
          <a:stretch/>
        </p:blipFill>
        <p:spPr>
          <a:xfrm>
            <a:off x="179280" y="1052640"/>
            <a:ext cx="8604360" cy="42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48000" y="260280"/>
            <a:ext cx="3992760" cy="2421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rcRect l="0" t="25040" r="0" b="0"/>
          <a:stretch/>
        </p:blipFill>
        <p:spPr>
          <a:xfrm>
            <a:off x="6084720" y="2924280"/>
            <a:ext cx="2764080" cy="3520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rcRect l="0" t="6824" r="0" b="0"/>
          <a:stretch/>
        </p:blipFill>
        <p:spPr>
          <a:xfrm>
            <a:off x="395280" y="333360"/>
            <a:ext cx="2438280" cy="3557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1619280" y="3573360"/>
            <a:ext cx="4464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68360" y="2997360"/>
            <a:ext cx="8496360" cy="30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язкий раствор ксантогената целлюлозы, то есть продукта взаимодействия целлюлозы с сероуглеродом, в разбавленном растворе едкого натра. Применяется в легкой промышл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556000" y="476280"/>
            <a:ext cx="40320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искоз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3960720" cy="26398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724360" y="260280"/>
            <a:ext cx="3230640" cy="43070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6156360" y="471492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108000" y="3357720"/>
            <a:ext cx="2117520" cy="2601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2987640" y="2997360"/>
            <a:ext cx="243828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8T22:03:31Z</dcterms:created>
  <dc:creator>admin</dc:creator>
  <dc:description/>
  <dc:language>en-US</dc:language>
  <cp:lastModifiedBy>admin</cp:lastModifiedBy>
  <dcterms:modified xsi:type="dcterms:W3CDTF">2009-12-10T22:23:26Z</dcterms:modified>
  <cp:revision>14</cp:revision>
  <dc:subject/>
  <dc:title>С днём учителя!!!</dc:title>
</cp:coreProperties>
</file>