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29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B561-A286-4C70-A77B-E33417704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B7FB-F804-45FF-AE2E-68D843C4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54EA-28FE-4564-9FBA-F1FBB6CB1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CE7E-0099-42B7-A471-4DE7FC19A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99CF-876E-4C68-BFE1-BBC483E4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4B2F-F844-4174-9B0A-EF0D4DF5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344C-A6EB-49CE-B749-2480C12F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7CF0-E0A4-4733-85B4-263CD7FD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7546-A9E0-45ED-8E64-DD2EA4BE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4481-4496-47AD-BFA1-4AFB7D47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028C-4ADA-45EA-891D-A758EA80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1456-BCD1-4579-8F27-ABA7DA05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47D5-DA88-4284-AFA4-16B820720F7C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s://fs00.infourok.ru/images/doc/225/29268/1/img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5" descr=""/>
          <p:cNvPicPr/>
          <p:nvPr/>
        </p:nvPicPr>
        <p:blipFill>
          <a:blip r:embed="rId2"/>
          <a:stretch/>
        </p:blipFill>
        <p:spPr>
          <a:xfrm>
            <a:off x="2048040" y="4389480"/>
            <a:ext cx="447516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D:\Мои документы\фоны для презентаций\30 АБСТРАКТНЫХ\1e801911f94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7" descr="C:\Users\Oksana\Desktop\соревнования 2 кл\20151203_101029.jpg"/>
          <p:cNvPicPr/>
          <p:nvPr/>
        </p:nvPicPr>
        <p:blipFill>
          <a:blip r:embed="rId2"/>
          <a:stretch/>
        </p:blipFill>
        <p:spPr>
          <a:xfrm>
            <a:off x="2643120" y="2857680"/>
            <a:ext cx="4219560" cy="3125520"/>
          </a:xfrm>
          <a:prstGeom prst="rect">
            <a:avLst/>
          </a:prstGeom>
          <a:ln w="0">
            <a:noFill/>
          </a:ln>
        </p:spPr>
      </p:pic>
      <p:sp>
        <p:nvSpPr>
          <p:cNvPr id="95" name="TextBox 5"/>
          <p:cNvSpPr/>
          <p:nvPr/>
        </p:nvSpPr>
        <p:spPr>
          <a:xfrm>
            <a:off x="5200560" y="596124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зминка с карандаш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6"/>
          <p:cNvSpPr/>
          <p:nvPr/>
        </p:nvSpPr>
        <p:spPr>
          <a:xfrm>
            <a:off x="1293840" y="189000"/>
            <a:ext cx="608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пражнения для кистей ру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4903920" y="1179000"/>
            <a:ext cx="338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арандаш в руках катаю,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ежду пальчиков верчу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пременно каждый пальчик,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ыть послушным науч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D:\Мои документы\фоны для презентаций\30 АБСТРАКТНЫХ\1e801911f94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4"/>
          <p:cNvSpPr/>
          <p:nvPr/>
        </p:nvSpPr>
        <p:spPr>
          <a:xfrm>
            <a:off x="250920" y="260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пражнения для снятия общего утом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785880" y="1076760"/>
            <a:ext cx="3816360" cy="38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Поднимаем руки выш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Поднимаем руки выш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Опускаем руки вни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Ты достань сначала крыш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Пола ты потом коснис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Выполняем три наклон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Наклоняемся до пол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А потом прогнемся сраз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Глубоко назад три раз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Выполним рывки рук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Раз, два, три, четыре, пя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А теперь мы приседае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Чтоб сильней и крепче ста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Вверх потянемся пото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Шире руки развед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D:\Мои документы\фоны для презентаций\30 АБСТРАКТНЫХ\1e801911f94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3" descr="C:\Users\Oksana\Desktop\соревнования 2 кл\20151204_102251.jpg"/>
          <p:cNvPicPr/>
          <p:nvPr/>
        </p:nvPicPr>
        <p:blipFill>
          <a:blip r:embed="rId2"/>
          <a:stretch/>
        </p:blipFill>
        <p:spPr>
          <a:xfrm>
            <a:off x="136440" y="1484280"/>
            <a:ext cx="4913280" cy="25923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1314360" y="146520"/>
            <a:ext cx="68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Двигательно-речевые физкультмину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5"/>
          <p:cNvSpPr/>
          <p:nvPr/>
        </p:nvSpPr>
        <p:spPr>
          <a:xfrm>
            <a:off x="179280" y="4221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Ветер дует нам в лиц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Закачалось деревц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Ветерок все тише-тише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Деревцо все выше-вы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D:\Мои документы\фоны для презентаций\30 АБСТРАКТНЫХ\1e801911f94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0" descr="C:\Users\Oksana\Desktop\соревнования 2 кл\20151203_102012.jpg"/>
          <p:cNvPicPr/>
          <p:nvPr/>
        </p:nvPicPr>
        <p:blipFill>
          <a:blip r:embed="rId2"/>
          <a:stretch/>
        </p:blipFill>
        <p:spPr>
          <a:xfrm>
            <a:off x="250920" y="814320"/>
            <a:ext cx="3960720" cy="5408640"/>
          </a:xfrm>
          <a:prstGeom prst="rect">
            <a:avLst/>
          </a:prstGeom>
          <a:ln w="0">
            <a:noFill/>
          </a:ln>
        </p:spPr>
      </p:pic>
      <p:sp>
        <p:nvSpPr>
          <p:cNvPr id="107" name="TextBox 4"/>
          <p:cNvSpPr/>
          <p:nvPr/>
        </p:nvSpPr>
        <p:spPr>
          <a:xfrm>
            <a:off x="574560" y="1666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имнастика для глаз и позвоноч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"/>
          <p:cNvSpPr/>
          <p:nvPr/>
        </p:nvSpPr>
        <p:spPr>
          <a:xfrm>
            <a:off x="468360" y="6308640"/>
            <a:ext cx="359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 Black"/>
              </a:rPr>
              <a:t>«Подвижные крест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D:\Мои документы\фоны для презентаций\30 АБСТРАКТНЫХ\1e801911f94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4"/>
          <p:cNvSpPr/>
          <p:nvPr/>
        </p:nvSpPr>
        <p:spPr>
          <a:xfrm>
            <a:off x="177840" y="792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Волшебные мешочки и коврики» для пальцев, ладошек, ступней и осан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10" descr="J:\2 В 2015 - 2016 г\Дети на уроке\20160210_092055.jpg"/>
          <p:cNvPicPr/>
          <p:nvPr/>
        </p:nvPicPr>
        <p:blipFill>
          <a:blip r:embed="rId2"/>
          <a:stretch/>
        </p:blipFill>
        <p:spPr>
          <a:xfrm>
            <a:off x="2071800" y="1500120"/>
            <a:ext cx="53118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D:\Мои документы\фоны для презентаций\30 АБСТРАКТНЫХ\1e801911f94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2"/>
          <p:cNvSpPr/>
          <p:nvPr/>
        </p:nvSpPr>
        <p:spPr>
          <a:xfrm>
            <a:off x="395280" y="260280"/>
            <a:ext cx="792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ссажные варежки – для массажа плеч и сп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15" descr="C:\Users\Oksana\Desktop\соревнования 2 кл\20151203_134331.jpg"/>
          <p:cNvPicPr/>
          <p:nvPr/>
        </p:nvPicPr>
        <p:blipFill>
          <a:blip r:embed="rId2"/>
          <a:stretch/>
        </p:blipFill>
        <p:spPr>
          <a:xfrm>
            <a:off x="2714760" y="1857240"/>
            <a:ext cx="362268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D:\Мои документы\фоны для презентаций\30 АБСТРАКТНЫХ\1e801911f94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"/>
          <p:cNvSpPr/>
          <p:nvPr/>
        </p:nvSpPr>
        <p:spPr>
          <a:xfrm>
            <a:off x="250920" y="793440"/>
            <a:ext cx="85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0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1.  Вверх-вниз, влево-впра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Двигайте глазами вверх-вниз, влево-вправо. Зажмурившись, снимите напряжение, считая до деся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2. Кру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Представьте себе большой круг. Обводите его глазами по часовой стрелке, потом против часовой стрел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3. Квадр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Представьте квадрат. Переводите взгляд из правого верхнего угла в левый нижний – в левый верхний, в правый нижний. Ещё раз одновременно посмотрите в углы воображаемого квадр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"/>
          <p:cNvSpPr/>
          <p:nvPr/>
        </p:nvSpPr>
        <p:spPr>
          <a:xfrm>
            <a:off x="324000" y="3822840"/>
            <a:ext cx="30956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 –налево, два – направо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–наверх, четыре — вниз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еперь по кругу смотрим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лучше видеть мир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гляд  направим ближе, дальше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руя мышцу глаз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ть скоро будем лучше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едитесь вы сейчас!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еперь нажмем немного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и возле своих глаз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 дадим им много-много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 усилить в тыщу раз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257040" y="-20880"/>
            <a:ext cx="84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пражнения для гимнастики глаз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250920" y="352440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ихотворная гимнастика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4606920" y="3828600"/>
            <a:ext cx="4537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вощ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лик ходит, выбирает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сначала съесть не знает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ерху созрела слива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низу растет крапива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ва – свекла, справа – брюква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ва – тыква, справа – клюква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зу – свежая трава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рху – сочная ботв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рать ничего не смог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без сил на землю сле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D:\Мои документы\фоны для презентаций\30 АБСТРАКТНЫХ\1e801911f94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2"/>
          <p:cNvSpPr/>
          <p:nvPr/>
        </p:nvSpPr>
        <p:spPr>
          <a:xfrm>
            <a:off x="324000" y="16812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намические пау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28" descr="J:\2 В 2015 - 2016 г\Перемена\20160513_120418.jpg"/>
          <p:cNvPicPr/>
          <p:nvPr/>
        </p:nvPicPr>
        <p:blipFill>
          <a:blip r:embed="rId2"/>
          <a:stretch/>
        </p:blipFill>
        <p:spPr>
          <a:xfrm>
            <a:off x="2286000" y="1428840"/>
            <a:ext cx="409104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D:\Мои документы\фоны для презентаций\30 АБСТРАКТНЫХ\1e801911f94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2"/>
          <p:cNvSpPr/>
          <p:nvPr/>
        </p:nvSpPr>
        <p:spPr>
          <a:xfrm>
            <a:off x="250920" y="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ортивные соревн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1" descr=""/>
          <p:cNvPicPr/>
          <p:nvPr/>
        </p:nvPicPr>
        <p:blipFill>
          <a:blip r:embed="rId2"/>
          <a:stretch/>
        </p:blipFill>
        <p:spPr>
          <a:xfrm>
            <a:off x="233280" y="907920"/>
            <a:ext cx="5507280" cy="23050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539640" y="3141720"/>
            <a:ext cx="48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Папа, мама, я – спортивная семья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S6302319"/>
          <p:cNvPicPr/>
          <p:nvPr/>
        </p:nvPicPr>
        <p:blipFill>
          <a:blip r:embed="rId3"/>
          <a:stretch/>
        </p:blipFill>
        <p:spPr>
          <a:xfrm>
            <a:off x="6659640" y="907920"/>
            <a:ext cx="2082600" cy="3848400"/>
          </a:xfrm>
          <a:prstGeom prst="rect">
            <a:avLst/>
          </a:prstGeom>
          <a:ln w="0">
            <a:noFill/>
          </a:ln>
        </p:spPr>
      </p:pic>
      <p:sp>
        <p:nvSpPr>
          <p:cNvPr id="129" name="TextBox 6"/>
          <p:cNvSpPr/>
          <p:nvPr/>
        </p:nvSpPr>
        <p:spPr>
          <a:xfrm>
            <a:off x="6732720" y="4797360"/>
            <a:ext cx="208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Мальчики, вперёд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8"/>
          <p:cNvSpPr/>
          <p:nvPr/>
        </p:nvSpPr>
        <p:spPr>
          <a:xfrm>
            <a:off x="2087640" y="57326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D:\Мои документы\фоны для презентаций\30 АБСТРАКТНЫХ\1e801911f94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23" descr="J:\2 В 2015 - 2016 г\наш поход 24.09.2015г\SAM_2105.JPG"/>
          <p:cNvPicPr/>
          <p:nvPr/>
        </p:nvPicPr>
        <p:blipFill>
          <a:blip r:embed="rId2"/>
          <a:stretch/>
        </p:blipFill>
        <p:spPr>
          <a:xfrm>
            <a:off x="1643040" y="1071720"/>
            <a:ext cx="4248000" cy="307800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4"/>
          <p:cNvSpPr/>
          <p:nvPr/>
        </p:nvSpPr>
        <p:spPr>
          <a:xfrm>
            <a:off x="250920" y="49320"/>
            <a:ext cx="87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ходы Здоров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395280" y="4292640"/>
            <a:ext cx="39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гра «Красный, жёлтый, зелёны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s://fs00.infourok.ru/images/doc/225/29268/1/img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179280" y="1125360"/>
            <a:ext cx="684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 Black"/>
              </a:rPr>
              <a:t>Чтобы сделать ребёнка  умным и рассудительным, сделайте его крепким и здоров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 Black"/>
              </a:rPr>
              <a:t>Ж. – Ж. Русс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D:\Мои документы\фоны для презентаций\30 АБСТРАКТНЫХ\1e801911f94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4"/>
          <p:cNvSpPr/>
          <p:nvPr/>
        </p:nvSpPr>
        <p:spPr>
          <a:xfrm>
            <a:off x="447840" y="11592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мфортная психологическая обстановка - весёлые, энергичные, жизнерадостные де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S6302416"/>
          <p:cNvPicPr/>
          <p:nvPr/>
        </p:nvPicPr>
        <p:blipFill>
          <a:blip r:embed="rId2"/>
          <a:stretch/>
        </p:blipFill>
        <p:spPr>
          <a:xfrm>
            <a:off x="2643120" y="2143080"/>
            <a:ext cx="397836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D:\Мои документы\фоны для презентаций\30 АБСТРАКТНЫХ\1e801911f94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7"/>
          <p:cNvSpPr/>
          <p:nvPr/>
        </p:nvSpPr>
        <p:spPr>
          <a:xfrm>
            <a:off x="179280" y="26028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циальное здоровье – умение строить коммуника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8" descr="J:\2 В 2015 - 2016 г\Дети на уроке\20160208_083605.jpg"/>
          <p:cNvPicPr/>
          <p:nvPr/>
        </p:nvPicPr>
        <p:blipFill>
          <a:blip r:embed="rId2"/>
          <a:stretch/>
        </p:blipFill>
        <p:spPr>
          <a:xfrm>
            <a:off x="209520" y="1338120"/>
            <a:ext cx="6200640" cy="22320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2"/>
          <p:cNvSpPr/>
          <p:nvPr/>
        </p:nvSpPr>
        <p:spPr>
          <a:xfrm>
            <a:off x="344520" y="36370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бота в групп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Рисунок 9" descr="J:\2 В 2015 - 2016 г\Дети на уроке\20160208_105228.jpg"/>
          <p:cNvPicPr/>
          <p:nvPr/>
        </p:nvPicPr>
        <p:blipFill>
          <a:blip r:embed="rId3"/>
          <a:stretch/>
        </p:blipFill>
        <p:spPr>
          <a:xfrm>
            <a:off x="5497560" y="3068640"/>
            <a:ext cx="3168720" cy="3168720"/>
          </a:xfrm>
          <a:prstGeom prst="rect">
            <a:avLst/>
          </a:prstGeom>
          <a:ln w="0">
            <a:noFill/>
          </a:ln>
        </p:spPr>
      </p:pic>
      <p:sp>
        <p:nvSpPr>
          <p:cNvPr id="143" name="TextBox 14"/>
          <p:cNvSpPr/>
          <p:nvPr/>
        </p:nvSpPr>
        <p:spPr>
          <a:xfrm>
            <a:off x="5580000" y="623736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бота в па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D:\Мои документы\фоны для презентаций\30 АБСТРАКТНЫХ\1e801911f94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30" descr="J:\2 В 2015 - 2016 г\Семикаракорск 2016\20160408_094107.jpg"/>
          <p:cNvPicPr/>
          <p:nvPr/>
        </p:nvPicPr>
        <p:blipFill>
          <a:blip r:embed="rId2"/>
          <a:stretch/>
        </p:blipFill>
        <p:spPr>
          <a:xfrm>
            <a:off x="250920" y="771480"/>
            <a:ext cx="3744720" cy="26830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6"/>
          <p:cNvSpPr/>
          <p:nvPr/>
        </p:nvSpPr>
        <p:spPr>
          <a:xfrm>
            <a:off x="512640" y="342432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ез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S6301921"/>
          <p:cNvPicPr/>
          <p:nvPr/>
        </p:nvPicPr>
        <p:blipFill>
          <a:blip r:embed="rId3"/>
          <a:stretch/>
        </p:blipFill>
        <p:spPr>
          <a:xfrm>
            <a:off x="4794120" y="3933720"/>
            <a:ext cx="4078440" cy="2087640"/>
          </a:xfrm>
          <a:prstGeom prst="rect">
            <a:avLst/>
          </a:prstGeom>
          <a:ln w="0">
            <a:noFill/>
          </a:ln>
        </p:spPr>
      </p:pic>
      <p:sp>
        <p:nvSpPr>
          <p:cNvPr id="148" name="TextBox 12"/>
          <p:cNvSpPr/>
          <p:nvPr/>
        </p:nvSpPr>
        <p:spPr>
          <a:xfrm>
            <a:off x="4859280" y="5950080"/>
            <a:ext cx="403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тречи с интересными людь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"/>
          <p:cNvSpPr/>
          <p:nvPr/>
        </p:nvSpPr>
        <p:spPr>
          <a:xfrm>
            <a:off x="2278800" y="6480"/>
            <a:ext cx="413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циальное здоров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D:\Мои документы\фоны для презентаций\30 АБСТРАКТНЫХ\1e801911f94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8"/>
          <p:cNvSpPr/>
          <p:nvPr/>
        </p:nvSpPr>
        <p:spPr>
          <a:xfrm>
            <a:off x="250920" y="115920"/>
            <a:ext cx="85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уховное здоровье –способность сопереживать, уважать, быть милосердны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Рисунок 12" descr="J:\2 В 2015 - 2016 г\Дети на уроке\20160215_133506.jpg"/>
          <p:cNvPicPr/>
          <p:nvPr/>
        </p:nvPicPr>
        <p:blipFill>
          <a:blip r:embed="rId2"/>
          <a:stretch/>
        </p:blipFill>
        <p:spPr>
          <a:xfrm>
            <a:off x="250920" y="1125360"/>
            <a:ext cx="6018120" cy="26384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10"/>
          <p:cNvSpPr/>
          <p:nvPr/>
        </p:nvSpPr>
        <p:spPr>
          <a:xfrm>
            <a:off x="250920" y="376884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лассный час «Афганиста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D:\Мои документы\фоны для презентаций\30 АБСТРАКТНЫХ\1e801911f94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IMG_1353"/>
          <p:cNvPicPr/>
          <p:nvPr/>
        </p:nvPicPr>
        <p:blipFill>
          <a:blip r:embed="rId2"/>
          <a:stretch/>
        </p:blipFill>
        <p:spPr>
          <a:xfrm>
            <a:off x="2643120" y="2786040"/>
            <a:ext cx="3390840" cy="2571840"/>
          </a:xfrm>
          <a:prstGeom prst="rect">
            <a:avLst/>
          </a:prstGeom>
          <a:ln w="0">
            <a:noFill/>
          </a:ln>
        </p:spPr>
      </p:pic>
      <p:sp>
        <p:nvSpPr>
          <p:cNvPr id="156" name="TextBox 5"/>
          <p:cNvSpPr/>
          <p:nvPr/>
        </p:nvSpPr>
        <p:spPr>
          <a:xfrm>
            <a:off x="324000" y="9216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роприятия с родител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6"/>
          <p:cNvSpPr/>
          <p:nvPr/>
        </p:nvSpPr>
        <p:spPr>
          <a:xfrm>
            <a:off x="428760" y="1071720"/>
            <a:ext cx="52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Праздник буквар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7"/>
          <p:cNvSpPr/>
          <p:nvPr/>
        </p:nvSpPr>
        <p:spPr>
          <a:xfrm>
            <a:off x="2000160" y="5429160"/>
            <a:ext cx="48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Самая любимая и дорога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D:\Мои документы\фоны для презентаций\30 АБСТРАКТНЫХ\1e801911f94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22" descr="J:\2 В 2015 - 2016 г\Здоровое питан\20160427_133340.jpg"/>
          <p:cNvPicPr/>
          <p:nvPr/>
        </p:nvPicPr>
        <p:blipFill>
          <a:blip r:embed="rId2"/>
          <a:stretch/>
        </p:blipFill>
        <p:spPr>
          <a:xfrm>
            <a:off x="2643120" y="2000160"/>
            <a:ext cx="4219560" cy="2533680"/>
          </a:xfrm>
          <a:prstGeom prst="rect">
            <a:avLst/>
          </a:prstGeom>
          <a:ln w="0">
            <a:noFill/>
          </a:ln>
        </p:spPr>
      </p:pic>
      <p:sp>
        <p:nvSpPr>
          <p:cNvPr id="161" name="TextBox 5"/>
          <p:cNvSpPr/>
          <p:nvPr/>
        </p:nvSpPr>
        <p:spPr>
          <a:xfrm>
            <a:off x="179280" y="18900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доровое пит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1316160" y="90792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лассный час «Чипсы – это вредно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D:\Мои документы\фоны для презентаций\30 АБСТРАКТНЫХ\1e801911f94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S6302633"/>
          <p:cNvPicPr/>
          <p:nvPr/>
        </p:nvPicPr>
        <p:blipFill>
          <a:blip r:embed="rId2"/>
          <a:stretch/>
        </p:blipFill>
        <p:spPr>
          <a:xfrm>
            <a:off x="2428920" y="1643040"/>
            <a:ext cx="3873600" cy="2736720"/>
          </a:xfrm>
          <a:prstGeom prst="rect">
            <a:avLst/>
          </a:prstGeom>
          <a:ln w="0">
            <a:noFill/>
          </a:ln>
        </p:spPr>
      </p:pic>
      <p:sp>
        <p:nvSpPr>
          <p:cNvPr id="165" name="TextBox 5"/>
          <p:cNvSpPr/>
          <p:nvPr/>
        </p:nvSpPr>
        <p:spPr>
          <a:xfrm>
            <a:off x="324000" y="620640"/>
            <a:ext cx="84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лассный час «Где живут витамины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"/>
          <p:cNvSpPr/>
          <p:nvPr/>
        </p:nvSpPr>
        <p:spPr>
          <a:xfrm>
            <a:off x="2268360" y="46080"/>
            <a:ext cx="42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доровое пит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D:\Мои документы\фоны для презентаций\30 АБСТРАКТНЫХ\1e801911f94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Box 5"/>
          <p:cNvSpPr/>
          <p:nvPr/>
        </p:nvSpPr>
        <p:spPr>
          <a:xfrm>
            <a:off x="395280" y="11592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лассный час «Друзья здоровь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Рисунок 1" descr=""/>
          <p:cNvPicPr/>
          <p:nvPr/>
        </p:nvPicPr>
        <p:blipFill>
          <a:blip r:embed="rId2"/>
          <a:stretch/>
        </p:blipFill>
        <p:spPr>
          <a:xfrm>
            <a:off x="2000160" y="1643040"/>
            <a:ext cx="51469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https://fs00.infourok.ru/images/doc/225/29268/1/img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4"/>
          <p:cNvSpPr/>
          <p:nvPr/>
        </p:nvSpPr>
        <p:spPr>
          <a:xfrm>
            <a:off x="179280" y="1125360"/>
            <a:ext cx="684072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79280" y="731520"/>
            <a:ext cx="6631200" cy="53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зульта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5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высилось качество зн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5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величилось количество учащихся, занятых в системе дополнительного образ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5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е дети получают горячее питание в школьной столо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s://fs00.infourok.ru/images/doc/225/29268/1/img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TextBox 2" descr=""/>
          <p:cNvPicPr/>
          <p:nvPr/>
        </p:nvPicPr>
        <p:blipFill>
          <a:blip r:embed="rId2"/>
          <a:stretch/>
        </p:blipFill>
        <p:spPr>
          <a:xfrm>
            <a:off x="536400" y="469800"/>
            <a:ext cx="8217000" cy="77940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179280" y="141300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179280" y="1413000"/>
            <a:ext cx="6624720" cy="26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just"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Arial Black"/>
              </a:rPr>
              <a:t>Сохранение и укрепление здоровья детей  - приоритетное  направление деятельности всего обще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Arial Black"/>
              </a:rPr>
              <a:t>ФГОС направлен на охрану и укрепление физического, социального, интеллектуального, духовного и психического здоровья де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Скругленный прямоугольник 5" descr=""/>
          <p:cNvPicPr/>
          <p:nvPr/>
        </p:nvPicPr>
        <p:blipFill>
          <a:blip r:embed="rId3"/>
          <a:stretch/>
        </p:blipFill>
        <p:spPr>
          <a:xfrm>
            <a:off x="1030320" y="4280040"/>
            <a:ext cx="593100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s://fs00.infourok.ru/images/doc/225/29268/1/img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2"/>
          <p:cNvSpPr/>
          <p:nvPr/>
        </p:nvSpPr>
        <p:spPr>
          <a:xfrm>
            <a:off x="0" y="1268280"/>
            <a:ext cx="6750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уть здоровья в гармонии физических и духовных сил, уравновешенности нервной системы, вынослив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 здорового ребенка глаза горят интересом ко всему окружающему, он улыбается, готов играть, бегать, веселить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ебёнок в состоянии  «свернуть горы»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Мои документы\фоны для презентаций\30 АБСТРАКТНЫХ\1e801911f94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Овал 2"/>
          <p:cNvSpPr/>
          <p:nvPr/>
        </p:nvSpPr>
        <p:spPr>
          <a:xfrm>
            <a:off x="1403280" y="476280"/>
            <a:ext cx="6264360" cy="1800360"/>
          </a:xfrm>
          <a:prstGeom prst="ellipse">
            <a:avLst/>
          </a:prstGeom>
          <a:gradFill rotWithShape="0">
            <a:gsLst>
              <a:gs pos="0">
                <a:srgbClr val="b5d5a7"/>
              </a:gs>
              <a:gs pos="100000">
                <a:srgbClr val="9cca86"/>
              </a:gs>
            </a:gsLst>
            <a:lin ang="5400000"/>
          </a:gradFill>
          <a:ln w="648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TextBox 3" descr=""/>
          <p:cNvPicPr/>
          <p:nvPr/>
        </p:nvPicPr>
        <p:blipFill>
          <a:blip r:embed="rId2"/>
          <a:stretch/>
        </p:blipFill>
        <p:spPr>
          <a:xfrm>
            <a:off x="1901880" y="1122480"/>
            <a:ext cx="5340240" cy="657000"/>
          </a:xfrm>
          <a:prstGeom prst="rect">
            <a:avLst/>
          </a:prstGeom>
          <a:ln w="0">
            <a:noFill/>
          </a:ln>
        </p:spPr>
      </p:pic>
      <p:pic>
        <p:nvPicPr>
          <p:cNvPr id="55" name="Овал 5" descr=""/>
          <p:cNvPicPr/>
          <p:nvPr/>
        </p:nvPicPr>
        <p:blipFill>
          <a:blip r:embed="rId3"/>
          <a:stretch/>
        </p:blipFill>
        <p:spPr>
          <a:xfrm>
            <a:off x="317520" y="4572000"/>
            <a:ext cx="3833640" cy="1316160"/>
          </a:xfrm>
          <a:prstGeom prst="rect">
            <a:avLst/>
          </a:prstGeom>
          <a:ln w="0">
            <a:noFill/>
          </a:ln>
        </p:spPr>
      </p:pic>
      <p:sp>
        <p:nvSpPr>
          <p:cNvPr id="56" name="Овал 6"/>
          <p:cNvSpPr/>
          <p:nvPr/>
        </p:nvSpPr>
        <p:spPr>
          <a:xfrm>
            <a:off x="4427640" y="4581360"/>
            <a:ext cx="3600360" cy="1079640"/>
          </a:xfrm>
          <a:prstGeom prst="ellipse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Овал 7" descr=""/>
          <p:cNvPicPr/>
          <p:nvPr/>
        </p:nvPicPr>
        <p:blipFill>
          <a:blip r:embed="rId4"/>
          <a:stretch/>
        </p:blipFill>
        <p:spPr>
          <a:xfrm>
            <a:off x="244440" y="2846520"/>
            <a:ext cx="3400560" cy="1244520"/>
          </a:xfrm>
          <a:prstGeom prst="rect">
            <a:avLst/>
          </a:prstGeom>
          <a:ln w="0">
            <a:noFill/>
          </a:ln>
        </p:spPr>
      </p:pic>
      <p:pic>
        <p:nvPicPr>
          <p:cNvPr id="58" name="Овал 8" descr=""/>
          <p:cNvPicPr/>
          <p:nvPr/>
        </p:nvPicPr>
        <p:blipFill>
          <a:blip r:embed="rId5"/>
          <a:stretch/>
        </p:blipFill>
        <p:spPr>
          <a:xfrm>
            <a:off x="5357880" y="2846520"/>
            <a:ext cx="3475080" cy="1317600"/>
          </a:xfrm>
          <a:prstGeom prst="rect">
            <a:avLst/>
          </a:prstGeom>
          <a:ln w="0">
            <a:noFill/>
          </a:ln>
        </p:spPr>
      </p:pic>
      <p:sp>
        <p:nvSpPr>
          <p:cNvPr id="59" name="TextBox 9"/>
          <p:cNvSpPr/>
          <p:nvPr/>
        </p:nvSpPr>
        <p:spPr>
          <a:xfrm>
            <a:off x="4356000" y="4869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УХОВ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трелка вниз 10"/>
          <p:cNvSpPr/>
          <p:nvPr/>
        </p:nvSpPr>
        <p:spPr>
          <a:xfrm rot="1205400">
            <a:off x="2166480" y="2131560"/>
            <a:ext cx="217440" cy="7081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трелка вниз 13"/>
          <p:cNvSpPr/>
          <p:nvPr/>
        </p:nvSpPr>
        <p:spPr>
          <a:xfrm rot="1205400">
            <a:off x="3730680" y="2567160"/>
            <a:ext cx="345960" cy="186660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 вниз 14"/>
          <p:cNvSpPr/>
          <p:nvPr/>
        </p:nvSpPr>
        <p:spPr>
          <a:xfrm rot="20432400">
            <a:off x="4722480" y="2583000"/>
            <a:ext cx="303120" cy="1823760"/>
          </a:xfrm>
          <a:prstGeom prst="downArrow">
            <a:avLst>
              <a:gd name="adj1" fmla="val 50000"/>
              <a:gd name="adj2" fmla="val 49999"/>
            </a:avLst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низ 15"/>
          <p:cNvSpPr/>
          <p:nvPr/>
        </p:nvSpPr>
        <p:spPr>
          <a:xfrm rot="20205600">
            <a:off x="6867000" y="2072880"/>
            <a:ext cx="216000" cy="75564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D:\Мои документы\фоны для презентаций\30 АБСТРАКТНЫХ\1e801911f94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Блок-схема: альтернативный процесс 2"/>
          <p:cNvSpPr/>
          <p:nvPr/>
        </p:nvSpPr>
        <p:spPr>
          <a:xfrm>
            <a:off x="3059280" y="2781360"/>
            <a:ext cx="3097080" cy="1008000"/>
          </a:xfrm>
          <a:prstGeom prst="flowChartAlternateProcess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Здоровьесберегающая среда у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3"/>
          <p:cNvSpPr/>
          <p:nvPr/>
        </p:nvSpPr>
        <p:spPr>
          <a:xfrm>
            <a:off x="108000" y="2421000"/>
            <a:ext cx="2160360" cy="1871640"/>
          </a:xfrm>
          <a:prstGeom prst="ellips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Чередование видов учеб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4"/>
          <p:cNvSpPr/>
          <p:nvPr/>
        </p:nvSpPr>
        <p:spPr>
          <a:xfrm>
            <a:off x="236520" y="4581360"/>
            <a:ext cx="2247840" cy="1872000"/>
          </a:xfrm>
          <a:prstGeom prst="ellips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Рациональная организация учебн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5"/>
          <p:cNvSpPr/>
          <p:nvPr/>
        </p:nvSpPr>
        <p:spPr>
          <a:xfrm>
            <a:off x="3348000" y="4653000"/>
            <a:ext cx="2349360" cy="2089080"/>
          </a:xfrm>
          <a:prstGeom prst="ellips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Дозирова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домаш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з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6"/>
          <p:cNvSpPr/>
          <p:nvPr/>
        </p:nvSpPr>
        <p:spPr>
          <a:xfrm>
            <a:off x="3276720" y="115920"/>
            <a:ext cx="2519280" cy="1925640"/>
          </a:xfrm>
          <a:prstGeom prst="ellips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Внедрение инновационных технолог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7"/>
          <p:cNvSpPr/>
          <p:nvPr/>
        </p:nvSpPr>
        <p:spPr>
          <a:xfrm>
            <a:off x="6588000" y="4581360"/>
            <a:ext cx="2087640" cy="1943280"/>
          </a:xfrm>
          <a:prstGeom prst="ellips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Позитив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эмоцион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настр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8"/>
          <p:cNvSpPr/>
          <p:nvPr/>
        </p:nvSpPr>
        <p:spPr>
          <a:xfrm>
            <a:off x="6804000" y="333360"/>
            <a:ext cx="2117880" cy="1768320"/>
          </a:xfrm>
          <a:prstGeom prst="ellips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Физкульт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нут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9"/>
          <p:cNvSpPr/>
          <p:nvPr/>
        </p:nvSpPr>
        <p:spPr>
          <a:xfrm>
            <a:off x="304920" y="333360"/>
            <a:ext cx="2106360" cy="1871640"/>
          </a:xfrm>
          <a:prstGeom prst="ellips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Учёт зоны работо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10"/>
          <p:cNvSpPr/>
          <p:nvPr/>
        </p:nvSpPr>
        <p:spPr>
          <a:xfrm>
            <a:off x="7093080" y="2492280"/>
            <a:ext cx="1942920" cy="1728720"/>
          </a:xfrm>
          <a:prstGeom prst="ellips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Гигиенические условия в кла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трелка вниз 11"/>
          <p:cNvSpPr/>
          <p:nvPr/>
        </p:nvSpPr>
        <p:spPr>
          <a:xfrm rot="19103400">
            <a:off x="2495160" y="1747440"/>
            <a:ext cx="353880" cy="1130400"/>
          </a:xfrm>
          <a:prstGeom prst="downArrow">
            <a:avLst>
              <a:gd name="adj1" fmla="val 50000"/>
              <a:gd name="adj2" fmla="val 50029"/>
            </a:avLst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трелка вниз 12"/>
          <p:cNvSpPr/>
          <p:nvPr/>
        </p:nvSpPr>
        <p:spPr>
          <a:xfrm rot="5400000">
            <a:off x="6514200" y="2854800"/>
            <a:ext cx="299880" cy="873360"/>
          </a:xfrm>
          <a:prstGeom prst="downArrow">
            <a:avLst>
              <a:gd name="adj1" fmla="val 50000"/>
              <a:gd name="adj2" fmla="val 50036"/>
            </a:avLst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трелка вниз 13"/>
          <p:cNvSpPr/>
          <p:nvPr/>
        </p:nvSpPr>
        <p:spPr>
          <a:xfrm rot="16200000">
            <a:off x="2488320" y="2993040"/>
            <a:ext cx="358560" cy="65556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трелка вниз 14"/>
          <p:cNvSpPr/>
          <p:nvPr/>
        </p:nvSpPr>
        <p:spPr>
          <a:xfrm rot="12811800">
            <a:off x="2423880" y="3798360"/>
            <a:ext cx="441360" cy="122256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трелка вниз 15"/>
          <p:cNvSpPr/>
          <p:nvPr/>
        </p:nvSpPr>
        <p:spPr>
          <a:xfrm>
            <a:off x="4356000" y="2060640"/>
            <a:ext cx="308160" cy="72072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трелка вниз 16"/>
          <p:cNvSpPr/>
          <p:nvPr/>
        </p:nvSpPr>
        <p:spPr>
          <a:xfrm rot="10800000">
            <a:off x="4356000" y="3860280"/>
            <a:ext cx="279360" cy="79236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трелка вниз 17"/>
          <p:cNvSpPr/>
          <p:nvPr/>
        </p:nvSpPr>
        <p:spPr>
          <a:xfrm rot="8433600">
            <a:off x="6319440" y="3723840"/>
            <a:ext cx="422280" cy="111780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трелка вниз 18"/>
          <p:cNvSpPr/>
          <p:nvPr/>
        </p:nvSpPr>
        <p:spPr>
          <a:xfrm rot="2774400">
            <a:off x="6351840" y="1681200"/>
            <a:ext cx="422280" cy="111744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D:\Мои документы\фоны для презентаций\30 АБСТРАКТНЫХ\1e801911f94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1"/>
          <p:cNvSpPr/>
          <p:nvPr/>
        </p:nvSpPr>
        <p:spPr>
          <a:xfrm>
            <a:off x="684360" y="18900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  <a:ea typeface="Aharoni"/>
              </a:rPr>
              <a:t>Утренняя гимнас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5" descr=""/>
          <p:cNvPicPr/>
          <p:nvPr/>
        </p:nvPicPr>
        <p:blipFill>
          <a:blip r:embed="rId2"/>
          <a:stretch/>
        </p:blipFill>
        <p:spPr>
          <a:xfrm>
            <a:off x="2428920" y="1428840"/>
            <a:ext cx="482112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D:\Мои документы\фоны для презентаций\30 АБСТРАКТНЫХ\1e801911f94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2"/>
          <p:cNvSpPr/>
          <p:nvPr/>
        </p:nvSpPr>
        <p:spPr>
          <a:xfrm>
            <a:off x="142920" y="6516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55a11"/>
                </a:solidFill>
                <a:latin typeface="Times New Roman"/>
                <a:ea typeface="Times New Roman"/>
              </a:rPr>
              <a:t>Различные виды деятельности на уро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13" descr="J:\2 В 2015 - 2016 г\Дети на уроке\20160225_095433.jpg"/>
          <p:cNvPicPr/>
          <p:nvPr/>
        </p:nvPicPr>
        <p:blipFill>
          <a:blip r:embed="rId2"/>
          <a:stretch/>
        </p:blipFill>
        <p:spPr>
          <a:xfrm>
            <a:off x="1143000" y="1714680"/>
            <a:ext cx="6905520" cy="2274840"/>
          </a:xfrm>
          <a:prstGeom prst="rect">
            <a:avLst/>
          </a:prstGeom>
          <a:ln w="0">
            <a:noFill/>
          </a:ln>
        </p:spPr>
      </p:pic>
      <p:sp>
        <p:nvSpPr>
          <p:cNvPr id="88" name="TextBox 8"/>
          <p:cNvSpPr/>
          <p:nvPr/>
        </p:nvSpPr>
        <p:spPr>
          <a:xfrm>
            <a:off x="1071720" y="4143240"/>
            <a:ext cx="67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55a11"/>
                </a:solidFill>
                <a:latin typeface="Times New Roman"/>
                <a:ea typeface="Times New Roman"/>
              </a:rPr>
              <a:t>На любом уроке можно применить игру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55a11"/>
                </a:solidFill>
                <a:latin typeface="Times New Roman"/>
                <a:ea typeface="Times New Roman"/>
              </a:rPr>
              <a:t>«Автобусная останов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D:\Мои документы\фоны для презентаций\30 АБСТРАКТНЫХ\1e801911f94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4" descr="C:\Users\Oksana\Desktop\соревнования 2 кл\20151204_121756.jpg"/>
          <p:cNvPicPr/>
          <p:nvPr/>
        </p:nvPicPr>
        <p:blipFill>
          <a:blip r:embed="rId2"/>
          <a:srcRect l="0" t="-369" r="0" b="0"/>
          <a:stretch/>
        </p:blipFill>
        <p:spPr>
          <a:xfrm>
            <a:off x="3571920" y="1357200"/>
            <a:ext cx="2876400" cy="3524400"/>
          </a:xfrm>
          <a:prstGeom prst="rect">
            <a:avLst/>
          </a:prstGeom>
          <a:ln w="0">
            <a:noFill/>
          </a:ln>
        </p:spPr>
      </p:pic>
      <p:sp>
        <p:nvSpPr>
          <p:cNvPr id="91" name="TextBox 8"/>
          <p:cNvSpPr/>
          <p:nvPr/>
        </p:nvSpPr>
        <p:spPr>
          <a:xfrm>
            <a:off x="5973840" y="5516640"/>
            <a:ext cx="29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пражнение с орех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9"/>
          <p:cNvSpPr/>
          <p:nvPr/>
        </p:nvSpPr>
        <p:spPr>
          <a:xfrm>
            <a:off x="1549440" y="189000"/>
            <a:ext cx="608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пражнения для кистей ру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0T12:16:02Z</dcterms:created>
  <dc:creator>Oksana</dc:creator>
  <dc:description/>
  <dc:language>en-US</dc:language>
  <cp:lastModifiedBy>Oksana</cp:lastModifiedBy>
  <dcterms:modified xsi:type="dcterms:W3CDTF">2018-01-28T15:05:54Z</dcterms:modified>
  <cp:revision>89</cp:revision>
  <dc:subject/>
  <dc:title>Слайд 1</dc:title>
</cp:coreProperties>
</file>