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E3E1-3529-4F75-8116-C214B4B5F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E06C-A7C4-49E7-8B14-F574B8A0D3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158A-D719-4DD1-9EEF-0341A5F9E2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75B-21C2-4034-8146-BA09FB13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0DF-9196-4A65-A73B-AD01A66C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65B-7839-4C8C-BBF8-F5D6F53A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E4C-3F04-4BA6-A5AC-3E0776C9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79E1-86A7-4932-9DC5-D12E8A23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2356-A854-43B6-A2A0-56B6519A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1D98-FD7E-4985-9CE2-064C380B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B3D2-529E-4D3C-B8F4-C07ADF09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AFF5-877B-4D10-8B54-321BE901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E62-A08B-4C8E-9754-7843D078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2774-25E2-4E46-AE51-A28F2BB6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7AD-2842-461C-81A4-07D1B68C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ABF5-234C-4B5C-ABB2-B54748F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CF6E-4633-4C74-B1A0-7E1CE66D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2E9B-CF0F-4363-8A8A-CEF76AD1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6C2E-263A-4F0F-90D6-3A173527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AA82-049A-4CDA-9982-85288790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75C9-0293-4958-936C-60311BDA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FB8C-8971-4841-A283-A522868E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4F4C-1E57-4550-A841-7ABCD27B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46DA9-72B8-44C5-93D3-9DD20558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5A19-9849-495E-9B0D-126AE063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D1B-4C6A-4D15-A004-83496C55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EB5FA-A12D-483E-AB06-1CA0F1F6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58B7-28BA-4E90-A3B7-9915C72B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8945-936B-4818-85D6-C197F33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60EE-8080-43E5-BA4C-925EA94F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982B-5A9C-445B-8EDD-C9A90D08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1793-4E06-4F8D-95EC-2A220BE2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41C5-D11A-4625-806B-037EF23E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DA7D2-9277-4722-8BFD-2725A051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D12C-9B8C-47F3-B0F2-1F0319C5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59125-EC9D-443E-9C7A-C0FDC1EC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9FD-AE3C-4BEC-AC6D-3510BAB7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B12A-576B-449E-93EB-308A9D16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2335-7D23-4229-A400-0C2B1C6D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24CF8-CDFA-44D1-B40D-FC85F132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3E44-1705-4A2F-93E7-493A987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CEE3-44C0-4767-8195-C3233A09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3E9FF-B3BF-4FD8-A3B5-38A78E98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255E-78D5-4CB0-8A57-653B3752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37D3F-5031-4FD7-B2FB-4A50DB14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D91C-FDFB-4303-A301-AB59C915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998-7118-4409-969F-87C4AD1D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A0F-E3C2-44C0-B445-2D25A583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912-3EEB-4ACD-942B-2B477EAD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EA5-1E63-4CA5-ACD8-89340E37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022-2D97-463A-A198-64EA497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dfa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91bc">
                  <a:alpha val="45098"/>
                </a:srgbClr>
              </a:gs>
              <a:gs pos="100000">
                <a:srgbClr val="00327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651">
                  <a:alpha val="45098"/>
                </a:srgbClr>
              </a:gs>
              <a:gs pos="100000">
                <a:srgbClr val="6cafe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9f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539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0c6f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7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fce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a1e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a1e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a1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9594-5554-42C7-96E5-A2549594A519}" type="slidenum">
              <a:rPr b="0" lang="ru-RU" sz="1200" spc="-1" strike="noStrike">
                <a:solidFill>
                  <a:srgbClr val="55a1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dfa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91bc">
                  <a:alpha val="45098"/>
                </a:srgbClr>
              </a:gs>
              <a:gs pos="100000">
                <a:srgbClr val="00327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651">
                  <a:alpha val="45098"/>
                </a:srgbClr>
              </a:gs>
              <a:gs pos="100000">
                <a:srgbClr val="6cafe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539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0c6f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7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fce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A115-25D6-4DEE-B9CB-EF907ECF90D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dfa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91bc">
                  <a:alpha val="45098"/>
                </a:srgbClr>
              </a:gs>
              <a:gs pos="100000">
                <a:srgbClr val="00327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651">
                  <a:alpha val="45098"/>
                </a:srgbClr>
              </a:gs>
              <a:gs pos="100000">
                <a:srgbClr val="6cafe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539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0c6f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7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fce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ECEB-2062-447F-B61F-38EE44E4597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dfa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91bc">
                  <a:alpha val="45098"/>
                </a:srgbClr>
              </a:gs>
              <a:gs pos="100000">
                <a:srgbClr val="00327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651">
                  <a:alpha val="45098"/>
                </a:srgbClr>
              </a:gs>
              <a:gs pos="100000">
                <a:srgbClr val="6cafe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91bc">
                  <a:alpha val="45098"/>
                </a:srgbClr>
              </a:gs>
              <a:gs pos="100000">
                <a:srgbClr val="00327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651">
                  <a:alpha val="45098"/>
                </a:srgbClr>
              </a:gs>
              <a:gs pos="100000">
                <a:srgbClr val="6cafe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9f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539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0c6f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7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fce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a1e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a1e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a1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30C7-50FD-4ECF-BE20-6EE4EAB486F5}" type="slidenum">
              <a:rPr b="0" lang="ru-RU" sz="1200" spc="-1" strike="noStrike">
                <a:solidFill>
                  <a:srgbClr val="55a1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71520" y="2200320"/>
            <a:ext cx="8412120" cy="24382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292720" y="5084640"/>
            <a:ext cx="36432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7a"/>
                </a:solidFill>
                <a:latin typeface="Monotype Corsiva"/>
              </a:rPr>
              <a:t>Подготовила воспитатель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7a"/>
                </a:solidFill>
                <a:latin typeface="Monotype Corsiva"/>
              </a:rPr>
              <a:t>Елисеева Е.К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1835280" y="907920"/>
            <a:ext cx="53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7a"/>
                </a:solidFill>
                <a:latin typeface="Monotype Corsiva"/>
              </a:rPr>
              <a:t>МОУ  «Веневский центр образования № 1» д/с  № 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37832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onstantia"/>
              </a:rPr>
              <a:t>Песец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84720" y="1989000"/>
            <a:ext cx="2743200" cy="333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1000"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281e6"/>
                </a:solidFill>
                <a:latin typeface="Constantia"/>
              </a:rPr>
              <a:t>Песец совсем небольшой зверь, его вес едва достигает до 5 кг. Но этот малыш очень вынослив и быстр. К тому же он любит путешествовать и его можно встретить почти во всех уголках Арктики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281e6"/>
                </a:solidFill>
                <a:latin typeface="Constantia"/>
              </a:rPr>
              <a:t>Благодаря своему красивому меху, этот зверь известен далеко за пределами своего региона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Содержимое 4" descr="песец.jpg"/>
          <p:cNvPicPr/>
          <p:nvPr/>
        </p:nvPicPr>
        <p:blipFill>
          <a:blip r:embed="rId1"/>
          <a:stretch/>
        </p:blipFill>
        <p:spPr>
          <a:xfrm>
            <a:off x="395280" y="2133720"/>
            <a:ext cx="5111640" cy="280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5797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onstantia"/>
              </a:rPr>
              <a:t>Северный олень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40360" y="184464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81e6"/>
                </a:solidFill>
                <a:latin typeface="Constantia"/>
              </a:rPr>
              <a:t>Благодаря своей необычной шерсти и пуху он не замерзает даже в ледяной воде. Место его обитания бесконечная тундра. Питается  ягелем или оленьем мохом, которые он выкапывает из под снег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5114880" cy="41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3313080" cy="41767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81e6"/>
                </a:solidFill>
                <a:latin typeface="Times New Roman"/>
                <a:ea typeface="Times New Roman"/>
              </a:rPr>
              <a:t>Антарктида – самый суровый и холодный по климату  континент. Ночью температура там может опускаться до  – 52°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81e6"/>
                </a:solidFill>
                <a:latin typeface="Times New Roman"/>
                <a:ea typeface="Times New Roman"/>
              </a:rPr>
              <a:t>В Антарктиде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81e6"/>
                </a:solidFill>
                <a:latin typeface="Times New Roman"/>
                <a:ea typeface="Times New Roman"/>
              </a:rPr>
              <a:t>встречаются удивительные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81e6"/>
                </a:solidFill>
                <a:latin typeface="Times New Roman"/>
                <a:ea typeface="Times New Roman"/>
              </a:rPr>
              <a:t>животные: королевский пингвин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81e6"/>
                </a:solidFill>
                <a:latin typeface="Times New Roman"/>
                <a:ea typeface="Times New Roman"/>
              </a:rPr>
              <a:t>морской слон, тюлень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81e6"/>
                </a:solidFill>
                <a:latin typeface="Times New Roman"/>
                <a:ea typeface="Times New Roman"/>
              </a:rPr>
              <a:t>морской леопард, синий кит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81e6"/>
                </a:solidFill>
                <a:latin typeface="Times New Roman"/>
                <a:ea typeface="Times New Roman"/>
              </a:rPr>
              <a:t>птица Альбатро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Содержимое 6" descr="антарктида 3.jpg"/>
          <p:cNvPicPr/>
          <p:nvPr/>
        </p:nvPicPr>
        <p:blipFill>
          <a:blip r:embed="rId1"/>
          <a:stretch/>
        </p:blipFill>
        <p:spPr>
          <a:xfrm>
            <a:off x="4205160" y="2046240"/>
            <a:ext cx="4481640" cy="33609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4"/>
          <p:cNvSpPr/>
          <p:nvPr/>
        </p:nvSpPr>
        <p:spPr>
          <a:xfrm>
            <a:off x="1403280" y="10112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81e6"/>
                </a:solidFill>
                <a:latin typeface="Constantia"/>
              </a:rPr>
              <a:t>Антаркти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48625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onstantia"/>
              </a:rPr>
              <a:t>Пингвин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12000" y="177336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81e6"/>
                </a:solidFill>
                <a:latin typeface="Constantia"/>
              </a:rPr>
              <a:t>Пингвины - это птицы, но летать они не могут, но очень хорошо плавают. Ходят пингвины неуклюже переваливаясь с бока на бок или в припрыжку. Питаются пингвины рыб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Содержимое 10" descr="пингвин_.jpg"/>
          <p:cNvPicPr/>
          <p:nvPr/>
        </p:nvPicPr>
        <p:blipFill>
          <a:blip r:embed="rId1"/>
          <a:stretch/>
        </p:blipFill>
        <p:spPr>
          <a:xfrm>
            <a:off x="250920" y="2276640"/>
            <a:ext cx="5111640" cy="34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4422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onstantia"/>
              </a:rPr>
              <a:t>Тюлень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12000" y="1916280"/>
            <a:ext cx="2743200" cy="34574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81e6"/>
                </a:solidFill>
                <a:latin typeface="Constantia"/>
              </a:rPr>
              <a:t>У них гладкая кожа, они хорошо плавают. Тюлени охотятся под водой, питаются рыбой, креветками, кальмар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Содержимое 6" descr="тюлень.jpg"/>
          <p:cNvPicPr/>
          <p:nvPr/>
        </p:nvPicPr>
        <p:blipFill>
          <a:blip r:embed="rId1"/>
          <a:stretch/>
        </p:blipFill>
        <p:spPr>
          <a:xfrm>
            <a:off x="395280" y="206064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450216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onstantia"/>
              </a:rPr>
              <a:t>Альбатрос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724360" y="1773360"/>
            <a:ext cx="3175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81e6"/>
                </a:solidFill>
                <a:latin typeface="Constantia"/>
              </a:rPr>
              <a:t>Крупная морская птица, размах крыльев превышает 4 метра. птицы белые, на голове и шее жёлтый налёт, верх крыльев и хвост по краям чёрно-бурые. Клюв и ноги светлые. Эта птица плохо ходит по земле, зато по долго парит над океаном в поисках добычи: рыбы, кальмаров и других морских обитател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Содержимое 6" descr="альбатросы.jpg"/>
          <p:cNvPicPr/>
          <p:nvPr/>
        </p:nvPicPr>
        <p:blipFill>
          <a:blip r:embed="rId1"/>
          <a:stretch/>
        </p:blipFill>
        <p:spPr>
          <a:xfrm>
            <a:off x="324000" y="2060640"/>
            <a:ext cx="4752720" cy="29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49687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onstantia"/>
              </a:rPr>
              <a:t>Морской слон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796000" y="170028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281e6"/>
                </a:solidFill>
                <a:latin typeface="Constantia"/>
              </a:rPr>
              <a:t>Южный морской слон относится к семейству настоящих тюленей. По своим размерам он занимает второе место среди всех ластоногих, уступая по габаритам только северному морскому слон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eeefc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Содержимое 6" descr="морской слон.jpg"/>
          <p:cNvPicPr/>
          <p:nvPr/>
        </p:nvPicPr>
        <p:blipFill>
          <a:blip r:embed="rId1"/>
          <a:stretch/>
        </p:blipFill>
        <p:spPr>
          <a:xfrm>
            <a:off x="395280" y="1989000"/>
            <a:ext cx="4876920" cy="32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49276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onstantia"/>
              </a:rPr>
              <a:t>Синий кит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24360" y="177336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Это самое крупное на Земле животное</a:t>
            </a:r>
            <a:r>
              <a:rPr b="1" lang="ru-RU" sz="1800" spc="-1" strike="noStrike">
                <a:solidFill>
                  <a:srgbClr val="1281e6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Длина его тела д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33 метров!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(Это высота 10-и этажного дом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Однако питается этот великан, как и все усатые киты, планктоном – мелкими рачками и другой крохотной морской живностью. Желудок синего кита вмещает до  2 т рачков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Содержимое 6" descr="синий кит.jpg"/>
          <p:cNvPicPr/>
          <p:nvPr/>
        </p:nvPicPr>
        <p:blipFill>
          <a:blip r:embed="rId1"/>
          <a:stretch/>
        </p:blipFill>
        <p:spPr>
          <a:xfrm>
            <a:off x="611280" y="2205000"/>
            <a:ext cx="473688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одержимое 10" descr="antarctica-iceberg-penguins-1920x1200.jpg"/>
          <p:cNvPicPr/>
          <p:nvPr/>
        </p:nvPicPr>
        <p:blipFill>
          <a:blip r:embed="rId1"/>
          <a:stretch/>
        </p:blipFill>
        <p:spPr>
          <a:xfrm>
            <a:off x="928800" y="1357200"/>
            <a:ext cx="7489800" cy="468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281e6"/>
                </a:solidFill>
                <a:latin typeface="Calibri"/>
              </a:rPr>
              <a:t>Закрепление материала</a:t>
            </a:r>
            <a:endParaRPr b="0" lang="en-US" sz="50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Как называется земля на крайнем юге Земного шара? </a:t>
            </a:r>
            <a:r>
              <a:rPr b="0" i="1" lang="ru-RU" sz="1800" spc="-1" strike="noStrike">
                <a:solidFill>
                  <a:srgbClr val="1281e6"/>
                </a:solidFill>
                <a:latin typeface="Constantia"/>
              </a:rPr>
              <a:t>(Антарктид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Как называются острова Северного Ледовитого океана? </a:t>
            </a:r>
            <a:r>
              <a:rPr b="0" i="1" lang="ru-RU" sz="1800" spc="-1" strike="noStrike">
                <a:solidFill>
                  <a:srgbClr val="1281e6"/>
                </a:solidFill>
                <a:latin typeface="Constantia"/>
              </a:rPr>
              <a:t>(Арктик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У этих животных есть бивни, которыми они разрывают морское дно в поисках основного корма – небольших животных, живущих в морской воде </a:t>
            </a:r>
            <a:r>
              <a:rPr b="0" i="1" lang="ru-RU" sz="1800" spc="-1" strike="noStrike">
                <a:solidFill>
                  <a:srgbClr val="1281e6"/>
                </a:solidFill>
                <a:latin typeface="Constantia"/>
              </a:rPr>
              <a:t>(моржи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Питается ягелем и мохом. У этого животного есть рога. </a:t>
            </a:r>
            <a:r>
              <a:rPr b="0" i="1" lang="ru-RU" sz="1800" spc="-1" strike="noStrike">
                <a:solidFill>
                  <a:srgbClr val="1281e6"/>
                </a:solidFill>
                <a:latin typeface="Constantia"/>
              </a:rPr>
              <a:t>(Северный олень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У этих животных есть рог- бивень длинной 2-3 метра, который служит им для того чтобы определить температуру воды. </a:t>
            </a:r>
            <a:r>
              <a:rPr b="0" i="1" lang="ru-RU" sz="1800" spc="-1" strike="noStrike">
                <a:solidFill>
                  <a:srgbClr val="1281e6"/>
                </a:solidFill>
                <a:latin typeface="Constantia"/>
              </a:rPr>
              <a:t>(Нарвал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Это животное умеет строить берлогу из снега. Питается рыбой, тюленями. </a:t>
            </a:r>
            <a:r>
              <a:rPr b="0" i="1" lang="ru-RU" sz="1800" spc="-1" strike="noStrike">
                <a:solidFill>
                  <a:srgbClr val="1281e6"/>
                </a:solidFill>
                <a:latin typeface="Constantia"/>
              </a:rPr>
              <a:t>(Белый медведь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Совсем небольшой зверь, известен за пределами региона благодаря своему красивому меху. </a:t>
            </a:r>
            <a:r>
              <a:rPr b="0" i="1" lang="ru-RU" sz="1800" spc="-1" strike="noStrike">
                <a:solidFill>
                  <a:srgbClr val="1281e6"/>
                </a:solidFill>
                <a:latin typeface="Constantia"/>
              </a:rPr>
              <a:t>(Песец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Самое крупное животное на Земле длиной до 33 метров. </a:t>
            </a:r>
            <a:r>
              <a:rPr b="0" i="1" lang="ru-RU" sz="1800" spc="-1" strike="noStrike">
                <a:solidFill>
                  <a:srgbClr val="1281e6"/>
                </a:solidFill>
                <a:latin typeface="Constantia"/>
              </a:rPr>
              <a:t>(Синий кит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Птица, но не летает, зато хорошо плавает. </a:t>
            </a:r>
            <a:r>
              <a:rPr b="0" i="1" lang="ru-RU" sz="1800" spc="-1" strike="noStrike">
                <a:solidFill>
                  <a:srgbClr val="1281e6"/>
                </a:solidFill>
                <a:latin typeface="Constantia"/>
              </a:rPr>
              <a:t>(Пингвин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Эта птица плохо ходит по земле, зато по долго парит над океаном в поисках добычи. </a:t>
            </a:r>
            <a:r>
              <a:rPr b="0" i="1" lang="ru-RU" sz="1800" spc="-1" strike="noStrike">
                <a:solidFill>
                  <a:srgbClr val="1281e6"/>
                </a:solidFill>
                <a:latin typeface="Constantia"/>
              </a:rPr>
              <a:t>(Альбатрос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07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669960" y="1627200"/>
            <a:ext cx="73580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281e6"/>
                </a:solidFill>
                <a:latin typeface="Constantia"/>
              </a:rPr>
              <a:t>Д/И «Кто где живет» </a:t>
            </a:r>
            <a:endParaRPr b="0" lang="en-US" sz="3600" spc="-1" strike="noStrike">
              <a:solidFill>
                <a:srgbClr val="59a9f2"/>
              </a:solidFill>
              <a:latin typeface="Calibri"/>
            </a:endParaRPr>
          </a:p>
        </p:txBody>
      </p:sp>
      <p:pic>
        <p:nvPicPr>
          <p:cNvPr id="265" name="Содержимое 6" descr="кто где живет.jpg"/>
          <p:cNvPicPr/>
          <p:nvPr/>
        </p:nvPicPr>
        <p:blipFill>
          <a:blip r:embed="rId1"/>
          <a:stretch/>
        </p:blipFill>
        <p:spPr>
          <a:xfrm>
            <a:off x="884160" y="1714680"/>
            <a:ext cx="7375680" cy="46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eefc"/>
                </a:solidFill>
                <a:latin typeface="Constantia"/>
              </a:rPr>
              <a:t>Дидактическая игра:</a:t>
            </a:r>
            <a:endParaRPr b="0" lang="en-US" sz="3600" spc="-1" strike="noStrike">
              <a:solidFill>
                <a:srgbClr val="59a9f2"/>
              </a:solidFill>
              <a:latin typeface="Calibri"/>
            </a:endParaRPr>
          </a:p>
        </p:txBody>
      </p:sp>
      <p:pic>
        <p:nvPicPr>
          <p:cNvPr id="267" name="Содержимое 6" descr="животные антарктики.jpg"/>
          <p:cNvPicPr/>
          <p:nvPr/>
        </p:nvPicPr>
        <p:blipFill>
          <a:blip r:embed="rId1"/>
          <a:stretch/>
        </p:blipFill>
        <p:spPr>
          <a:xfrm>
            <a:off x="671400" y="1935000"/>
            <a:ext cx="7801200" cy="43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3" descr="один много.jpg"/>
          <p:cNvPicPr/>
          <p:nvPr/>
        </p:nvPicPr>
        <p:blipFill>
          <a:blip r:embed="rId1"/>
          <a:stretch/>
        </p:blipFill>
        <p:spPr>
          <a:xfrm>
            <a:off x="714240" y="1357200"/>
            <a:ext cx="7813800" cy="43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alibri"/>
              </a:rPr>
              <a:t>Спасибо за внимание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2"/>
          <p:cNvSpPr/>
          <p:nvPr/>
        </p:nvSpPr>
        <p:spPr>
          <a:xfrm>
            <a:off x="928800" y="785880"/>
            <a:ext cx="65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81e6"/>
                </a:solidFill>
                <a:latin typeface="Constantia"/>
              </a:rPr>
              <a:t>Арктика  и  Антаркти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719280" y="13986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еих частях планеты очень холодно, там много снега, айсбергов и льдов, и почти нет растени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250920" y="4221000"/>
            <a:ext cx="3600360" cy="26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Здесь на Крайнем Севере, в Арктике, лед никогда не тает. Потому, что коротким полярным летом солнце не поднимается высоко, растопить лед такое солнце не може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Зимой здесь круглые сутки темно – ночь</a:t>
            </a:r>
            <a:r>
              <a:rPr b="0" lang="ru-RU" sz="2000" spc="-1" strike="noStrike">
                <a:solidFill>
                  <a:srgbClr val="deeefc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716040" y="2106720"/>
            <a:ext cx="2592360" cy="19922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6"/>
          <p:cNvSpPr/>
          <p:nvPr/>
        </p:nvSpPr>
        <p:spPr>
          <a:xfrm>
            <a:off x="4716360" y="4221000"/>
            <a:ext cx="394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В Антарктике отсутствуют деревья и кустарники, почти нет травянистых цветковых растений. В основном растительный мир представлен лишайниками, мхами, водорослями, грибами и бактерия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5508720" y="2158920"/>
            <a:ext cx="3020760" cy="18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011.jpg"/>
          <p:cNvPicPr/>
          <p:nvPr/>
        </p:nvPicPr>
        <p:blipFill>
          <a:blip r:embed="rId1"/>
          <a:stretch/>
        </p:blipFill>
        <p:spPr>
          <a:xfrm>
            <a:off x="1000080" y="9288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81e6"/>
                </a:solidFill>
                <a:latin typeface="Constantia"/>
              </a:rPr>
              <a:t>Очень холодно в Арктике, но несмотря на огромные льдины и вечную мерзлоту, там есть такие обитатели, которые больше нигде не встречаются: белый медведь, тюлень, морж, северный олень, песец, полярная крачка, морской нарва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Содержимое 4" descr="арктика3.png"/>
          <p:cNvPicPr/>
          <p:nvPr/>
        </p:nvPicPr>
        <p:blipFill>
          <a:blip r:embed="rId1"/>
          <a:stretch/>
        </p:blipFill>
        <p:spPr>
          <a:xfrm>
            <a:off x="3828960" y="1700280"/>
            <a:ext cx="5112000" cy="35431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1547640" y="738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81e6"/>
                </a:solidFill>
                <a:latin typeface="Constantia"/>
              </a:rPr>
              <a:t>Арктик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51433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onstantia"/>
                <a:ea typeface="Segoe UI Symbol"/>
              </a:rPr>
              <a:t>Белый медведь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84720" y="170028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281e6"/>
                </a:solidFill>
                <a:latin typeface="Constantia"/>
              </a:rPr>
              <a:t>Самые крупные животные на Земле, они хорошие пловцы, могут часами находится в ледяной воде, между пальцев у них есть перепонки, на каждой лапе есть 5 длинных когтей, для того чтобы не скользить по льду. У медведя теплый густой мех, умеет строить берлогу из снега. Белый мех делает его незаметным на снегу, питается рыбой, тюленя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Содержимое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64660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39988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onstantia"/>
                <a:ea typeface="Segoe UI Symbol"/>
              </a:rPr>
              <a:t>Нарвал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12000" y="1988640"/>
            <a:ext cx="2743200" cy="3024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3000"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281e6"/>
                </a:solidFill>
                <a:latin typeface="Constantia"/>
              </a:rPr>
              <a:t>У Нарвалов есть рог длинной 2-3 метра, по-другому этот рог называют бивнем. Бивень служит нарвалу для того чтобы определить температуру воды. Питаются Нарвалы кальмарами, осьминогами, рыбой. Нарвалы занесены в Красную книгу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Содержимое 4" descr="нарвал.jpg"/>
          <p:cNvPicPr/>
          <p:nvPr/>
        </p:nvPicPr>
        <p:blipFill>
          <a:blip r:embed="rId1"/>
          <a:stretch/>
        </p:blipFill>
        <p:spPr>
          <a:xfrm>
            <a:off x="539640" y="1916280"/>
            <a:ext cx="482148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450216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onstantia"/>
              </a:rPr>
              <a:t>Морж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867280" y="162864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81e6"/>
                </a:solidFill>
                <a:latin typeface="Constantia"/>
              </a:rPr>
              <a:t>Обитает в морях Северного Ледовитого океана. Длина его тела достигает 4–5 метров. Весит он тонну и даже может достигать двух тонн, жира у моржа может быть до 300 кг. Кожа у животного толстая, крепкая, . Усы – густые, жесткие, а на морде два клыка. При помощи этих клыков морж защищается от врагов, нападает даже на белого медведя, а также пропахивает дно, вытаскивая ракушки, осьминогов, кальмаров, то есть небольших животных, которые живут в морской вод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Содержимое 4" descr="моржи.jpg"/>
          <p:cNvPicPr/>
          <p:nvPr/>
        </p:nvPicPr>
        <p:blipFill>
          <a:blip r:embed="rId1"/>
          <a:stretch/>
        </p:blipFill>
        <p:spPr>
          <a:xfrm>
            <a:off x="324000" y="2133720"/>
            <a:ext cx="498456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4214880" cy="682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281e6"/>
                </a:solidFill>
                <a:latin typeface="Constantia"/>
              </a:rPr>
              <a:t>Крачка</a:t>
            </a:r>
            <a:endParaRPr b="0" lang="en-US" sz="5400" spc="-1" strike="noStrike">
              <a:solidFill>
                <a:srgbClr val="59a9f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96000" y="1483920"/>
            <a:ext cx="2743200" cy="37450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81e6"/>
                </a:solidFill>
                <a:latin typeface="Constantia"/>
              </a:rPr>
              <a:t>У Крачек стройное тело, длинные заостренные крылья и короткие ноги. Питаются Крачки рыбой. В Арктике Крачки живут только летом, когда в Арктике наступает зима</a:t>
            </a:r>
            <a:r>
              <a:rPr b="1" lang="ru-RU" sz="2000" spc="-1" strike="noStrike">
                <a:solidFill>
                  <a:srgbClr val="1281e6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1281e6"/>
                </a:solidFill>
                <a:latin typeface="Constantia"/>
              </a:rPr>
              <a:t> Крачки улетают на ю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Содержимое 4" descr="крачка.jpg"/>
          <p:cNvPicPr/>
          <p:nvPr/>
        </p:nvPicPr>
        <p:blipFill>
          <a:blip r:embed="rId1"/>
          <a:stretch/>
        </p:blipFill>
        <p:spPr>
          <a:xfrm>
            <a:off x="324000" y="1989000"/>
            <a:ext cx="5111640" cy="296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7T20:40:16Z</dcterms:created>
  <dc:creator>Лиза</dc:creator>
  <dc:description/>
  <dc:language>en-US</dc:language>
  <cp:lastModifiedBy>Лиза</cp:lastModifiedBy>
  <dcterms:modified xsi:type="dcterms:W3CDTF">2018-01-28T20:15:38Z</dcterms:modified>
  <cp:revision>72</cp:revision>
  <dc:subject/>
  <dc:title>Животные  Арктики и Антарктики</dc:title>
</cp:coreProperties>
</file>