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3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30.jpeg" ContentType="image/jpeg"/>
  <Override PartName="/ppt/media/image10.gif" ContentType="image/gif"/>
  <Override PartName="/ppt/media/image3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gif" ContentType="image/gif"/>
  <Override PartName="/ppt/media/image40.jpeg" ContentType="image/jpeg"/>
  <Override PartName="/ppt/media/image41.png" ContentType="image/png"/>
  <Override PartName="/ppt/media/image5.jpeg" ContentType="image/jpeg"/>
  <Override PartName="/ppt/media/image12.jpeg" ContentType="image/jpeg"/>
  <Override PartName="/ppt/media/image4.png" ContentType="image/png"/>
  <Override PartName="/ppt/media/image32.jpeg" ContentType="image/jpeg"/>
  <Override PartName="/ppt/media/image24.gif" ContentType="image/gif"/>
  <Override PartName="/ppt/media/image38.jpeg" ContentType="image/jpeg"/>
  <Override PartName="/ppt/media/image7.jpeg" ContentType="image/jpeg"/>
  <Override PartName="/ppt/media/image1.jpeg" ContentType="image/jpeg"/>
  <Override PartName="/ppt/media/image22.jpeg" ContentType="image/jpeg"/>
  <Override PartName="/ppt/media/image23.wmf" ContentType="image/x-wmf"/>
  <Override PartName="/ppt/media/image28.jpeg" ContentType="image/jpeg"/>
  <Override PartName="/ppt/media/image27.gif" ContentType="image/gi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676-F842-46E1-A7D6-A54B2F00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C8A-420D-4D8B-A208-E099C375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A78-2A04-48C8-9FCB-C97D9D06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C32-A264-4D21-8F4A-EDA6A3CA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E18C-A79E-4271-8513-952C2C06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12AC-F302-4D4A-8367-D6B89B96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5D2-3213-455C-807E-85A36D7E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5D2C-5E95-4092-A389-F9EB712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5FF5-CC5B-4C20-B577-7AF0F8B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23B-2095-489D-B74B-B1C321DB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F77-A4DF-4E2F-8E07-CD16EE9B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1CA-2B3E-45AE-8661-B7D4C67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400-39D3-4EFE-94EE-8DCADBC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08CF-52CD-4C23-A675-6F1EC1C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1A1-F837-4927-AF73-B71D513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161-E9CB-4F34-AB4D-46D561BA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278C-9B74-4DFC-BD37-A74B0F38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5CF-0394-48D5-A30C-AC71E76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47A-339B-4BEF-AC92-E433A6DC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1BC-5404-45CA-8767-77C0D12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099-7D1B-4936-9FCB-16CF6D66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4AC-61E9-4450-8479-DA0B443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F5F-6EB7-4FFC-884D-164D625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C51-FA4E-4049-8AE0-9AA5230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CEE0-3D20-45C2-A964-EE9B20F1A2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5FE6-1AD3-4604-B39D-383668722C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635280" y="3962160"/>
            <a:ext cx="55087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Безгина М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mg12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4076640"/>
            <a:ext cx="266544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image686"/>
          <p:cNvPicPr/>
          <p:nvPr/>
        </p:nvPicPr>
        <p:blipFill>
          <a:blip r:embed="rId2"/>
          <a:stretch/>
        </p:blipFill>
        <p:spPr>
          <a:xfrm>
            <a:off x="324000" y="115920"/>
            <a:ext cx="1001520" cy="100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img1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236000" y="260280"/>
            <a:ext cx="1661760" cy="21081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4"/>
          <a:stretch/>
        </p:blipFill>
        <p:spPr>
          <a:xfrm>
            <a:off x="633240" y="2170080"/>
            <a:ext cx="8302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mg12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500720" y="765000"/>
            <a:ext cx="324000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g1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116000" y="765000"/>
            <a:ext cx="2800440" cy="249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84360" y="383688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Рисунок "кудрина" является разновидностью росписи "под фон". Для него также характерны золотые силуэты, окруженные цветным фоном, в основном красным или черным. Этот орнамент отличается своеобразным узором, в котором рисунок листьев, цветов, плодов отличается и составлен из округлых кудреватых зави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UTRFLY3"/>
          <p:cNvPicPr/>
          <p:nvPr/>
        </p:nvPicPr>
        <p:blipFill>
          <a:blip r:embed="rId3"/>
          <a:stretch/>
        </p:blipFill>
        <p:spPr>
          <a:xfrm rot="19712400">
            <a:off x="7451640" y="5516280"/>
            <a:ext cx="898560" cy="94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ug4aol8"/>
          <p:cNvPicPr/>
          <p:nvPr/>
        </p:nvPicPr>
        <p:blipFill>
          <a:blip r:embed="rId4"/>
          <a:stretch/>
        </p:blipFill>
        <p:spPr>
          <a:xfrm>
            <a:off x="395280" y="189000"/>
            <a:ext cx="704880" cy="238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3143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Рисунок 3" descr="http://barawka.ucoz.ru/_ph/10/448243995.jpg"/>
          <p:cNvPicPr/>
          <p:nvPr/>
        </p:nvPicPr>
        <p:blipFill>
          <a:blip r:embed="rId1"/>
          <a:stretch/>
        </p:blipFill>
        <p:spPr>
          <a:xfrm>
            <a:off x="500040" y="214200"/>
            <a:ext cx="3786120" cy="50007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https://arhivurokov.ru/kopilka/uploads/user_file_54c7d9e4277b5/konspiekt-uroka-izobrazitiel-nogho-iskusstva-iskusstvo-khokhlomy-istoki-i-sovriemiennoie-razvitiie-promysla_11.jpeg"/>
          <p:cNvPicPr/>
          <p:nvPr/>
        </p:nvPicPr>
        <p:blipFill>
          <a:blip r:embed="rId2"/>
          <a:stretch/>
        </p:blipFill>
        <p:spPr>
          <a:xfrm>
            <a:off x="4857840" y="214200"/>
            <a:ext cx="3828960" cy="37926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http://2.bp.blogspot.com/-Cbw_hHqTyQU/UssWD9_aO8I/AAAAAAAAA20/tlcmF8tLLvU/s1600/img033.jpg"/>
          <p:cNvPicPr/>
          <p:nvPr/>
        </p:nvPicPr>
        <p:blipFill>
          <a:blip r:embed="rId3"/>
          <a:stretch/>
        </p:blipFill>
        <p:spPr>
          <a:xfrm>
            <a:off x="4071960" y="3571920"/>
            <a:ext cx="3000240" cy="32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3357360"/>
            <a:ext cx="8496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.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Picture 4" descr="img14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203640" y="2205000"/>
            <a:ext cx="2525760" cy="34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g16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95280" y="2349360"/>
            <a:ext cx="2558880" cy="3775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g17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5940360" y="2349360"/>
            <a:ext cx="2879640" cy="3746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39640" y="3999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Промысел берет свое начало в XVII веке. И знания, умения, опыт передавались из поколения в поколение. И пожалуй, самым известным и прославленным потомственным мастером является Степан Павлович Веселов – мастер "травного" орна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mage920"/>
          <p:cNvPicPr/>
          <p:nvPr/>
        </p:nvPicPr>
        <p:blipFill>
          <a:blip r:embed="rId4"/>
          <a:stretch/>
        </p:blipFill>
        <p:spPr>
          <a:xfrm>
            <a:off x="7885080" y="1341360"/>
            <a:ext cx="860400" cy="8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BUMBLBEE"/>
          <p:cNvPicPr/>
          <p:nvPr/>
        </p:nvPicPr>
        <p:blipFill>
          <a:blip r:embed="rId5"/>
          <a:stretch/>
        </p:blipFill>
        <p:spPr>
          <a:xfrm>
            <a:off x="4211640" y="5805360"/>
            <a:ext cx="987480" cy="8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42960" y="571320"/>
            <a:ext cx="8291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Сам Веселов говорил: "Учись у стариков, да у природы, а пишите свои узоры, что близки сердцу. Это и</a:t>
            </a:r>
            <a:r>
              <a:rPr b="1" lang="ru-RU" sz="40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будет настоящее творчество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ALETTE3"/>
          <p:cNvPicPr/>
          <p:nvPr/>
        </p:nvPicPr>
        <p:blipFill>
          <a:blip r:embed="rId1"/>
          <a:stretch/>
        </p:blipFill>
        <p:spPr>
          <a:xfrm>
            <a:off x="285840" y="214200"/>
            <a:ext cx="1189080" cy="164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http://bigslide.ru/images/32/31478/831/img22.jpg"/>
          <p:cNvPicPr/>
          <p:nvPr/>
        </p:nvPicPr>
        <p:blipFill>
          <a:blip r:embed="rId1"/>
          <a:stretch/>
        </p:blipFill>
        <p:spPr>
          <a:xfrm>
            <a:off x="571680" y="571680"/>
            <a:ext cx="81435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3" descr="http://w.megajeans.ru/img/books_covers/1005792541.jpg"/>
          <p:cNvPicPr/>
          <p:nvPr/>
        </p:nvPicPr>
        <p:blipFill>
          <a:blip r:embed="rId1"/>
          <a:stretch/>
        </p:blipFill>
        <p:spPr>
          <a:xfrm>
            <a:off x="214200" y="214200"/>
            <a:ext cx="4286520" cy="614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img.labirint.ru/images/comments_pic/1039/05lablacl1286128518.jpg"/>
          <p:cNvPicPr/>
          <p:nvPr/>
        </p:nvPicPr>
        <p:blipFill>
          <a:blip r:embed="rId2"/>
          <a:stretch/>
        </p:blipFill>
        <p:spPr>
          <a:xfrm>
            <a:off x="4572000" y="142920"/>
            <a:ext cx="441000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https://thumb1.shutterstock.com/display_pic_with_logo/962257/223632760/stock-vector-seamless-ornament-in-style-khokhloma-vector-illustration-223632760.jpg"/>
          <p:cNvPicPr/>
          <p:nvPr/>
        </p:nvPicPr>
        <p:blipFill>
          <a:blip r:embed="rId3"/>
          <a:stretch/>
        </p:blipFill>
        <p:spPr>
          <a:xfrm>
            <a:off x="4572000" y="2928960"/>
            <a:ext cx="442908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2" descr="https://ds04.infourok.ru/uploads/ex/0199/0000c4e8-c8521351/hello_html_55c30374.jpg"/>
          <p:cNvPicPr/>
          <p:nvPr/>
        </p:nvPicPr>
        <p:blipFill>
          <a:blip r:embed="rId1"/>
          <a:stretch/>
        </p:blipFill>
        <p:spPr>
          <a:xfrm>
            <a:off x="1601640" y="2419200"/>
            <a:ext cx="5940720" cy="20196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-49320"/>
            <a:ext cx="7444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720" y="277560"/>
            <a:ext cx="425772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Содержимое 3" descr="http://st.depositphotos.com/1000129/2620/i/950/depositphotos_26203939-Russian-khokhloma-kitchen-utensils.jpg"/>
          <p:cNvPicPr/>
          <p:nvPr/>
        </p:nvPicPr>
        <p:blipFill>
          <a:blip r:embed="rId1"/>
          <a:stretch/>
        </p:blipFill>
        <p:spPr>
          <a:xfrm>
            <a:off x="214200" y="3286080"/>
            <a:ext cx="5000760" cy="3416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www.souvenirdvor.ru/wa-data/public/shop/products/07/61/6107/images/58531/58531.750x0.jpg"/>
          <p:cNvPicPr/>
          <p:nvPr/>
        </p:nvPicPr>
        <p:blipFill>
          <a:blip r:embed="rId2"/>
          <a:stretch/>
        </p:blipFill>
        <p:spPr>
          <a:xfrm>
            <a:off x="4357800" y="28584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285840" y="50004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 ЗОЛОТАЯ   ХОХЛО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s://im0-tub-ru.yandex.net/i?id=ad0f562ae4c902357da58709bcdae135&amp;n=33&amp;h=215&amp;w=272"/>
          <p:cNvPicPr/>
          <p:nvPr/>
        </p:nvPicPr>
        <p:blipFill>
          <a:blip r:embed="rId1"/>
          <a:stretch/>
        </p:blipFill>
        <p:spPr>
          <a:xfrm>
            <a:off x="1500120" y="1265400"/>
            <a:ext cx="61437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333360"/>
            <a:ext cx="4392720" cy="280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6360" y="3500280"/>
            <a:ext cx="4187880" cy="2533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108000" y="3284640"/>
            <a:ext cx="4535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Отличительная особенность хохломской посуды в том, что все изделия вытачивались из дерева -  липы или осины. Но прежде чем нанести рисунок, посуду покрывают серебристым по цвету оловянным порошком, пишут по нему красками, потом покрывают все слоем специально сваренной олифы и ставят в протопленную вычищенную печь калить. И еще несколько раз покрывали и калили, что серебристое казалось уже золотым и свет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364000" y="109692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смотри, какой дек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десь посуда знатна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кладная да ладная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на повсюду славится,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на и вам понрав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image343"/>
          <p:cNvPicPr/>
          <p:nvPr/>
        </p:nvPicPr>
        <p:blipFill>
          <a:blip r:embed="rId3"/>
          <a:stretch/>
        </p:blipFill>
        <p:spPr>
          <a:xfrm rot="16521000">
            <a:off x="7811640" y="33264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755640" y="4868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Comic Sans MS"/>
              </a:rPr>
              <a:t>Так, по раскопкам Древнего Новгорода видно, что уже в XI-XII веках те же миски, блюда служили нашим предкам обыденной посудой. Наибольшим спросом пользовались ложки, т.к. они индивидуальны 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omic Sans MS"/>
              </a:rPr>
              <a:t>быстро изнашивались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8" descr="http://www.matreshkina.ru/files/329/1.jpg"/>
          <p:cNvPicPr/>
          <p:nvPr/>
        </p:nvPicPr>
        <p:blipFill>
          <a:blip r:embed="rId1"/>
          <a:stretch/>
        </p:blipFill>
        <p:spPr>
          <a:xfrm>
            <a:off x="500040" y="21420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5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11280" y="404640"/>
            <a:ext cx="4410000" cy="4000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1042920" y="45878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Для "травного" орнамента характерно сочетание рисунка, выполненного красным и черным цветом с золотой поверхностью фона. Его мотивы исполняются легкими удлиненными мазками, напоминающими стебли трав. У каждой травинки есть свое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48360" y="1199520"/>
            <a:ext cx="38163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уществует три основных вида хохломского орн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а) верховое "травное"  письм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б) роспись «под фон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в) «кудр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BUMBLBEE"/>
          <p:cNvPicPr/>
          <p:nvPr/>
        </p:nvPicPr>
        <p:blipFill>
          <a:blip r:embed="rId2"/>
          <a:stretch/>
        </p:blipFill>
        <p:spPr>
          <a:xfrm>
            <a:off x="7667640" y="5805360"/>
            <a:ext cx="987480" cy="83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mage297"/>
          <p:cNvPicPr/>
          <p:nvPr/>
        </p:nvPicPr>
        <p:blipFill>
          <a:blip r:embed="rId3"/>
          <a:stretch/>
        </p:blipFill>
        <p:spPr>
          <a:xfrm>
            <a:off x="7740720" y="189000"/>
            <a:ext cx="982440" cy="112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19640" y="3068640"/>
            <a:ext cx="3584520" cy="21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7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4000" y="3068640"/>
            <a:ext cx="4429080" cy="2160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1116000" y="76032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Разновидностью "травного" письма является роспись "под листок"  Здесь уже вводится зеленый и желтый цвета, при рисовании листочков, и красный традиционный при рисовании ягод (малины, рябины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04"/>
          <p:cNvPicPr/>
          <p:nvPr/>
        </p:nvPicPr>
        <p:blipFill>
          <a:blip r:embed="rId3"/>
          <a:stretch/>
        </p:blipFill>
        <p:spPr>
          <a:xfrm>
            <a:off x="6948360" y="2637000"/>
            <a:ext cx="88272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age120"/>
          <p:cNvPicPr/>
          <p:nvPr/>
        </p:nvPicPr>
        <p:blipFill>
          <a:blip r:embed="rId4"/>
          <a:stretch/>
        </p:blipFill>
        <p:spPr>
          <a:xfrm>
            <a:off x="395280" y="2637000"/>
            <a:ext cx="934920" cy="804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8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8360" y="549360"/>
            <a:ext cx="3552840" cy="121896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114" name="Picture 5" descr="img9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68360" y="2708280"/>
            <a:ext cx="3619440" cy="121932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115" name="Picture 6" descr="img10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468360" y="4724280"/>
            <a:ext cx="3562200" cy="12384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4788000" y="217800"/>
            <a:ext cx="38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Все элементы орнамента располагаются на основном "завитке" (или стебле, веточке). Плавной линией начинаем вести "усик" слева направо, закругляем, второй "усик" ведем так же неотрывно, и кончик снова закругляем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788000" y="2923920"/>
            <a:ext cx="35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В орнаменте ритмично чередуются "травинки", "завитки" и "кусти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43280" y="405468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"Травинки" разной формы располагаются на "завитке"-стебле так же ритмично. На последнем этапе прописываются "осочки" и "капельки". Посмотрите, как элементы "усик" и "завиток" придают мягкость и пышность травному орнам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image120"/>
          <p:cNvPicPr/>
          <p:nvPr/>
        </p:nvPicPr>
        <p:blipFill>
          <a:blip r:embed="rId4"/>
          <a:stretch/>
        </p:blipFill>
        <p:spPr>
          <a:xfrm>
            <a:off x="3708360" y="2276640"/>
            <a:ext cx="863640" cy="742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mg11"/>
          <p:cNvPicPr/>
          <p:nvPr/>
        </p:nvPicPr>
        <p:blipFill>
          <a:blip r:embed="rId1">
            <a:lum contrast="30000"/>
          </a:blip>
          <a:srcRect l="0" t="0" r="0" b="3097"/>
          <a:stretch/>
        </p:blipFill>
        <p:spPr>
          <a:xfrm>
            <a:off x="971640" y="476280"/>
            <a:ext cx="7488000" cy="2162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121" name="Rectangle 5"/>
          <p:cNvSpPr/>
          <p:nvPr/>
        </p:nvSpPr>
        <p:spPr>
          <a:xfrm>
            <a:off x="971640" y="3297240"/>
            <a:ext cx="74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Comic Sans MS"/>
              </a:rPr>
              <a:t>Росписи "под фон" свойственно сочетание золотистых силуэтов орнамента с закрашенной поверхностью фона. При ее исполнении сначала наносят контурные очертания рисунка, а затем закрашивается окружающий фон. Заканчивая роспись, мастер разживляет штрихами силуэтные формы листьев, цветов, плодов, в конце выполняет вокруг стеблей легкие "травные прописки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BUTRFLY2"/>
          <p:cNvPicPr/>
          <p:nvPr/>
        </p:nvPicPr>
        <p:blipFill>
          <a:blip r:embed="rId2"/>
          <a:stretch/>
        </p:blipFill>
        <p:spPr>
          <a:xfrm rot="20400600">
            <a:off x="7524720" y="1844280"/>
            <a:ext cx="1416240" cy="137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263"/>
          <p:cNvPicPr/>
          <p:nvPr/>
        </p:nvPicPr>
        <p:blipFill>
          <a:blip r:embed="rId3"/>
          <a:stretch/>
        </p:blipFill>
        <p:spPr>
          <a:xfrm>
            <a:off x="3348000" y="2349360"/>
            <a:ext cx="693720" cy="24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9:03:29Z</dcterms:created>
  <dc:creator>EfimovaGN</dc:creator>
  <dc:description/>
  <dc:language>en-US</dc:language>
  <cp:lastModifiedBy>Марина</cp:lastModifiedBy>
  <dcterms:modified xsi:type="dcterms:W3CDTF">2017-04-10T17:46:04Z</dcterms:modified>
  <cp:revision>29</cp:revision>
  <dc:subject/>
  <dc:title>Хохлома</dc:title>
</cp:coreProperties>
</file>