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0FF-0798-47DF-B307-A5871475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51A-AB71-4F54-9C51-D66B98BD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CF6-94BA-4561-8406-CD12A8AC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935-7BD7-4F70-ACE7-B3A86853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F77C-B559-44DB-A668-81BB0D6D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A4EA-15B2-42D2-836C-7152449A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9E4A-3924-4810-A546-AF919A12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7940-F986-4C5C-AF9C-32932B88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AE69-6433-41A3-87D9-40CA8CE5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F35F-64C8-48B2-9001-AE1C08CC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6674-1E93-4CB3-9DC4-7A1AFB9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444-5A0A-442F-99FA-0C935A95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3A35-711F-4B48-8A0C-7B36D34E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4308-924D-48A0-A9D7-C44814E6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BD6E-70A0-4305-B312-F854096C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AFB2-891A-45D6-968E-8C80B158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591B-ABD1-4BE0-BE08-8CF0E645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BE6-4797-400B-8348-5A367FFF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147-1141-4530-BE5C-107E5C2E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D8C-61E0-4753-8C6E-9B4409AF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267-CDBA-4F28-9623-385F590F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615-694B-49F9-8998-6B439FF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851-5D8D-463D-A931-B04C9C18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EF0-97F7-4F7F-9961-E57B40C8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CAA0-B7F2-4B58-B49D-D38F174C50B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1520"/>
                  <a:gd name="textAreaBottom" fmla="*/ 552240 h 5515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9CF4-C7CE-48F4-99DB-7895B0F59D9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стный счет 6 клас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ставила ученица 6 класс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ОБУ СОШ с. Усман-Ташл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вилова Ди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Источник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Интернет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4" descr="PhotoCol.net &quot; нарисованный компьютер. Фото, фотографии, обо…"/>
          <p:cNvPicPr/>
          <p:nvPr/>
        </p:nvPicPr>
        <p:blipFill>
          <a:blip r:embed="rId1"/>
          <a:stretch/>
        </p:blipFill>
        <p:spPr>
          <a:xfrm>
            <a:off x="2627280" y="1052640"/>
            <a:ext cx="561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243640" cy="116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Устный счет.</a:t>
            </a:r>
            <a:br>
              <a:rPr sz="4000"/>
            </a:b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Вычислите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252720" y="1599840"/>
            <a:ext cx="939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2/5*5/2                2/8*2/8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4/8:2/4                3/9:2/3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1/3*1 1/5      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1/3 *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1/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85520" y="1628280"/>
            <a:ext cx="8358120" cy="21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Спасибо за внимание!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28760000"/>
          <p:cNvPicPr/>
          <p:nvPr/>
        </p:nvPicPr>
        <p:blipFill>
          <a:blip r:embed="rId1"/>
          <a:stretch/>
        </p:blipFill>
        <p:spPr>
          <a:xfrm>
            <a:off x="3571920" y="4429080"/>
            <a:ext cx="1881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397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Verdana"/>
              </a:rPr>
              <a:t>Задачи на умножение и деление обыкновенных дробей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27640" y="7892640"/>
            <a:ext cx="15955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930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4400" spc="-1" strike="noStrike">
                <a:solidFill>
                  <a:srgbClr val="006699"/>
                </a:solidFill>
                <a:latin typeface="Verdana"/>
              </a:rPr>
              <a:t>Задач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1. В магазин привезли арбузы. В первый день продали 13/21 всех арбуз, а  во второй день- остальные 128 кг. Сколько кг арбузов продали за два дн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5" descr="Продам арбузы всех сортов"/>
          <p:cNvPicPr/>
          <p:nvPr/>
        </p:nvPicPr>
        <p:blipFill>
          <a:blip r:embed="rId1"/>
          <a:stretch/>
        </p:blipFill>
        <p:spPr>
          <a:xfrm>
            <a:off x="1547640" y="4149720"/>
            <a:ext cx="2953080" cy="270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Скачать бесплатные обои &quot;Арбуз&quot; для рабочего стола в разрешении 640х960 по тегам - тарелка сладкий ломтики лето красный кавун"/>
          <p:cNvPicPr/>
          <p:nvPr/>
        </p:nvPicPr>
        <p:blipFill>
          <a:blip r:embed="rId2"/>
          <a:stretch/>
        </p:blipFill>
        <p:spPr>
          <a:xfrm>
            <a:off x="4500720" y="4149720"/>
            <a:ext cx="2519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56894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Решение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89308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1/21 – 13/21= 8/21(кг)-продали во 2 ден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8/21=128 к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28 : 8/21=336(кг)-продали за два дн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08192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равил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бы разделить дробь на натуральное число, надо делимое умножить на число, обратное делителю.      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0" y="-2499840"/>
            <a:ext cx="1522440" cy="22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68680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  </a:t>
            </a: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Источник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Интернет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5" descr="PhotoCol.net &quot; нарисованный компьютер. Фото, фотографии, обо…"/>
          <p:cNvPicPr/>
          <p:nvPr/>
        </p:nvPicPr>
        <p:blipFill>
          <a:blip r:embed="rId1"/>
          <a:stretch/>
        </p:blipFill>
        <p:spPr>
          <a:xfrm>
            <a:off x="2700360" y="1197000"/>
            <a:ext cx="561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Задача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Мы пошли в лес за ягодами. Из дома до леса шли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1/5 ч. Наша средняя скорость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1/8 км/ч. Какое расстояние мы прошли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5" descr="Дары лесов наших. - Беседка - Алтайский рыболовный клуб"/>
          <p:cNvPicPr/>
          <p:nvPr/>
        </p:nvPicPr>
        <p:blipFill>
          <a:blip r:embed="rId1"/>
          <a:stretch/>
        </p:blipFill>
        <p:spPr>
          <a:xfrm>
            <a:off x="826920" y="3860640"/>
            <a:ext cx="3818160" cy="2997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Стоит в поле &quot;ТЕРЕМОК&quot; - заходите на чаёк! * Форум сайта Pobedish.ru"/>
          <p:cNvPicPr/>
          <p:nvPr/>
        </p:nvPicPr>
        <p:blipFill>
          <a:blip r:embed="rId2"/>
          <a:stretch/>
        </p:blipFill>
        <p:spPr>
          <a:xfrm>
            <a:off x="4643280" y="3860640"/>
            <a:ext cx="3996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Решение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1/5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* 3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1/8=15/4=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3/4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(км)--расстояние из дома до лес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3/4 км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Правила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ля умножения смешанных чисел, надо записать их в виде неправильных  дробей, а затем воспользоваться правилом умножения обыкновенных дробей. 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9:23:50Z</dcterms:created>
  <dc:creator>Фирсида</dc:creator>
  <dc:description/>
  <dc:language>en-US</dc:language>
  <cp:lastModifiedBy>Admin</cp:lastModifiedBy>
  <dcterms:modified xsi:type="dcterms:W3CDTF">2017-12-01T05:14:00Z</dcterms:modified>
  <cp:revision>6</cp:revision>
  <dc:subject/>
  <dc:title>Задача</dc:title>
</cp:coreProperties>
</file>